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78832-7B30-4ABB-B742-2353B1E84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242AC-75A1-4D65-93D7-775865A1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A46FC-9774-4510-900B-9BE5F6F13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1D4C8-1132-4C70-A807-9CBD61A0F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B1958-098D-4A56-9A72-9AA1BE75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487B7-3276-4B8E-A694-D2168FBFF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2616-1721-4493-AEDB-419C6B146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B1A51-91E9-48C4-9198-371A33EBF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9D2F3-FE65-4967-8D57-1C4B4C3BF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790D-69EB-4826-A8D5-75CC341DB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66533-9600-4815-B17D-9C470797C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1C038-6D65-4F2D-9006-F6E74CB08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05F7-F72D-4E9B-87A7-66D7B55AA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 name=""/>
          <p:cNvGrpSpPr/>
          <p:nvPr/>
        </p:nvGrpSpPr>
        <p:grpSpPr>
          <a:xfrm>
            <a:off x="380880" y="685800"/>
            <a:ext cx="8762760" cy="6632640"/>
            <a:chOff x="380880" y="685800"/>
            <a:chExt cx="8762760" cy="6632640"/>
          </a:xfrm>
        </p:grpSpPr>
        <p:sp>
          <p:nvSpPr>
            <p:cNvPr id="5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9" name=""/>
            <p:cNvGrpSpPr/>
            <p:nvPr/>
          </p:nvGrpSpPr>
          <p:grpSpPr>
            <a:xfrm>
              <a:off x="380880" y="685800"/>
              <a:ext cx="1236240" cy="818280"/>
              <a:chOff x="380880" y="685800"/>
              <a:chExt cx="1236240" cy="818280"/>
            </a:xfrm>
          </p:grpSpPr>
          <p:sp>
            <p:nvSpPr>
              <p:cNvPr id="10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1617120" y="685800"/>
              <a:ext cx="1857600" cy="818280"/>
              <a:chOff x="1617120" y="685800"/>
              <a:chExt cx="1857600" cy="818280"/>
            </a:xfrm>
          </p:grpSpPr>
          <p:sp>
            <p:nvSpPr>
              <p:cNvPr id="10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474720" y="685800"/>
              <a:ext cx="1747080" cy="818280"/>
              <a:chOff x="3474720" y="685800"/>
              <a:chExt cx="1747080" cy="818280"/>
            </a:xfrm>
          </p:grpSpPr>
          <p:sp>
            <p:nvSpPr>
              <p:cNvPr id="10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222160" y="685800"/>
              <a:ext cx="316440" cy="818280"/>
              <a:chOff x="5222160" y="685800"/>
              <a:chExt cx="316440" cy="818280"/>
            </a:xfrm>
          </p:grpSpPr>
          <p:sp>
            <p:nvSpPr>
              <p:cNvPr id="10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538600" y="685800"/>
              <a:ext cx="1414800" cy="818280"/>
              <a:chOff x="5538600" y="685800"/>
              <a:chExt cx="1414800" cy="818280"/>
            </a:xfrm>
          </p:grpSpPr>
          <p:sp>
            <p:nvSpPr>
              <p:cNvPr id="11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953760" y="685800"/>
              <a:ext cx="2189880" cy="818280"/>
              <a:chOff x="6953760" y="685800"/>
              <a:chExt cx="2189880" cy="818280"/>
            </a:xfrm>
          </p:grpSpPr>
          <p:sp>
            <p:nvSpPr>
              <p:cNvPr id="11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380880" y="6798240"/>
              <a:ext cx="1236240" cy="520200"/>
              <a:chOff x="380880" y="6798240"/>
              <a:chExt cx="1236240" cy="520200"/>
            </a:xfrm>
          </p:grpSpPr>
          <p:sp>
            <p:nvSpPr>
              <p:cNvPr id="11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617120" y="6798240"/>
              <a:ext cx="1857600" cy="520200"/>
              <a:chOff x="1617120" y="6798240"/>
              <a:chExt cx="1857600" cy="520200"/>
            </a:xfrm>
          </p:grpSpPr>
          <p:sp>
            <p:nvSpPr>
              <p:cNvPr id="12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474720" y="6798240"/>
              <a:ext cx="1747080" cy="520200"/>
              <a:chOff x="3474720" y="6798240"/>
              <a:chExt cx="1747080" cy="520200"/>
            </a:xfrm>
          </p:grpSpPr>
          <p:sp>
            <p:nvSpPr>
              <p:cNvPr id="12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222160" y="6798240"/>
              <a:ext cx="316440" cy="520200"/>
              <a:chOff x="5222160" y="6798240"/>
              <a:chExt cx="316440" cy="520200"/>
            </a:xfrm>
          </p:grpSpPr>
          <p:sp>
            <p:nvSpPr>
              <p:cNvPr id="12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538600" y="6798240"/>
              <a:ext cx="1414800" cy="520200"/>
              <a:chOff x="5538600" y="6798240"/>
              <a:chExt cx="1414800" cy="520200"/>
            </a:xfrm>
          </p:grpSpPr>
          <p:sp>
            <p:nvSpPr>
              <p:cNvPr id="13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953760" y="6798240"/>
              <a:ext cx="2189880" cy="520200"/>
              <a:chOff x="6953760" y="6798240"/>
              <a:chExt cx="2189880" cy="520200"/>
            </a:xfrm>
          </p:grpSpPr>
          <p:sp>
            <p:nvSpPr>
              <p:cNvPr id="13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3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4360" y="333360"/>
          <a:ext cx="7659720" cy="6200640"/>
        </p:xfrm>
        <a:graphic>
          <a:graphicData uri="http://schemas.openxmlformats.org/presentationml/2006/ole">
            <p:oleObj r:id="rId2" spid="">
              <p:embed/>
              <p:pic>
                <p:nvPicPr>
                  <p:cNvPr id="138" name="" descr=""/>
                  <p:cNvPicPr/>
                  <p:nvPr/>
                </p:nvPicPr>
                <p:blipFill>
                  <a:blip r:embed="rId3"/>
                  <a:stretch/>
                </p:blipFill>
                <p:spPr>
                  <a:xfrm>
                    <a:off x="684360" y="333360"/>
                    <a:ext cx="7659720" cy="62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Á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42"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4" name=""/>
          <p:cNvGraphicFramePr/>
          <p:nvPr/>
        </p:nvGraphicFramePr>
        <p:xfrm>
          <a:off x="609480" y="1828800"/>
          <a:ext cx="7620120" cy="1868400"/>
        </p:xfrm>
        <a:graphic>
          <a:graphicData uri="http://schemas.openxmlformats.org/presentationml/2006/ole">
            <p:oleObj r:id="rId2" spid="">
              <p:embed/>
              <p:pic>
                <p:nvPicPr>
                  <p:cNvPr id="145"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46" name=""/>
          <p:cNvGraphicFramePr/>
          <p:nvPr/>
        </p:nvGraphicFramePr>
        <p:xfrm>
          <a:off x="1981080" y="4419720"/>
          <a:ext cx="6512040" cy="1565280"/>
        </p:xfrm>
        <a:graphic>
          <a:graphicData uri="http://schemas.openxmlformats.org/presentationml/2006/ole">
            <p:oleObj r:id="rId4" spid="">
              <p:embed/>
              <p:pic>
                <p:nvPicPr>
                  <p:cNvPr id="147"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48"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DR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U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ERNES 12:00-13:30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IAR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ércoles 14:30-16: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jercicios todas las clas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HA DE CONTROL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1: Miércoles 31 de agosto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2: Miércoles  5 de Octub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3: Miércoles 9 de Noviemb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28600" y="533520"/>
            <a:ext cx="8914320" cy="6892560"/>
            <a:chOff x="228600" y="533520"/>
            <a:chExt cx="8914320" cy="6892560"/>
          </a:xfrm>
        </p:grpSpPr>
        <p:sp>
          <p:nvSpPr>
            <p:cNvPr id="154"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 name=""/>
            <p:cNvGrpSpPr/>
            <p:nvPr/>
          </p:nvGrpSpPr>
          <p:grpSpPr>
            <a:xfrm>
              <a:off x="228600" y="533520"/>
              <a:ext cx="2308320" cy="995760"/>
              <a:chOff x="228600" y="533520"/>
              <a:chExt cx="2308320" cy="995760"/>
            </a:xfrm>
          </p:grpSpPr>
          <p:sp>
            <p:nvSpPr>
              <p:cNvPr id="190"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537280" y="533520"/>
              <a:ext cx="1852920" cy="995760"/>
              <a:chOff x="2537280" y="533520"/>
              <a:chExt cx="1852920" cy="995760"/>
            </a:xfrm>
          </p:grpSpPr>
          <p:sp>
            <p:nvSpPr>
              <p:cNvPr id="193"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390920" y="533520"/>
              <a:ext cx="1449360" cy="995760"/>
              <a:chOff x="4390920" y="533520"/>
              <a:chExt cx="1449360" cy="995760"/>
            </a:xfrm>
          </p:grpSpPr>
          <p:sp>
            <p:nvSpPr>
              <p:cNvPr id="196"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840640" y="533520"/>
              <a:ext cx="1314360" cy="995760"/>
              <a:chOff x="5840640" y="533520"/>
              <a:chExt cx="1314360" cy="995760"/>
            </a:xfrm>
          </p:grpSpPr>
          <p:sp>
            <p:nvSpPr>
              <p:cNvPr id="199"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155720" y="533520"/>
              <a:ext cx="1987200" cy="995760"/>
              <a:chOff x="7155720" y="533520"/>
              <a:chExt cx="1987200" cy="995760"/>
            </a:xfrm>
          </p:grpSpPr>
          <p:sp>
            <p:nvSpPr>
              <p:cNvPr id="202"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28600" y="6897600"/>
              <a:ext cx="2308320" cy="528480"/>
              <a:chOff x="228600" y="6897600"/>
              <a:chExt cx="2308320" cy="528480"/>
            </a:xfrm>
          </p:grpSpPr>
          <p:sp>
            <p:nvSpPr>
              <p:cNvPr id="205"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37280" y="6897600"/>
              <a:ext cx="1852920" cy="528480"/>
              <a:chOff x="2537280" y="6897600"/>
              <a:chExt cx="1852920" cy="528480"/>
            </a:xfrm>
          </p:grpSpPr>
          <p:sp>
            <p:nvSpPr>
              <p:cNvPr id="208"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390920" y="6897600"/>
              <a:ext cx="1449360" cy="528480"/>
              <a:chOff x="4390920" y="6897600"/>
              <a:chExt cx="1449360" cy="528480"/>
            </a:xfrm>
          </p:grpSpPr>
          <p:sp>
            <p:nvSpPr>
              <p:cNvPr id="211"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840640" y="6897600"/>
              <a:ext cx="1314360" cy="528480"/>
              <a:chOff x="5840640" y="6897600"/>
              <a:chExt cx="1314360" cy="528480"/>
            </a:xfrm>
          </p:grpSpPr>
          <p:sp>
            <p:nvSpPr>
              <p:cNvPr id="214"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55720" y="6897600"/>
              <a:ext cx="1987200" cy="528480"/>
              <a:chOff x="7155720" y="6897600"/>
              <a:chExt cx="1987200" cy="528480"/>
            </a:xfrm>
          </p:grpSpPr>
          <p:sp>
            <p:nvSpPr>
              <p:cNvPr id="217"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
          <p:cNvGrpSpPr/>
          <p:nvPr/>
        </p:nvGrpSpPr>
        <p:grpSpPr>
          <a:xfrm>
            <a:off x="228600" y="838080"/>
            <a:ext cx="8914680" cy="6194160"/>
            <a:chOff x="228600" y="838080"/>
            <a:chExt cx="8914680" cy="6194160"/>
          </a:xfrm>
        </p:grpSpPr>
        <p:sp>
          <p:nvSpPr>
            <p:cNvPr id="222"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28"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9"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2" name=""/>
            <p:cNvGrpSpPr/>
            <p:nvPr/>
          </p:nvGrpSpPr>
          <p:grpSpPr>
            <a:xfrm>
              <a:off x="228600" y="838080"/>
              <a:ext cx="2756520" cy="393120"/>
              <a:chOff x="228600" y="838080"/>
              <a:chExt cx="2756520" cy="393120"/>
            </a:xfrm>
          </p:grpSpPr>
          <p:sp>
            <p:nvSpPr>
              <p:cNvPr id="253"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985480" y="838080"/>
              <a:ext cx="2513160" cy="393120"/>
              <a:chOff x="2985480" y="838080"/>
              <a:chExt cx="2513160" cy="393120"/>
            </a:xfrm>
          </p:grpSpPr>
          <p:sp>
            <p:nvSpPr>
              <p:cNvPr id="256"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499360" y="838080"/>
              <a:ext cx="3643920" cy="393120"/>
              <a:chOff x="5499360" y="838080"/>
              <a:chExt cx="3643920" cy="393120"/>
            </a:xfrm>
          </p:grpSpPr>
          <p:sp>
            <p:nvSpPr>
              <p:cNvPr id="259"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63"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468360" y="0"/>
            <a:ext cx="8153280" cy="59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R = Pf/Pi</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f: Concentración Producto Final</a:t>
            </a: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1"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guntas ????</a:t>
            </a:r>
            <a:endParaRPr b="0" lang="en-US" sz="4400" spc="-1" strike="noStrike">
              <a:solidFill>
                <a:srgbClr val="000000"/>
              </a:solidFill>
              <a:latin typeface="Times New Roman"/>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0" name=""/>
          <p:cNvGraphicFramePr/>
          <p:nvPr/>
        </p:nvGraphicFramePr>
        <p:xfrm>
          <a:off x="0" y="0"/>
          <a:ext cx="8915400" cy="6292800"/>
        </p:xfrm>
        <a:graphic>
          <a:graphicData uri="http://schemas.openxmlformats.org/presentationml/2006/ole">
            <p:oleObj r:id="rId2" spid="">
              <p:embed/>
              <p:pic>
                <p:nvPicPr>
                  <p:cNvPr id="271" name="" descr=""/>
                  <p:cNvPicPr/>
                  <p:nvPr/>
                </p:nvPicPr>
                <p:blipFill>
                  <a:blip r:embed="rId3"/>
                  <a:stretch/>
                </p:blipFill>
                <p:spPr>
                  <a:xfrm>
                    <a:off x="0" y="0"/>
                    <a:ext cx="8915400" cy="6292800"/>
                  </a:xfrm>
                  <a:prstGeom prst="rect">
                    <a:avLst/>
                  </a:prstGeom>
                  <a:ln w="0">
                    <a:noFill/>
                  </a:ln>
                </p:spPr>
              </p:pic>
            </p:oleObj>
          </a:graphicData>
        </a:graphic>
      </p:graphicFrame>
      <p:sp>
        <p:nvSpPr>
          <p:cNvPr id="272"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74"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76" name=""/>
          <p:cNvGraphicFramePr/>
          <p:nvPr/>
        </p:nvGraphicFramePr>
        <p:xfrm>
          <a:off x="304920" y="990720"/>
          <a:ext cx="8494560" cy="5667120"/>
        </p:xfrm>
        <a:graphic>
          <a:graphicData uri="http://schemas.openxmlformats.org/presentationml/2006/ole">
            <p:oleObj r:id="rId2" spid="">
              <p:embed/>
              <p:pic>
                <p:nvPicPr>
                  <p:cNvPr id="277"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cuperación de Proteína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Separación Sólido-Líquido:</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ifuga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gul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culació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os de Membran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ra filtració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áli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422280" y="1752480"/>
            <a:ext cx="8557560" cy="3248640"/>
            <a:chOff x="422280" y="1752480"/>
            <a:chExt cx="8557560" cy="3248640"/>
          </a:xfrm>
        </p:grpSpPr>
        <p:sp>
          <p:nvSpPr>
            <p:cNvPr id="280"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
            <p:cNvGrpSpPr/>
            <p:nvPr/>
          </p:nvGrpSpPr>
          <p:grpSpPr>
            <a:xfrm>
              <a:off x="8088120" y="3027240"/>
              <a:ext cx="425880" cy="533520"/>
              <a:chOff x="8088120" y="3027240"/>
              <a:chExt cx="425880" cy="533520"/>
            </a:xfrm>
          </p:grpSpPr>
          <p:sp>
            <p:nvSpPr>
              <p:cNvPr id="282"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6"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7"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89"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4008960" y="2494080"/>
              <a:ext cx="642600" cy="1828800"/>
              <a:chOff x="4008960" y="2494080"/>
              <a:chExt cx="642600" cy="1828800"/>
            </a:xfrm>
          </p:grpSpPr>
          <p:sp>
            <p:nvSpPr>
              <p:cNvPr id="292"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7"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98"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99"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451600" y="2938320"/>
              <a:ext cx="318600" cy="649080"/>
              <a:chOff x="2451600" y="2938320"/>
              <a:chExt cx="318600" cy="649080"/>
            </a:xfrm>
          </p:grpSpPr>
          <p:sp>
            <p:nvSpPr>
              <p:cNvPr id="302"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3"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4"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05" name=""/>
              <p:cNvGrpSpPr/>
              <p:nvPr/>
            </p:nvGrpSpPr>
            <p:grpSpPr>
              <a:xfrm>
                <a:off x="2451600" y="2938320"/>
                <a:ext cx="259920" cy="129960"/>
                <a:chOff x="2451600" y="2938320"/>
                <a:chExt cx="259920" cy="129960"/>
              </a:xfrm>
            </p:grpSpPr>
            <p:sp>
              <p:nvSpPr>
                <p:cNvPr id="306"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7"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8"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09"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10" name=""/>
              <p:cNvGrpSpPr/>
              <p:nvPr/>
            </p:nvGrpSpPr>
            <p:grpSpPr>
              <a:xfrm>
                <a:off x="2510280" y="3457440"/>
                <a:ext cx="259920" cy="129960"/>
                <a:chOff x="2510280" y="3457440"/>
                <a:chExt cx="259920" cy="129960"/>
              </a:xfrm>
            </p:grpSpPr>
            <p:sp>
              <p:nvSpPr>
                <p:cNvPr id="311"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12"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13"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14"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15"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21"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22" name=""/>
          <p:cNvGrpSpPr/>
          <p:nvPr/>
        </p:nvGrpSpPr>
        <p:grpSpPr>
          <a:xfrm>
            <a:off x="291240" y="2666880"/>
            <a:ext cx="754200" cy="2212200"/>
            <a:chOff x="291240" y="2666880"/>
            <a:chExt cx="754200" cy="2212200"/>
          </a:xfrm>
        </p:grpSpPr>
        <p:sp>
          <p:nvSpPr>
            <p:cNvPr id="323"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24"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27"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28"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9"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0"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31" name=""/>
          <p:cNvGrpSpPr/>
          <p:nvPr/>
        </p:nvGrpSpPr>
        <p:grpSpPr>
          <a:xfrm>
            <a:off x="4046400" y="3733920"/>
            <a:ext cx="307800" cy="185760"/>
            <a:chOff x="4046400" y="3733920"/>
            <a:chExt cx="307800" cy="185760"/>
          </a:xfrm>
        </p:grpSpPr>
        <p:sp>
          <p:nvSpPr>
            <p:cNvPr id="332"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3"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905280" y="3276720"/>
            <a:ext cx="309240" cy="185760"/>
            <a:chOff x="3905280" y="3276720"/>
            <a:chExt cx="309240" cy="185760"/>
          </a:xfrm>
        </p:grpSpPr>
        <p:sp>
          <p:nvSpPr>
            <p:cNvPr id="337"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8"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42"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43"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5"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6"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7"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48"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2066760" y="3263760"/>
            <a:ext cx="318960" cy="649080"/>
            <a:chOff x="2066760" y="3263760"/>
            <a:chExt cx="318960" cy="649080"/>
          </a:xfrm>
        </p:grpSpPr>
        <p:sp>
          <p:nvSpPr>
            <p:cNvPr id="350"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1"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2"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53" name=""/>
            <p:cNvGrpSpPr/>
            <p:nvPr/>
          </p:nvGrpSpPr>
          <p:grpSpPr>
            <a:xfrm>
              <a:off x="2066760" y="3263760"/>
              <a:ext cx="260640" cy="129960"/>
              <a:chOff x="2066760" y="3263760"/>
              <a:chExt cx="260640" cy="129960"/>
            </a:xfrm>
          </p:grpSpPr>
          <p:sp>
            <p:nvSpPr>
              <p:cNvPr id="354"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5"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6"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7"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58" name=""/>
            <p:cNvGrpSpPr/>
            <p:nvPr/>
          </p:nvGrpSpPr>
          <p:grpSpPr>
            <a:xfrm>
              <a:off x="2125440" y="3782880"/>
              <a:ext cx="259920" cy="129960"/>
              <a:chOff x="2125440" y="3782880"/>
              <a:chExt cx="259920" cy="129960"/>
            </a:xfrm>
          </p:grpSpPr>
          <p:sp>
            <p:nvSpPr>
              <p:cNvPr id="359"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0"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61"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62" name=""/>
          <p:cNvGrpSpPr/>
          <p:nvPr/>
        </p:nvGrpSpPr>
        <p:grpSpPr>
          <a:xfrm>
            <a:off x="7915320" y="3200400"/>
            <a:ext cx="425160" cy="533520"/>
            <a:chOff x="7915320" y="3200400"/>
            <a:chExt cx="425160" cy="533520"/>
          </a:xfrm>
        </p:grpSpPr>
        <p:sp>
          <p:nvSpPr>
            <p:cNvPr id="363"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6"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70"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71"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76"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0" y="814320"/>
          <a:ext cx="9144000" cy="5227560"/>
        </p:xfrm>
        <a:graphic>
          <a:graphicData uri="http://schemas.openxmlformats.org/presentationml/2006/ole">
            <p:oleObj r:id="rId2" spid="">
              <p:embed/>
              <p:pic>
                <p:nvPicPr>
                  <p:cNvPr id="378" name="" descr=""/>
                  <p:cNvPicPr/>
                  <p:nvPr/>
                </p:nvPicPr>
                <p:blipFill>
                  <a:blip r:embed="rId3"/>
                  <a:stretch/>
                </p:blipFill>
                <p:spPr>
                  <a:xfrm>
                    <a:off x="0" y="814320"/>
                    <a:ext cx="9144000" cy="5227560"/>
                  </a:xfrm>
                  <a:prstGeom prst="rect">
                    <a:avLst/>
                  </a:prstGeom>
                  <a:ln w="0">
                    <a:noFill/>
                  </a:ln>
                </p:spPr>
              </p:pic>
            </p:oleObj>
          </a:graphicData>
        </a:graphic>
      </p:graphicFrame>
      <p:sp>
        <p:nvSpPr>
          <p:cNvPr id="379"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80"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2" name=""/>
          <p:cNvGrpSpPr/>
          <p:nvPr/>
        </p:nvGrpSpPr>
        <p:grpSpPr>
          <a:xfrm>
            <a:off x="685800" y="0"/>
            <a:ext cx="7772040" cy="6876360"/>
            <a:chOff x="685800" y="0"/>
            <a:chExt cx="7772040" cy="6876360"/>
          </a:xfrm>
        </p:grpSpPr>
        <p:sp>
          <p:nvSpPr>
            <p:cNvPr id="383"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86"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87"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88"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89"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90"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91"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92"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96"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406"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407"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15"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16"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18"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23"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27" name=""/>
          <p:cNvGraphicFramePr/>
          <p:nvPr/>
        </p:nvGraphicFramePr>
        <p:xfrm>
          <a:off x="533520" y="914400"/>
          <a:ext cx="8001000" cy="990720"/>
        </p:xfrm>
        <a:graphic>
          <a:graphicData uri="http://schemas.openxmlformats.org/presentationml/2006/ole">
            <p:oleObj progId="Word.Document.12" r:id="rId2" spid="">
              <p:embed/>
              <p:pic>
                <p:nvPicPr>
                  <p:cNvPr id="428"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29" name=""/>
          <p:cNvGrpSpPr/>
          <p:nvPr/>
        </p:nvGrpSpPr>
        <p:grpSpPr>
          <a:xfrm>
            <a:off x="4800600" y="1981080"/>
            <a:ext cx="4114800" cy="4888080"/>
            <a:chOff x="4800600" y="1981080"/>
            <a:chExt cx="4114800" cy="4888080"/>
          </a:xfrm>
        </p:grpSpPr>
        <p:graphicFrame>
          <p:nvGraphicFramePr>
            <p:cNvPr id="430" name=""/>
            <p:cNvGraphicFramePr/>
            <p:nvPr/>
          </p:nvGraphicFramePr>
          <p:xfrm>
            <a:off x="5410080" y="2743200"/>
            <a:ext cx="2610000" cy="2781360"/>
          </p:xfrm>
          <a:graphic>
            <a:graphicData uri="http://schemas.openxmlformats.org/presentationml/2006/ole">
              <p:oleObj r:id="rId4" spid="">
                <p:embed/>
                <p:pic>
                  <p:nvPicPr>
                    <p:cNvPr id="431"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32"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34" name=""/>
          <p:cNvGrpSpPr/>
          <p:nvPr/>
        </p:nvGrpSpPr>
        <p:grpSpPr>
          <a:xfrm>
            <a:off x="380880" y="2743200"/>
            <a:ext cx="5333760" cy="4125960"/>
            <a:chOff x="380880" y="2743200"/>
            <a:chExt cx="5333760" cy="4125960"/>
          </a:xfrm>
        </p:grpSpPr>
        <p:sp>
          <p:nvSpPr>
            <p:cNvPr id="435"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6" name=""/>
            <p:cNvGraphicFramePr/>
            <p:nvPr/>
          </p:nvGraphicFramePr>
          <p:xfrm>
            <a:off x="380880" y="2743200"/>
            <a:ext cx="2756520" cy="3076560"/>
          </p:xfrm>
          <a:graphic>
            <a:graphicData uri="http://schemas.openxmlformats.org/presentationml/2006/ole">
              <p:oleObj r:id="rId6" spid="">
                <p:embed/>
                <p:pic>
                  <p:nvPicPr>
                    <p:cNvPr id="437"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38"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40"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41"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ompimiento de Célula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ogenizador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linos de Bolas</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odos No Mecánico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nte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lcalis</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zimáticos</a:t>
            </a: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ción de Proteína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ción</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va</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electiva</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ción Líquido-Líquido</a:t>
            </a:r>
            <a:endParaRPr b="0" lang="en-US" sz="2400" spc="-1" strike="noStrike">
              <a:solidFill>
                <a:srgbClr val="000000"/>
              </a:solidFill>
              <a:latin typeface="Times New Roman"/>
            </a:endParaRPr>
          </a:p>
          <a:p>
            <a:pPr lvl="2" marL="10515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80000"/>
          </a:bodyPr>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Purificación de Proteín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Cromatográficas </a:t>
            </a:r>
            <a:endParaRPr b="0" lang="en-US" sz="28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sorción, Adsorción en Columnas</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oría de Cromatografía de Proteínas</a:t>
            </a:r>
            <a:endParaRPr b="0" lang="en-US" sz="24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iltración por Geles</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cambio Iónico</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focusing</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Interacción Hidrofóbic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Fase reversa</a:t>
            </a:r>
            <a:endParaRPr b="0" lang="en-US" sz="2000" spc="-1" strike="noStrike">
              <a:solidFill>
                <a:srgbClr val="000000"/>
              </a:solidFill>
              <a:latin typeface="Times New Roman"/>
            </a:endParaRPr>
          </a:p>
          <a:p>
            <a:pPr lvl="2" marL="914400" indent="-182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omatografía de Afinidad</a:t>
            </a:r>
            <a:endParaRPr b="0" lang="en-US" sz="20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omatografía de lecho expandido</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écnicas Electroforética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ectroforesis</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electroenfoque</a:t>
            </a:r>
            <a:endParaRPr b="0" lang="en-US" sz="2800" spc="-1" strike="noStrike">
              <a:solidFill>
                <a:srgbClr val="000000"/>
              </a:solidFill>
              <a:latin typeface="Times New Roman"/>
            </a:endParaRPr>
          </a:p>
          <a:p>
            <a:pPr lvl="2"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eño de Procesos de Separ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ivo de Células Animales y Vege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os Biotecnoló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 Biotecnológica de Proteín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aterial del 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U_ Cur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valuació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Controles y Examen (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jercicios y Tareas (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idades de Laborato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F = 0.85 Nc+0.15 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Bibliografía</a:t>
            </a:r>
            <a:endParaRPr b="0" lang="en-US" sz="2800" spc="-1" strike="noStrike">
              <a:solidFill>
                <a:srgbClr val="000000"/>
              </a:solidFill>
              <a:latin typeface="Times New Roman"/>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a:t>
            </a:r>
            <a:r>
              <a:rPr b="1" lang="es-ES" sz="2800" spc="-1" strike="noStrike">
                <a:solidFill>
                  <a:srgbClr val="000000"/>
                </a:solidFill>
                <a:latin typeface="Times New Roman"/>
              </a:rPr>
              <a:t> </a:t>
            </a:r>
            <a:r>
              <a:rPr b="0" lang="es-ES" sz="2000" spc="-1" strike="noStrike">
                <a:solidFill>
                  <a:srgbClr val="000000"/>
                </a:solidFill>
                <a:latin typeface="Times New Roman"/>
              </a:rPr>
              <a:t>Scope R.K "Protein Purification: Principles and Practice" 3er Edición, Spingerm 1994</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Harris E.L. and Angal S. "Protein purification methods: A practical approach" 1ª Edición, IRL Press, 1989</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 Belter P., Cussler E.L. and Hu Wei Shou "Bioseparations : Dowstream Processing for Biotechnology":, John Wiley and Sons , 1988.</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 </a:t>
            </a:r>
            <a:r>
              <a:rPr b="1" lang="es-ES" sz="2000" spc="-1" strike="noStrike">
                <a:solidFill>
                  <a:srgbClr val="ff0000"/>
                </a:solidFill>
                <a:latin typeface="Times New Roman"/>
              </a:rPr>
              <a:t>Doran M." Bioprocess Engineering Principles", Academic Press,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5. Asenjo J.A. "Separation processes in Biotechnology", Marcel Dekker, 1990</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6. Tejeda, R.M.Montesinos, R.Guzman "Bioseparaciones", Editorial Unison, 1995.</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7. Ahuja S “Handbook of Bioseparations”, Academic Press,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480"/>
            <a:ext cx="777240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la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terial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En U Curso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DEBEN TRAER EL MATERI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sentar la mater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cer Ejercicios para aplicar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 Ing Quinica</cp:lastModifiedBy>
  <dcterms:modified xsi:type="dcterms:W3CDTF">2005-07-25T15:19:14Z</dcterms:modified>
  <cp:revision>35</cp:revision>
  <dc:subject/>
  <dc:title>Separación y Procesos Biotecnológicos BT56A </dc:title>
</cp:coreProperties>
</file>