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media/image15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E2E3-7AD5-4731-B208-998A9F37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DE2D-6952-4842-9151-52387C8B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0CA-5364-4281-990A-9E47D0B9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388-F738-4527-890A-3EE4E411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370-6DBE-460E-B700-5865C1F7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28D-9E4B-4594-87E2-2DF20D82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23C-C0D1-44EA-8CE0-ADACF977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7F6-DEB8-4448-AAFF-7149EC66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CDC-0016-4A7E-8E99-93AAB419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478-3535-4668-9E96-57953D21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9D7-D5D1-4161-A38D-F6112A3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0E55-9F35-487F-85F3-B8D7D7D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5A7-8232-4299-8C44-B637BF818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gened.emc.maricopa.edu/bio/bio181/BIOBK/BioBookCELL2.html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image" Target="../media/image4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6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cellbio.utmb.edu/cellbio/nucleus3.htm" TargetMode="External"/><Relationship Id="rId3" Type="http://schemas.openxmlformats.org/officeDocument/2006/relationships/hyperlink" Target="http://cellbio.utmb.edu/cellbio/nucleus3.htm" TargetMode="External"/><Relationship Id="rId4" Type="http://schemas.openxmlformats.org/officeDocument/2006/relationships/hyperlink" Target="http://cellbio.utmb.edu/cellbio/nucleus3.htm" TargetMode="External"/><Relationship Id="rId5" Type="http://schemas.openxmlformats.org/officeDocument/2006/relationships/hyperlink" Target="http://cellbio.utmb.edu/cellbio/nucleus3.htm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1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image" Target="../media/image6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13000" y="2627280"/>
            <a:ext cx="429552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5000" y="5218200"/>
            <a:ext cx="5433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                                                                                       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gened.emc.maricopa.edu/bio/bio181/BIOBK/BioBookCELL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9720" y="8387640"/>
            <a:ext cx="23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ucleu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James Niemas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63392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84280" y="6300720"/>
            <a:ext cx="2381400" cy="2266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484280" y="684360"/>
            <a:ext cx="4103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úcleo celular</a:t>
            </a:r>
            <a:endParaRPr b="0" i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1557360" y="4572000"/>
            <a:ext cx="3971880" cy="3294000"/>
            <a:chOff x="1557360" y="4572000"/>
            <a:chExt cx="3971880" cy="3294000"/>
          </a:xfrm>
        </p:grpSpPr>
        <p:pic>
          <p:nvPicPr>
            <p:cNvPr id="336" name="" descr=""/>
            <p:cNvPicPr/>
            <p:nvPr/>
          </p:nvPicPr>
          <p:blipFill>
            <a:blip r:embed="rId1"/>
            <a:srcRect l="0" t="16469" r="0" b="0"/>
            <a:stretch/>
          </p:blipFill>
          <p:spPr>
            <a:xfrm>
              <a:off x="1557360" y="4572000"/>
              <a:ext cx="3971880" cy="32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440160" y="5435280"/>
              <a:ext cx="161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Heterocroma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21840" y="7019640"/>
              <a:ext cx="135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Euocromat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221000" y="5724360"/>
              <a:ext cx="14472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9360" y="7308720"/>
              <a:ext cx="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052640" y="1979640"/>
            <a:ext cx="4609440" cy="2191320"/>
            <a:chOff x="1052640" y="1979640"/>
            <a:chExt cx="4609440" cy="2191320"/>
          </a:xfrm>
        </p:grpSpPr>
        <p:sp>
          <p:nvSpPr>
            <p:cNvPr id="342" name=""/>
            <p:cNvSpPr/>
            <p:nvPr/>
          </p:nvSpPr>
          <p:spPr>
            <a:xfrm>
              <a:off x="2843280" y="1979640"/>
              <a:ext cx="2818800" cy="869760"/>
            </a:xfrm>
            <a:custGeom>
              <a:avLst/>
              <a:gdLst/>
              <a:ahLst/>
              <a:rect l="l" t="t" r="r" b="b"/>
              <a:pathLst>
                <a:path w="1776" h="548">
                  <a:moveTo>
                    <a:pt x="0" y="516"/>
                  </a:moveTo>
                  <a:cubicBezTo>
                    <a:pt x="44" y="527"/>
                    <a:pt x="81" y="526"/>
                    <a:pt x="120" y="500"/>
                  </a:cubicBezTo>
                  <a:cubicBezTo>
                    <a:pt x="125" y="484"/>
                    <a:pt x="131" y="468"/>
                    <a:pt x="136" y="452"/>
                  </a:cubicBezTo>
                  <a:cubicBezTo>
                    <a:pt x="139" y="444"/>
                    <a:pt x="144" y="428"/>
                    <a:pt x="144" y="428"/>
                  </a:cubicBezTo>
                  <a:cubicBezTo>
                    <a:pt x="141" y="385"/>
                    <a:pt x="140" y="343"/>
                    <a:pt x="136" y="300"/>
                  </a:cubicBezTo>
                  <a:cubicBezTo>
                    <a:pt x="133" y="272"/>
                    <a:pt x="112" y="220"/>
                    <a:pt x="112" y="220"/>
                  </a:cubicBezTo>
                  <a:cubicBezTo>
                    <a:pt x="116" y="166"/>
                    <a:pt x="93" y="88"/>
                    <a:pt x="152" y="68"/>
                  </a:cubicBezTo>
                  <a:cubicBezTo>
                    <a:pt x="167" y="23"/>
                    <a:pt x="181" y="35"/>
                    <a:pt x="224" y="44"/>
                  </a:cubicBezTo>
                  <a:cubicBezTo>
                    <a:pt x="270" y="112"/>
                    <a:pt x="252" y="148"/>
                    <a:pt x="240" y="252"/>
                  </a:cubicBezTo>
                  <a:cubicBezTo>
                    <a:pt x="240" y="252"/>
                    <a:pt x="220" y="312"/>
                    <a:pt x="216" y="324"/>
                  </a:cubicBezTo>
                  <a:cubicBezTo>
                    <a:pt x="213" y="332"/>
                    <a:pt x="208" y="348"/>
                    <a:pt x="208" y="348"/>
                  </a:cubicBezTo>
                  <a:cubicBezTo>
                    <a:pt x="217" y="523"/>
                    <a:pt x="181" y="523"/>
                    <a:pt x="320" y="508"/>
                  </a:cubicBezTo>
                  <a:cubicBezTo>
                    <a:pt x="342" y="443"/>
                    <a:pt x="298" y="366"/>
                    <a:pt x="360" y="324"/>
                  </a:cubicBezTo>
                  <a:cubicBezTo>
                    <a:pt x="430" y="371"/>
                    <a:pt x="334" y="481"/>
                    <a:pt x="416" y="508"/>
                  </a:cubicBezTo>
                  <a:cubicBezTo>
                    <a:pt x="429" y="505"/>
                    <a:pt x="445" y="508"/>
                    <a:pt x="456" y="500"/>
                  </a:cubicBezTo>
                  <a:cubicBezTo>
                    <a:pt x="463" y="495"/>
                    <a:pt x="464" y="484"/>
                    <a:pt x="464" y="476"/>
                  </a:cubicBezTo>
                  <a:cubicBezTo>
                    <a:pt x="464" y="441"/>
                    <a:pt x="460" y="407"/>
                    <a:pt x="456" y="372"/>
                  </a:cubicBezTo>
                  <a:cubicBezTo>
                    <a:pt x="450" y="321"/>
                    <a:pt x="416" y="284"/>
                    <a:pt x="400" y="236"/>
                  </a:cubicBezTo>
                  <a:cubicBezTo>
                    <a:pt x="409" y="38"/>
                    <a:pt x="370" y="48"/>
                    <a:pt x="544" y="60"/>
                  </a:cubicBezTo>
                  <a:cubicBezTo>
                    <a:pt x="549" y="76"/>
                    <a:pt x="555" y="92"/>
                    <a:pt x="560" y="108"/>
                  </a:cubicBezTo>
                  <a:cubicBezTo>
                    <a:pt x="563" y="116"/>
                    <a:pt x="568" y="132"/>
                    <a:pt x="568" y="132"/>
                  </a:cubicBezTo>
                  <a:cubicBezTo>
                    <a:pt x="562" y="188"/>
                    <a:pt x="559" y="230"/>
                    <a:pt x="528" y="276"/>
                  </a:cubicBezTo>
                  <a:cubicBezTo>
                    <a:pt x="512" y="358"/>
                    <a:pt x="474" y="472"/>
                    <a:pt x="552" y="524"/>
                  </a:cubicBezTo>
                  <a:cubicBezTo>
                    <a:pt x="600" y="517"/>
                    <a:pt x="625" y="522"/>
                    <a:pt x="640" y="476"/>
                  </a:cubicBezTo>
                  <a:cubicBezTo>
                    <a:pt x="643" y="420"/>
                    <a:pt x="632" y="362"/>
                    <a:pt x="648" y="308"/>
                  </a:cubicBezTo>
                  <a:cubicBezTo>
                    <a:pt x="668" y="240"/>
                    <a:pt x="694" y="334"/>
                    <a:pt x="696" y="340"/>
                  </a:cubicBezTo>
                  <a:cubicBezTo>
                    <a:pt x="699" y="399"/>
                    <a:pt x="694" y="458"/>
                    <a:pt x="704" y="516"/>
                  </a:cubicBezTo>
                  <a:cubicBezTo>
                    <a:pt x="706" y="525"/>
                    <a:pt x="719" y="534"/>
                    <a:pt x="728" y="532"/>
                  </a:cubicBezTo>
                  <a:cubicBezTo>
                    <a:pt x="737" y="530"/>
                    <a:pt x="739" y="516"/>
                    <a:pt x="744" y="508"/>
                  </a:cubicBezTo>
                  <a:cubicBezTo>
                    <a:pt x="741" y="393"/>
                    <a:pt x="736" y="279"/>
                    <a:pt x="736" y="164"/>
                  </a:cubicBezTo>
                  <a:cubicBezTo>
                    <a:pt x="736" y="127"/>
                    <a:pt x="741" y="133"/>
                    <a:pt x="768" y="124"/>
                  </a:cubicBezTo>
                  <a:cubicBezTo>
                    <a:pt x="788" y="154"/>
                    <a:pt x="793" y="175"/>
                    <a:pt x="800" y="212"/>
                  </a:cubicBezTo>
                  <a:cubicBezTo>
                    <a:pt x="806" y="418"/>
                    <a:pt x="724" y="531"/>
                    <a:pt x="888" y="508"/>
                  </a:cubicBezTo>
                  <a:cubicBezTo>
                    <a:pt x="923" y="402"/>
                    <a:pt x="901" y="478"/>
                    <a:pt x="888" y="220"/>
                  </a:cubicBezTo>
                  <a:cubicBezTo>
                    <a:pt x="885" y="167"/>
                    <a:pt x="875" y="158"/>
                    <a:pt x="856" y="116"/>
                  </a:cubicBezTo>
                  <a:cubicBezTo>
                    <a:pt x="849" y="101"/>
                    <a:pt x="840" y="68"/>
                    <a:pt x="840" y="68"/>
                  </a:cubicBezTo>
                  <a:cubicBezTo>
                    <a:pt x="848" y="63"/>
                    <a:pt x="855" y="56"/>
                    <a:pt x="864" y="52"/>
                  </a:cubicBezTo>
                  <a:cubicBezTo>
                    <a:pt x="879" y="45"/>
                    <a:pt x="912" y="36"/>
                    <a:pt x="912" y="36"/>
                  </a:cubicBezTo>
                  <a:cubicBezTo>
                    <a:pt x="925" y="39"/>
                    <a:pt x="941" y="36"/>
                    <a:pt x="952" y="44"/>
                  </a:cubicBezTo>
                  <a:cubicBezTo>
                    <a:pt x="967" y="56"/>
                    <a:pt x="984" y="92"/>
                    <a:pt x="984" y="92"/>
                  </a:cubicBezTo>
                  <a:cubicBezTo>
                    <a:pt x="977" y="240"/>
                    <a:pt x="974" y="248"/>
                    <a:pt x="952" y="356"/>
                  </a:cubicBezTo>
                  <a:cubicBezTo>
                    <a:pt x="955" y="404"/>
                    <a:pt x="944" y="455"/>
                    <a:pt x="960" y="500"/>
                  </a:cubicBezTo>
                  <a:cubicBezTo>
                    <a:pt x="966" y="516"/>
                    <a:pt x="1008" y="516"/>
                    <a:pt x="1008" y="516"/>
                  </a:cubicBezTo>
                  <a:cubicBezTo>
                    <a:pt x="1048" y="503"/>
                    <a:pt x="1029" y="516"/>
                    <a:pt x="1048" y="460"/>
                  </a:cubicBezTo>
                  <a:cubicBezTo>
                    <a:pt x="1051" y="452"/>
                    <a:pt x="1056" y="436"/>
                    <a:pt x="1056" y="436"/>
                  </a:cubicBezTo>
                  <a:cubicBezTo>
                    <a:pt x="1053" y="385"/>
                    <a:pt x="1054" y="334"/>
                    <a:pt x="1048" y="284"/>
                  </a:cubicBezTo>
                  <a:cubicBezTo>
                    <a:pt x="1046" y="267"/>
                    <a:pt x="1037" y="252"/>
                    <a:pt x="1032" y="236"/>
                  </a:cubicBezTo>
                  <a:cubicBezTo>
                    <a:pt x="1029" y="228"/>
                    <a:pt x="1024" y="212"/>
                    <a:pt x="1024" y="212"/>
                  </a:cubicBezTo>
                  <a:cubicBezTo>
                    <a:pt x="1027" y="193"/>
                    <a:pt x="1018" y="168"/>
                    <a:pt x="1032" y="156"/>
                  </a:cubicBezTo>
                  <a:cubicBezTo>
                    <a:pt x="1081" y="114"/>
                    <a:pt x="1092" y="204"/>
                    <a:pt x="1096" y="220"/>
                  </a:cubicBezTo>
                  <a:cubicBezTo>
                    <a:pt x="1099" y="308"/>
                    <a:pt x="1087" y="398"/>
                    <a:pt x="1104" y="484"/>
                  </a:cubicBezTo>
                  <a:cubicBezTo>
                    <a:pt x="1109" y="509"/>
                    <a:pt x="1176" y="508"/>
                    <a:pt x="1176" y="508"/>
                  </a:cubicBezTo>
                  <a:cubicBezTo>
                    <a:pt x="1200" y="505"/>
                    <a:pt x="1235" y="521"/>
                    <a:pt x="1248" y="500"/>
                  </a:cubicBezTo>
                  <a:cubicBezTo>
                    <a:pt x="1263" y="476"/>
                    <a:pt x="1223" y="332"/>
                    <a:pt x="1216" y="292"/>
                  </a:cubicBezTo>
                  <a:cubicBezTo>
                    <a:pt x="1210" y="218"/>
                    <a:pt x="1164" y="49"/>
                    <a:pt x="1232" y="4"/>
                  </a:cubicBezTo>
                  <a:cubicBezTo>
                    <a:pt x="1253" y="7"/>
                    <a:pt x="1278" y="0"/>
                    <a:pt x="1296" y="12"/>
                  </a:cubicBezTo>
                  <a:cubicBezTo>
                    <a:pt x="1310" y="22"/>
                    <a:pt x="1312" y="60"/>
                    <a:pt x="1312" y="60"/>
                  </a:cubicBezTo>
                  <a:cubicBezTo>
                    <a:pt x="1309" y="164"/>
                    <a:pt x="1296" y="268"/>
                    <a:pt x="1296" y="372"/>
                  </a:cubicBezTo>
                  <a:cubicBezTo>
                    <a:pt x="1296" y="409"/>
                    <a:pt x="1297" y="447"/>
                    <a:pt x="1304" y="484"/>
                  </a:cubicBezTo>
                  <a:cubicBezTo>
                    <a:pt x="1308" y="509"/>
                    <a:pt x="1368" y="524"/>
                    <a:pt x="1368" y="524"/>
                  </a:cubicBezTo>
                  <a:cubicBezTo>
                    <a:pt x="1421" y="515"/>
                    <a:pt x="1424" y="515"/>
                    <a:pt x="1440" y="468"/>
                  </a:cubicBezTo>
                  <a:cubicBezTo>
                    <a:pt x="1437" y="441"/>
                    <a:pt x="1438" y="414"/>
                    <a:pt x="1432" y="388"/>
                  </a:cubicBezTo>
                  <a:cubicBezTo>
                    <a:pt x="1430" y="379"/>
                    <a:pt x="1420" y="373"/>
                    <a:pt x="1416" y="364"/>
                  </a:cubicBezTo>
                  <a:cubicBezTo>
                    <a:pt x="1405" y="339"/>
                    <a:pt x="1399" y="311"/>
                    <a:pt x="1392" y="284"/>
                  </a:cubicBezTo>
                  <a:cubicBezTo>
                    <a:pt x="1400" y="177"/>
                    <a:pt x="1375" y="156"/>
                    <a:pt x="1472" y="172"/>
                  </a:cubicBezTo>
                  <a:cubicBezTo>
                    <a:pt x="1500" y="191"/>
                    <a:pt x="1509" y="204"/>
                    <a:pt x="1520" y="236"/>
                  </a:cubicBezTo>
                  <a:cubicBezTo>
                    <a:pt x="1517" y="286"/>
                    <a:pt x="1488" y="469"/>
                    <a:pt x="1512" y="524"/>
                  </a:cubicBezTo>
                  <a:cubicBezTo>
                    <a:pt x="1519" y="539"/>
                    <a:pt x="1560" y="540"/>
                    <a:pt x="1560" y="540"/>
                  </a:cubicBezTo>
                  <a:cubicBezTo>
                    <a:pt x="1652" y="522"/>
                    <a:pt x="1611" y="444"/>
                    <a:pt x="1616" y="340"/>
                  </a:cubicBezTo>
                  <a:cubicBezTo>
                    <a:pt x="1632" y="343"/>
                    <a:pt x="1650" y="340"/>
                    <a:pt x="1664" y="348"/>
                  </a:cubicBezTo>
                  <a:cubicBezTo>
                    <a:pt x="1671" y="352"/>
                    <a:pt x="1671" y="364"/>
                    <a:pt x="1672" y="372"/>
                  </a:cubicBezTo>
                  <a:cubicBezTo>
                    <a:pt x="1681" y="466"/>
                    <a:pt x="1645" y="520"/>
                    <a:pt x="1728" y="548"/>
                  </a:cubicBezTo>
                  <a:cubicBezTo>
                    <a:pt x="1744" y="545"/>
                    <a:pt x="1776" y="540"/>
                    <a:pt x="1776" y="54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338280" y="3522600"/>
              <a:ext cx="1752480" cy="339120"/>
            </a:xfrm>
            <a:custGeom>
              <a:avLst/>
              <a:gdLst/>
              <a:ahLst/>
              <a:rect l="l" t="t" r="r" b="b"/>
              <a:pathLst>
                <a:path w="1687" h="214">
                  <a:moveTo>
                    <a:pt x="4" y="148"/>
                  </a:moveTo>
                  <a:cubicBezTo>
                    <a:pt x="7" y="129"/>
                    <a:pt x="0" y="107"/>
                    <a:pt x="12" y="92"/>
                  </a:cubicBezTo>
                  <a:cubicBezTo>
                    <a:pt x="22" y="79"/>
                    <a:pt x="60" y="76"/>
                    <a:pt x="60" y="76"/>
                  </a:cubicBezTo>
                  <a:cubicBezTo>
                    <a:pt x="71" y="79"/>
                    <a:pt x="88" y="74"/>
                    <a:pt x="92" y="84"/>
                  </a:cubicBezTo>
                  <a:cubicBezTo>
                    <a:pt x="99" y="102"/>
                    <a:pt x="92" y="123"/>
                    <a:pt x="84" y="140"/>
                  </a:cubicBezTo>
                  <a:cubicBezTo>
                    <a:pt x="80" y="148"/>
                    <a:pt x="79" y="124"/>
                    <a:pt x="76" y="116"/>
                  </a:cubicBezTo>
                  <a:cubicBezTo>
                    <a:pt x="87" y="84"/>
                    <a:pt x="101" y="78"/>
                    <a:pt x="132" y="68"/>
                  </a:cubicBezTo>
                  <a:cubicBezTo>
                    <a:pt x="137" y="84"/>
                    <a:pt x="153" y="100"/>
                    <a:pt x="148" y="116"/>
                  </a:cubicBezTo>
                  <a:cubicBezTo>
                    <a:pt x="145" y="124"/>
                    <a:pt x="140" y="148"/>
                    <a:pt x="140" y="140"/>
                  </a:cubicBezTo>
                  <a:cubicBezTo>
                    <a:pt x="140" y="95"/>
                    <a:pt x="141" y="102"/>
                    <a:pt x="172" y="92"/>
                  </a:cubicBezTo>
                  <a:cubicBezTo>
                    <a:pt x="211" y="150"/>
                    <a:pt x="175" y="101"/>
                    <a:pt x="180" y="92"/>
                  </a:cubicBezTo>
                  <a:cubicBezTo>
                    <a:pt x="184" y="84"/>
                    <a:pt x="196" y="87"/>
                    <a:pt x="204" y="84"/>
                  </a:cubicBezTo>
                  <a:cubicBezTo>
                    <a:pt x="222" y="86"/>
                    <a:pt x="383" y="78"/>
                    <a:pt x="276" y="132"/>
                  </a:cubicBezTo>
                  <a:cubicBezTo>
                    <a:pt x="236" y="52"/>
                    <a:pt x="264" y="68"/>
                    <a:pt x="340" y="76"/>
                  </a:cubicBezTo>
                  <a:cubicBezTo>
                    <a:pt x="343" y="87"/>
                    <a:pt x="348" y="97"/>
                    <a:pt x="348" y="108"/>
                  </a:cubicBezTo>
                  <a:cubicBezTo>
                    <a:pt x="348" y="116"/>
                    <a:pt x="336" y="92"/>
                    <a:pt x="340" y="84"/>
                  </a:cubicBezTo>
                  <a:cubicBezTo>
                    <a:pt x="344" y="76"/>
                    <a:pt x="356" y="79"/>
                    <a:pt x="364" y="76"/>
                  </a:cubicBezTo>
                  <a:cubicBezTo>
                    <a:pt x="372" y="79"/>
                    <a:pt x="386" y="76"/>
                    <a:pt x="388" y="84"/>
                  </a:cubicBezTo>
                  <a:cubicBezTo>
                    <a:pt x="393" y="102"/>
                    <a:pt x="388" y="123"/>
                    <a:pt x="380" y="140"/>
                  </a:cubicBezTo>
                  <a:cubicBezTo>
                    <a:pt x="376" y="148"/>
                    <a:pt x="375" y="124"/>
                    <a:pt x="372" y="116"/>
                  </a:cubicBezTo>
                  <a:cubicBezTo>
                    <a:pt x="372" y="116"/>
                    <a:pt x="380" y="7"/>
                    <a:pt x="428" y="84"/>
                  </a:cubicBezTo>
                  <a:cubicBezTo>
                    <a:pt x="438" y="100"/>
                    <a:pt x="401" y="140"/>
                    <a:pt x="420" y="140"/>
                  </a:cubicBezTo>
                  <a:cubicBezTo>
                    <a:pt x="439" y="140"/>
                    <a:pt x="431" y="103"/>
                    <a:pt x="436" y="84"/>
                  </a:cubicBezTo>
                  <a:cubicBezTo>
                    <a:pt x="501" y="89"/>
                    <a:pt x="592" y="68"/>
                    <a:pt x="548" y="156"/>
                  </a:cubicBezTo>
                  <a:cubicBezTo>
                    <a:pt x="544" y="140"/>
                    <a:pt x="528" y="104"/>
                    <a:pt x="556" y="92"/>
                  </a:cubicBezTo>
                  <a:cubicBezTo>
                    <a:pt x="568" y="87"/>
                    <a:pt x="583" y="97"/>
                    <a:pt x="596" y="100"/>
                  </a:cubicBezTo>
                  <a:cubicBezTo>
                    <a:pt x="593" y="116"/>
                    <a:pt x="603" y="141"/>
                    <a:pt x="588" y="148"/>
                  </a:cubicBezTo>
                  <a:cubicBezTo>
                    <a:pt x="524" y="177"/>
                    <a:pt x="514" y="149"/>
                    <a:pt x="492" y="116"/>
                  </a:cubicBezTo>
                  <a:cubicBezTo>
                    <a:pt x="510" y="63"/>
                    <a:pt x="576" y="86"/>
                    <a:pt x="620" y="92"/>
                  </a:cubicBezTo>
                  <a:cubicBezTo>
                    <a:pt x="625" y="100"/>
                    <a:pt x="635" y="106"/>
                    <a:pt x="636" y="116"/>
                  </a:cubicBezTo>
                  <a:cubicBezTo>
                    <a:pt x="638" y="127"/>
                    <a:pt x="620" y="156"/>
                    <a:pt x="628" y="148"/>
                  </a:cubicBezTo>
                  <a:cubicBezTo>
                    <a:pt x="690" y="86"/>
                    <a:pt x="585" y="118"/>
                    <a:pt x="692" y="100"/>
                  </a:cubicBezTo>
                  <a:cubicBezTo>
                    <a:pt x="716" y="103"/>
                    <a:pt x="751" y="88"/>
                    <a:pt x="764" y="108"/>
                  </a:cubicBezTo>
                  <a:cubicBezTo>
                    <a:pt x="779" y="131"/>
                    <a:pt x="772" y="175"/>
                    <a:pt x="748" y="188"/>
                  </a:cubicBezTo>
                  <a:cubicBezTo>
                    <a:pt x="717" y="205"/>
                    <a:pt x="679" y="177"/>
                    <a:pt x="644" y="172"/>
                  </a:cubicBezTo>
                  <a:cubicBezTo>
                    <a:pt x="647" y="148"/>
                    <a:pt x="631" y="112"/>
                    <a:pt x="652" y="100"/>
                  </a:cubicBezTo>
                  <a:cubicBezTo>
                    <a:pt x="682" y="83"/>
                    <a:pt x="721" y="112"/>
                    <a:pt x="756" y="108"/>
                  </a:cubicBezTo>
                  <a:cubicBezTo>
                    <a:pt x="769" y="106"/>
                    <a:pt x="777" y="92"/>
                    <a:pt x="788" y="84"/>
                  </a:cubicBezTo>
                  <a:cubicBezTo>
                    <a:pt x="805" y="90"/>
                    <a:pt x="850" y="96"/>
                    <a:pt x="796" y="132"/>
                  </a:cubicBezTo>
                  <a:cubicBezTo>
                    <a:pt x="787" y="138"/>
                    <a:pt x="775" y="127"/>
                    <a:pt x="764" y="124"/>
                  </a:cubicBezTo>
                  <a:cubicBezTo>
                    <a:pt x="769" y="97"/>
                    <a:pt x="763" y="65"/>
                    <a:pt x="780" y="44"/>
                  </a:cubicBezTo>
                  <a:cubicBezTo>
                    <a:pt x="788" y="33"/>
                    <a:pt x="811" y="42"/>
                    <a:pt x="820" y="52"/>
                  </a:cubicBezTo>
                  <a:cubicBezTo>
                    <a:pt x="835" y="69"/>
                    <a:pt x="836" y="95"/>
                    <a:pt x="844" y="116"/>
                  </a:cubicBezTo>
                  <a:cubicBezTo>
                    <a:pt x="841" y="129"/>
                    <a:pt x="847" y="148"/>
                    <a:pt x="836" y="156"/>
                  </a:cubicBezTo>
                  <a:cubicBezTo>
                    <a:pt x="827" y="163"/>
                    <a:pt x="807" y="159"/>
                    <a:pt x="804" y="148"/>
                  </a:cubicBezTo>
                  <a:cubicBezTo>
                    <a:pt x="797" y="122"/>
                    <a:pt x="795" y="89"/>
                    <a:pt x="812" y="68"/>
                  </a:cubicBezTo>
                  <a:cubicBezTo>
                    <a:pt x="826" y="51"/>
                    <a:pt x="855" y="63"/>
                    <a:pt x="876" y="60"/>
                  </a:cubicBezTo>
                  <a:cubicBezTo>
                    <a:pt x="970" y="69"/>
                    <a:pt x="974" y="52"/>
                    <a:pt x="956" y="140"/>
                  </a:cubicBezTo>
                  <a:cubicBezTo>
                    <a:pt x="932" y="137"/>
                    <a:pt x="898" y="152"/>
                    <a:pt x="884" y="132"/>
                  </a:cubicBezTo>
                  <a:cubicBezTo>
                    <a:pt x="788" y="0"/>
                    <a:pt x="933" y="66"/>
                    <a:pt x="940" y="68"/>
                  </a:cubicBezTo>
                  <a:cubicBezTo>
                    <a:pt x="935" y="87"/>
                    <a:pt x="936" y="108"/>
                    <a:pt x="924" y="124"/>
                  </a:cubicBezTo>
                  <a:cubicBezTo>
                    <a:pt x="919" y="131"/>
                    <a:pt x="910" y="106"/>
                    <a:pt x="916" y="100"/>
                  </a:cubicBezTo>
                  <a:cubicBezTo>
                    <a:pt x="928" y="88"/>
                    <a:pt x="948" y="89"/>
                    <a:pt x="964" y="84"/>
                  </a:cubicBezTo>
                  <a:cubicBezTo>
                    <a:pt x="1001" y="87"/>
                    <a:pt x="1048" y="67"/>
                    <a:pt x="1076" y="92"/>
                  </a:cubicBezTo>
                  <a:cubicBezTo>
                    <a:pt x="1098" y="112"/>
                    <a:pt x="1091" y="161"/>
                    <a:pt x="1068" y="180"/>
                  </a:cubicBezTo>
                  <a:cubicBezTo>
                    <a:pt x="1047" y="197"/>
                    <a:pt x="1015" y="169"/>
                    <a:pt x="988" y="164"/>
                  </a:cubicBezTo>
                  <a:cubicBezTo>
                    <a:pt x="970" y="91"/>
                    <a:pt x="986" y="99"/>
                    <a:pt x="1052" y="108"/>
                  </a:cubicBezTo>
                  <a:cubicBezTo>
                    <a:pt x="1069" y="158"/>
                    <a:pt x="1046" y="116"/>
                    <a:pt x="1116" y="116"/>
                  </a:cubicBezTo>
                  <a:cubicBezTo>
                    <a:pt x="1138" y="116"/>
                    <a:pt x="1159" y="127"/>
                    <a:pt x="1180" y="132"/>
                  </a:cubicBezTo>
                  <a:cubicBezTo>
                    <a:pt x="1175" y="150"/>
                    <a:pt x="1171" y="214"/>
                    <a:pt x="1124" y="148"/>
                  </a:cubicBezTo>
                  <a:cubicBezTo>
                    <a:pt x="1116" y="137"/>
                    <a:pt x="1129" y="121"/>
                    <a:pt x="1132" y="108"/>
                  </a:cubicBezTo>
                  <a:cubicBezTo>
                    <a:pt x="1140" y="111"/>
                    <a:pt x="1160" y="109"/>
                    <a:pt x="1156" y="116"/>
                  </a:cubicBezTo>
                  <a:cubicBezTo>
                    <a:pt x="1146" y="132"/>
                    <a:pt x="1127" y="145"/>
                    <a:pt x="1108" y="148"/>
                  </a:cubicBezTo>
                  <a:cubicBezTo>
                    <a:pt x="1100" y="149"/>
                    <a:pt x="1103" y="132"/>
                    <a:pt x="1100" y="124"/>
                  </a:cubicBezTo>
                  <a:cubicBezTo>
                    <a:pt x="1154" y="104"/>
                    <a:pt x="1194" y="70"/>
                    <a:pt x="1212" y="140"/>
                  </a:cubicBezTo>
                  <a:cubicBezTo>
                    <a:pt x="1237" y="119"/>
                    <a:pt x="1280" y="64"/>
                    <a:pt x="1324" y="108"/>
                  </a:cubicBezTo>
                  <a:cubicBezTo>
                    <a:pt x="1339" y="123"/>
                    <a:pt x="1329" y="151"/>
                    <a:pt x="1332" y="172"/>
                  </a:cubicBezTo>
                  <a:cubicBezTo>
                    <a:pt x="1324" y="177"/>
                    <a:pt x="1309" y="198"/>
                    <a:pt x="1308" y="188"/>
                  </a:cubicBezTo>
                  <a:cubicBezTo>
                    <a:pt x="1305" y="161"/>
                    <a:pt x="1313" y="133"/>
                    <a:pt x="1324" y="108"/>
                  </a:cubicBezTo>
                  <a:cubicBezTo>
                    <a:pt x="1327" y="100"/>
                    <a:pt x="1329" y="124"/>
                    <a:pt x="1332" y="132"/>
                  </a:cubicBezTo>
                  <a:cubicBezTo>
                    <a:pt x="1256" y="183"/>
                    <a:pt x="1296" y="88"/>
                    <a:pt x="1324" y="60"/>
                  </a:cubicBezTo>
                  <a:cubicBezTo>
                    <a:pt x="1356" y="65"/>
                    <a:pt x="1395" y="56"/>
                    <a:pt x="1420" y="76"/>
                  </a:cubicBezTo>
                  <a:cubicBezTo>
                    <a:pt x="1433" y="87"/>
                    <a:pt x="1418" y="114"/>
                    <a:pt x="1404" y="124"/>
                  </a:cubicBezTo>
                  <a:cubicBezTo>
                    <a:pt x="1386" y="136"/>
                    <a:pt x="1361" y="129"/>
                    <a:pt x="1340" y="132"/>
                  </a:cubicBezTo>
                  <a:cubicBezTo>
                    <a:pt x="1319" y="69"/>
                    <a:pt x="1355" y="82"/>
                    <a:pt x="1420" y="76"/>
                  </a:cubicBezTo>
                  <a:cubicBezTo>
                    <a:pt x="1425" y="87"/>
                    <a:pt x="1435" y="96"/>
                    <a:pt x="1436" y="108"/>
                  </a:cubicBezTo>
                  <a:cubicBezTo>
                    <a:pt x="1437" y="119"/>
                    <a:pt x="1438" y="135"/>
                    <a:pt x="1428" y="140"/>
                  </a:cubicBezTo>
                  <a:cubicBezTo>
                    <a:pt x="1420" y="144"/>
                    <a:pt x="1423" y="124"/>
                    <a:pt x="1420" y="116"/>
                  </a:cubicBezTo>
                  <a:cubicBezTo>
                    <a:pt x="1492" y="68"/>
                    <a:pt x="1459" y="166"/>
                    <a:pt x="1444" y="196"/>
                  </a:cubicBezTo>
                  <a:cubicBezTo>
                    <a:pt x="1375" y="179"/>
                    <a:pt x="1406" y="130"/>
                    <a:pt x="1420" y="76"/>
                  </a:cubicBezTo>
                  <a:cubicBezTo>
                    <a:pt x="1465" y="81"/>
                    <a:pt x="1556" y="92"/>
                    <a:pt x="1556" y="92"/>
                  </a:cubicBezTo>
                  <a:cubicBezTo>
                    <a:pt x="1572" y="89"/>
                    <a:pt x="1588" y="80"/>
                    <a:pt x="1604" y="84"/>
                  </a:cubicBezTo>
                  <a:cubicBezTo>
                    <a:pt x="1612" y="86"/>
                    <a:pt x="1618" y="102"/>
                    <a:pt x="1612" y="108"/>
                  </a:cubicBezTo>
                  <a:cubicBezTo>
                    <a:pt x="1598" y="122"/>
                    <a:pt x="1575" y="124"/>
                    <a:pt x="1556" y="132"/>
                  </a:cubicBezTo>
                  <a:cubicBezTo>
                    <a:pt x="1517" y="73"/>
                    <a:pt x="1573" y="140"/>
                    <a:pt x="1492" y="140"/>
                  </a:cubicBezTo>
                  <a:cubicBezTo>
                    <a:pt x="1481" y="140"/>
                    <a:pt x="1492" y="116"/>
                    <a:pt x="1500" y="108"/>
                  </a:cubicBezTo>
                  <a:cubicBezTo>
                    <a:pt x="1508" y="100"/>
                    <a:pt x="1521" y="103"/>
                    <a:pt x="1532" y="100"/>
                  </a:cubicBezTo>
                  <a:cubicBezTo>
                    <a:pt x="1540" y="105"/>
                    <a:pt x="1553" y="107"/>
                    <a:pt x="1556" y="116"/>
                  </a:cubicBezTo>
                  <a:cubicBezTo>
                    <a:pt x="1561" y="132"/>
                    <a:pt x="1527" y="209"/>
                    <a:pt x="1564" y="116"/>
                  </a:cubicBezTo>
                  <a:cubicBezTo>
                    <a:pt x="1583" y="121"/>
                    <a:pt x="1606" y="118"/>
                    <a:pt x="1620" y="132"/>
                  </a:cubicBezTo>
                  <a:cubicBezTo>
                    <a:pt x="1628" y="140"/>
                    <a:pt x="1620" y="172"/>
                    <a:pt x="1612" y="164"/>
                  </a:cubicBezTo>
                  <a:cubicBezTo>
                    <a:pt x="1601" y="153"/>
                    <a:pt x="1607" y="132"/>
                    <a:pt x="1604" y="116"/>
                  </a:cubicBezTo>
                  <a:cubicBezTo>
                    <a:pt x="1609" y="108"/>
                    <a:pt x="1611" y="96"/>
                    <a:pt x="1620" y="92"/>
                  </a:cubicBezTo>
                  <a:cubicBezTo>
                    <a:pt x="1628" y="89"/>
                    <a:pt x="1644" y="100"/>
                    <a:pt x="1644" y="100"/>
                  </a:cubicBezTo>
                  <a:cubicBezTo>
                    <a:pt x="1687" y="86"/>
                    <a:pt x="1676" y="104"/>
                    <a:pt x="1676" y="14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14600" y="2912760"/>
              <a:ext cx="6854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4252320" y="291276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00400" y="3217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52680" y="32176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52640" y="2836800"/>
              <a:ext cx="190476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ucromatina (lax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eterocromatina (compact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484280" y="10429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omosomas interf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549360" y="5507280"/>
            <a:ext cx="55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odificado de Bloom and Fawcett, A Textbook of Histology, Chapman and Hall, 12th editio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52640" y="826920"/>
            <a:ext cx="3628800" cy="4316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873320" y="464328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igure 1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2205000" y="4284720"/>
            <a:ext cx="2305080" cy="3286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836640" y="1187280"/>
            <a:ext cx="4392720" cy="280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55" name=""/>
          <p:cNvSpPr/>
          <p:nvPr/>
        </p:nvSpPr>
        <p:spPr>
          <a:xfrm>
            <a:off x="5304960" y="3348000"/>
            <a:ext cx="107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Figure 1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89000" y="1332000"/>
            <a:ext cx="6669000" cy="64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Procesos biológicos relativos al material gen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plicación del DN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preservación de l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información genét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Reparación del DN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daño/err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xpresión de los genes y su re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oceso de transcripción de ge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síntesis de m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Procesamiento de transcritos prim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Transporte de transcritos maduros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             hacia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el 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•"/>
              <a:tabLst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Síntesis de RNA (</a:t>
            </a:r>
            <a:r>
              <a:rPr b="0" lang="es-ES" sz="2000" spc="-1" strike="noStrike">
                <a:solidFill>
                  <a:srgbClr val="3333cc"/>
                </a:solidFill>
                <a:latin typeface="Tahoma"/>
              </a:rPr>
              <a:t>ribosomal y de transfere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00" y="539640"/>
            <a:ext cx="66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¿Qué procesos ocurren en el núcle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000" y="7451640"/>
            <a:ext cx="666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Tahoma"/>
              </a:rPr>
              <a:t>Ensamblaje de la maquinaria para la síntesis de proteínas (subunidades ribosomales y rR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557360" y="7380360"/>
            <a:ext cx="42688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Comando cent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de las funcione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907920" y="250920"/>
            <a:ext cx="5643720" cy="6553080"/>
            <a:chOff x="907920" y="250920"/>
            <a:chExt cx="5643720" cy="6553080"/>
          </a:xfrm>
        </p:grpSpPr>
        <p:sp>
          <p:nvSpPr>
            <p:cNvPr id="361" name=""/>
            <p:cNvSpPr/>
            <p:nvPr/>
          </p:nvSpPr>
          <p:spPr>
            <a:xfrm>
              <a:off x="907920" y="250920"/>
              <a:ext cx="5486400" cy="6553080"/>
            </a:xfrm>
            <a:custGeom>
              <a:avLst/>
              <a:gdLst>
                <a:gd name="textAreaLeft" fmla="*/ 267840 w 5486400"/>
                <a:gd name="textAreaRight" fmla="*/ 5218560 w 5486400"/>
                <a:gd name="textAreaTop" fmla="*/ 267840 h 6553080"/>
                <a:gd name="textAreaBottom" fmla="*/ 6285240 h 6553080"/>
              </a:gdLst>
              <a:ahLst/>
              <a:rect l="textAreaLeft" t="textAreaTop" r="textAreaRight" b="textAreaBottom"/>
              <a:pathLst>
                <a:path w="21600" h="25799">
                  <a:moveTo>
                    <a:pt x="3600" y="0"/>
                  </a:moveTo>
                  <a:arcTo wR="3600" hR="3600" stAng="16200000" swAng="-5400000"/>
                  <a:lnTo>
                    <a:pt x="0" y="22199"/>
                  </a:lnTo>
                  <a:arcTo wR="3600" hR="3600" stAng="10800000" swAng="-5400000"/>
                  <a:lnTo>
                    <a:pt x="18000" y="2579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5960" y="860400"/>
              <a:ext cx="3352680" cy="31240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 rot="2348400">
              <a:off x="2541960" y="1098360"/>
              <a:ext cx="762120" cy="81288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812880"/>
                <a:gd name="textAreaBottom" fmla="*/ 813600 h 81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08" y="11353"/>
                  </a:moveTo>
                  <a:arcTo wR="-7114" hR="-7114" stAng="10532520" swAng="-11206381"/>
                  <a:lnTo>
                    <a:pt x="207" y="12903"/>
                  </a:lnTo>
                  <a:arcTo wR="10800" hR="10800" stAng="10126139" swAng="11206381"/>
                  <a:lnTo>
                    <a:pt x="24259" y="9751"/>
                  </a:lnTo>
                  <a:lnTo>
                    <a:pt x="20083" y="14633"/>
                  </a:lnTo>
                  <a:lnTo>
                    <a:pt x="15201" y="10457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960720" y="162252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27560" y="2079720"/>
              <a:ext cx="1066680" cy="8892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0" y="56"/>
                  </a:moveTo>
                  <a:cubicBezTo>
                    <a:pt x="68" y="32"/>
                    <a:pt x="136" y="8"/>
                    <a:pt x="192" y="8"/>
                  </a:cubicBezTo>
                  <a:cubicBezTo>
                    <a:pt x="248" y="8"/>
                    <a:pt x="288" y="56"/>
                    <a:pt x="336" y="56"/>
                  </a:cubicBezTo>
                  <a:cubicBezTo>
                    <a:pt x="384" y="56"/>
                    <a:pt x="440" y="16"/>
                    <a:pt x="480" y="8"/>
                  </a:cubicBezTo>
                  <a:cubicBezTo>
                    <a:pt x="520" y="0"/>
                    <a:pt x="544" y="0"/>
                    <a:pt x="576" y="8"/>
                  </a:cubicBezTo>
                  <a:cubicBezTo>
                    <a:pt x="608" y="16"/>
                    <a:pt x="656" y="48"/>
                    <a:pt x="672" y="56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60720" y="2232000"/>
              <a:ext cx="0" cy="914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6160" y="3298680"/>
              <a:ext cx="609480" cy="76320"/>
            </a:xfrm>
            <a:custGeom>
              <a:avLst/>
              <a:gdLst/>
              <a:ahLst/>
              <a:rect l="l" t="t" r="r" b="b"/>
              <a:pathLst>
                <a:path w="672" h="56">
                  <a:moveTo>
                    <a:pt x="0" y="56"/>
                  </a:moveTo>
                  <a:cubicBezTo>
                    <a:pt x="68" y="32"/>
                    <a:pt x="136" y="8"/>
                    <a:pt x="192" y="8"/>
                  </a:cubicBezTo>
                  <a:cubicBezTo>
                    <a:pt x="248" y="8"/>
                    <a:pt x="288" y="56"/>
                    <a:pt x="336" y="56"/>
                  </a:cubicBezTo>
                  <a:cubicBezTo>
                    <a:pt x="384" y="56"/>
                    <a:pt x="440" y="16"/>
                    <a:pt x="480" y="8"/>
                  </a:cubicBezTo>
                  <a:cubicBezTo>
                    <a:pt x="520" y="0"/>
                    <a:pt x="544" y="0"/>
                    <a:pt x="576" y="8"/>
                  </a:cubicBezTo>
                  <a:cubicBezTo>
                    <a:pt x="608" y="16"/>
                    <a:pt x="656" y="48"/>
                    <a:pt x="672" y="56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79840" y="3298680"/>
              <a:ext cx="76320" cy="76320"/>
            </a:xfrm>
            <a:prstGeom prst="ellipse">
              <a:avLst/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0720" y="3451320"/>
              <a:ext cx="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485000">
              <a:off x="4019040" y="1923840"/>
              <a:ext cx="4568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58" y="1717"/>
                  </a:moveTo>
                  <a:arcTo wR="10800" hR="10800" stAng="-7364881" swAng="7364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4958" y="1717"/>
                  </a:moveTo>
                  <a:arcTo wR="10800" hR="10800" stAng="-7364881" swAng="7364881"/>
                </a:path>
              </a:pathLst>
            </a:custGeom>
            <a:noFill/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70560" y="2536920"/>
              <a:ext cx="7596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22840" y="2689200"/>
              <a:ext cx="7632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99160" y="2536920"/>
              <a:ext cx="1522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51440" y="2765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99160" y="2841480"/>
              <a:ext cx="152280" cy="0"/>
            </a:xfrm>
            <a:prstGeom prst="line">
              <a:avLst/>
            </a:prstGeom>
            <a:ln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65240" y="1851120"/>
              <a:ext cx="1676520" cy="398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repl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37040" y="708120"/>
              <a:ext cx="1676520" cy="398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repa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65640" y="1622520"/>
              <a:ext cx="1905120" cy="39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ranscrip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341960" y="2917800"/>
              <a:ext cx="2209680" cy="642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procesamiento </a:t>
              </a: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(spliceosom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7520" y="3679920"/>
              <a:ext cx="2514600" cy="703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transporte hacia el 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24280" y="4356000"/>
              <a:ext cx="1576440" cy="70380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4560" y="2841480"/>
              <a:ext cx="1066680" cy="398880"/>
            </a:xfrm>
            <a:prstGeom prst="rect">
              <a:avLst/>
            </a:pr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55880" y="1158840"/>
              <a:ext cx="2362320" cy="291960"/>
            </a:xfrm>
            <a:custGeom>
              <a:avLst/>
              <a:gdLst/>
              <a:ahLst/>
              <a:rect l="l" t="t" r="r" b="b"/>
              <a:pathLst>
                <a:path w="1488" h="184">
                  <a:moveTo>
                    <a:pt x="0" y="184"/>
                  </a:moveTo>
                  <a:cubicBezTo>
                    <a:pt x="24" y="176"/>
                    <a:pt x="48" y="168"/>
                    <a:pt x="72" y="160"/>
                  </a:cubicBezTo>
                  <a:cubicBezTo>
                    <a:pt x="84" y="156"/>
                    <a:pt x="78" y="135"/>
                    <a:pt x="84" y="124"/>
                  </a:cubicBezTo>
                  <a:cubicBezTo>
                    <a:pt x="90" y="111"/>
                    <a:pt x="97" y="97"/>
                    <a:pt x="108" y="88"/>
                  </a:cubicBezTo>
                  <a:cubicBezTo>
                    <a:pt x="130" y="69"/>
                    <a:pt x="180" y="40"/>
                    <a:pt x="180" y="40"/>
                  </a:cubicBezTo>
                  <a:cubicBezTo>
                    <a:pt x="208" y="44"/>
                    <a:pt x="238" y="41"/>
                    <a:pt x="264" y="52"/>
                  </a:cubicBezTo>
                  <a:cubicBezTo>
                    <a:pt x="303" y="69"/>
                    <a:pt x="278" y="122"/>
                    <a:pt x="336" y="148"/>
                  </a:cubicBezTo>
                  <a:cubicBezTo>
                    <a:pt x="359" y="158"/>
                    <a:pt x="384" y="164"/>
                    <a:pt x="408" y="172"/>
                  </a:cubicBezTo>
                  <a:cubicBezTo>
                    <a:pt x="420" y="176"/>
                    <a:pt x="444" y="184"/>
                    <a:pt x="444" y="184"/>
                  </a:cubicBezTo>
                  <a:cubicBezTo>
                    <a:pt x="447" y="183"/>
                    <a:pt x="520" y="166"/>
                    <a:pt x="528" y="160"/>
                  </a:cubicBezTo>
                  <a:cubicBezTo>
                    <a:pt x="539" y="151"/>
                    <a:pt x="542" y="134"/>
                    <a:pt x="552" y="124"/>
                  </a:cubicBezTo>
                  <a:cubicBezTo>
                    <a:pt x="562" y="114"/>
                    <a:pt x="576" y="108"/>
                    <a:pt x="588" y="100"/>
                  </a:cubicBezTo>
                  <a:cubicBezTo>
                    <a:pt x="617" y="13"/>
                    <a:pt x="665" y="43"/>
                    <a:pt x="756" y="52"/>
                  </a:cubicBezTo>
                  <a:cubicBezTo>
                    <a:pt x="792" y="76"/>
                    <a:pt x="796" y="72"/>
                    <a:pt x="816" y="112"/>
                  </a:cubicBezTo>
                  <a:cubicBezTo>
                    <a:pt x="822" y="123"/>
                    <a:pt x="818" y="141"/>
                    <a:pt x="828" y="148"/>
                  </a:cubicBezTo>
                  <a:cubicBezTo>
                    <a:pt x="849" y="163"/>
                    <a:pt x="900" y="172"/>
                    <a:pt x="900" y="172"/>
                  </a:cubicBezTo>
                  <a:cubicBezTo>
                    <a:pt x="952" y="167"/>
                    <a:pt x="1015" y="181"/>
                    <a:pt x="1056" y="148"/>
                  </a:cubicBezTo>
                  <a:cubicBezTo>
                    <a:pt x="1067" y="139"/>
                    <a:pt x="1069" y="121"/>
                    <a:pt x="1080" y="112"/>
                  </a:cubicBezTo>
                  <a:cubicBezTo>
                    <a:pt x="1102" y="93"/>
                    <a:pt x="1152" y="64"/>
                    <a:pt x="1152" y="64"/>
                  </a:cubicBezTo>
                  <a:cubicBezTo>
                    <a:pt x="1195" y="0"/>
                    <a:pt x="1179" y="0"/>
                    <a:pt x="1308" y="40"/>
                  </a:cubicBezTo>
                  <a:cubicBezTo>
                    <a:pt x="1322" y="44"/>
                    <a:pt x="1322" y="66"/>
                    <a:pt x="1332" y="76"/>
                  </a:cubicBezTo>
                  <a:cubicBezTo>
                    <a:pt x="1342" y="86"/>
                    <a:pt x="1356" y="92"/>
                    <a:pt x="1368" y="100"/>
                  </a:cubicBezTo>
                  <a:cubicBezTo>
                    <a:pt x="1405" y="156"/>
                    <a:pt x="1419" y="160"/>
                    <a:pt x="1488" y="16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6320" y="1165320"/>
              <a:ext cx="2362320" cy="311040"/>
            </a:xfrm>
            <a:custGeom>
              <a:avLst/>
              <a:gdLst/>
              <a:ahLst/>
              <a:rect l="l" t="t" r="r" b="b"/>
              <a:pathLst>
                <a:path w="1488" h="184">
                  <a:moveTo>
                    <a:pt x="0" y="184"/>
                  </a:moveTo>
                  <a:cubicBezTo>
                    <a:pt x="24" y="176"/>
                    <a:pt x="48" y="168"/>
                    <a:pt x="72" y="160"/>
                  </a:cubicBezTo>
                  <a:cubicBezTo>
                    <a:pt x="84" y="156"/>
                    <a:pt x="78" y="135"/>
                    <a:pt x="84" y="124"/>
                  </a:cubicBezTo>
                  <a:cubicBezTo>
                    <a:pt x="90" y="111"/>
                    <a:pt x="97" y="97"/>
                    <a:pt x="108" y="88"/>
                  </a:cubicBezTo>
                  <a:cubicBezTo>
                    <a:pt x="130" y="69"/>
                    <a:pt x="180" y="40"/>
                    <a:pt x="180" y="40"/>
                  </a:cubicBezTo>
                  <a:cubicBezTo>
                    <a:pt x="208" y="44"/>
                    <a:pt x="238" y="41"/>
                    <a:pt x="264" y="52"/>
                  </a:cubicBezTo>
                  <a:cubicBezTo>
                    <a:pt x="303" y="69"/>
                    <a:pt x="278" y="122"/>
                    <a:pt x="336" y="148"/>
                  </a:cubicBezTo>
                  <a:cubicBezTo>
                    <a:pt x="359" y="158"/>
                    <a:pt x="384" y="164"/>
                    <a:pt x="408" y="172"/>
                  </a:cubicBezTo>
                  <a:cubicBezTo>
                    <a:pt x="420" y="176"/>
                    <a:pt x="444" y="184"/>
                    <a:pt x="444" y="184"/>
                  </a:cubicBezTo>
                  <a:cubicBezTo>
                    <a:pt x="447" y="183"/>
                    <a:pt x="520" y="166"/>
                    <a:pt x="528" y="160"/>
                  </a:cubicBezTo>
                  <a:cubicBezTo>
                    <a:pt x="539" y="151"/>
                    <a:pt x="542" y="134"/>
                    <a:pt x="552" y="124"/>
                  </a:cubicBezTo>
                  <a:cubicBezTo>
                    <a:pt x="562" y="114"/>
                    <a:pt x="576" y="108"/>
                    <a:pt x="588" y="100"/>
                  </a:cubicBezTo>
                  <a:cubicBezTo>
                    <a:pt x="617" y="13"/>
                    <a:pt x="665" y="43"/>
                    <a:pt x="756" y="52"/>
                  </a:cubicBezTo>
                  <a:cubicBezTo>
                    <a:pt x="792" y="76"/>
                    <a:pt x="796" y="72"/>
                    <a:pt x="816" y="112"/>
                  </a:cubicBezTo>
                  <a:cubicBezTo>
                    <a:pt x="822" y="123"/>
                    <a:pt x="818" y="141"/>
                    <a:pt x="828" y="148"/>
                  </a:cubicBezTo>
                  <a:cubicBezTo>
                    <a:pt x="849" y="163"/>
                    <a:pt x="900" y="172"/>
                    <a:pt x="900" y="172"/>
                  </a:cubicBezTo>
                  <a:cubicBezTo>
                    <a:pt x="952" y="167"/>
                    <a:pt x="1015" y="181"/>
                    <a:pt x="1056" y="148"/>
                  </a:cubicBezTo>
                  <a:cubicBezTo>
                    <a:pt x="1067" y="139"/>
                    <a:pt x="1069" y="121"/>
                    <a:pt x="1080" y="112"/>
                  </a:cubicBezTo>
                  <a:cubicBezTo>
                    <a:pt x="1102" y="93"/>
                    <a:pt x="1152" y="64"/>
                    <a:pt x="1152" y="64"/>
                  </a:cubicBezTo>
                  <a:cubicBezTo>
                    <a:pt x="1195" y="0"/>
                    <a:pt x="1179" y="0"/>
                    <a:pt x="1308" y="40"/>
                  </a:cubicBezTo>
                  <a:cubicBezTo>
                    <a:pt x="1322" y="44"/>
                    <a:pt x="1322" y="66"/>
                    <a:pt x="1332" y="76"/>
                  </a:cubicBezTo>
                  <a:cubicBezTo>
                    <a:pt x="1342" y="86"/>
                    <a:pt x="1356" y="92"/>
                    <a:pt x="1368" y="100"/>
                  </a:cubicBezTo>
                  <a:cubicBezTo>
                    <a:pt x="1405" y="156"/>
                    <a:pt x="1419" y="160"/>
                    <a:pt x="1488" y="160"/>
                  </a:cubicBezTo>
                </a:path>
              </a:pathLst>
            </a:custGeom>
            <a:noFill/>
            <a:ln w="5724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4040" y="10126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94240" y="20797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7040" y="3527280"/>
              <a:ext cx="76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RNA mad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33720" y="5364000"/>
              <a:ext cx="0" cy="43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41720" y="4643280"/>
              <a:ext cx="160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íntesis de Proteí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44640" y="5867280"/>
              <a:ext cx="41036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teín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n diversas funciones celula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219320" y="4267080"/>
            <a:ext cx="4267080" cy="259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4343400"/>
            <a:ext cx="4114800" cy="2438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4419720"/>
            <a:ext cx="3962520" cy="2286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6705720"/>
            <a:ext cx="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95680" y="6477120"/>
            <a:ext cx="7632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66880" y="4267080"/>
            <a:ext cx="7632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647960" y="4495680"/>
            <a:ext cx="75960" cy="228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657600" y="4952880"/>
            <a:ext cx="762120" cy="685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61722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295280" y="64771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7620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oltura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648320" y="68580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ámina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0720" y="5562720"/>
            <a:ext cx="228600" cy="152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276720" y="6934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819520" y="754380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o nu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038480" y="434304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39625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1447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STRUCTURA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4533840"/>
            <a:ext cx="380880" cy="399960"/>
          </a:xfrm>
          <a:custGeom>
            <a:avLst/>
            <a:gdLst/>
            <a:ahLst/>
            <a:rect l="l" t="t" r="r" b="b"/>
            <a:pathLst>
              <a:path w="240" h="252">
                <a:moveTo>
                  <a:pt x="0" y="252"/>
                </a:moveTo>
                <a:cubicBezTo>
                  <a:pt x="31" y="158"/>
                  <a:pt x="119" y="157"/>
                  <a:pt x="192" y="108"/>
                </a:cubicBezTo>
                <a:cubicBezTo>
                  <a:pt x="200" y="96"/>
                  <a:pt x="210" y="85"/>
                  <a:pt x="216" y="72"/>
                </a:cubicBezTo>
                <a:cubicBezTo>
                  <a:pt x="226" y="49"/>
                  <a:pt x="240" y="0"/>
                  <a:pt x="240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62040" y="4305240"/>
            <a:ext cx="685800" cy="36216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71600" y="434340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396252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114800"/>
            <a:ext cx="685800" cy="361800"/>
          </a:xfrm>
          <a:custGeom>
            <a:avLst/>
            <a:gdLst/>
            <a:ahLst/>
            <a:rect l="l" t="t" r="r" b="b"/>
            <a:pathLst>
              <a:path w="432" h="228">
                <a:moveTo>
                  <a:pt x="0" y="228"/>
                </a:moveTo>
                <a:cubicBezTo>
                  <a:pt x="26" y="98"/>
                  <a:pt x="77" y="142"/>
                  <a:pt x="228" y="132"/>
                </a:cubicBezTo>
                <a:cubicBezTo>
                  <a:pt x="255" y="91"/>
                  <a:pt x="266" y="47"/>
                  <a:pt x="312" y="24"/>
                </a:cubicBezTo>
                <a:cubicBezTo>
                  <a:pt x="348" y="6"/>
                  <a:pt x="432" y="0"/>
                  <a:pt x="432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362320" y="4114800"/>
            <a:ext cx="857160" cy="133200"/>
          </a:xfrm>
          <a:custGeom>
            <a:avLst/>
            <a:gdLst/>
            <a:ahLst/>
            <a:rect l="l" t="t" r="r" b="b"/>
            <a:pathLst>
              <a:path w="540" h="84">
                <a:moveTo>
                  <a:pt x="0" y="84"/>
                </a:moveTo>
                <a:cubicBezTo>
                  <a:pt x="36" y="48"/>
                  <a:pt x="66" y="40"/>
                  <a:pt x="108" y="12"/>
                </a:cubicBezTo>
                <a:cubicBezTo>
                  <a:pt x="254" y="33"/>
                  <a:pt x="396" y="0"/>
                  <a:pt x="540" y="0"/>
                </a:cubicBezTo>
              </a:path>
            </a:pathLst>
          </a:custGeom>
          <a:noFill/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159984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33526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amentos 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114800" y="335268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29718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19520" y="4419720"/>
            <a:ext cx="1218960" cy="228600"/>
          </a:xfrm>
          <a:prstGeom prst="cloudCallout">
            <a:avLst>
              <a:gd name="adj1" fmla="val -43750"/>
              <a:gd name="adj2" fmla="val 19027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5486400"/>
            <a:ext cx="1836720" cy="1231920"/>
          </a:xfrm>
          <a:custGeom>
            <a:avLst/>
            <a:gdLst/>
            <a:ahLst/>
            <a:rect l="l" t="t" r="r" b="b"/>
            <a:pathLst>
              <a:path w="1157" h="776">
                <a:moveTo>
                  <a:pt x="79" y="258"/>
                </a:moveTo>
                <a:cubicBezTo>
                  <a:pt x="101" y="324"/>
                  <a:pt x="148" y="380"/>
                  <a:pt x="187" y="438"/>
                </a:cubicBezTo>
                <a:cubicBezTo>
                  <a:pt x="194" y="449"/>
                  <a:pt x="211" y="446"/>
                  <a:pt x="223" y="450"/>
                </a:cubicBezTo>
                <a:cubicBezTo>
                  <a:pt x="231" y="462"/>
                  <a:pt x="236" y="477"/>
                  <a:pt x="247" y="486"/>
                </a:cubicBezTo>
                <a:cubicBezTo>
                  <a:pt x="257" y="494"/>
                  <a:pt x="272" y="492"/>
                  <a:pt x="283" y="498"/>
                </a:cubicBezTo>
                <a:cubicBezTo>
                  <a:pt x="318" y="516"/>
                  <a:pt x="400" y="573"/>
                  <a:pt x="427" y="582"/>
                </a:cubicBezTo>
                <a:cubicBezTo>
                  <a:pt x="439" y="586"/>
                  <a:pt x="452" y="588"/>
                  <a:pt x="463" y="594"/>
                </a:cubicBezTo>
                <a:cubicBezTo>
                  <a:pt x="514" y="622"/>
                  <a:pt x="555" y="655"/>
                  <a:pt x="607" y="678"/>
                </a:cubicBezTo>
                <a:cubicBezTo>
                  <a:pt x="673" y="707"/>
                  <a:pt x="741" y="711"/>
                  <a:pt x="811" y="726"/>
                </a:cubicBezTo>
                <a:cubicBezTo>
                  <a:pt x="875" y="740"/>
                  <a:pt x="938" y="761"/>
                  <a:pt x="1003" y="774"/>
                </a:cubicBezTo>
                <a:cubicBezTo>
                  <a:pt x="1043" y="770"/>
                  <a:pt x="1085" y="776"/>
                  <a:pt x="1123" y="762"/>
                </a:cubicBezTo>
                <a:cubicBezTo>
                  <a:pt x="1157" y="750"/>
                  <a:pt x="1117" y="656"/>
                  <a:pt x="1099" y="642"/>
                </a:cubicBezTo>
                <a:cubicBezTo>
                  <a:pt x="1064" y="614"/>
                  <a:pt x="1011" y="625"/>
                  <a:pt x="967" y="618"/>
                </a:cubicBezTo>
                <a:cubicBezTo>
                  <a:pt x="923" y="611"/>
                  <a:pt x="879" y="593"/>
                  <a:pt x="835" y="582"/>
                </a:cubicBezTo>
                <a:cubicBezTo>
                  <a:pt x="839" y="566"/>
                  <a:pt x="834" y="545"/>
                  <a:pt x="847" y="534"/>
                </a:cubicBezTo>
                <a:cubicBezTo>
                  <a:pt x="859" y="524"/>
                  <a:pt x="944" y="504"/>
                  <a:pt x="967" y="498"/>
                </a:cubicBezTo>
                <a:cubicBezTo>
                  <a:pt x="1000" y="476"/>
                  <a:pt x="1049" y="424"/>
                  <a:pt x="1003" y="378"/>
                </a:cubicBezTo>
                <a:cubicBezTo>
                  <a:pt x="979" y="354"/>
                  <a:pt x="856" y="345"/>
                  <a:pt x="835" y="342"/>
                </a:cubicBezTo>
                <a:cubicBezTo>
                  <a:pt x="821" y="300"/>
                  <a:pt x="824" y="211"/>
                  <a:pt x="799" y="186"/>
                </a:cubicBezTo>
                <a:cubicBezTo>
                  <a:pt x="790" y="177"/>
                  <a:pt x="775" y="178"/>
                  <a:pt x="763" y="174"/>
                </a:cubicBezTo>
                <a:cubicBezTo>
                  <a:pt x="732" y="127"/>
                  <a:pt x="739" y="110"/>
                  <a:pt x="691" y="78"/>
                </a:cubicBezTo>
                <a:cubicBezTo>
                  <a:pt x="655" y="102"/>
                  <a:pt x="651" y="98"/>
                  <a:pt x="631" y="138"/>
                </a:cubicBezTo>
                <a:cubicBezTo>
                  <a:pt x="617" y="167"/>
                  <a:pt x="627" y="191"/>
                  <a:pt x="583" y="198"/>
                </a:cubicBezTo>
                <a:cubicBezTo>
                  <a:pt x="524" y="208"/>
                  <a:pt x="463" y="206"/>
                  <a:pt x="403" y="210"/>
                </a:cubicBezTo>
                <a:cubicBezTo>
                  <a:pt x="391" y="214"/>
                  <a:pt x="379" y="227"/>
                  <a:pt x="367" y="222"/>
                </a:cubicBezTo>
                <a:cubicBezTo>
                  <a:pt x="345" y="213"/>
                  <a:pt x="319" y="115"/>
                  <a:pt x="319" y="114"/>
                </a:cubicBezTo>
                <a:cubicBezTo>
                  <a:pt x="315" y="102"/>
                  <a:pt x="296" y="104"/>
                  <a:pt x="283" y="102"/>
                </a:cubicBezTo>
                <a:cubicBezTo>
                  <a:pt x="239" y="96"/>
                  <a:pt x="195" y="94"/>
                  <a:pt x="151" y="90"/>
                </a:cubicBezTo>
                <a:cubicBezTo>
                  <a:pt x="133" y="0"/>
                  <a:pt x="131" y="12"/>
                  <a:pt x="43" y="30"/>
                </a:cubicBezTo>
                <a:cubicBezTo>
                  <a:pt x="31" y="38"/>
                  <a:pt x="9" y="40"/>
                  <a:pt x="7" y="54"/>
                </a:cubicBezTo>
                <a:cubicBezTo>
                  <a:pt x="0" y="94"/>
                  <a:pt x="7" y="136"/>
                  <a:pt x="19" y="174"/>
                </a:cubicBezTo>
                <a:cubicBezTo>
                  <a:pt x="29" y="208"/>
                  <a:pt x="91" y="229"/>
                  <a:pt x="91" y="282"/>
                </a:cubicBezTo>
                <a:cubicBezTo>
                  <a:pt x="91" y="291"/>
                  <a:pt x="83" y="266"/>
                  <a:pt x="79" y="258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44680" y="4568760"/>
            <a:ext cx="1317600" cy="993960"/>
          </a:xfrm>
          <a:custGeom>
            <a:avLst/>
            <a:gdLst/>
            <a:ahLst/>
            <a:rect l="l" t="t" r="r" b="b"/>
            <a:pathLst>
              <a:path w="830" h="626">
                <a:moveTo>
                  <a:pt x="746" y="2"/>
                </a:moveTo>
                <a:cubicBezTo>
                  <a:pt x="678" y="6"/>
                  <a:pt x="609" y="0"/>
                  <a:pt x="542" y="14"/>
                </a:cubicBezTo>
                <a:cubicBezTo>
                  <a:pt x="500" y="23"/>
                  <a:pt x="470" y="62"/>
                  <a:pt x="434" y="86"/>
                </a:cubicBezTo>
                <a:cubicBezTo>
                  <a:pt x="423" y="93"/>
                  <a:pt x="409" y="92"/>
                  <a:pt x="398" y="98"/>
                </a:cubicBezTo>
                <a:cubicBezTo>
                  <a:pt x="351" y="122"/>
                  <a:pt x="300" y="145"/>
                  <a:pt x="254" y="170"/>
                </a:cubicBezTo>
                <a:cubicBezTo>
                  <a:pt x="201" y="200"/>
                  <a:pt x="166" y="235"/>
                  <a:pt x="110" y="254"/>
                </a:cubicBezTo>
                <a:cubicBezTo>
                  <a:pt x="75" y="289"/>
                  <a:pt x="49" y="327"/>
                  <a:pt x="14" y="362"/>
                </a:cubicBezTo>
                <a:cubicBezTo>
                  <a:pt x="10" y="374"/>
                  <a:pt x="2" y="385"/>
                  <a:pt x="2" y="398"/>
                </a:cubicBezTo>
                <a:cubicBezTo>
                  <a:pt x="2" y="446"/>
                  <a:pt x="0" y="496"/>
                  <a:pt x="14" y="542"/>
                </a:cubicBezTo>
                <a:cubicBezTo>
                  <a:pt x="18" y="554"/>
                  <a:pt x="38" y="552"/>
                  <a:pt x="50" y="554"/>
                </a:cubicBezTo>
                <a:cubicBezTo>
                  <a:pt x="265" y="597"/>
                  <a:pt x="40" y="542"/>
                  <a:pt x="182" y="578"/>
                </a:cubicBezTo>
                <a:cubicBezTo>
                  <a:pt x="256" y="573"/>
                  <a:pt x="431" y="626"/>
                  <a:pt x="362" y="506"/>
                </a:cubicBezTo>
                <a:cubicBezTo>
                  <a:pt x="355" y="493"/>
                  <a:pt x="338" y="490"/>
                  <a:pt x="326" y="482"/>
                </a:cubicBezTo>
                <a:cubicBezTo>
                  <a:pt x="358" y="387"/>
                  <a:pt x="336" y="415"/>
                  <a:pt x="542" y="458"/>
                </a:cubicBezTo>
                <a:cubicBezTo>
                  <a:pt x="556" y="461"/>
                  <a:pt x="556" y="484"/>
                  <a:pt x="566" y="494"/>
                </a:cubicBezTo>
                <a:cubicBezTo>
                  <a:pt x="576" y="504"/>
                  <a:pt x="590" y="510"/>
                  <a:pt x="602" y="518"/>
                </a:cubicBezTo>
                <a:cubicBezTo>
                  <a:pt x="625" y="587"/>
                  <a:pt x="660" y="569"/>
                  <a:pt x="722" y="590"/>
                </a:cubicBezTo>
                <a:cubicBezTo>
                  <a:pt x="734" y="594"/>
                  <a:pt x="746" y="598"/>
                  <a:pt x="758" y="602"/>
                </a:cubicBezTo>
                <a:cubicBezTo>
                  <a:pt x="770" y="606"/>
                  <a:pt x="794" y="614"/>
                  <a:pt x="794" y="614"/>
                </a:cubicBezTo>
                <a:cubicBezTo>
                  <a:pt x="798" y="602"/>
                  <a:pt x="806" y="591"/>
                  <a:pt x="806" y="578"/>
                </a:cubicBezTo>
                <a:cubicBezTo>
                  <a:pt x="806" y="550"/>
                  <a:pt x="807" y="519"/>
                  <a:pt x="794" y="494"/>
                </a:cubicBezTo>
                <a:cubicBezTo>
                  <a:pt x="769" y="445"/>
                  <a:pt x="671" y="437"/>
                  <a:pt x="626" y="422"/>
                </a:cubicBezTo>
                <a:cubicBezTo>
                  <a:pt x="618" y="410"/>
                  <a:pt x="604" y="400"/>
                  <a:pt x="602" y="386"/>
                </a:cubicBezTo>
                <a:cubicBezTo>
                  <a:pt x="587" y="299"/>
                  <a:pt x="789" y="314"/>
                  <a:pt x="794" y="314"/>
                </a:cubicBezTo>
                <a:cubicBezTo>
                  <a:pt x="802" y="290"/>
                  <a:pt x="810" y="266"/>
                  <a:pt x="818" y="242"/>
                </a:cubicBezTo>
                <a:cubicBezTo>
                  <a:pt x="822" y="230"/>
                  <a:pt x="830" y="206"/>
                  <a:pt x="830" y="206"/>
                </a:cubicBezTo>
                <a:cubicBezTo>
                  <a:pt x="822" y="182"/>
                  <a:pt x="814" y="158"/>
                  <a:pt x="806" y="134"/>
                </a:cubicBezTo>
                <a:cubicBezTo>
                  <a:pt x="796" y="103"/>
                  <a:pt x="807" y="67"/>
                  <a:pt x="794" y="38"/>
                </a:cubicBezTo>
                <a:cubicBezTo>
                  <a:pt x="789" y="26"/>
                  <a:pt x="768" y="34"/>
                  <a:pt x="758" y="26"/>
                </a:cubicBezTo>
                <a:cubicBezTo>
                  <a:pt x="751" y="21"/>
                  <a:pt x="750" y="10"/>
                  <a:pt x="746" y="2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325680" y="5334120"/>
            <a:ext cx="1144800" cy="1355760"/>
          </a:xfrm>
          <a:custGeom>
            <a:avLst/>
            <a:gdLst/>
            <a:ahLst/>
            <a:rect l="l" t="t" r="r" b="b"/>
            <a:pathLst>
              <a:path w="721" h="854">
                <a:moveTo>
                  <a:pt x="53" y="828"/>
                </a:moveTo>
                <a:cubicBezTo>
                  <a:pt x="125" y="852"/>
                  <a:pt x="164" y="808"/>
                  <a:pt x="233" y="804"/>
                </a:cubicBezTo>
                <a:cubicBezTo>
                  <a:pt x="301" y="800"/>
                  <a:pt x="369" y="796"/>
                  <a:pt x="437" y="792"/>
                </a:cubicBezTo>
                <a:cubicBezTo>
                  <a:pt x="512" y="773"/>
                  <a:pt x="558" y="764"/>
                  <a:pt x="641" y="756"/>
                </a:cubicBezTo>
                <a:cubicBezTo>
                  <a:pt x="704" y="735"/>
                  <a:pt x="721" y="695"/>
                  <a:pt x="689" y="624"/>
                </a:cubicBezTo>
                <a:cubicBezTo>
                  <a:pt x="683" y="611"/>
                  <a:pt x="666" y="606"/>
                  <a:pt x="653" y="600"/>
                </a:cubicBezTo>
                <a:cubicBezTo>
                  <a:pt x="591" y="572"/>
                  <a:pt x="530" y="566"/>
                  <a:pt x="473" y="528"/>
                </a:cubicBezTo>
                <a:cubicBezTo>
                  <a:pt x="433" y="468"/>
                  <a:pt x="435" y="403"/>
                  <a:pt x="413" y="336"/>
                </a:cubicBezTo>
                <a:cubicBezTo>
                  <a:pt x="409" y="288"/>
                  <a:pt x="431" y="180"/>
                  <a:pt x="389" y="156"/>
                </a:cubicBezTo>
                <a:cubicBezTo>
                  <a:pt x="120" y="0"/>
                  <a:pt x="173" y="265"/>
                  <a:pt x="209" y="372"/>
                </a:cubicBezTo>
                <a:cubicBezTo>
                  <a:pt x="196" y="529"/>
                  <a:pt x="231" y="526"/>
                  <a:pt x="101" y="552"/>
                </a:cubicBezTo>
                <a:cubicBezTo>
                  <a:pt x="97" y="564"/>
                  <a:pt x="89" y="575"/>
                  <a:pt x="89" y="588"/>
                </a:cubicBezTo>
                <a:cubicBezTo>
                  <a:pt x="89" y="605"/>
                  <a:pt x="116" y="681"/>
                  <a:pt x="89" y="708"/>
                </a:cubicBezTo>
                <a:cubicBezTo>
                  <a:pt x="80" y="717"/>
                  <a:pt x="64" y="714"/>
                  <a:pt x="53" y="720"/>
                </a:cubicBezTo>
                <a:cubicBezTo>
                  <a:pt x="40" y="726"/>
                  <a:pt x="29" y="736"/>
                  <a:pt x="17" y="744"/>
                </a:cubicBezTo>
                <a:cubicBezTo>
                  <a:pt x="30" y="849"/>
                  <a:pt x="0" y="854"/>
                  <a:pt x="53" y="828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05320" y="5216400"/>
            <a:ext cx="890640" cy="1184400"/>
          </a:xfrm>
          <a:custGeom>
            <a:avLst/>
            <a:gdLst/>
            <a:ahLst/>
            <a:rect l="l" t="t" r="r" b="b"/>
            <a:pathLst>
              <a:path w="561" h="746">
                <a:moveTo>
                  <a:pt x="105" y="734"/>
                </a:moveTo>
                <a:cubicBezTo>
                  <a:pt x="120" y="730"/>
                  <a:pt x="172" y="719"/>
                  <a:pt x="189" y="710"/>
                </a:cubicBezTo>
                <a:cubicBezTo>
                  <a:pt x="240" y="684"/>
                  <a:pt x="213" y="687"/>
                  <a:pt x="261" y="650"/>
                </a:cubicBezTo>
                <a:cubicBezTo>
                  <a:pt x="323" y="602"/>
                  <a:pt x="315" y="608"/>
                  <a:pt x="369" y="590"/>
                </a:cubicBezTo>
                <a:cubicBezTo>
                  <a:pt x="401" y="542"/>
                  <a:pt x="418" y="549"/>
                  <a:pt x="465" y="518"/>
                </a:cubicBezTo>
                <a:cubicBezTo>
                  <a:pt x="527" y="425"/>
                  <a:pt x="504" y="473"/>
                  <a:pt x="537" y="374"/>
                </a:cubicBezTo>
                <a:cubicBezTo>
                  <a:pt x="541" y="362"/>
                  <a:pt x="545" y="350"/>
                  <a:pt x="549" y="338"/>
                </a:cubicBezTo>
                <a:cubicBezTo>
                  <a:pt x="553" y="326"/>
                  <a:pt x="561" y="302"/>
                  <a:pt x="561" y="302"/>
                </a:cubicBezTo>
                <a:cubicBezTo>
                  <a:pt x="557" y="238"/>
                  <a:pt x="556" y="174"/>
                  <a:pt x="549" y="110"/>
                </a:cubicBezTo>
                <a:cubicBezTo>
                  <a:pt x="548" y="97"/>
                  <a:pt x="546" y="83"/>
                  <a:pt x="537" y="74"/>
                </a:cubicBezTo>
                <a:cubicBezTo>
                  <a:pt x="517" y="54"/>
                  <a:pt x="489" y="42"/>
                  <a:pt x="465" y="26"/>
                </a:cubicBezTo>
                <a:cubicBezTo>
                  <a:pt x="444" y="12"/>
                  <a:pt x="393" y="2"/>
                  <a:pt x="393" y="2"/>
                </a:cubicBezTo>
                <a:cubicBezTo>
                  <a:pt x="373" y="6"/>
                  <a:pt x="347" y="0"/>
                  <a:pt x="333" y="14"/>
                </a:cubicBezTo>
                <a:cubicBezTo>
                  <a:pt x="324" y="23"/>
                  <a:pt x="344" y="37"/>
                  <a:pt x="345" y="50"/>
                </a:cubicBezTo>
                <a:cubicBezTo>
                  <a:pt x="352" y="106"/>
                  <a:pt x="353" y="162"/>
                  <a:pt x="357" y="218"/>
                </a:cubicBezTo>
                <a:cubicBezTo>
                  <a:pt x="341" y="333"/>
                  <a:pt x="354" y="305"/>
                  <a:pt x="249" y="326"/>
                </a:cubicBezTo>
                <a:cubicBezTo>
                  <a:pt x="200" y="472"/>
                  <a:pt x="283" y="418"/>
                  <a:pt x="45" y="434"/>
                </a:cubicBezTo>
                <a:cubicBezTo>
                  <a:pt x="37" y="450"/>
                  <a:pt x="28" y="466"/>
                  <a:pt x="21" y="482"/>
                </a:cubicBezTo>
                <a:cubicBezTo>
                  <a:pt x="16" y="494"/>
                  <a:pt x="0" y="509"/>
                  <a:pt x="9" y="518"/>
                </a:cubicBezTo>
                <a:cubicBezTo>
                  <a:pt x="32" y="541"/>
                  <a:pt x="74" y="532"/>
                  <a:pt x="105" y="542"/>
                </a:cubicBezTo>
                <a:cubicBezTo>
                  <a:pt x="101" y="562"/>
                  <a:pt x="103" y="584"/>
                  <a:pt x="93" y="602"/>
                </a:cubicBezTo>
                <a:cubicBezTo>
                  <a:pt x="55" y="669"/>
                  <a:pt x="24" y="563"/>
                  <a:pt x="69" y="698"/>
                </a:cubicBezTo>
                <a:cubicBezTo>
                  <a:pt x="74" y="712"/>
                  <a:pt x="82" y="725"/>
                  <a:pt x="93" y="734"/>
                </a:cubicBezTo>
                <a:cubicBezTo>
                  <a:pt x="103" y="742"/>
                  <a:pt x="116" y="746"/>
                  <a:pt x="129" y="746"/>
                </a:cubicBezTo>
                <a:cubicBezTo>
                  <a:pt x="138" y="746"/>
                  <a:pt x="113" y="738"/>
                  <a:pt x="105" y="73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84320" y="4762440"/>
            <a:ext cx="930600" cy="519120"/>
          </a:xfrm>
          <a:custGeom>
            <a:avLst/>
            <a:gdLst/>
            <a:ahLst/>
            <a:rect l="l" t="t" r="r" b="b"/>
            <a:pathLst>
              <a:path w="586" h="327">
                <a:moveTo>
                  <a:pt x="571" y="48"/>
                </a:moveTo>
                <a:cubicBezTo>
                  <a:pt x="567" y="120"/>
                  <a:pt x="586" y="197"/>
                  <a:pt x="559" y="264"/>
                </a:cubicBezTo>
                <a:cubicBezTo>
                  <a:pt x="545" y="298"/>
                  <a:pt x="434" y="210"/>
                  <a:pt x="415" y="204"/>
                </a:cubicBezTo>
                <a:cubicBezTo>
                  <a:pt x="395" y="208"/>
                  <a:pt x="372" y="205"/>
                  <a:pt x="355" y="216"/>
                </a:cubicBezTo>
                <a:cubicBezTo>
                  <a:pt x="344" y="223"/>
                  <a:pt x="350" y="241"/>
                  <a:pt x="343" y="252"/>
                </a:cubicBezTo>
                <a:cubicBezTo>
                  <a:pt x="317" y="290"/>
                  <a:pt x="277" y="310"/>
                  <a:pt x="235" y="324"/>
                </a:cubicBezTo>
                <a:cubicBezTo>
                  <a:pt x="130" y="309"/>
                  <a:pt x="56" y="327"/>
                  <a:pt x="19" y="216"/>
                </a:cubicBezTo>
                <a:cubicBezTo>
                  <a:pt x="83" y="120"/>
                  <a:pt x="0" y="224"/>
                  <a:pt x="223" y="168"/>
                </a:cubicBezTo>
                <a:cubicBezTo>
                  <a:pt x="235" y="165"/>
                  <a:pt x="229" y="143"/>
                  <a:pt x="235" y="132"/>
                </a:cubicBezTo>
                <a:cubicBezTo>
                  <a:pt x="241" y="119"/>
                  <a:pt x="248" y="105"/>
                  <a:pt x="259" y="96"/>
                </a:cubicBezTo>
                <a:cubicBezTo>
                  <a:pt x="281" y="77"/>
                  <a:pt x="307" y="64"/>
                  <a:pt x="331" y="48"/>
                </a:cubicBezTo>
                <a:cubicBezTo>
                  <a:pt x="388" y="10"/>
                  <a:pt x="483" y="13"/>
                  <a:pt x="547" y="0"/>
                </a:cubicBezTo>
                <a:cubicBezTo>
                  <a:pt x="577" y="45"/>
                  <a:pt x="583" y="66"/>
                  <a:pt x="583" y="120"/>
                </a:cubicBezTo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344840" y="4800600"/>
            <a:ext cx="917640" cy="534960"/>
          </a:xfrm>
          <a:custGeom>
            <a:avLst/>
            <a:gdLst/>
            <a:ahLst/>
            <a:rect l="l" t="t" r="r" b="b"/>
            <a:pathLst>
              <a:path w="578" h="337">
                <a:moveTo>
                  <a:pt x="215" y="0"/>
                </a:moveTo>
                <a:cubicBezTo>
                  <a:pt x="244" y="116"/>
                  <a:pt x="245" y="164"/>
                  <a:pt x="131" y="192"/>
                </a:cubicBezTo>
                <a:cubicBezTo>
                  <a:pt x="130" y="193"/>
                  <a:pt x="0" y="229"/>
                  <a:pt x="23" y="252"/>
                </a:cubicBezTo>
                <a:cubicBezTo>
                  <a:pt x="41" y="270"/>
                  <a:pt x="155" y="276"/>
                  <a:pt x="155" y="276"/>
                </a:cubicBezTo>
                <a:cubicBezTo>
                  <a:pt x="163" y="288"/>
                  <a:pt x="165" y="307"/>
                  <a:pt x="179" y="312"/>
                </a:cubicBezTo>
                <a:cubicBezTo>
                  <a:pt x="250" y="336"/>
                  <a:pt x="232" y="245"/>
                  <a:pt x="251" y="216"/>
                </a:cubicBezTo>
                <a:cubicBezTo>
                  <a:pt x="259" y="204"/>
                  <a:pt x="275" y="200"/>
                  <a:pt x="287" y="192"/>
                </a:cubicBezTo>
                <a:cubicBezTo>
                  <a:pt x="331" y="196"/>
                  <a:pt x="376" y="195"/>
                  <a:pt x="419" y="204"/>
                </a:cubicBezTo>
                <a:cubicBezTo>
                  <a:pt x="433" y="207"/>
                  <a:pt x="442" y="222"/>
                  <a:pt x="455" y="228"/>
                </a:cubicBezTo>
                <a:cubicBezTo>
                  <a:pt x="478" y="238"/>
                  <a:pt x="527" y="252"/>
                  <a:pt x="527" y="252"/>
                </a:cubicBezTo>
                <a:cubicBezTo>
                  <a:pt x="531" y="264"/>
                  <a:pt x="531" y="278"/>
                  <a:pt x="539" y="288"/>
                </a:cubicBezTo>
                <a:cubicBezTo>
                  <a:pt x="578" y="337"/>
                  <a:pt x="575" y="291"/>
                  <a:pt x="575" y="324"/>
                </a:cubicBezTo>
                <a:cubicBezTo>
                  <a:pt x="559" y="296"/>
                  <a:pt x="540" y="269"/>
                  <a:pt x="527" y="240"/>
                </a:cubicBezTo>
                <a:cubicBezTo>
                  <a:pt x="515" y="213"/>
                  <a:pt x="521" y="175"/>
                  <a:pt x="491" y="156"/>
                </a:cubicBezTo>
                <a:cubicBezTo>
                  <a:pt x="470" y="143"/>
                  <a:pt x="419" y="132"/>
                  <a:pt x="419" y="132"/>
                </a:cubicBezTo>
                <a:cubicBezTo>
                  <a:pt x="387" y="84"/>
                  <a:pt x="370" y="91"/>
                  <a:pt x="323" y="60"/>
                </a:cubicBezTo>
                <a:cubicBezTo>
                  <a:pt x="296" y="19"/>
                  <a:pt x="268" y="0"/>
                  <a:pt x="215" y="0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14400" y="4495680"/>
            <a:ext cx="534960" cy="2325960"/>
          </a:xfrm>
          <a:custGeom>
            <a:avLst/>
            <a:gdLst/>
            <a:ahLst/>
            <a:rect l="l" t="t" r="r" b="b"/>
            <a:pathLst>
              <a:path w="337" h="1465">
                <a:moveTo>
                  <a:pt x="144" y="660"/>
                </a:moveTo>
                <a:cubicBezTo>
                  <a:pt x="115" y="574"/>
                  <a:pt x="134" y="609"/>
                  <a:pt x="96" y="552"/>
                </a:cubicBezTo>
                <a:cubicBezTo>
                  <a:pt x="100" y="452"/>
                  <a:pt x="101" y="352"/>
                  <a:pt x="108" y="252"/>
                </a:cubicBezTo>
                <a:cubicBezTo>
                  <a:pt x="110" y="223"/>
                  <a:pt x="156" y="148"/>
                  <a:pt x="168" y="144"/>
                </a:cubicBezTo>
                <a:cubicBezTo>
                  <a:pt x="218" y="127"/>
                  <a:pt x="193" y="139"/>
                  <a:pt x="240" y="108"/>
                </a:cubicBezTo>
                <a:cubicBezTo>
                  <a:pt x="278" y="51"/>
                  <a:pt x="272" y="38"/>
                  <a:pt x="216" y="0"/>
                </a:cubicBezTo>
                <a:cubicBezTo>
                  <a:pt x="192" y="4"/>
                  <a:pt x="166" y="1"/>
                  <a:pt x="144" y="12"/>
                </a:cubicBezTo>
                <a:cubicBezTo>
                  <a:pt x="131" y="18"/>
                  <a:pt x="126" y="35"/>
                  <a:pt x="120" y="48"/>
                </a:cubicBezTo>
                <a:cubicBezTo>
                  <a:pt x="99" y="96"/>
                  <a:pt x="64" y="180"/>
                  <a:pt x="48" y="228"/>
                </a:cubicBezTo>
                <a:cubicBezTo>
                  <a:pt x="36" y="264"/>
                  <a:pt x="24" y="300"/>
                  <a:pt x="12" y="336"/>
                </a:cubicBezTo>
                <a:cubicBezTo>
                  <a:pt x="8" y="348"/>
                  <a:pt x="0" y="372"/>
                  <a:pt x="0" y="372"/>
                </a:cubicBezTo>
                <a:cubicBezTo>
                  <a:pt x="4" y="500"/>
                  <a:pt x="5" y="628"/>
                  <a:pt x="12" y="756"/>
                </a:cubicBezTo>
                <a:cubicBezTo>
                  <a:pt x="14" y="790"/>
                  <a:pt x="34" y="799"/>
                  <a:pt x="48" y="828"/>
                </a:cubicBezTo>
                <a:cubicBezTo>
                  <a:pt x="60" y="853"/>
                  <a:pt x="67" y="901"/>
                  <a:pt x="72" y="924"/>
                </a:cubicBezTo>
                <a:cubicBezTo>
                  <a:pt x="80" y="1163"/>
                  <a:pt x="22" y="1379"/>
                  <a:pt x="276" y="1464"/>
                </a:cubicBezTo>
                <a:cubicBezTo>
                  <a:pt x="316" y="1451"/>
                  <a:pt x="312" y="1465"/>
                  <a:pt x="312" y="1440"/>
                </a:cubicBezTo>
                <a:cubicBezTo>
                  <a:pt x="318" y="1404"/>
                  <a:pt x="337" y="1345"/>
                  <a:pt x="312" y="1308"/>
                </a:cubicBezTo>
                <a:cubicBezTo>
                  <a:pt x="305" y="1297"/>
                  <a:pt x="287" y="1302"/>
                  <a:pt x="276" y="1296"/>
                </a:cubicBezTo>
                <a:cubicBezTo>
                  <a:pt x="263" y="1290"/>
                  <a:pt x="252" y="1280"/>
                  <a:pt x="240" y="1272"/>
                </a:cubicBezTo>
                <a:cubicBezTo>
                  <a:pt x="207" y="1173"/>
                  <a:pt x="257" y="1330"/>
                  <a:pt x="216" y="1140"/>
                </a:cubicBezTo>
                <a:cubicBezTo>
                  <a:pt x="211" y="1115"/>
                  <a:pt x="197" y="1093"/>
                  <a:pt x="192" y="1068"/>
                </a:cubicBezTo>
                <a:cubicBezTo>
                  <a:pt x="184" y="1028"/>
                  <a:pt x="181" y="987"/>
                  <a:pt x="168" y="948"/>
                </a:cubicBezTo>
                <a:cubicBezTo>
                  <a:pt x="160" y="924"/>
                  <a:pt x="144" y="876"/>
                  <a:pt x="144" y="876"/>
                </a:cubicBezTo>
                <a:cubicBezTo>
                  <a:pt x="156" y="764"/>
                  <a:pt x="177" y="759"/>
                  <a:pt x="144" y="660"/>
                </a:cubicBez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2895480" y="2743200"/>
            <a:ext cx="4572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56160" y="5162400"/>
            <a:ext cx="258480" cy="289080"/>
          </a:xfrm>
          <a:custGeom>
            <a:avLst/>
            <a:gdLst/>
            <a:ahLst/>
            <a:rect l="l" t="t" r="r" b="b"/>
            <a:pathLst>
              <a:path w="163" h="182">
                <a:moveTo>
                  <a:pt x="73" y="120"/>
                </a:moveTo>
                <a:cubicBezTo>
                  <a:pt x="0" y="10"/>
                  <a:pt x="134" y="182"/>
                  <a:pt x="61" y="72"/>
                </a:cubicBezTo>
                <a:cubicBezTo>
                  <a:pt x="65" y="60"/>
                  <a:pt x="60" y="36"/>
                  <a:pt x="73" y="36"/>
                </a:cubicBezTo>
                <a:cubicBezTo>
                  <a:pt x="86" y="36"/>
                  <a:pt x="72" y="72"/>
                  <a:pt x="85" y="72"/>
                </a:cubicBezTo>
                <a:cubicBezTo>
                  <a:pt x="98" y="72"/>
                  <a:pt x="93" y="48"/>
                  <a:pt x="97" y="36"/>
                </a:cubicBezTo>
                <a:cubicBezTo>
                  <a:pt x="101" y="48"/>
                  <a:pt x="96" y="72"/>
                  <a:pt x="109" y="72"/>
                </a:cubicBezTo>
                <a:cubicBezTo>
                  <a:pt x="122" y="72"/>
                  <a:pt x="121" y="23"/>
                  <a:pt x="121" y="36"/>
                </a:cubicBezTo>
                <a:cubicBezTo>
                  <a:pt x="121" y="91"/>
                  <a:pt x="113" y="83"/>
                  <a:pt x="73" y="96"/>
                </a:cubicBezTo>
                <a:cubicBezTo>
                  <a:pt x="85" y="104"/>
                  <a:pt x="95" y="123"/>
                  <a:pt x="109" y="120"/>
                </a:cubicBezTo>
                <a:cubicBezTo>
                  <a:pt x="163" y="109"/>
                  <a:pt x="119" y="48"/>
                  <a:pt x="97" y="48"/>
                </a:cubicBezTo>
                <a:cubicBezTo>
                  <a:pt x="83" y="48"/>
                  <a:pt x="121" y="98"/>
                  <a:pt x="121" y="84"/>
                </a:cubicBezTo>
                <a:cubicBezTo>
                  <a:pt x="121" y="66"/>
                  <a:pt x="105" y="52"/>
                  <a:pt x="97" y="36"/>
                </a:cubicBezTo>
                <a:cubicBezTo>
                  <a:pt x="101" y="24"/>
                  <a:pt x="96" y="0"/>
                  <a:pt x="109" y="0"/>
                </a:cubicBezTo>
                <a:cubicBezTo>
                  <a:pt x="139" y="0"/>
                  <a:pt x="145" y="84"/>
                  <a:pt x="145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5181480"/>
            <a:ext cx="258840" cy="289080"/>
          </a:xfrm>
          <a:custGeom>
            <a:avLst/>
            <a:gdLst/>
            <a:ahLst/>
            <a:rect l="l" t="t" r="r" b="b"/>
            <a:pathLst>
              <a:path w="163" h="182">
                <a:moveTo>
                  <a:pt x="73" y="120"/>
                </a:moveTo>
                <a:cubicBezTo>
                  <a:pt x="0" y="10"/>
                  <a:pt x="134" y="182"/>
                  <a:pt x="61" y="72"/>
                </a:cubicBezTo>
                <a:cubicBezTo>
                  <a:pt x="65" y="60"/>
                  <a:pt x="60" y="36"/>
                  <a:pt x="73" y="36"/>
                </a:cubicBezTo>
                <a:cubicBezTo>
                  <a:pt x="86" y="36"/>
                  <a:pt x="72" y="72"/>
                  <a:pt x="85" y="72"/>
                </a:cubicBezTo>
                <a:cubicBezTo>
                  <a:pt x="98" y="72"/>
                  <a:pt x="93" y="48"/>
                  <a:pt x="97" y="36"/>
                </a:cubicBezTo>
                <a:cubicBezTo>
                  <a:pt x="101" y="48"/>
                  <a:pt x="96" y="72"/>
                  <a:pt x="109" y="72"/>
                </a:cubicBezTo>
                <a:cubicBezTo>
                  <a:pt x="122" y="72"/>
                  <a:pt x="121" y="23"/>
                  <a:pt x="121" y="36"/>
                </a:cubicBezTo>
                <a:cubicBezTo>
                  <a:pt x="121" y="91"/>
                  <a:pt x="113" y="83"/>
                  <a:pt x="73" y="96"/>
                </a:cubicBezTo>
                <a:cubicBezTo>
                  <a:pt x="85" y="104"/>
                  <a:pt x="95" y="123"/>
                  <a:pt x="109" y="120"/>
                </a:cubicBezTo>
                <a:cubicBezTo>
                  <a:pt x="163" y="109"/>
                  <a:pt x="119" y="48"/>
                  <a:pt x="97" y="48"/>
                </a:cubicBezTo>
                <a:cubicBezTo>
                  <a:pt x="83" y="48"/>
                  <a:pt x="121" y="98"/>
                  <a:pt x="121" y="84"/>
                </a:cubicBezTo>
                <a:cubicBezTo>
                  <a:pt x="121" y="66"/>
                  <a:pt x="105" y="52"/>
                  <a:pt x="97" y="36"/>
                </a:cubicBezTo>
                <a:cubicBezTo>
                  <a:pt x="101" y="24"/>
                  <a:pt x="96" y="0"/>
                  <a:pt x="109" y="0"/>
                </a:cubicBezTo>
                <a:cubicBezTo>
                  <a:pt x="139" y="0"/>
                  <a:pt x="145" y="84"/>
                  <a:pt x="145" y="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84520" y="6711840"/>
            <a:ext cx="2192400" cy="922320"/>
          </a:xfrm>
          <a:custGeom>
            <a:avLst/>
            <a:gdLst/>
            <a:ahLst/>
            <a:rect l="l" t="t" r="r" b="b"/>
            <a:pathLst>
              <a:path w="1381" h="581">
                <a:moveTo>
                  <a:pt x="82" y="115"/>
                </a:moveTo>
                <a:cubicBezTo>
                  <a:pt x="48" y="166"/>
                  <a:pt x="20" y="210"/>
                  <a:pt x="0" y="270"/>
                </a:cubicBezTo>
                <a:cubicBezTo>
                  <a:pt x="6" y="334"/>
                  <a:pt x="5" y="399"/>
                  <a:pt x="18" y="462"/>
                </a:cubicBezTo>
                <a:cubicBezTo>
                  <a:pt x="33" y="536"/>
                  <a:pt x="231" y="556"/>
                  <a:pt x="284" y="563"/>
                </a:cubicBezTo>
                <a:cubicBezTo>
                  <a:pt x="308" y="566"/>
                  <a:pt x="333" y="569"/>
                  <a:pt x="357" y="572"/>
                </a:cubicBezTo>
                <a:cubicBezTo>
                  <a:pt x="387" y="575"/>
                  <a:pt x="418" y="578"/>
                  <a:pt x="448" y="581"/>
                </a:cubicBezTo>
                <a:cubicBezTo>
                  <a:pt x="613" y="578"/>
                  <a:pt x="777" y="580"/>
                  <a:pt x="942" y="572"/>
                </a:cubicBezTo>
                <a:cubicBezTo>
                  <a:pt x="1012" y="569"/>
                  <a:pt x="1112" y="534"/>
                  <a:pt x="1180" y="517"/>
                </a:cubicBezTo>
                <a:cubicBezTo>
                  <a:pt x="1189" y="511"/>
                  <a:pt x="1197" y="504"/>
                  <a:pt x="1207" y="499"/>
                </a:cubicBezTo>
                <a:cubicBezTo>
                  <a:pt x="1215" y="495"/>
                  <a:pt x="1226" y="495"/>
                  <a:pt x="1234" y="490"/>
                </a:cubicBezTo>
                <a:cubicBezTo>
                  <a:pt x="1257" y="477"/>
                  <a:pt x="1276" y="459"/>
                  <a:pt x="1298" y="444"/>
                </a:cubicBezTo>
                <a:cubicBezTo>
                  <a:pt x="1333" y="393"/>
                  <a:pt x="1352" y="343"/>
                  <a:pt x="1381" y="289"/>
                </a:cubicBezTo>
                <a:cubicBezTo>
                  <a:pt x="1378" y="240"/>
                  <a:pt x="1380" y="190"/>
                  <a:pt x="1372" y="142"/>
                </a:cubicBezTo>
                <a:cubicBezTo>
                  <a:pt x="1368" y="119"/>
                  <a:pt x="1338" y="109"/>
                  <a:pt x="1317" y="97"/>
                </a:cubicBezTo>
                <a:cubicBezTo>
                  <a:pt x="1268" y="68"/>
                  <a:pt x="1207" y="55"/>
                  <a:pt x="1152" y="42"/>
                </a:cubicBezTo>
                <a:cubicBezTo>
                  <a:pt x="980" y="0"/>
                  <a:pt x="799" y="27"/>
                  <a:pt x="622" y="23"/>
                </a:cubicBezTo>
                <a:cubicBezTo>
                  <a:pt x="347" y="1"/>
                  <a:pt x="475" y="1"/>
                  <a:pt x="238" y="14"/>
                </a:cubicBezTo>
                <a:cubicBezTo>
                  <a:pt x="199" y="26"/>
                  <a:pt x="180" y="58"/>
                  <a:pt x="146" y="78"/>
                </a:cubicBezTo>
                <a:cubicBezTo>
                  <a:pt x="130" y="88"/>
                  <a:pt x="110" y="90"/>
                  <a:pt x="92" y="97"/>
                </a:cubicBezTo>
                <a:cubicBezTo>
                  <a:pt x="71" y="117"/>
                  <a:pt x="64" y="115"/>
                  <a:pt x="82" y="115"/>
                </a:cubicBezTo>
                <a:close/>
              </a:path>
            </a:pathLst>
          </a:custGeom>
          <a:noFill/>
          <a:ln w="9360">
            <a:solidFill>
              <a:srgbClr val="cc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906560" y="53964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Lámina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33480" y="1692360"/>
            <a:ext cx="6891480" cy="50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onformada por filamentos intermedios de 30-100 nm de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grosor, que son polímeros lamin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s lamininas de tipo A se localizan próximas al nucle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s lamininas de tipo B están próximas a la envoltura nu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articipan en el ensamblaje y desensamblaje de la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nvoltura nuclear durante la mitos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fosforilación de las lamininas gatilla el desensamblaje d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ámina y la fragmentación de la envoltura nuclear en vesícu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a desfosforilación de las lamininas revierte el proceso,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ermitiendo la reorganización del núc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Anticuerpos contra las lamininas evitan el ensamblaje del núcle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espués de la mit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266400">
              <a:lnSpc>
                <a:spcPct val="100000"/>
              </a:lnSpc>
              <a:tabLst>
                <a:tab algn="l" pos="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916280" y="2771640"/>
            <a:ext cx="2736720" cy="2664000"/>
          </a:xfrm>
          <a:prstGeom prst="donut">
            <a:avLst>
              <a:gd name="adj" fmla="val 163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33720" y="3492360"/>
            <a:ext cx="32832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789360" y="3060720"/>
            <a:ext cx="2872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24280" y="28447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33720" y="4716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21000" y="4140360"/>
            <a:ext cx="6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2276640" y="4716360"/>
            <a:ext cx="35064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24280" y="5003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60640" y="421164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47920" y="5938920"/>
            <a:ext cx="1339920" cy="1374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65360" y="6227640"/>
            <a:ext cx="1006560" cy="935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37000" y="6372360"/>
            <a:ext cx="863280" cy="14436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37000" y="6588000"/>
            <a:ext cx="863280" cy="14472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58840" y="1330200"/>
            <a:ext cx="1339920" cy="1374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76640" y="1619280"/>
            <a:ext cx="1006200" cy="934920"/>
          </a:xfrm>
          <a:prstGeom prst="ellipse">
            <a:avLst/>
          </a:prstGeom>
          <a:solidFill>
            <a:srgbClr val="cc3300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65360" y="1836720"/>
            <a:ext cx="503280" cy="712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65360" y="2124000"/>
            <a:ext cx="503280" cy="730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65360" y="190800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0698800">
            <a:off x="2565360" y="219528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65000" y="428472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Replicación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41720" y="2700360"/>
            <a:ext cx="1339920" cy="1374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15772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157720" y="332820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66100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661000" y="334728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48280" y="4200480"/>
            <a:ext cx="1139760" cy="1719360"/>
          </a:xfrm>
          <a:custGeom>
            <a:avLst/>
            <a:gdLst/>
            <a:ahLst/>
            <a:rect l="l" t="t" r="r" b="b"/>
            <a:pathLst>
              <a:path w="718" h="1083">
                <a:moveTo>
                  <a:pt x="116" y="565"/>
                </a:moveTo>
                <a:cubicBezTo>
                  <a:pt x="136" y="560"/>
                  <a:pt x="138" y="556"/>
                  <a:pt x="144" y="537"/>
                </a:cubicBezTo>
                <a:cubicBezTo>
                  <a:pt x="141" y="482"/>
                  <a:pt x="142" y="448"/>
                  <a:pt x="96" y="417"/>
                </a:cubicBezTo>
                <a:cubicBezTo>
                  <a:pt x="77" y="389"/>
                  <a:pt x="88" y="398"/>
                  <a:pt x="68" y="385"/>
                </a:cubicBezTo>
                <a:cubicBezTo>
                  <a:pt x="60" y="373"/>
                  <a:pt x="56" y="361"/>
                  <a:pt x="48" y="349"/>
                </a:cubicBezTo>
                <a:cubicBezTo>
                  <a:pt x="30" y="277"/>
                  <a:pt x="38" y="307"/>
                  <a:pt x="44" y="165"/>
                </a:cubicBezTo>
                <a:cubicBezTo>
                  <a:pt x="49" y="60"/>
                  <a:pt x="155" y="14"/>
                  <a:pt x="244" y="1"/>
                </a:cubicBezTo>
                <a:cubicBezTo>
                  <a:pt x="370" y="4"/>
                  <a:pt x="423" y="0"/>
                  <a:pt x="524" y="25"/>
                </a:cubicBezTo>
                <a:cubicBezTo>
                  <a:pt x="531" y="30"/>
                  <a:pt x="541" y="31"/>
                  <a:pt x="548" y="37"/>
                </a:cubicBezTo>
                <a:cubicBezTo>
                  <a:pt x="574" y="58"/>
                  <a:pt x="538" y="43"/>
                  <a:pt x="568" y="53"/>
                </a:cubicBezTo>
                <a:cubicBezTo>
                  <a:pt x="571" y="57"/>
                  <a:pt x="573" y="62"/>
                  <a:pt x="576" y="65"/>
                </a:cubicBezTo>
                <a:cubicBezTo>
                  <a:pt x="579" y="68"/>
                  <a:pt x="585" y="69"/>
                  <a:pt x="588" y="73"/>
                </a:cubicBezTo>
                <a:cubicBezTo>
                  <a:pt x="599" y="85"/>
                  <a:pt x="606" y="100"/>
                  <a:pt x="616" y="113"/>
                </a:cubicBezTo>
                <a:cubicBezTo>
                  <a:pt x="623" y="134"/>
                  <a:pt x="618" y="121"/>
                  <a:pt x="636" y="149"/>
                </a:cubicBezTo>
                <a:cubicBezTo>
                  <a:pt x="652" y="173"/>
                  <a:pt x="655" y="206"/>
                  <a:pt x="660" y="233"/>
                </a:cubicBezTo>
                <a:cubicBezTo>
                  <a:pt x="658" y="278"/>
                  <a:pt x="668" y="326"/>
                  <a:pt x="652" y="369"/>
                </a:cubicBezTo>
                <a:cubicBezTo>
                  <a:pt x="648" y="379"/>
                  <a:pt x="632" y="398"/>
                  <a:pt x="624" y="405"/>
                </a:cubicBezTo>
                <a:cubicBezTo>
                  <a:pt x="617" y="411"/>
                  <a:pt x="600" y="421"/>
                  <a:pt x="600" y="421"/>
                </a:cubicBezTo>
                <a:cubicBezTo>
                  <a:pt x="595" y="429"/>
                  <a:pt x="591" y="438"/>
                  <a:pt x="584" y="445"/>
                </a:cubicBezTo>
                <a:cubicBezTo>
                  <a:pt x="576" y="453"/>
                  <a:pt x="560" y="469"/>
                  <a:pt x="560" y="469"/>
                </a:cubicBezTo>
                <a:cubicBezTo>
                  <a:pt x="547" y="509"/>
                  <a:pt x="551" y="492"/>
                  <a:pt x="560" y="577"/>
                </a:cubicBezTo>
                <a:cubicBezTo>
                  <a:pt x="562" y="595"/>
                  <a:pt x="595" y="608"/>
                  <a:pt x="604" y="617"/>
                </a:cubicBezTo>
                <a:cubicBezTo>
                  <a:pt x="627" y="640"/>
                  <a:pt x="653" y="659"/>
                  <a:pt x="668" y="689"/>
                </a:cubicBezTo>
                <a:cubicBezTo>
                  <a:pt x="679" y="710"/>
                  <a:pt x="690" y="729"/>
                  <a:pt x="696" y="753"/>
                </a:cubicBezTo>
                <a:cubicBezTo>
                  <a:pt x="699" y="767"/>
                  <a:pt x="708" y="793"/>
                  <a:pt x="708" y="793"/>
                </a:cubicBezTo>
                <a:cubicBezTo>
                  <a:pt x="706" y="868"/>
                  <a:pt x="718" y="979"/>
                  <a:pt x="636" y="1033"/>
                </a:cubicBezTo>
                <a:cubicBezTo>
                  <a:pt x="612" y="1068"/>
                  <a:pt x="543" y="1069"/>
                  <a:pt x="508" y="1073"/>
                </a:cubicBezTo>
                <a:cubicBezTo>
                  <a:pt x="338" y="1071"/>
                  <a:pt x="324" y="1083"/>
                  <a:pt x="200" y="1065"/>
                </a:cubicBezTo>
                <a:cubicBezTo>
                  <a:pt x="177" y="1057"/>
                  <a:pt x="167" y="1053"/>
                  <a:pt x="144" y="1045"/>
                </a:cubicBezTo>
                <a:cubicBezTo>
                  <a:pt x="137" y="1038"/>
                  <a:pt x="94" y="1026"/>
                  <a:pt x="88" y="1017"/>
                </a:cubicBezTo>
                <a:cubicBezTo>
                  <a:pt x="85" y="1012"/>
                  <a:pt x="62" y="998"/>
                  <a:pt x="60" y="993"/>
                </a:cubicBezTo>
                <a:cubicBezTo>
                  <a:pt x="49" y="972"/>
                  <a:pt x="37" y="978"/>
                  <a:pt x="20" y="961"/>
                </a:cubicBezTo>
                <a:cubicBezTo>
                  <a:pt x="13" y="940"/>
                  <a:pt x="5" y="923"/>
                  <a:pt x="0" y="901"/>
                </a:cubicBezTo>
                <a:cubicBezTo>
                  <a:pt x="2" y="841"/>
                  <a:pt x="0" y="717"/>
                  <a:pt x="36" y="653"/>
                </a:cubicBezTo>
                <a:cubicBezTo>
                  <a:pt x="44" y="638"/>
                  <a:pt x="57" y="616"/>
                  <a:pt x="72" y="605"/>
                </a:cubicBezTo>
                <a:cubicBezTo>
                  <a:pt x="83" y="596"/>
                  <a:pt x="108" y="581"/>
                  <a:pt x="108" y="581"/>
                </a:cubicBezTo>
                <a:cubicBezTo>
                  <a:pt x="116" y="569"/>
                  <a:pt x="143" y="556"/>
                  <a:pt x="116" y="565"/>
                </a:cubicBez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777600">
            <a:off x="5300640" y="4427640"/>
            <a:ext cx="284040" cy="28080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1067600">
            <a:off x="5228640" y="5363280"/>
            <a:ext cx="284040" cy="28116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1067600">
            <a:off x="5660280" y="5363280"/>
            <a:ext cx="284040" cy="28116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777600">
            <a:off x="5661000" y="4427640"/>
            <a:ext cx="284040" cy="280800"/>
          </a:xfrm>
          <a:custGeom>
            <a:avLst/>
            <a:gdLst/>
            <a:ahLst/>
            <a:rect l="l" t="t" r="r" b="b"/>
            <a:pathLst>
              <a:path w="179" h="177">
                <a:moveTo>
                  <a:pt x="40" y="14"/>
                </a:moveTo>
                <a:cubicBezTo>
                  <a:pt x="41" y="21"/>
                  <a:pt x="38" y="31"/>
                  <a:pt x="44" y="34"/>
                </a:cubicBezTo>
                <a:cubicBezTo>
                  <a:pt x="66" y="47"/>
                  <a:pt x="68" y="29"/>
                  <a:pt x="72" y="18"/>
                </a:cubicBezTo>
                <a:cubicBezTo>
                  <a:pt x="66" y="1"/>
                  <a:pt x="61" y="0"/>
                  <a:pt x="44" y="6"/>
                </a:cubicBezTo>
                <a:cubicBezTo>
                  <a:pt x="36" y="31"/>
                  <a:pt x="27" y="54"/>
                  <a:pt x="16" y="78"/>
                </a:cubicBezTo>
                <a:cubicBezTo>
                  <a:pt x="11" y="90"/>
                  <a:pt x="8" y="102"/>
                  <a:pt x="4" y="114"/>
                </a:cubicBezTo>
                <a:cubicBezTo>
                  <a:pt x="3" y="118"/>
                  <a:pt x="0" y="126"/>
                  <a:pt x="0" y="126"/>
                </a:cubicBezTo>
                <a:cubicBezTo>
                  <a:pt x="4" y="169"/>
                  <a:pt x="1" y="177"/>
                  <a:pt x="28" y="150"/>
                </a:cubicBezTo>
                <a:cubicBezTo>
                  <a:pt x="41" y="112"/>
                  <a:pt x="35" y="72"/>
                  <a:pt x="48" y="34"/>
                </a:cubicBezTo>
                <a:cubicBezTo>
                  <a:pt x="60" y="35"/>
                  <a:pt x="73" y="32"/>
                  <a:pt x="84" y="38"/>
                </a:cubicBezTo>
                <a:cubicBezTo>
                  <a:pt x="92" y="43"/>
                  <a:pt x="95" y="54"/>
                  <a:pt x="100" y="62"/>
                </a:cubicBezTo>
                <a:lnTo>
                  <a:pt x="132" y="110"/>
                </a:lnTo>
                <a:cubicBezTo>
                  <a:pt x="132" y="110"/>
                  <a:pt x="144" y="146"/>
                  <a:pt x="144" y="146"/>
                </a:cubicBezTo>
                <a:cubicBezTo>
                  <a:pt x="145" y="150"/>
                  <a:pt x="148" y="158"/>
                  <a:pt x="148" y="158"/>
                </a:cubicBezTo>
                <a:cubicBezTo>
                  <a:pt x="179" y="150"/>
                  <a:pt x="167" y="159"/>
                  <a:pt x="160" y="106"/>
                </a:cubicBezTo>
                <a:cubicBezTo>
                  <a:pt x="154" y="62"/>
                  <a:pt x="96" y="46"/>
                  <a:pt x="68" y="18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rot="20892000">
            <a:off x="921240" y="220464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933360" y="6156360"/>
            <a:ext cx="129564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084640" y="6227640"/>
            <a:ext cx="216000" cy="129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59200" y="7596360"/>
            <a:ext cx="1339920" cy="1374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76640" y="7885080"/>
            <a:ext cx="1006560" cy="934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48280" y="8102520"/>
            <a:ext cx="863280" cy="7164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8280" y="8245440"/>
            <a:ext cx="863280" cy="7164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645000" y="1763640"/>
            <a:ext cx="1755720" cy="739800"/>
          </a:xfrm>
          <a:custGeom>
            <a:avLst/>
            <a:gdLst/>
            <a:ahLst/>
            <a:rect l="l" t="t" r="r" b="b"/>
            <a:pathLst>
              <a:path w="1106" h="466">
                <a:moveTo>
                  <a:pt x="0" y="0"/>
                </a:moveTo>
                <a:cubicBezTo>
                  <a:pt x="143" y="3"/>
                  <a:pt x="287" y="1"/>
                  <a:pt x="430" y="9"/>
                </a:cubicBezTo>
                <a:cubicBezTo>
                  <a:pt x="466" y="11"/>
                  <a:pt x="522" y="37"/>
                  <a:pt x="558" y="46"/>
                </a:cubicBezTo>
                <a:cubicBezTo>
                  <a:pt x="589" y="54"/>
                  <a:pt x="649" y="73"/>
                  <a:pt x="649" y="73"/>
                </a:cubicBezTo>
                <a:cubicBezTo>
                  <a:pt x="719" y="120"/>
                  <a:pt x="817" y="149"/>
                  <a:pt x="878" y="210"/>
                </a:cubicBezTo>
                <a:cubicBezTo>
                  <a:pt x="932" y="264"/>
                  <a:pt x="906" y="244"/>
                  <a:pt x="951" y="274"/>
                </a:cubicBezTo>
                <a:cubicBezTo>
                  <a:pt x="983" y="323"/>
                  <a:pt x="1029" y="369"/>
                  <a:pt x="1070" y="412"/>
                </a:cubicBezTo>
                <a:cubicBezTo>
                  <a:pt x="1076" y="430"/>
                  <a:pt x="1082" y="466"/>
                  <a:pt x="1106" y="4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2697800">
            <a:off x="691920" y="5292000"/>
            <a:ext cx="1755720" cy="739800"/>
          </a:xfrm>
          <a:custGeom>
            <a:avLst/>
            <a:gdLst/>
            <a:ahLst/>
            <a:rect l="l" t="t" r="r" b="b"/>
            <a:pathLst>
              <a:path w="1106" h="466">
                <a:moveTo>
                  <a:pt x="0" y="0"/>
                </a:moveTo>
                <a:cubicBezTo>
                  <a:pt x="143" y="3"/>
                  <a:pt x="287" y="1"/>
                  <a:pt x="430" y="9"/>
                </a:cubicBezTo>
                <a:cubicBezTo>
                  <a:pt x="466" y="11"/>
                  <a:pt x="522" y="37"/>
                  <a:pt x="558" y="46"/>
                </a:cubicBezTo>
                <a:cubicBezTo>
                  <a:pt x="589" y="54"/>
                  <a:pt x="649" y="73"/>
                  <a:pt x="649" y="73"/>
                </a:cubicBezTo>
                <a:cubicBezTo>
                  <a:pt x="719" y="120"/>
                  <a:pt x="817" y="149"/>
                  <a:pt x="878" y="210"/>
                </a:cubicBezTo>
                <a:cubicBezTo>
                  <a:pt x="932" y="264"/>
                  <a:pt x="906" y="244"/>
                  <a:pt x="951" y="274"/>
                </a:cubicBezTo>
                <a:cubicBezTo>
                  <a:pt x="983" y="323"/>
                  <a:pt x="1029" y="369"/>
                  <a:pt x="1070" y="412"/>
                </a:cubicBezTo>
                <a:cubicBezTo>
                  <a:pt x="1076" y="430"/>
                  <a:pt x="1082" y="466"/>
                  <a:pt x="1106" y="4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09480" y="5335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3520" y="129528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íntesis de RNA y ensamblaje de subunidades riboso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3962520"/>
            <a:ext cx="2133360" cy="2133360"/>
          </a:xfrm>
          <a:prstGeom prst="ellipse">
            <a:avLst/>
          </a:prstGeom>
          <a:solidFill>
            <a:srgbClr val="99ccff"/>
          </a:solidFill>
          <a:ln cap="rnd" w="9360">
            <a:solidFill>
              <a:srgbClr val="66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9994400">
            <a:off x="1828440" y="3581280"/>
            <a:ext cx="1104840" cy="130356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2082600">
            <a:off x="3505320" y="365760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5442600">
            <a:off x="3756600" y="447264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3200" y="340992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066800">
            <a:off x="1446840" y="4420440"/>
            <a:ext cx="110520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9842400">
            <a:off x="3124080" y="5257440"/>
            <a:ext cx="110520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3790400">
            <a:off x="2003760" y="5158080"/>
            <a:ext cx="1104840" cy="1303200"/>
          </a:xfrm>
          <a:custGeom>
            <a:avLst/>
            <a:gdLst/>
            <a:ahLst/>
            <a:rect l="l" t="t" r="r" b="b"/>
            <a:pathLst>
              <a:path w="696" h="821">
                <a:moveTo>
                  <a:pt x="684" y="84"/>
                </a:moveTo>
                <a:cubicBezTo>
                  <a:pt x="657" y="164"/>
                  <a:pt x="696" y="84"/>
                  <a:pt x="576" y="132"/>
                </a:cubicBezTo>
                <a:cubicBezTo>
                  <a:pt x="563" y="137"/>
                  <a:pt x="562" y="158"/>
                  <a:pt x="552" y="168"/>
                </a:cubicBezTo>
                <a:cubicBezTo>
                  <a:pt x="542" y="178"/>
                  <a:pt x="528" y="184"/>
                  <a:pt x="516" y="192"/>
                </a:cubicBezTo>
                <a:cubicBezTo>
                  <a:pt x="487" y="278"/>
                  <a:pt x="427" y="256"/>
                  <a:pt x="336" y="264"/>
                </a:cubicBezTo>
                <a:cubicBezTo>
                  <a:pt x="348" y="272"/>
                  <a:pt x="358" y="284"/>
                  <a:pt x="372" y="288"/>
                </a:cubicBezTo>
                <a:cubicBezTo>
                  <a:pt x="403" y="296"/>
                  <a:pt x="444" y="279"/>
                  <a:pt x="468" y="300"/>
                </a:cubicBezTo>
                <a:cubicBezTo>
                  <a:pt x="483" y="313"/>
                  <a:pt x="471" y="347"/>
                  <a:pt x="456" y="360"/>
                </a:cubicBezTo>
                <a:cubicBezTo>
                  <a:pt x="438" y="376"/>
                  <a:pt x="408" y="368"/>
                  <a:pt x="384" y="372"/>
                </a:cubicBezTo>
                <a:cubicBezTo>
                  <a:pt x="401" y="423"/>
                  <a:pt x="426" y="463"/>
                  <a:pt x="444" y="516"/>
                </a:cubicBezTo>
                <a:cubicBezTo>
                  <a:pt x="448" y="528"/>
                  <a:pt x="456" y="552"/>
                  <a:pt x="456" y="552"/>
                </a:cubicBezTo>
                <a:cubicBezTo>
                  <a:pt x="445" y="778"/>
                  <a:pt x="507" y="821"/>
                  <a:pt x="336" y="792"/>
                </a:cubicBezTo>
                <a:cubicBezTo>
                  <a:pt x="338" y="754"/>
                  <a:pt x="362" y="556"/>
                  <a:pt x="336" y="492"/>
                </a:cubicBezTo>
                <a:cubicBezTo>
                  <a:pt x="331" y="480"/>
                  <a:pt x="312" y="482"/>
                  <a:pt x="300" y="480"/>
                </a:cubicBezTo>
                <a:cubicBezTo>
                  <a:pt x="272" y="474"/>
                  <a:pt x="244" y="472"/>
                  <a:pt x="216" y="468"/>
                </a:cubicBezTo>
                <a:cubicBezTo>
                  <a:pt x="194" y="435"/>
                  <a:pt x="164" y="407"/>
                  <a:pt x="204" y="360"/>
                </a:cubicBezTo>
                <a:cubicBezTo>
                  <a:pt x="217" y="345"/>
                  <a:pt x="244" y="352"/>
                  <a:pt x="264" y="348"/>
                </a:cubicBezTo>
                <a:cubicBezTo>
                  <a:pt x="273" y="320"/>
                  <a:pt x="298" y="265"/>
                  <a:pt x="264" y="240"/>
                </a:cubicBezTo>
                <a:cubicBezTo>
                  <a:pt x="231" y="216"/>
                  <a:pt x="144" y="216"/>
                  <a:pt x="144" y="216"/>
                </a:cubicBezTo>
                <a:cubicBezTo>
                  <a:pt x="90" y="134"/>
                  <a:pt x="133" y="138"/>
                  <a:pt x="96" y="36"/>
                </a:cubicBezTo>
                <a:cubicBezTo>
                  <a:pt x="86" y="9"/>
                  <a:pt x="22" y="0"/>
                  <a:pt x="0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971800" y="5486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120" y="7010280"/>
            <a:ext cx="4724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a de un cromosoma que tiene una agrupación de genes para rR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rganizador nucle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5400000">
            <a:off x="2761920" y="1961640"/>
            <a:ext cx="1066680" cy="2629080"/>
          </a:xfrm>
          <a:custGeom>
            <a:avLst/>
            <a:gdLst>
              <a:gd name="textAreaLeft" fmla="*/ 681480 w 1066680"/>
              <a:gd name="textAreaRight" fmla="*/ 1067040 w 1066680"/>
              <a:gd name="textAreaTop" fmla="*/ 68400 h 2629080"/>
              <a:gd name="textAreaBottom" fmla="*/ 2560680 h 26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236232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osomas que tienen genes r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nucleo1" descr=""/>
          <p:cNvPicPr/>
          <p:nvPr/>
        </p:nvPicPr>
        <p:blipFill>
          <a:blip r:embed="rId1"/>
          <a:stretch/>
        </p:blipFill>
        <p:spPr>
          <a:xfrm>
            <a:off x="1700280" y="1258920"/>
            <a:ext cx="3848040" cy="346716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1670040" y="2290680"/>
            <a:ext cx="2352240" cy="1914480"/>
            <a:chOff x="1670040" y="2290680"/>
            <a:chExt cx="2352240" cy="1914480"/>
          </a:xfrm>
        </p:grpSpPr>
        <p:sp>
          <p:nvSpPr>
            <p:cNvPr id="489" name="">
              <a:hlinkClick r:id="rId2"/>
            </p:cNvPr>
            <p:cNvSpPr/>
            <p:nvPr/>
          </p:nvSpPr>
          <p:spPr>
            <a:xfrm>
              <a:off x="3051000" y="2290680"/>
              <a:ext cx="971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/>
            </p:cNvPr>
            <p:cNvSpPr/>
            <p:nvPr/>
          </p:nvSpPr>
          <p:spPr>
            <a:xfrm>
              <a:off x="1670040" y="4014720"/>
              <a:ext cx="1143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>
              <a:hlinkClick r:id="rId4"/>
            </p:cNvPr>
            <p:cNvSpPr/>
            <p:nvPr/>
          </p:nvSpPr>
          <p:spPr>
            <a:xfrm>
              <a:off x="2689200" y="2585880"/>
              <a:ext cx="1181160" cy="118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1886040" y="2506680"/>
            <a:ext cx="2352240" cy="1914480"/>
            <a:chOff x="1886040" y="2506680"/>
            <a:chExt cx="2352240" cy="1914480"/>
          </a:xfrm>
        </p:grpSpPr>
        <p:sp>
          <p:nvSpPr>
            <p:cNvPr id="493" name="">
              <a:hlinkClick r:id="rId5"/>
            </p:cNvPr>
            <p:cNvSpPr/>
            <p:nvPr/>
          </p:nvSpPr>
          <p:spPr>
            <a:xfrm>
              <a:off x="3267000" y="2506680"/>
              <a:ext cx="971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86040" y="4230720"/>
              <a:ext cx="11430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05200" y="2801880"/>
              <a:ext cx="1181160" cy="1180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6" name="nucleo2" descr=""/>
          <p:cNvPicPr/>
          <p:nvPr/>
        </p:nvPicPr>
        <p:blipFill>
          <a:blip r:embed="rId6"/>
          <a:stretch/>
        </p:blipFill>
        <p:spPr>
          <a:xfrm>
            <a:off x="620640" y="4859280"/>
            <a:ext cx="3000600" cy="376236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0" y="2690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2690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12960" y="5284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uclé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56240" y="7885080"/>
            <a:ext cx="26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ibonucleo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2420640" y="7956360"/>
            <a:ext cx="1368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696120" y="586728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RNA recién sintet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3499920" y="6084720"/>
            <a:ext cx="289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527640" y="6516720"/>
            <a:ext cx="318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nvergencia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rganizador nucleolar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tintos 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141720" y="6877080"/>
            <a:ext cx="5745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3360" y="8028000"/>
            <a:ext cx="65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Organelo propio de los eucari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81000" y="826920"/>
            <a:ext cx="4673520" cy="1944720"/>
            <a:chOff x="981000" y="826920"/>
            <a:chExt cx="4673520" cy="1944720"/>
          </a:xfrm>
        </p:grpSpPr>
        <p:sp>
          <p:nvSpPr>
            <p:cNvPr id="49" name=""/>
            <p:cNvSpPr/>
            <p:nvPr/>
          </p:nvSpPr>
          <p:spPr>
            <a:xfrm>
              <a:off x="981000" y="826920"/>
              <a:ext cx="4673520" cy="1944720"/>
            </a:xfrm>
            <a:custGeom>
              <a:avLst/>
              <a:gdLst/>
              <a:ahLst/>
              <a:rect l="l" t="t" r="r" b="b"/>
              <a:pathLst>
                <a:path w="2944" h="1225">
                  <a:moveTo>
                    <a:pt x="248" y="241"/>
                  </a:moveTo>
                  <a:cubicBezTo>
                    <a:pt x="207" y="251"/>
                    <a:pt x="179" y="274"/>
                    <a:pt x="144" y="297"/>
                  </a:cubicBezTo>
                  <a:cubicBezTo>
                    <a:pt x="136" y="302"/>
                    <a:pt x="128" y="308"/>
                    <a:pt x="120" y="313"/>
                  </a:cubicBezTo>
                  <a:cubicBezTo>
                    <a:pt x="112" y="318"/>
                    <a:pt x="96" y="329"/>
                    <a:pt x="96" y="329"/>
                  </a:cubicBezTo>
                  <a:cubicBezTo>
                    <a:pt x="83" y="367"/>
                    <a:pt x="55" y="396"/>
                    <a:pt x="40" y="433"/>
                  </a:cubicBezTo>
                  <a:cubicBezTo>
                    <a:pt x="34" y="449"/>
                    <a:pt x="24" y="481"/>
                    <a:pt x="24" y="481"/>
                  </a:cubicBezTo>
                  <a:cubicBezTo>
                    <a:pt x="32" y="802"/>
                    <a:pt x="0" y="689"/>
                    <a:pt x="48" y="833"/>
                  </a:cubicBezTo>
                  <a:cubicBezTo>
                    <a:pt x="77" y="920"/>
                    <a:pt x="199" y="972"/>
                    <a:pt x="272" y="1009"/>
                  </a:cubicBezTo>
                  <a:cubicBezTo>
                    <a:pt x="306" y="1026"/>
                    <a:pt x="348" y="1021"/>
                    <a:pt x="384" y="1033"/>
                  </a:cubicBezTo>
                  <a:cubicBezTo>
                    <a:pt x="478" y="1064"/>
                    <a:pt x="582" y="1051"/>
                    <a:pt x="680" y="1065"/>
                  </a:cubicBezTo>
                  <a:cubicBezTo>
                    <a:pt x="873" y="1093"/>
                    <a:pt x="1061" y="1113"/>
                    <a:pt x="1256" y="1121"/>
                  </a:cubicBezTo>
                  <a:cubicBezTo>
                    <a:pt x="1505" y="1162"/>
                    <a:pt x="1748" y="1206"/>
                    <a:pt x="2000" y="1225"/>
                  </a:cubicBezTo>
                  <a:cubicBezTo>
                    <a:pt x="2128" y="1222"/>
                    <a:pt x="2256" y="1223"/>
                    <a:pt x="2384" y="1217"/>
                  </a:cubicBezTo>
                  <a:cubicBezTo>
                    <a:pt x="2491" y="1212"/>
                    <a:pt x="2598" y="1182"/>
                    <a:pt x="2704" y="1169"/>
                  </a:cubicBezTo>
                  <a:cubicBezTo>
                    <a:pt x="2774" y="1146"/>
                    <a:pt x="2821" y="1089"/>
                    <a:pt x="2880" y="1049"/>
                  </a:cubicBezTo>
                  <a:cubicBezTo>
                    <a:pt x="2916" y="994"/>
                    <a:pt x="2933" y="945"/>
                    <a:pt x="2944" y="881"/>
                  </a:cubicBezTo>
                  <a:cubicBezTo>
                    <a:pt x="2941" y="748"/>
                    <a:pt x="2940" y="614"/>
                    <a:pt x="2936" y="481"/>
                  </a:cubicBezTo>
                  <a:cubicBezTo>
                    <a:pt x="2932" y="347"/>
                    <a:pt x="2907" y="277"/>
                    <a:pt x="2776" y="233"/>
                  </a:cubicBezTo>
                  <a:cubicBezTo>
                    <a:pt x="2552" y="65"/>
                    <a:pt x="2269" y="87"/>
                    <a:pt x="2000" y="81"/>
                  </a:cubicBezTo>
                  <a:cubicBezTo>
                    <a:pt x="1496" y="84"/>
                    <a:pt x="1069" y="0"/>
                    <a:pt x="616" y="113"/>
                  </a:cubicBezTo>
                  <a:cubicBezTo>
                    <a:pt x="496" y="143"/>
                    <a:pt x="338" y="146"/>
                    <a:pt x="232" y="217"/>
                  </a:cubicBezTo>
                  <a:cubicBezTo>
                    <a:pt x="207" y="254"/>
                    <a:pt x="209" y="232"/>
                    <a:pt x="184" y="257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52280" y="979560"/>
              <a:ext cx="4570200" cy="1749240"/>
            </a:xfrm>
            <a:custGeom>
              <a:avLst/>
              <a:gdLst/>
              <a:ahLst/>
              <a:rect l="l" t="t" r="r" b="b"/>
              <a:pathLst>
                <a:path w="2879" h="1102">
                  <a:moveTo>
                    <a:pt x="131" y="217"/>
                  </a:moveTo>
                  <a:cubicBezTo>
                    <a:pt x="113" y="271"/>
                    <a:pt x="138" y="212"/>
                    <a:pt x="99" y="257"/>
                  </a:cubicBezTo>
                  <a:cubicBezTo>
                    <a:pt x="34" y="332"/>
                    <a:pt x="97" y="285"/>
                    <a:pt x="43" y="321"/>
                  </a:cubicBezTo>
                  <a:cubicBezTo>
                    <a:pt x="31" y="356"/>
                    <a:pt x="20" y="389"/>
                    <a:pt x="11" y="425"/>
                  </a:cubicBezTo>
                  <a:cubicBezTo>
                    <a:pt x="16" y="563"/>
                    <a:pt x="0" y="603"/>
                    <a:pt x="27" y="697"/>
                  </a:cubicBezTo>
                  <a:cubicBezTo>
                    <a:pt x="48" y="772"/>
                    <a:pt x="102" y="791"/>
                    <a:pt x="163" y="825"/>
                  </a:cubicBezTo>
                  <a:cubicBezTo>
                    <a:pt x="194" y="842"/>
                    <a:pt x="225" y="869"/>
                    <a:pt x="259" y="881"/>
                  </a:cubicBezTo>
                  <a:cubicBezTo>
                    <a:pt x="333" y="908"/>
                    <a:pt x="403" y="901"/>
                    <a:pt x="483" y="905"/>
                  </a:cubicBezTo>
                  <a:cubicBezTo>
                    <a:pt x="527" y="912"/>
                    <a:pt x="567" y="923"/>
                    <a:pt x="611" y="929"/>
                  </a:cubicBezTo>
                  <a:cubicBezTo>
                    <a:pt x="669" y="948"/>
                    <a:pt x="728" y="954"/>
                    <a:pt x="787" y="969"/>
                  </a:cubicBezTo>
                  <a:cubicBezTo>
                    <a:pt x="1013" y="956"/>
                    <a:pt x="905" y="996"/>
                    <a:pt x="947" y="817"/>
                  </a:cubicBezTo>
                  <a:cubicBezTo>
                    <a:pt x="949" y="808"/>
                    <a:pt x="963" y="806"/>
                    <a:pt x="971" y="801"/>
                  </a:cubicBezTo>
                  <a:cubicBezTo>
                    <a:pt x="1015" y="816"/>
                    <a:pt x="1002" y="838"/>
                    <a:pt x="995" y="881"/>
                  </a:cubicBezTo>
                  <a:cubicBezTo>
                    <a:pt x="998" y="908"/>
                    <a:pt x="989" y="938"/>
                    <a:pt x="1003" y="961"/>
                  </a:cubicBezTo>
                  <a:cubicBezTo>
                    <a:pt x="1011" y="976"/>
                    <a:pt x="1034" y="976"/>
                    <a:pt x="1051" y="977"/>
                  </a:cubicBezTo>
                  <a:cubicBezTo>
                    <a:pt x="1128" y="980"/>
                    <a:pt x="1206" y="982"/>
                    <a:pt x="1283" y="985"/>
                  </a:cubicBezTo>
                  <a:cubicBezTo>
                    <a:pt x="1438" y="1024"/>
                    <a:pt x="1588" y="1041"/>
                    <a:pt x="1747" y="1057"/>
                  </a:cubicBezTo>
                  <a:cubicBezTo>
                    <a:pt x="1847" y="1082"/>
                    <a:pt x="1948" y="1086"/>
                    <a:pt x="2051" y="1097"/>
                  </a:cubicBezTo>
                  <a:cubicBezTo>
                    <a:pt x="2099" y="1102"/>
                    <a:pt x="2174" y="1062"/>
                    <a:pt x="2174" y="1062"/>
                  </a:cubicBezTo>
                  <a:cubicBezTo>
                    <a:pt x="2214" y="1070"/>
                    <a:pt x="2267" y="1074"/>
                    <a:pt x="2302" y="1070"/>
                  </a:cubicBezTo>
                  <a:cubicBezTo>
                    <a:pt x="2338" y="1066"/>
                    <a:pt x="2369" y="1084"/>
                    <a:pt x="2403" y="1073"/>
                  </a:cubicBezTo>
                  <a:cubicBezTo>
                    <a:pt x="2428" y="1065"/>
                    <a:pt x="2456" y="1068"/>
                    <a:pt x="2483" y="1065"/>
                  </a:cubicBezTo>
                  <a:cubicBezTo>
                    <a:pt x="2526" y="1054"/>
                    <a:pt x="2576" y="1032"/>
                    <a:pt x="2619" y="1025"/>
                  </a:cubicBezTo>
                  <a:cubicBezTo>
                    <a:pt x="2657" y="1019"/>
                    <a:pt x="2666" y="1019"/>
                    <a:pt x="2699" y="1009"/>
                  </a:cubicBezTo>
                  <a:cubicBezTo>
                    <a:pt x="2725" y="1001"/>
                    <a:pt x="2771" y="969"/>
                    <a:pt x="2771" y="969"/>
                  </a:cubicBezTo>
                  <a:cubicBezTo>
                    <a:pt x="2812" y="907"/>
                    <a:pt x="2797" y="939"/>
                    <a:pt x="2819" y="873"/>
                  </a:cubicBezTo>
                  <a:cubicBezTo>
                    <a:pt x="2822" y="865"/>
                    <a:pt x="2827" y="849"/>
                    <a:pt x="2827" y="849"/>
                  </a:cubicBezTo>
                  <a:cubicBezTo>
                    <a:pt x="2833" y="771"/>
                    <a:pt x="2840" y="694"/>
                    <a:pt x="2851" y="617"/>
                  </a:cubicBezTo>
                  <a:cubicBezTo>
                    <a:pt x="2848" y="544"/>
                    <a:pt x="2879" y="318"/>
                    <a:pt x="2787" y="257"/>
                  </a:cubicBezTo>
                  <a:cubicBezTo>
                    <a:pt x="2767" y="197"/>
                    <a:pt x="2760" y="222"/>
                    <a:pt x="2715" y="177"/>
                  </a:cubicBezTo>
                  <a:cubicBezTo>
                    <a:pt x="2651" y="113"/>
                    <a:pt x="2577" y="86"/>
                    <a:pt x="2491" y="65"/>
                  </a:cubicBezTo>
                  <a:cubicBezTo>
                    <a:pt x="2478" y="68"/>
                    <a:pt x="2453" y="60"/>
                    <a:pt x="2451" y="73"/>
                  </a:cubicBezTo>
                  <a:cubicBezTo>
                    <a:pt x="2438" y="158"/>
                    <a:pt x="2475" y="371"/>
                    <a:pt x="2451" y="225"/>
                  </a:cubicBezTo>
                  <a:cubicBezTo>
                    <a:pt x="2445" y="243"/>
                    <a:pt x="2451" y="269"/>
                    <a:pt x="2435" y="281"/>
                  </a:cubicBezTo>
                  <a:cubicBezTo>
                    <a:pt x="2428" y="286"/>
                    <a:pt x="2419" y="276"/>
                    <a:pt x="2411" y="273"/>
                  </a:cubicBezTo>
                  <a:cubicBezTo>
                    <a:pt x="2400" y="268"/>
                    <a:pt x="2390" y="262"/>
                    <a:pt x="2379" y="257"/>
                  </a:cubicBezTo>
                  <a:cubicBezTo>
                    <a:pt x="2363" y="209"/>
                    <a:pt x="2368" y="252"/>
                    <a:pt x="2395" y="225"/>
                  </a:cubicBezTo>
                  <a:cubicBezTo>
                    <a:pt x="2401" y="219"/>
                    <a:pt x="2400" y="209"/>
                    <a:pt x="2403" y="201"/>
                  </a:cubicBezTo>
                  <a:cubicBezTo>
                    <a:pt x="2395" y="159"/>
                    <a:pt x="2401" y="114"/>
                    <a:pt x="2387" y="73"/>
                  </a:cubicBezTo>
                  <a:cubicBezTo>
                    <a:pt x="2385" y="68"/>
                    <a:pt x="2332" y="59"/>
                    <a:pt x="2315" y="57"/>
                  </a:cubicBezTo>
                  <a:cubicBezTo>
                    <a:pt x="2286" y="54"/>
                    <a:pt x="2256" y="52"/>
                    <a:pt x="2227" y="49"/>
                  </a:cubicBezTo>
                  <a:cubicBezTo>
                    <a:pt x="2064" y="16"/>
                    <a:pt x="2046" y="31"/>
                    <a:pt x="1787" y="25"/>
                  </a:cubicBezTo>
                  <a:cubicBezTo>
                    <a:pt x="1736" y="19"/>
                    <a:pt x="1677" y="7"/>
                    <a:pt x="1627" y="25"/>
                  </a:cubicBezTo>
                  <a:cubicBezTo>
                    <a:pt x="1619" y="28"/>
                    <a:pt x="1633" y="41"/>
                    <a:pt x="1635" y="49"/>
                  </a:cubicBezTo>
                  <a:cubicBezTo>
                    <a:pt x="1655" y="119"/>
                    <a:pt x="1632" y="47"/>
                    <a:pt x="1651" y="105"/>
                  </a:cubicBezTo>
                  <a:cubicBezTo>
                    <a:pt x="1648" y="156"/>
                    <a:pt x="1661" y="210"/>
                    <a:pt x="1643" y="257"/>
                  </a:cubicBezTo>
                  <a:cubicBezTo>
                    <a:pt x="1637" y="272"/>
                    <a:pt x="1605" y="261"/>
                    <a:pt x="1595" y="249"/>
                  </a:cubicBezTo>
                  <a:cubicBezTo>
                    <a:pt x="1586" y="239"/>
                    <a:pt x="1599" y="222"/>
                    <a:pt x="1603" y="209"/>
                  </a:cubicBezTo>
                  <a:cubicBezTo>
                    <a:pt x="1607" y="193"/>
                    <a:pt x="1619" y="161"/>
                    <a:pt x="1619" y="161"/>
                  </a:cubicBezTo>
                  <a:cubicBezTo>
                    <a:pt x="1616" y="153"/>
                    <a:pt x="1612" y="145"/>
                    <a:pt x="1611" y="137"/>
                  </a:cubicBezTo>
                  <a:cubicBezTo>
                    <a:pt x="1607" y="108"/>
                    <a:pt x="1612" y="77"/>
                    <a:pt x="1603" y="49"/>
                  </a:cubicBezTo>
                  <a:cubicBezTo>
                    <a:pt x="1600" y="40"/>
                    <a:pt x="1563" y="26"/>
                    <a:pt x="1555" y="25"/>
                  </a:cubicBezTo>
                  <a:cubicBezTo>
                    <a:pt x="1488" y="20"/>
                    <a:pt x="1422" y="20"/>
                    <a:pt x="1355" y="17"/>
                  </a:cubicBezTo>
                  <a:cubicBezTo>
                    <a:pt x="1231" y="0"/>
                    <a:pt x="948" y="13"/>
                    <a:pt x="827" y="17"/>
                  </a:cubicBezTo>
                  <a:cubicBezTo>
                    <a:pt x="706" y="21"/>
                    <a:pt x="652" y="26"/>
                    <a:pt x="627" y="41"/>
                  </a:cubicBezTo>
                  <a:cubicBezTo>
                    <a:pt x="640" y="93"/>
                    <a:pt x="647" y="63"/>
                    <a:pt x="675" y="105"/>
                  </a:cubicBezTo>
                  <a:cubicBezTo>
                    <a:pt x="672" y="113"/>
                    <a:pt x="672" y="122"/>
                    <a:pt x="667" y="129"/>
                  </a:cubicBezTo>
                  <a:cubicBezTo>
                    <a:pt x="661" y="137"/>
                    <a:pt x="642" y="135"/>
                    <a:pt x="643" y="145"/>
                  </a:cubicBezTo>
                  <a:cubicBezTo>
                    <a:pt x="645" y="164"/>
                    <a:pt x="675" y="193"/>
                    <a:pt x="675" y="193"/>
                  </a:cubicBezTo>
                  <a:cubicBezTo>
                    <a:pt x="647" y="236"/>
                    <a:pt x="608" y="226"/>
                    <a:pt x="563" y="217"/>
                  </a:cubicBezTo>
                  <a:cubicBezTo>
                    <a:pt x="549" y="174"/>
                    <a:pt x="551" y="172"/>
                    <a:pt x="595" y="161"/>
                  </a:cubicBezTo>
                  <a:cubicBezTo>
                    <a:pt x="587" y="129"/>
                    <a:pt x="576" y="113"/>
                    <a:pt x="587" y="81"/>
                  </a:cubicBezTo>
                  <a:cubicBezTo>
                    <a:pt x="569" y="26"/>
                    <a:pt x="585" y="48"/>
                    <a:pt x="475" y="65"/>
                  </a:cubicBezTo>
                  <a:cubicBezTo>
                    <a:pt x="426" y="73"/>
                    <a:pt x="380" y="103"/>
                    <a:pt x="331" y="113"/>
                  </a:cubicBezTo>
                  <a:cubicBezTo>
                    <a:pt x="316" y="116"/>
                    <a:pt x="283" y="121"/>
                    <a:pt x="267" y="129"/>
                  </a:cubicBezTo>
                  <a:cubicBezTo>
                    <a:pt x="230" y="148"/>
                    <a:pt x="195" y="172"/>
                    <a:pt x="155" y="185"/>
                  </a:cubicBezTo>
                  <a:cubicBezTo>
                    <a:pt x="150" y="193"/>
                    <a:pt x="143" y="200"/>
                    <a:pt x="139" y="209"/>
                  </a:cubicBezTo>
                  <a:cubicBezTo>
                    <a:pt x="129" y="228"/>
                    <a:pt x="131" y="248"/>
                    <a:pt x="131" y="217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80920" y="1450800"/>
              <a:ext cx="2898360" cy="944640"/>
            </a:xfrm>
            <a:custGeom>
              <a:avLst/>
              <a:gdLst/>
              <a:ahLst/>
              <a:rect l="l" t="t" r="r" b="b"/>
              <a:pathLst>
                <a:path w="1826" h="595">
                  <a:moveTo>
                    <a:pt x="352" y="56"/>
                  </a:moveTo>
                  <a:cubicBezTo>
                    <a:pt x="142" y="63"/>
                    <a:pt x="161" y="50"/>
                    <a:pt x="40" y="80"/>
                  </a:cubicBezTo>
                  <a:cubicBezTo>
                    <a:pt x="32" y="85"/>
                    <a:pt x="21" y="88"/>
                    <a:pt x="16" y="96"/>
                  </a:cubicBezTo>
                  <a:cubicBezTo>
                    <a:pt x="7" y="110"/>
                    <a:pt x="0" y="144"/>
                    <a:pt x="0" y="144"/>
                  </a:cubicBezTo>
                  <a:cubicBezTo>
                    <a:pt x="3" y="173"/>
                    <a:pt x="2" y="203"/>
                    <a:pt x="8" y="232"/>
                  </a:cubicBezTo>
                  <a:cubicBezTo>
                    <a:pt x="15" y="264"/>
                    <a:pt x="27" y="252"/>
                    <a:pt x="48" y="264"/>
                  </a:cubicBezTo>
                  <a:cubicBezTo>
                    <a:pt x="140" y="315"/>
                    <a:pt x="47" y="292"/>
                    <a:pt x="192" y="304"/>
                  </a:cubicBezTo>
                  <a:cubicBezTo>
                    <a:pt x="197" y="312"/>
                    <a:pt x="204" y="319"/>
                    <a:pt x="208" y="328"/>
                  </a:cubicBezTo>
                  <a:cubicBezTo>
                    <a:pt x="215" y="343"/>
                    <a:pt x="224" y="376"/>
                    <a:pt x="224" y="376"/>
                  </a:cubicBezTo>
                  <a:cubicBezTo>
                    <a:pt x="245" y="373"/>
                    <a:pt x="270" y="380"/>
                    <a:pt x="288" y="368"/>
                  </a:cubicBezTo>
                  <a:cubicBezTo>
                    <a:pt x="310" y="353"/>
                    <a:pt x="299" y="312"/>
                    <a:pt x="320" y="296"/>
                  </a:cubicBezTo>
                  <a:cubicBezTo>
                    <a:pt x="327" y="291"/>
                    <a:pt x="336" y="291"/>
                    <a:pt x="344" y="288"/>
                  </a:cubicBezTo>
                  <a:cubicBezTo>
                    <a:pt x="435" y="294"/>
                    <a:pt x="512" y="307"/>
                    <a:pt x="600" y="320"/>
                  </a:cubicBezTo>
                  <a:cubicBezTo>
                    <a:pt x="646" y="350"/>
                    <a:pt x="692" y="391"/>
                    <a:pt x="744" y="408"/>
                  </a:cubicBezTo>
                  <a:cubicBezTo>
                    <a:pt x="781" y="405"/>
                    <a:pt x="825" y="421"/>
                    <a:pt x="856" y="400"/>
                  </a:cubicBezTo>
                  <a:cubicBezTo>
                    <a:pt x="874" y="388"/>
                    <a:pt x="848" y="357"/>
                    <a:pt x="848" y="336"/>
                  </a:cubicBezTo>
                  <a:cubicBezTo>
                    <a:pt x="848" y="255"/>
                    <a:pt x="869" y="287"/>
                    <a:pt x="960" y="280"/>
                  </a:cubicBezTo>
                  <a:cubicBezTo>
                    <a:pt x="976" y="275"/>
                    <a:pt x="992" y="269"/>
                    <a:pt x="1008" y="264"/>
                  </a:cubicBezTo>
                  <a:cubicBezTo>
                    <a:pt x="1016" y="261"/>
                    <a:pt x="1032" y="256"/>
                    <a:pt x="1032" y="256"/>
                  </a:cubicBezTo>
                  <a:cubicBezTo>
                    <a:pt x="1089" y="275"/>
                    <a:pt x="1066" y="263"/>
                    <a:pt x="1104" y="288"/>
                  </a:cubicBezTo>
                  <a:cubicBezTo>
                    <a:pt x="1109" y="296"/>
                    <a:pt x="1117" y="303"/>
                    <a:pt x="1120" y="312"/>
                  </a:cubicBezTo>
                  <a:cubicBezTo>
                    <a:pt x="1128" y="335"/>
                    <a:pt x="1119" y="366"/>
                    <a:pt x="1136" y="384"/>
                  </a:cubicBezTo>
                  <a:cubicBezTo>
                    <a:pt x="1151" y="400"/>
                    <a:pt x="1179" y="393"/>
                    <a:pt x="1200" y="400"/>
                  </a:cubicBezTo>
                  <a:cubicBezTo>
                    <a:pt x="1216" y="405"/>
                    <a:pt x="1248" y="416"/>
                    <a:pt x="1248" y="416"/>
                  </a:cubicBezTo>
                  <a:cubicBezTo>
                    <a:pt x="1275" y="456"/>
                    <a:pt x="1269" y="505"/>
                    <a:pt x="1328" y="512"/>
                  </a:cubicBezTo>
                  <a:cubicBezTo>
                    <a:pt x="1365" y="516"/>
                    <a:pt x="1403" y="517"/>
                    <a:pt x="1440" y="520"/>
                  </a:cubicBezTo>
                  <a:cubicBezTo>
                    <a:pt x="1456" y="517"/>
                    <a:pt x="1472" y="516"/>
                    <a:pt x="1488" y="512"/>
                  </a:cubicBezTo>
                  <a:cubicBezTo>
                    <a:pt x="1504" y="508"/>
                    <a:pt x="1536" y="496"/>
                    <a:pt x="1536" y="496"/>
                  </a:cubicBezTo>
                  <a:cubicBezTo>
                    <a:pt x="1583" y="512"/>
                    <a:pt x="1584" y="539"/>
                    <a:pt x="1624" y="552"/>
                  </a:cubicBezTo>
                  <a:cubicBezTo>
                    <a:pt x="1667" y="595"/>
                    <a:pt x="1676" y="584"/>
                    <a:pt x="1744" y="576"/>
                  </a:cubicBezTo>
                  <a:cubicBezTo>
                    <a:pt x="1769" y="538"/>
                    <a:pt x="1754" y="567"/>
                    <a:pt x="1768" y="520"/>
                  </a:cubicBezTo>
                  <a:cubicBezTo>
                    <a:pt x="1773" y="504"/>
                    <a:pt x="1784" y="472"/>
                    <a:pt x="1784" y="472"/>
                  </a:cubicBezTo>
                  <a:cubicBezTo>
                    <a:pt x="1774" y="433"/>
                    <a:pt x="1761" y="422"/>
                    <a:pt x="1728" y="400"/>
                  </a:cubicBezTo>
                  <a:cubicBezTo>
                    <a:pt x="1723" y="392"/>
                    <a:pt x="1712" y="386"/>
                    <a:pt x="1712" y="376"/>
                  </a:cubicBezTo>
                  <a:cubicBezTo>
                    <a:pt x="1712" y="333"/>
                    <a:pt x="1759" y="286"/>
                    <a:pt x="1792" y="264"/>
                  </a:cubicBezTo>
                  <a:cubicBezTo>
                    <a:pt x="1803" y="248"/>
                    <a:pt x="1826" y="235"/>
                    <a:pt x="1824" y="216"/>
                  </a:cubicBezTo>
                  <a:cubicBezTo>
                    <a:pt x="1816" y="144"/>
                    <a:pt x="1806" y="97"/>
                    <a:pt x="1744" y="56"/>
                  </a:cubicBezTo>
                  <a:cubicBezTo>
                    <a:pt x="1718" y="17"/>
                    <a:pt x="1691" y="14"/>
                    <a:pt x="1648" y="0"/>
                  </a:cubicBezTo>
                  <a:cubicBezTo>
                    <a:pt x="1629" y="3"/>
                    <a:pt x="1610" y="1"/>
                    <a:pt x="1592" y="8"/>
                  </a:cubicBezTo>
                  <a:cubicBezTo>
                    <a:pt x="1574" y="15"/>
                    <a:pt x="1544" y="40"/>
                    <a:pt x="1544" y="40"/>
                  </a:cubicBezTo>
                  <a:cubicBezTo>
                    <a:pt x="1534" y="55"/>
                    <a:pt x="1530" y="73"/>
                    <a:pt x="1520" y="88"/>
                  </a:cubicBezTo>
                  <a:cubicBezTo>
                    <a:pt x="1497" y="123"/>
                    <a:pt x="1456" y="131"/>
                    <a:pt x="1424" y="152"/>
                  </a:cubicBezTo>
                  <a:cubicBezTo>
                    <a:pt x="1325" y="149"/>
                    <a:pt x="1225" y="161"/>
                    <a:pt x="1128" y="144"/>
                  </a:cubicBezTo>
                  <a:cubicBezTo>
                    <a:pt x="1109" y="141"/>
                    <a:pt x="1107" y="112"/>
                    <a:pt x="1096" y="96"/>
                  </a:cubicBezTo>
                  <a:cubicBezTo>
                    <a:pt x="1086" y="81"/>
                    <a:pt x="1037" y="75"/>
                    <a:pt x="1024" y="72"/>
                  </a:cubicBezTo>
                  <a:cubicBezTo>
                    <a:pt x="899" y="79"/>
                    <a:pt x="781" y="97"/>
                    <a:pt x="656" y="104"/>
                  </a:cubicBezTo>
                  <a:cubicBezTo>
                    <a:pt x="630" y="113"/>
                    <a:pt x="600" y="123"/>
                    <a:pt x="576" y="136"/>
                  </a:cubicBezTo>
                  <a:cubicBezTo>
                    <a:pt x="559" y="145"/>
                    <a:pt x="528" y="168"/>
                    <a:pt x="528" y="168"/>
                  </a:cubicBezTo>
                  <a:cubicBezTo>
                    <a:pt x="515" y="208"/>
                    <a:pt x="487" y="227"/>
                    <a:pt x="448" y="240"/>
                  </a:cubicBezTo>
                  <a:cubicBezTo>
                    <a:pt x="442" y="223"/>
                    <a:pt x="428" y="210"/>
                    <a:pt x="424" y="192"/>
                  </a:cubicBezTo>
                  <a:cubicBezTo>
                    <a:pt x="418" y="161"/>
                    <a:pt x="433" y="123"/>
                    <a:pt x="416" y="96"/>
                  </a:cubicBezTo>
                  <a:cubicBezTo>
                    <a:pt x="406" y="80"/>
                    <a:pt x="379" y="91"/>
                    <a:pt x="360" y="88"/>
                  </a:cubicBezTo>
                  <a:cubicBezTo>
                    <a:pt x="351" y="61"/>
                    <a:pt x="352" y="72"/>
                    <a:pt x="352" y="56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1197000" y="3635280"/>
            <a:ext cx="4968720" cy="3529080"/>
            <a:chOff x="1197000" y="3635280"/>
            <a:chExt cx="4968720" cy="3529080"/>
          </a:xfrm>
        </p:grpSpPr>
        <p:sp>
          <p:nvSpPr>
            <p:cNvPr id="53" name=""/>
            <p:cNvSpPr/>
            <p:nvPr/>
          </p:nvSpPr>
          <p:spPr>
            <a:xfrm>
              <a:off x="1197000" y="3635280"/>
              <a:ext cx="4968720" cy="3529080"/>
            </a:xfrm>
            <a:custGeom>
              <a:avLst/>
              <a:gdLst/>
              <a:ahLst/>
              <a:rect l="l" t="t" r="r" b="b"/>
              <a:pathLst>
                <a:path w="3296" h="2641">
                  <a:moveTo>
                    <a:pt x="528" y="0"/>
                  </a:moveTo>
                  <a:cubicBezTo>
                    <a:pt x="557" y="19"/>
                    <a:pt x="586" y="17"/>
                    <a:pt x="616" y="32"/>
                  </a:cubicBezTo>
                  <a:cubicBezTo>
                    <a:pt x="644" y="46"/>
                    <a:pt x="659" y="75"/>
                    <a:pt x="688" y="88"/>
                  </a:cubicBezTo>
                  <a:cubicBezTo>
                    <a:pt x="713" y="99"/>
                    <a:pt x="741" y="105"/>
                    <a:pt x="768" y="112"/>
                  </a:cubicBezTo>
                  <a:cubicBezTo>
                    <a:pt x="899" y="107"/>
                    <a:pt x="1017" y="101"/>
                    <a:pt x="1144" y="80"/>
                  </a:cubicBezTo>
                  <a:cubicBezTo>
                    <a:pt x="1303" y="86"/>
                    <a:pt x="1428" y="105"/>
                    <a:pt x="1584" y="112"/>
                  </a:cubicBezTo>
                  <a:cubicBezTo>
                    <a:pt x="1636" y="129"/>
                    <a:pt x="1650" y="179"/>
                    <a:pt x="1696" y="200"/>
                  </a:cubicBezTo>
                  <a:cubicBezTo>
                    <a:pt x="1830" y="262"/>
                    <a:pt x="1964" y="251"/>
                    <a:pt x="2112" y="256"/>
                  </a:cubicBezTo>
                  <a:cubicBezTo>
                    <a:pt x="2130" y="283"/>
                    <a:pt x="2136" y="304"/>
                    <a:pt x="2144" y="336"/>
                  </a:cubicBezTo>
                  <a:cubicBezTo>
                    <a:pt x="2147" y="365"/>
                    <a:pt x="2148" y="395"/>
                    <a:pt x="2152" y="424"/>
                  </a:cubicBezTo>
                  <a:cubicBezTo>
                    <a:pt x="2153" y="432"/>
                    <a:pt x="2153" y="443"/>
                    <a:pt x="2160" y="448"/>
                  </a:cubicBezTo>
                  <a:cubicBezTo>
                    <a:pt x="2195" y="473"/>
                    <a:pt x="2256" y="470"/>
                    <a:pt x="2296" y="480"/>
                  </a:cubicBezTo>
                  <a:cubicBezTo>
                    <a:pt x="2344" y="512"/>
                    <a:pt x="2463" y="581"/>
                    <a:pt x="2520" y="584"/>
                  </a:cubicBezTo>
                  <a:cubicBezTo>
                    <a:pt x="2597" y="589"/>
                    <a:pt x="2675" y="589"/>
                    <a:pt x="2752" y="592"/>
                  </a:cubicBezTo>
                  <a:cubicBezTo>
                    <a:pt x="2784" y="603"/>
                    <a:pt x="2816" y="607"/>
                    <a:pt x="2848" y="616"/>
                  </a:cubicBezTo>
                  <a:cubicBezTo>
                    <a:pt x="2864" y="620"/>
                    <a:pt x="2880" y="627"/>
                    <a:pt x="2896" y="632"/>
                  </a:cubicBezTo>
                  <a:cubicBezTo>
                    <a:pt x="2904" y="635"/>
                    <a:pt x="2920" y="640"/>
                    <a:pt x="2920" y="640"/>
                  </a:cubicBezTo>
                  <a:cubicBezTo>
                    <a:pt x="2965" y="707"/>
                    <a:pt x="2943" y="739"/>
                    <a:pt x="2952" y="840"/>
                  </a:cubicBezTo>
                  <a:cubicBezTo>
                    <a:pt x="2955" y="873"/>
                    <a:pt x="2998" y="911"/>
                    <a:pt x="3024" y="928"/>
                  </a:cubicBezTo>
                  <a:cubicBezTo>
                    <a:pt x="3053" y="1016"/>
                    <a:pt x="3007" y="883"/>
                    <a:pt x="3048" y="976"/>
                  </a:cubicBezTo>
                  <a:cubicBezTo>
                    <a:pt x="3071" y="1029"/>
                    <a:pt x="3079" y="1073"/>
                    <a:pt x="3128" y="1112"/>
                  </a:cubicBezTo>
                  <a:cubicBezTo>
                    <a:pt x="3241" y="1202"/>
                    <a:pt x="3133" y="1115"/>
                    <a:pt x="3200" y="1152"/>
                  </a:cubicBezTo>
                  <a:cubicBezTo>
                    <a:pt x="3217" y="1161"/>
                    <a:pt x="3248" y="1184"/>
                    <a:pt x="3248" y="1184"/>
                  </a:cubicBezTo>
                  <a:cubicBezTo>
                    <a:pt x="3278" y="1305"/>
                    <a:pt x="3276" y="1158"/>
                    <a:pt x="3264" y="1392"/>
                  </a:cubicBezTo>
                  <a:cubicBezTo>
                    <a:pt x="3269" y="1452"/>
                    <a:pt x="3270" y="1491"/>
                    <a:pt x="3288" y="1544"/>
                  </a:cubicBezTo>
                  <a:cubicBezTo>
                    <a:pt x="3267" y="1629"/>
                    <a:pt x="3296" y="1529"/>
                    <a:pt x="3264" y="1600"/>
                  </a:cubicBezTo>
                  <a:cubicBezTo>
                    <a:pt x="3247" y="1638"/>
                    <a:pt x="3237" y="1681"/>
                    <a:pt x="3224" y="1720"/>
                  </a:cubicBezTo>
                  <a:cubicBezTo>
                    <a:pt x="3220" y="1731"/>
                    <a:pt x="3207" y="1735"/>
                    <a:pt x="3200" y="1744"/>
                  </a:cubicBezTo>
                  <a:cubicBezTo>
                    <a:pt x="3181" y="1767"/>
                    <a:pt x="3181" y="1801"/>
                    <a:pt x="3152" y="1816"/>
                  </a:cubicBezTo>
                  <a:cubicBezTo>
                    <a:pt x="3130" y="1827"/>
                    <a:pt x="3081" y="1834"/>
                    <a:pt x="3056" y="1840"/>
                  </a:cubicBezTo>
                  <a:cubicBezTo>
                    <a:pt x="2982" y="1889"/>
                    <a:pt x="2954" y="1877"/>
                    <a:pt x="2872" y="1904"/>
                  </a:cubicBezTo>
                  <a:cubicBezTo>
                    <a:pt x="2866" y="1921"/>
                    <a:pt x="2851" y="1934"/>
                    <a:pt x="2848" y="1952"/>
                  </a:cubicBezTo>
                  <a:cubicBezTo>
                    <a:pt x="2841" y="1989"/>
                    <a:pt x="2849" y="2028"/>
                    <a:pt x="2840" y="2064"/>
                  </a:cubicBezTo>
                  <a:cubicBezTo>
                    <a:pt x="2837" y="2075"/>
                    <a:pt x="2823" y="2079"/>
                    <a:pt x="2816" y="2088"/>
                  </a:cubicBezTo>
                  <a:cubicBezTo>
                    <a:pt x="2798" y="2111"/>
                    <a:pt x="2784" y="2136"/>
                    <a:pt x="2768" y="2160"/>
                  </a:cubicBezTo>
                  <a:cubicBezTo>
                    <a:pt x="2759" y="2174"/>
                    <a:pt x="2757" y="2192"/>
                    <a:pt x="2752" y="2208"/>
                  </a:cubicBezTo>
                  <a:cubicBezTo>
                    <a:pt x="2735" y="2258"/>
                    <a:pt x="2717" y="2314"/>
                    <a:pt x="2672" y="2344"/>
                  </a:cubicBezTo>
                  <a:cubicBezTo>
                    <a:pt x="2613" y="2433"/>
                    <a:pt x="2627" y="2540"/>
                    <a:pt x="2496" y="2560"/>
                  </a:cubicBezTo>
                  <a:cubicBezTo>
                    <a:pt x="2472" y="2564"/>
                    <a:pt x="2448" y="2565"/>
                    <a:pt x="2424" y="2568"/>
                  </a:cubicBezTo>
                  <a:cubicBezTo>
                    <a:pt x="1820" y="2558"/>
                    <a:pt x="2094" y="2641"/>
                    <a:pt x="1888" y="2504"/>
                  </a:cubicBezTo>
                  <a:cubicBezTo>
                    <a:pt x="1801" y="2374"/>
                    <a:pt x="1927" y="2580"/>
                    <a:pt x="1848" y="2320"/>
                  </a:cubicBezTo>
                  <a:cubicBezTo>
                    <a:pt x="1835" y="2278"/>
                    <a:pt x="1756" y="2244"/>
                    <a:pt x="1720" y="2232"/>
                  </a:cubicBezTo>
                  <a:cubicBezTo>
                    <a:pt x="1653" y="2235"/>
                    <a:pt x="1586" y="2234"/>
                    <a:pt x="1520" y="2240"/>
                  </a:cubicBezTo>
                  <a:cubicBezTo>
                    <a:pt x="1503" y="2242"/>
                    <a:pt x="1488" y="2251"/>
                    <a:pt x="1472" y="2256"/>
                  </a:cubicBezTo>
                  <a:cubicBezTo>
                    <a:pt x="1426" y="2271"/>
                    <a:pt x="1375" y="2271"/>
                    <a:pt x="1328" y="2280"/>
                  </a:cubicBezTo>
                  <a:cubicBezTo>
                    <a:pt x="1165" y="2277"/>
                    <a:pt x="1002" y="2290"/>
                    <a:pt x="840" y="2272"/>
                  </a:cubicBezTo>
                  <a:cubicBezTo>
                    <a:pt x="815" y="2269"/>
                    <a:pt x="816" y="2200"/>
                    <a:pt x="816" y="2200"/>
                  </a:cubicBezTo>
                  <a:cubicBezTo>
                    <a:pt x="805" y="2121"/>
                    <a:pt x="811" y="2141"/>
                    <a:pt x="736" y="2128"/>
                  </a:cubicBezTo>
                  <a:cubicBezTo>
                    <a:pt x="662" y="2079"/>
                    <a:pt x="568" y="2094"/>
                    <a:pt x="488" y="2064"/>
                  </a:cubicBezTo>
                  <a:cubicBezTo>
                    <a:pt x="419" y="2038"/>
                    <a:pt x="357" y="2001"/>
                    <a:pt x="296" y="1960"/>
                  </a:cubicBezTo>
                  <a:cubicBezTo>
                    <a:pt x="265" y="1940"/>
                    <a:pt x="220" y="1940"/>
                    <a:pt x="184" y="1928"/>
                  </a:cubicBezTo>
                  <a:cubicBezTo>
                    <a:pt x="142" y="1886"/>
                    <a:pt x="113" y="1833"/>
                    <a:pt x="80" y="1784"/>
                  </a:cubicBezTo>
                  <a:cubicBezTo>
                    <a:pt x="69" y="1768"/>
                    <a:pt x="59" y="1752"/>
                    <a:pt x="48" y="1736"/>
                  </a:cubicBezTo>
                  <a:cubicBezTo>
                    <a:pt x="43" y="1728"/>
                    <a:pt x="32" y="1712"/>
                    <a:pt x="32" y="1712"/>
                  </a:cubicBezTo>
                  <a:cubicBezTo>
                    <a:pt x="37" y="1624"/>
                    <a:pt x="31" y="1506"/>
                    <a:pt x="136" y="1480"/>
                  </a:cubicBezTo>
                  <a:cubicBezTo>
                    <a:pt x="236" y="1414"/>
                    <a:pt x="178" y="1326"/>
                    <a:pt x="88" y="1296"/>
                  </a:cubicBezTo>
                  <a:cubicBezTo>
                    <a:pt x="50" y="1258"/>
                    <a:pt x="33" y="1226"/>
                    <a:pt x="16" y="1176"/>
                  </a:cubicBezTo>
                  <a:cubicBezTo>
                    <a:pt x="11" y="1160"/>
                    <a:pt x="0" y="1128"/>
                    <a:pt x="0" y="1128"/>
                  </a:cubicBezTo>
                  <a:cubicBezTo>
                    <a:pt x="3" y="1035"/>
                    <a:pt x="3" y="941"/>
                    <a:pt x="8" y="848"/>
                  </a:cubicBezTo>
                  <a:cubicBezTo>
                    <a:pt x="11" y="800"/>
                    <a:pt x="61" y="763"/>
                    <a:pt x="88" y="728"/>
                  </a:cubicBezTo>
                  <a:cubicBezTo>
                    <a:pt x="130" y="674"/>
                    <a:pt x="167" y="618"/>
                    <a:pt x="184" y="552"/>
                  </a:cubicBezTo>
                  <a:cubicBezTo>
                    <a:pt x="172" y="504"/>
                    <a:pt x="179" y="530"/>
                    <a:pt x="160" y="472"/>
                  </a:cubicBezTo>
                  <a:cubicBezTo>
                    <a:pt x="157" y="464"/>
                    <a:pt x="152" y="448"/>
                    <a:pt x="152" y="448"/>
                  </a:cubicBezTo>
                  <a:cubicBezTo>
                    <a:pt x="158" y="390"/>
                    <a:pt x="172" y="343"/>
                    <a:pt x="184" y="288"/>
                  </a:cubicBezTo>
                  <a:cubicBezTo>
                    <a:pt x="191" y="255"/>
                    <a:pt x="190" y="218"/>
                    <a:pt x="216" y="192"/>
                  </a:cubicBezTo>
                  <a:cubicBezTo>
                    <a:pt x="226" y="182"/>
                    <a:pt x="258" y="161"/>
                    <a:pt x="272" y="152"/>
                  </a:cubicBezTo>
                  <a:cubicBezTo>
                    <a:pt x="281" y="139"/>
                    <a:pt x="329" y="65"/>
                    <a:pt x="344" y="56"/>
                  </a:cubicBezTo>
                  <a:cubicBezTo>
                    <a:pt x="387" y="29"/>
                    <a:pt x="492" y="34"/>
                    <a:pt x="520" y="32"/>
                  </a:cubicBezTo>
                  <a:cubicBezTo>
                    <a:pt x="538" y="5"/>
                    <a:pt x="543" y="15"/>
                    <a:pt x="528" y="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17360" y="4244760"/>
              <a:ext cx="1717560" cy="2070000"/>
            </a:xfrm>
            <a:custGeom>
              <a:avLst/>
              <a:gdLst/>
              <a:ahLst/>
              <a:rect l="l" t="t" r="r" b="b"/>
              <a:pathLst>
                <a:path w="1082" h="1304">
                  <a:moveTo>
                    <a:pt x="302" y="64"/>
                  </a:moveTo>
                  <a:cubicBezTo>
                    <a:pt x="249" y="67"/>
                    <a:pt x="195" y="63"/>
                    <a:pt x="142" y="72"/>
                  </a:cubicBezTo>
                  <a:cubicBezTo>
                    <a:pt x="116" y="77"/>
                    <a:pt x="103" y="125"/>
                    <a:pt x="94" y="144"/>
                  </a:cubicBezTo>
                  <a:cubicBezTo>
                    <a:pt x="68" y="196"/>
                    <a:pt x="49" y="248"/>
                    <a:pt x="30" y="304"/>
                  </a:cubicBezTo>
                  <a:cubicBezTo>
                    <a:pt x="26" y="462"/>
                    <a:pt x="25" y="606"/>
                    <a:pt x="6" y="760"/>
                  </a:cubicBezTo>
                  <a:cubicBezTo>
                    <a:pt x="9" y="816"/>
                    <a:pt x="0" y="874"/>
                    <a:pt x="14" y="928"/>
                  </a:cubicBezTo>
                  <a:cubicBezTo>
                    <a:pt x="20" y="950"/>
                    <a:pt x="49" y="957"/>
                    <a:pt x="62" y="976"/>
                  </a:cubicBezTo>
                  <a:cubicBezTo>
                    <a:pt x="100" y="1033"/>
                    <a:pt x="80" y="1010"/>
                    <a:pt x="118" y="1048"/>
                  </a:cubicBezTo>
                  <a:cubicBezTo>
                    <a:pt x="123" y="1064"/>
                    <a:pt x="120" y="1087"/>
                    <a:pt x="134" y="1096"/>
                  </a:cubicBezTo>
                  <a:cubicBezTo>
                    <a:pt x="177" y="1124"/>
                    <a:pt x="212" y="1156"/>
                    <a:pt x="262" y="1168"/>
                  </a:cubicBezTo>
                  <a:cubicBezTo>
                    <a:pt x="286" y="1184"/>
                    <a:pt x="310" y="1192"/>
                    <a:pt x="334" y="1208"/>
                  </a:cubicBezTo>
                  <a:cubicBezTo>
                    <a:pt x="365" y="1254"/>
                    <a:pt x="418" y="1287"/>
                    <a:pt x="470" y="1304"/>
                  </a:cubicBezTo>
                  <a:cubicBezTo>
                    <a:pt x="600" y="1296"/>
                    <a:pt x="697" y="1278"/>
                    <a:pt x="830" y="1272"/>
                  </a:cubicBezTo>
                  <a:cubicBezTo>
                    <a:pt x="859" y="1243"/>
                    <a:pt x="887" y="1210"/>
                    <a:pt x="910" y="1176"/>
                  </a:cubicBezTo>
                  <a:cubicBezTo>
                    <a:pt x="907" y="1091"/>
                    <a:pt x="992" y="1093"/>
                    <a:pt x="982" y="1008"/>
                  </a:cubicBezTo>
                  <a:cubicBezTo>
                    <a:pt x="981" y="997"/>
                    <a:pt x="1005" y="961"/>
                    <a:pt x="998" y="952"/>
                  </a:cubicBezTo>
                  <a:cubicBezTo>
                    <a:pt x="986" y="937"/>
                    <a:pt x="985" y="944"/>
                    <a:pt x="974" y="928"/>
                  </a:cubicBezTo>
                  <a:cubicBezTo>
                    <a:pt x="969" y="920"/>
                    <a:pt x="1014" y="896"/>
                    <a:pt x="1014" y="896"/>
                  </a:cubicBezTo>
                  <a:cubicBezTo>
                    <a:pt x="1004" y="855"/>
                    <a:pt x="1047" y="902"/>
                    <a:pt x="1030" y="864"/>
                  </a:cubicBezTo>
                  <a:cubicBezTo>
                    <a:pt x="1023" y="849"/>
                    <a:pt x="1067" y="816"/>
                    <a:pt x="1062" y="800"/>
                  </a:cubicBezTo>
                  <a:cubicBezTo>
                    <a:pt x="1059" y="792"/>
                    <a:pt x="1070" y="728"/>
                    <a:pt x="1070" y="728"/>
                  </a:cubicBezTo>
                  <a:cubicBezTo>
                    <a:pt x="1074" y="698"/>
                    <a:pt x="1049" y="685"/>
                    <a:pt x="1070" y="664"/>
                  </a:cubicBezTo>
                  <a:cubicBezTo>
                    <a:pt x="1078" y="656"/>
                    <a:pt x="1056" y="558"/>
                    <a:pt x="1070" y="544"/>
                  </a:cubicBezTo>
                  <a:cubicBezTo>
                    <a:pt x="1082" y="507"/>
                    <a:pt x="882" y="429"/>
                    <a:pt x="894" y="392"/>
                  </a:cubicBezTo>
                  <a:cubicBezTo>
                    <a:pt x="897" y="368"/>
                    <a:pt x="902" y="344"/>
                    <a:pt x="902" y="320"/>
                  </a:cubicBezTo>
                  <a:cubicBezTo>
                    <a:pt x="902" y="272"/>
                    <a:pt x="898" y="224"/>
                    <a:pt x="894" y="176"/>
                  </a:cubicBezTo>
                  <a:cubicBezTo>
                    <a:pt x="882" y="41"/>
                    <a:pt x="674" y="59"/>
                    <a:pt x="598" y="56"/>
                  </a:cubicBezTo>
                  <a:cubicBezTo>
                    <a:pt x="533" y="34"/>
                    <a:pt x="465" y="13"/>
                    <a:pt x="398" y="0"/>
                  </a:cubicBezTo>
                  <a:cubicBezTo>
                    <a:pt x="369" y="6"/>
                    <a:pt x="355" y="3"/>
                    <a:pt x="334" y="24"/>
                  </a:cubicBezTo>
                  <a:cubicBezTo>
                    <a:pt x="327" y="31"/>
                    <a:pt x="326" y="42"/>
                    <a:pt x="318" y="48"/>
                  </a:cubicBezTo>
                  <a:cubicBezTo>
                    <a:pt x="302" y="61"/>
                    <a:pt x="259" y="56"/>
                    <a:pt x="246" y="56"/>
                  </a:cubicBez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9000" y="4356000"/>
              <a:ext cx="1652040" cy="1895400"/>
            </a:xfrm>
            <a:custGeom>
              <a:avLst/>
              <a:gdLst/>
              <a:ahLst/>
              <a:rect l="l" t="t" r="r" b="b"/>
              <a:pathLst>
                <a:path w="1041" h="1194">
                  <a:moveTo>
                    <a:pt x="0" y="250"/>
                  </a:moveTo>
                  <a:cubicBezTo>
                    <a:pt x="26" y="241"/>
                    <a:pt x="46" y="227"/>
                    <a:pt x="72" y="218"/>
                  </a:cubicBezTo>
                  <a:cubicBezTo>
                    <a:pt x="146" y="230"/>
                    <a:pt x="131" y="231"/>
                    <a:pt x="120" y="306"/>
                  </a:cubicBezTo>
                  <a:cubicBezTo>
                    <a:pt x="123" y="359"/>
                    <a:pt x="112" y="415"/>
                    <a:pt x="128" y="466"/>
                  </a:cubicBezTo>
                  <a:cubicBezTo>
                    <a:pt x="133" y="482"/>
                    <a:pt x="176" y="482"/>
                    <a:pt x="176" y="482"/>
                  </a:cubicBezTo>
                  <a:cubicBezTo>
                    <a:pt x="213" y="479"/>
                    <a:pt x="252" y="483"/>
                    <a:pt x="288" y="474"/>
                  </a:cubicBezTo>
                  <a:cubicBezTo>
                    <a:pt x="307" y="469"/>
                    <a:pt x="336" y="442"/>
                    <a:pt x="336" y="442"/>
                  </a:cubicBezTo>
                  <a:cubicBezTo>
                    <a:pt x="358" y="410"/>
                    <a:pt x="373" y="373"/>
                    <a:pt x="400" y="346"/>
                  </a:cubicBezTo>
                  <a:cubicBezTo>
                    <a:pt x="426" y="268"/>
                    <a:pt x="414" y="217"/>
                    <a:pt x="344" y="170"/>
                  </a:cubicBezTo>
                  <a:cubicBezTo>
                    <a:pt x="304" y="110"/>
                    <a:pt x="322" y="94"/>
                    <a:pt x="328" y="2"/>
                  </a:cubicBezTo>
                  <a:cubicBezTo>
                    <a:pt x="408" y="5"/>
                    <a:pt x="489" y="0"/>
                    <a:pt x="568" y="10"/>
                  </a:cubicBezTo>
                  <a:cubicBezTo>
                    <a:pt x="573" y="11"/>
                    <a:pt x="596" y="61"/>
                    <a:pt x="616" y="74"/>
                  </a:cubicBezTo>
                  <a:cubicBezTo>
                    <a:pt x="619" y="109"/>
                    <a:pt x="615" y="144"/>
                    <a:pt x="624" y="178"/>
                  </a:cubicBezTo>
                  <a:lnTo>
                    <a:pt x="656" y="226"/>
                  </a:lnTo>
                  <a:cubicBezTo>
                    <a:pt x="656" y="226"/>
                    <a:pt x="680" y="298"/>
                    <a:pt x="680" y="298"/>
                  </a:cubicBezTo>
                  <a:cubicBezTo>
                    <a:pt x="683" y="306"/>
                    <a:pt x="688" y="322"/>
                    <a:pt x="688" y="322"/>
                  </a:cubicBezTo>
                  <a:cubicBezTo>
                    <a:pt x="674" y="377"/>
                    <a:pt x="691" y="400"/>
                    <a:pt x="648" y="378"/>
                  </a:cubicBezTo>
                  <a:cubicBezTo>
                    <a:pt x="639" y="374"/>
                    <a:pt x="632" y="367"/>
                    <a:pt x="624" y="362"/>
                  </a:cubicBezTo>
                  <a:cubicBezTo>
                    <a:pt x="609" y="317"/>
                    <a:pt x="612" y="298"/>
                    <a:pt x="576" y="274"/>
                  </a:cubicBezTo>
                  <a:cubicBezTo>
                    <a:pt x="565" y="277"/>
                    <a:pt x="550" y="273"/>
                    <a:pt x="544" y="282"/>
                  </a:cubicBezTo>
                  <a:cubicBezTo>
                    <a:pt x="538" y="291"/>
                    <a:pt x="550" y="303"/>
                    <a:pt x="552" y="314"/>
                  </a:cubicBezTo>
                  <a:cubicBezTo>
                    <a:pt x="563" y="390"/>
                    <a:pt x="557" y="388"/>
                    <a:pt x="584" y="442"/>
                  </a:cubicBezTo>
                  <a:cubicBezTo>
                    <a:pt x="588" y="450"/>
                    <a:pt x="586" y="460"/>
                    <a:pt x="592" y="466"/>
                  </a:cubicBezTo>
                  <a:cubicBezTo>
                    <a:pt x="608" y="482"/>
                    <a:pt x="634" y="478"/>
                    <a:pt x="656" y="482"/>
                  </a:cubicBezTo>
                  <a:cubicBezTo>
                    <a:pt x="672" y="479"/>
                    <a:pt x="691" y="483"/>
                    <a:pt x="704" y="474"/>
                  </a:cubicBezTo>
                  <a:cubicBezTo>
                    <a:pt x="720" y="463"/>
                    <a:pt x="706" y="432"/>
                    <a:pt x="720" y="418"/>
                  </a:cubicBezTo>
                  <a:cubicBezTo>
                    <a:pt x="739" y="399"/>
                    <a:pt x="773" y="406"/>
                    <a:pt x="800" y="402"/>
                  </a:cubicBezTo>
                  <a:cubicBezTo>
                    <a:pt x="808" y="397"/>
                    <a:pt x="814" y="387"/>
                    <a:pt x="824" y="386"/>
                  </a:cubicBezTo>
                  <a:cubicBezTo>
                    <a:pt x="875" y="380"/>
                    <a:pt x="867" y="403"/>
                    <a:pt x="880" y="442"/>
                  </a:cubicBezTo>
                  <a:cubicBezTo>
                    <a:pt x="883" y="450"/>
                    <a:pt x="896" y="447"/>
                    <a:pt x="904" y="450"/>
                  </a:cubicBezTo>
                  <a:cubicBezTo>
                    <a:pt x="912" y="458"/>
                    <a:pt x="917" y="471"/>
                    <a:pt x="928" y="474"/>
                  </a:cubicBezTo>
                  <a:cubicBezTo>
                    <a:pt x="939" y="477"/>
                    <a:pt x="949" y="466"/>
                    <a:pt x="960" y="466"/>
                  </a:cubicBezTo>
                  <a:cubicBezTo>
                    <a:pt x="981" y="466"/>
                    <a:pt x="1003" y="471"/>
                    <a:pt x="1024" y="474"/>
                  </a:cubicBezTo>
                  <a:cubicBezTo>
                    <a:pt x="1041" y="526"/>
                    <a:pt x="1015" y="556"/>
                    <a:pt x="1000" y="602"/>
                  </a:cubicBezTo>
                  <a:cubicBezTo>
                    <a:pt x="997" y="634"/>
                    <a:pt x="1001" y="667"/>
                    <a:pt x="992" y="698"/>
                  </a:cubicBezTo>
                  <a:cubicBezTo>
                    <a:pt x="990" y="704"/>
                    <a:pt x="923" y="739"/>
                    <a:pt x="912" y="746"/>
                  </a:cubicBezTo>
                  <a:cubicBezTo>
                    <a:pt x="910" y="798"/>
                    <a:pt x="928" y="970"/>
                    <a:pt x="880" y="1042"/>
                  </a:cubicBezTo>
                  <a:cubicBezTo>
                    <a:pt x="866" y="1040"/>
                    <a:pt x="800" y="1036"/>
                    <a:pt x="776" y="1026"/>
                  </a:cubicBezTo>
                  <a:cubicBezTo>
                    <a:pt x="667" y="979"/>
                    <a:pt x="829" y="1036"/>
                    <a:pt x="728" y="1002"/>
                  </a:cubicBezTo>
                  <a:cubicBezTo>
                    <a:pt x="721" y="992"/>
                    <a:pt x="700" y="933"/>
                    <a:pt x="688" y="930"/>
                  </a:cubicBezTo>
                  <a:cubicBezTo>
                    <a:pt x="649" y="921"/>
                    <a:pt x="608" y="925"/>
                    <a:pt x="568" y="922"/>
                  </a:cubicBezTo>
                  <a:cubicBezTo>
                    <a:pt x="536" y="914"/>
                    <a:pt x="515" y="908"/>
                    <a:pt x="488" y="890"/>
                  </a:cubicBezTo>
                  <a:cubicBezTo>
                    <a:pt x="472" y="893"/>
                    <a:pt x="455" y="891"/>
                    <a:pt x="440" y="898"/>
                  </a:cubicBezTo>
                  <a:cubicBezTo>
                    <a:pt x="378" y="929"/>
                    <a:pt x="449" y="1046"/>
                    <a:pt x="464" y="1090"/>
                  </a:cubicBezTo>
                  <a:cubicBezTo>
                    <a:pt x="462" y="1104"/>
                    <a:pt x="465" y="1163"/>
                    <a:pt x="440" y="1178"/>
                  </a:cubicBezTo>
                  <a:cubicBezTo>
                    <a:pt x="426" y="1187"/>
                    <a:pt x="392" y="1194"/>
                    <a:pt x="392" y="1194"/>
                  </a:cubicBezTo>
                  <a:cubicBezTo>
                    <a:pt x="322" y="1182"/>
                    <a:pt x="354" y="1179"/>
                    <a:pt x="304" y="1146"/>
                  </a:cubicBezTo>
                  <a:cubicBezTo>
                    <a:pt x="278" y="1067"/>
                    <a:pt x="327" y="1074"/>
                    <a:pt x="376" y="1042"/>
                  </a:cubicBezTo>
                  <a:cubicBezTo>
                    <a:pt x="395" y="984"/>
                    <a:pt x="388" y="1010"/>
                    <a:pt x="400" y="962"/>
                  </a:cubicBezTo>
                  <a:cubicBezTo>
                    <a:pt x="389" y="946"/>
                    <a:pt x="370" y="933"/>
                    <a:pt x="368" y="914"/>
                  </a:cubicBezTo>
                  <a:cubicBezTo>
                    <a:pt x="365" y="893"/>
                    <a:pt x="369" y="870"/>
                    <a:pt x="360" y="850"/>
                  </a:cubicBezTo>
                  <a:cubicBezTo>
                    <a:pt x="351" y="831"/>
                    <a:pt x="322" y="824"/>
                    <a:pt x="304" y="818"/>
                  </a:cubicBezTo>
                  <a:cubicBezTo>
                    <a:pt x="257" y="834"/>
                    <a:pt x="258" y="842"/>
                    <a:pt x="200" y="850"/>
                  </a:cubicBezTo>
                  <a:cubicBezTo>
                    <a:pt x="182" y="905"/>
                    <a:pt x="203" y="968"/>
                    <a:pt x="152" y="1002"/>
                  </a:cubicBezTo>
                  <a:cubicBezTo>
                    <a:pt x="71" y="995"/>
                    <a:pt x="73" y="998"/>
                    <a:pt x="48" y="922"/>
                  </a:cubicBezTo>
                  <a:cubicBezTo>
                    <a:pt x="51" y="866"/>
                    <a:pt x="6" y="817"/>
                    <a:pt x="16" y="762"/>
                  </a:cubicBezTo>
                  <a:cubicBezTo>
                    <a:pt x="17" y="755"/>
                    <a:pt x="92" y="727"/>
                    <a:pt x="112" y="714"/>
                  </a:cubicBezTo>
                  <a:cubicBezTo>
                    <a:pt x="140" y="672"/>
                    <a:pt x="155" y="566"/>
                    <a:pt x="120" y="522"/>
                  </a:cubicBezTo>
                  <a:cubicBezTo>
                    <a:pt x="114" y="514"/>
                    <a:pt x="103" y="512"/>
                    <a:pt x="96" y="506"/>
                  </a:cubicBezTo>
                  <a:cubicBezTo>
                    <a:pt x="87" y="499"/>
                    <a:pt x="79" y="491"/>
                    <a:pt x="72" y="482"/>
                  </a:cubicBezTo>
                  <a:cubicBezTo>
                    <a:pt x="60" y="467"/>
                    <a:pt x="40" y="434"/>
                    <a:pt x="40" y="434"/>
                  </a:cubicBezTo>
                  <a:cubicBezTo>
                    <a:pt x="51" y="365"/>
                    <a:pt x="88" y="331"/>
                    <a:pt x="40" y="258"/>
                  </a:cubicBezTo>
                  <a:cubicBezTo>
                    <a:pt x="43" y="250"/>
                    <a:pt x="41" y="239"/>
                    <a:pt x="48" y="234"/>
                  </a:cubicBezTo>
                  <a:cubicBezTo>
                    <a:pt x="57" y="227"/>
                    <a:pt x="80" y="226"/>
                    <a:pt x="80" y="226"/>
                  </a:cubicBez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22320" y="5111640"/>
              <a:ext cx="218880" cy="264960"/>
            </a:xfrm>
            <a:custGeom>
              <a:avLst/>
              <a:gdLst/>
              <a:ahLst/>
              <a:rect l="l" t="t" r="r" b="b"/>
              <a:pathLst>
                <a:path w="138" h="167">
                  <a:moveTo>
                    <a:pt x="91" y="22"/>
                  </a:moveTo>
                  <a:cubicBezTo>
                    <a:pt x="78" y="18"/>
                    <a:pt x="37" y="0"/>
                    <a:pt x="27" y="22"/>
                  </a:cubicBezTo>
                  <a:cubicBezTo>
                    <a:pt x="0" y="82"/>
                    <a:pt x="29" y="84"/>
                    <a:pt x="59" y="94"/>
                  </a:cubicBezTo>
                  <a:cubicBezTo>
                    <a:pt x="67" y="135"/>
                    <a:pt x="60" y="167"/>
                    <a:pt x="131" y="126"/>
                  </a:cubicBezTo>
                  <a:cubicBezTo>
                    <a:pt x="138" y="122"/>
                    <a:pt x="125" y="110"/>
                    <a:pt x="123" y="102"/>
                  </a:cubicBezTo>
                  <a:cubicBezTo>
                    <a:pt x="114" y="63"/>
                    <a:pt x="118" y="49"/>
                    <a:pt x="91" y="2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22360" y="5133960"/>
              <a:ext cx="453600" cy="558720"/>
            </a:xfrm>
            <a:custGeom>
              <a:avLst/>
              <a:gdLst/>
              <a:ahLst/>
              <a:rect l="l" t="t" r="r" b="b"/>
              <a:pathLst>
                <a:path w="286" h="352">
                  <a:moveTo>
                    <a:pt x="191" y="120"/>
                  </a:moveTo>
                  <a:cubicBezTo>
                    <a:pt x="183" y="97"/>
                    <a:pt x="180" y="25"/>
                    <a:pt x="167" y="16"/>
                  </a:cubicBezTo>
                  <a:cubicBezTo>
                    <a:pt x="153" y="6"/>
                    <a:pt x="119" y="0"/>
                    <a:pt x="119" y="0"/>
                  </a:cubicBezTo>
                  <a:cubicBezTo>
                    <a:pt x="116" y="21"/>
                    <a:pt x="123" y="46"/>
                    <a:pt x="111" y="64"/>
                  </a:cubicBezTo>
                  <a:cubicBezTo>
                    <a:pt x="101" y="78"/>
                    <a:pt x="79" y="75"/>
                    <a:pt x="63" y="80"/>
                  </a:cubicBezTo>
                  <a:cubicBezTo>
                    <a:pt x="55" y="83"/>
                    <a:pt x="39" y="88"/>
                    <a:pt x="39" y="88"/>
                  </a:cubicBezTo>
                  <a:cubicBezTo>
                    <a:pt x="0" y="147"/>
                    <a:pt x="15" y="115"/>
                    <a:pt x="15" y="248"/>
                  </a:cubicBezTo>
                  <a:cubicBezTo>
                    <a:pt x="15" y="256"/>
                    <a:pt x="18" y="231"/>
                    <a:pt x="23" y="224"/>
                  </a:cubicBezTo>
                  <a:cubicBezTo>
                    <a:pt x="34" y="210"/>
                    <a:pt x="55" y="205"/>
                    <a:pt x="71" y="200"/>
                  </a:cubicBezTo>
                  <a:cubicBezTo>
                    <a:pt x="76" y="208"/>
                    <a:pt x="83" y="215"/>
                    <a:pt x="87" y="224"/>
                  </a:cubicBezTo>
                  <a:cubicBezTo>
                    <a:pt x="91" y="234"/>
                    <a:pt x="88" y="247"/>
                    <a:pt x="95" y="256"/>
                  </a:cubicBezTo>
                  <a:cubicBezTo>
                    <a:pt x="100" y="263"/>
                    <a:pt x="111" y="260"/>
                    <a:pt x="119" y="264"/>
                  </a:cubicBezTo>
                  <a:cubicBezTo>
                    <a:pt x="128" y="268"/>
                    <a:pt x="134" y="276"/>
                    <a:pt x="143" y="280"/>
                  </a:cubicBezTo>
                  <a:cubicBezTo>
                    <a:pt x="158" y="287"/>
                    <a:pt x="191" y="296"/>
                    <a:pt x="191" y="296"/>
                  </a:cubicBezTo>
                  <a:cubicBezTo>
                    <a:pt x="271" y="216"/>
                    <a:pt x="125" y="352"/>
                    <a:pt x="279" y="264"/>
                  </a:cubicBezTo>
                  <a:cubicBezTo>
                    <a:pt x="286" y="260"/>
                    <a:pt x="273" y="248"/>
                    <a:pt x="271" y="240"/>
                  </a:cubicBezTo>
                  <a:cubicBezTo>
                    <a:pt x="267" y="224"/>
                    <a:pt x="270" y="207"/>
                    <a:pt x="263" y="192"/>
                  </a:cubicBezTo>
                  <a:cubicBezTo>
                    <a:pt x="245" y="155"/>
                    <a:pt x="216" y="197"/>
                    <a:pt x="191" y="168"/>
                  </a:cubicBezTo>
                  <a:cubicBezTo>
                    <a:pt x="181" y="156"/>
                    <a:pt x="191" y="136"/>
                    <a:pt x="191" y="120"/>
                  </a:cubicBez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68280" y="5208480"/>
              <a:ext cx="353880" cy="517320"/>
            </a:xfrm>
            <a:custGeom>
              <a:avLst/>
              <a:gdLst/>
              <a:ahLst/>
              <a:rect l="l" t="t" r="r" b="b"/>
              <a:pathLst>
                <a:path w="223" h="326">
                  <a:moveTo>
                    <a:pt x="65" y="57"/>
                  </a:moveTo>
                  <a:cubicBezTo>
                    <a:pt x="57" y="62"/>
                    <a:pt x="47" y="66"/>
                    <a:pt x="41" y="73"/>
                  </a:cubicBezTo>
                  <a:cubicBezTo>
                    <a:pt x="28" y="87"/>
                    <a:pt x="9" y="121"/>
                    <a:pt x="9" y="121"/>
                  </a:cubicBezTo>
                  <a:cubicBezTo>
                    <a:pt x="12" y="137"/>
                    <a:pt x="12" y="154"/>
                    <a:pt x="17" y="169"/>
                  </a:cubicBezTo>
                  <a:cubicBezTo>
                    <a:pt x="20" y="178"/>
                    <a:pt x="31" y="184"/>
                    <a:pt x="33" y="193"/>
                  </a:cubicBezTo>
                  <a:cubicBezTo>
                    <a:pt x="55" y="326"/>
                    <a:pt x="0" y="299"/>
                    <a:pt x="65" y="321"/>
                  </a:cubicBezTo>
                  <a:cubicBezTo>
                    <a:pt x="129" y="310"/>
                    <a:pt x="119" y="308"/>
                    <a:pt x="153" y="257"/>
                  </a:cubicBezTo>
                  <a:cubicBezTo>
                    <a:pt x="147" y="240"/>
                    <a:pt x="131" y="227"/>
                    <a:pt x="129" y="209"/>
                  </a:cubicBezTo>
                  <a:cubicBezTo>
                    <a:pt x="123" y="163"/>
                    <a:pt x="162" y="150"/>
                    <a:pt x="193" y="129"/>
                  </a:cubicBezTo>
                  <a:cubicBezTo>
                    <a:pt x="223" y="83"/>
                    <a:pt x="204" y="36"/>
                    <a:pt x="169" y="1"/>
                  </a:cubicBezTo>
                  <a:cubicBezTo>
                    <a:pt x="145" y="4"/>
                    <a:pt x="119" y="0"/>
                    <a:pt x="97" y="9"/>
                  </a:cubicBezTo>
                  <a:cubicBezTo>
                    <a:pt x="79" y="16"/>
                    <a:pt x="93" y="50"/>
                    <a:pt x="81" y="65"/>
                  </a:cubicBezTo>
                  <a:cubicBezTo>
                    <a:pt x="76" y="72"/>
                    <a:pt x="65" y="77"/>
                    <a:pt x="57" y="73"/>
                  </a:cubicBezTo>
                  <a:cubicBezTo>
                    <a:pt x="52" y="70"/>
                    <a:pt x="62" y="62"/>
                    <a:pt x="65" y="57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5520" y="3927240"/>
              <a:ext cx="3128400" cy="2882880"/>
            </a:xfrm>
            <a:custGeom>
              <a:avLst/>
              <a:gdLst/>
              <a:ahLst/>
              <a:rect l="l" t="t" r="r" b="b"/>
              <a:pathLst>
                <a:path w="1971" h="1816">
                  <a:moveTo>
                    <a:pt x="347" y="1016"/>
                  </a:moveTo>
                  <a:cubicBezTo>
                    <a:pt x="319" y="933"/>
                    <a:pt x="336" y="1088"/>
                    <a:pt x="323" y="1128"/>
                  </a:cubicBezTo>
                  <a:cubicBezTo>
                    <a:pt x="233" y="1098"/>
                    <a:pt x="278" y="963"/>
                    <a:pt x="323" y="896"/>
                  </a:cubicBezTo>
                  <a:cubicBezTo>
                    <a:pt x="326" y="904"/>
                    <a:pt x="323" y="920"/>
                    <a:pt x="331" y="920"/>
                  </a:cubicBezTo>
                  <a:cubicBezTo>
                    <a:pt x="341" y="920"/>
                    <a:pt x="347" y="906"/>
                    <a:pt x="347" y="896"/>
                  </a:cubicBezTo>
                  <a:cubicBezTo>
                    <a:pt x="355" y="750"/>
                    <a:pt x="348" y="603"/>
                    <a:pt x="355" y="456"/>
                  </a:cubicBezTo>
                  <a:cubicBezTo>
                    <a:pt x="356" y="439"/>
                    <a:pt x="371" y="408"/>
                    <a:pt x="371" y="408"/>
                  </a:cubicBezTo>
                  <a:cubicBezTo>
                    <a:pt x="360" y="374"/>
                    <a:pt x="348" y="373"/>
                    <a:pt x="315" y="384"/>
                  </a:cubicBezTo>
                  <a:cubicBezTo>
                    <a:pt x="302" y="423"/>
                    <a:pt x="304" y="465"/>
                    <a:pt x="291" y="504"/>
                  </a:cubicBezTo>
                  <a:cubicBezTo>
                    <a:pt x="280" y="501"/>
                    <a:pt x="263" y="506"/>
                    <a:pt x="259" y="496"/>
                  </a:cubicBezTo>
                  <a:cubicBezTo>
                    <a:pt x="253" y="482"/>
                    <a:pt x="279" y="411"/>
                    <a:pt x="283" y="400"/>
                  </a:cubicBezTo>
                  <a:cubicBezTo>
                    <a:pt x="286" y="392"/>
                    <a:pt x="291" y="376"/>
                    <a:pt x="291" y="376"/>
                  </a:cubicBezTo>
                  <a:cubicBezTo>
                    <a:pt x="238" y="358"/>
                    <a:pt x="227" y="377"/>
                    <a:pt x="211" y="424"/>
                  </a:cubicBezTo>
                  <a:cubicBezTo>
                    <a:pt x="215" y="495"/>
                    <a:pt x="212" y="564"/>
                    <a:pt x="235" y="632"/>
                  </a:cubicBezTo>
                  <a:cubicBezTo>
                    <a:pt x="217" y="685"/>
                    <a:pt x="178" y="668"/>
                    <a:pt x="163" y="624"/>
                  </a:cubicBezTo>
                  <a:cubicBezTo>
                    <a:pt x="172" y="404"/>
                    <a:pt x="160" y="481"/>
                    <a:pt x="203" y="352"/>
                  </a:cubicBezTo>
                  <a:cubicBezTo>
                    <a:pt x="161" y="338"/>
                    <a:pt x="184" y="337"/>
                    <a:pt x="147" y="392"/>
                  </a:cubicBezTo>
                  <a:cubicBezTo>
                    <a:pt x="142" y="400"/>
                    <a:pt x="131" y="416"/>
                    <a:pt x="131" y="416"/>
                  </a:cubicBezTo>
                  <a:cubicBezTo>
                    <a:pt x="129" y="480"/>
                    <a:pt x="209" y="749"/>
                    <a:pt x="75" y="704"/>
                  </a:cubicBezTo>
                  <a:cubicBezTo>
                    <a:pt x="0" y="479"/>
                    <a:pt x="127" y="387"/>
                    <a:pt x="203" y="216"/>
                  </a:cubicBezTo>
                  <a:cubicBezTo>
                    <a:pt x="221" y="176"/>
                    <a:pt x="231" y="130"/>
                    <a:pt x="243" y="88"/>
                  </a:cubicBezTo>
                  <a:cubicBezTo>
                    <a:pt x="248" y="69"/>
                    <a:pt x="246" y="47"/>
                    <a:pt x="259" y="32"/>
                  </a:cubicBezTo>
                  <a:cubicBezTo>
                    <a:pt x="272" y="18"/>
                    <a:pt x="307" y="0"/>
                    <a:pt x="307" y="0"/>
                  </a:cubicBezTo>
                  <a:cubicBezTo>
                    <a:pt x="336" y="44"/>
                    <a:pt x="317" y="86"/>
                    <a:pt x="283" y="120"/>
                  </a:cubicBezTo>
                  <a:cubicBezTo>
                    <a:pt x="271" y="156"/>
                    <a:pt x="238" y="182"/>
                    <a:pt x="227" y="216"/>
                  </a:cubicBezTo>
                  <a:cubicBezTo>
                    <a:pt x="222" y="232"/>
                    <a:pt x="211" y="264"/>
                    <a:pt x="211" y="264"/>
                  </a:cubicBezTo>
                  <a:cubicBezTo>
                    <a:pt x="214" y="283"/>
                    <a:pt x="201" y="316"/>
                    <a:pt x="219" y="320"/>
                  </a:cubicBezTo>
                  <a:cubicBezTo>
                    <a:pt x="238" y="324"/>
                    <a:pt x="251" y="272"/>
                    <a:pt x="251" y="272"/>
                  </a:cubicBezTo>
                  <a:cubicBezTo>
                    <a:pt x="261" y="224"/>
                    <a:pt x="259" y="168"/>
                    <a:pt x="307" y="152"/>
                  </a:cubicBezTo>
                  <a:cubicBezTo>
                    <a:pt x="315" y="155"/>
                    <a:pt x="329" y="152"/>
                    <a:pt x="331" y="160"/>
                  </a:cubicBezTo>
                  <a:cubicBezTo>
                    <a:pt x="345" y="218"/>
                    <a:pt x="291" y="263"/>
                    <a:pt x="275" y="312"/>
                  </a:cubicBezTo>
                  <a:cubicBezTo>
                    <a:pt x="276" y="316"/>
                    <a:pt x="272" y="382"/>
                    <a:pt x="307" y="368"/>
                  </a:cubicBezTo>
                  <a:cubicBezTo>
                    <a:pt x="322" y="362"/>
                    <a:pt x="339" y="297"/>
                    <a:pt x="339" y="296"/>
                  </a:cubicBezTo>
                  <a:cubicBezTo>
                    <a:pt x="342" y="288"/>
                    <a:pt x="347" y="272"/>
                    <a:pt x="347" y="272"/>
                  </a:cubicBezTo>
                  <a:cubicBezTo>
                    <a:pt x="408" y="292"/>
                    <a:pt x="339" y="261"/>
                    <a:pt x="379" y="368"/>
                  </a:cubicBezTo>
                  <a:cubicBezTo>
                    <a:pt x="382" y="377"/>
                    <a:pt x="391" y="353"/>
                    <a:pt x="395" y="344"/>
                  </a:cubicBezTo>
                  <a:cubicBezTo>
                    <a:pt x="404" y="325"/>
                    <a:pt x="417" y="257"/>
                    <a:pt x="443" y="248"/>
                  </a:cubicBezTo>
                  <a:cubicBezTo>
                    <a:pt x="507" y="227"/>
                    <a:pt x="569" y="209"/>
                    <a:pt x="635" y="200"/>
                  </a:cubicBezTo>
                  <a:cubicBezTo>
                    <a:pt x="651" y="195"/>
                    <a:pt x="674" y="198"/>
                    <a:pt x="683" y="184"/>
                  </a:cubicBezTo>
                  <a:cubicBezTo>
                    <a:pt x="688" y="176"/>
                    <a:pt x="691" y="165"/>
                    <a:pt x="699" y="160"/>
                  </a:cubicBezTo>
                  <a:cubicBezTo>
                    <a:pt x="713" y="151"/>
                    <a:pt x="747" y="144"/>
                    <a:pt x="747" y="144"/>
                  </a:cubicBezTo>
                  <a:cubicBezTo>
                    <a:pt x="782" y="147"/>
                    <a:pt x="817" y="143"/>
                    <a:pt x="851" y="152"/>
                  </a:cubicBezTo>
                  <a:cubicBezTo>
                    <a:pt x="870" y="157"/>
                    <a:pt x="880" y="182"/>
                    <a:pt x="899" y="184"/>
                  </a:cubicBezTo>
                  <a:cubicBezTo>
                    <a:pt x="998" y="194"/>
                    <a:pt x="952" y="188"/>
                    <a:pt x="1035" y="200"/>
                  </a:cubicBezTo>
                  <a:cubicBezTo>
                    <a:pt x="1080" y="215"/>
                    <a:pt x="1126" y="217"/>
                    <a:pt x="1171" y="232"/>
                  </a:cubicBezTo>
                  <a:cubicBezTo>
                    <a:pt x="1211" y="219"/>
                    <a:pt x="1199" y="204"/>
                    <a:pt x="1211" y="168"/>
                  </a:cubicBezTo>
                  <a:cubicBezTo>
                    <a:pt x="1208" y="157"/>
                    <a:pt x="1212" y="142"/>
                    <a:pt x="1203" y="136"/>
                  </a:cubicBezTo>
                  <a:cubicBezTo>
                    <a:pt x="1170" y="114"/>
                    <a:pt x="1020" y="113"/>
                    <a:pt x="1011" y="112"/>
                  </a:cubicBezTo>
                  <a:cubicBezTo>
                    <a:pt x="1072" y="71"/>
                    <a:pt x="1163" y="76"/>
                    <a:pt x="1227" y="112"/>
                  </a:cubicBezTo>
                  <a:cubicBezTo>
                    <a:pt x="1244" y="121"/>
                    <a:pt x="1259" y="133"/>
                    <a:pt x="1275" y="144"/>
                  </a:cubicBezTo>
                  <a:cubicBezTo>
                    <a:pt x="1289" y="153"/>
                    <a:pt x="1323" y="160"/>
                    <a:pt x="1323" y="160"/>
                  </a:cubicBezTo>
                  <a:cubicBezTo>
                    <a:pt x="1361" y="198"/>
                    <a:pt x="1401" y="212"/>
                    <a:pt x="1443" y="240"/>
                  </a:cubicBezTo>
                  <a:cubicBezTo>
                    <a:pt x="1455" y="257"/>
                    <a:pt x="1473" y="270"/>
                    <a:pt x="1483" y="288"/>
                  </a:cubicBezTo>
                  <a:cubicBezTo>
                    <a:pt x="1491" y="303"/>
                    <a:pt x="1499" y="336"/>
                    <a:pt x="1499" y="336"/>
                  </a:cubicBezTo>
                  <a:cubicBezTo>
                    <a:pt x="1496" y="349"/>
                    <a:pt x="1502" y="368"/>
                    <a:pt x="1491" y="376"/>
                  </a:cubicBezTo>
                  <a:cubicBezTo>
                    <a:pt x="1483" y="381"/>
                    <a:pt x="1481" y="359"/>
                    <a:pt x="1475" y="352"/>
                  </a:cubicBezTo>
                  <a:cubicBezTo>
                    <a:pt x="1460" y="335"/>
                    <a:pt x="1443" y="320"/>
                    <a:pt x="1427" y="304"/>
                  </a:cubicBezTo>
                  <a:cubicBezTo>
                    <a:pt x="1365" y="242"/>
                    <a:pt x="1400" y="289"/>
                    <a:pt x="1355" y="264"/>
                  </a:cubicBezTo>
                  <a:cubicBezTo>
                    <a:pt x="1272" y="218"/>
                    <a:pt x="1337" y="242"/>
                    <a:pt x="1283" y="224"/>
                  </a:cubicBezTo>
                  <a:cubicBezTo>
                    <a:pt x="1267" y="227"/>
                    <a:pt x="1244" y="219"/>
                    <a:pt x="1235" y="232"/>
                  </a:cubicBezTo>
                  <a:cubicBezTo>
                    <a:pt x="1226" y="245"/>
                    <a:pt x="1232" y="268"/>
                    <a:pt x="1243" y="280"/>
                  </a:cubicBezTo>
                  <a:cubicBezTo>
                    <a:pt x="1254" y="293"/>
                    <a:pt x="1291" y="296"/>
                    <a:pt x="1291" y="296"/>
                  </a:cubicBezTo>
                  <a:cubicBezTo>
                    <a:pt x="1323" y="393"/>
                    <a:pt x="1259" y="533"/>
                    <a:pt x="1347" y="592"/>
                  </a:cubicBezTo>
                  <a:cubicBezTo>
                    <a:pt x="1373" y="630"/>
                    <a:pt x="1421" y="639"/>
                    <a:pt x="1459" y="664"/>
                  </a:cubicBezTo>
                  <a:cubicBezTo>
                    <a:pt x="1496" y="719"/>
                    <a:pt x="1485" y="694"/>
                    <a:pt x="1499" y="736"/>
                  </a:cubicBezTo>
                  <a:cubicBezTo>
                    <a:pt x="1498" y="750"/>
                    <a:pt x="1488" y="916"/>
                    <a:pt x="1483" y="944"/>
                  </a:cubicBezTo>
                  <a:cubicBezTo>
                    <a:pt x="1480" y="961"/>
                    <a:pt x="1472" y="976"/>
                    <a:pt x="1467" y="992"/>
                  </a:cubicBezTo>
                  <a:cubicBezTo>
                    <a:pt x="1464" y="1000"/>
                    <a:pt x="1459" y="1016"/>
                    <a:pt x="1459" y="1016"/>
                  </a:cubicBezTo>
                  <a:cubicBezTo>
                    <a:pt x="1452" y="1074"/>
                    <a:pt x="1443" y="1127"/>
                    <a:pt x="1411" y="1176"/>
                  </a:cubicBezTo>
                  <a:cubicBezTo>
                    <a:pt x="1408" y="1187"/>
                    <a:pt x="1403" y="1197"/>
                    <a:pt x="1403" y="1208"/>
                  </a:cubicBezTo>
                  <a:cubicBezTo>
                    <a:pt x="1403" y="1380"/>
                    <a:pt x="1402" y="1321"/>
                    <a:pt x="1451" y="1248"/>
                  </a:cubicBezTo>
                  <a:cubicBezTo>
                    <a:pt x="1456" y="1241"/>
                    <a:pt x="1453" y="1230"/>
                    <a:pt x="1459" y="1224"/>
                  </a:cubicBezTo>
                  <a:cubicBezTo>
                    <a:pt x="1465" y="1218"/>
                    <a:pt x="1475" y="1219"/>
                    <a:pt x="1483" y="1216"/>
                  </a:cubicBezTo>
                  <a:cubicBezTo>
                    <a:pt x="1499" y="1219"/>
                    <a:pt x="1515" y="1220"/>
                    <a:pt x="1531" y="1224"/>
                  </a:cubicBezTo>
                  <a:cubicBezTo>
                    <a:pt x="1539" y="1226"/>
                    <a:pt x="1547" y="1235"/>
                    <a:pt x="1555" y="1232"/>
                  </a:cubicBezTo>
                  <a:cubicBezTo>
                    <a:pt x="1564" y="1228"/>
                    <a:pt x="1564" y="1215"/>
                    <a:pt x="1571" y="1208"/>
                  </a:cubicBezTo>
                  <a:cubicBezTo>
                    <a:pt x="1578" y="1201"/>
                    <a:pt x="1587" y="1197"/>
                    <a:pt x="1595" y="1192"/>
                  </a:cubicBezTo>
                  <a:cubicBezTo>
                    <a:pt x="1611" y="1195"/>
                    <a:pt x="1631" y="1189"/>
                    <a:pt x="1643" y="1200"/>
                  </a:cubicBezTo>
                  <a:cubicBezTo>
                    <a:pt x="1656" y="1211"/>
                    <a:pt x="1659" y="1248"/>
                    <a:pt x="1659" y="1248"/>
                  </a:cubicBezTo>
                  <a:cubicBezTo>
                    <a:pt x="1655" y="1305"/>
                    <a:pt x="1621" y="1430"/>
                    <a:pt x="1699" y="1456"/>
                  </a:cubicBezTo>
                  <a:cubicBezTo>
                    <a:pt x="1729" y="1411"/>
                    <a:pt x="1719" y="1373"/>
                    <a:pt x="1763" y="1344"/>
                  </a:cubicBezTo>
                  <a:cubicBezTo>
                    <a:pt x="1772" y="1318"/>
                    <a:pt x="1803" y="1272"/>
                    <a:pt x="1803" y="1272"/>
                  </a:cubicBezTo>
                  <a:cubicBezTo>
                    <a:pt x="1806" y="1245"/>
                    <a:pt x="1800" y="1216"/>
                    <a:pt x="1811" y="1192"/>
                  </a:cubicBezTo>
                  <a:cubicBezTo>
                    <a:pt x="1814" y="1184"/>
                    <a:pt x="1834" y="1192"/>
                    <a:pt x="1835" y="1200"/>
                  </a:cubicBezTo>
                  <a:cubicBezTo>
                    <a:pt x="1845" y="1299"/>
                    <a:pt x="1836" y="1325"/>
                    <a:pt x="1803" y="1392"/>
                  </a:cubicBezTo>
                  <a:cubicBezTo>
                    <a:pt x="1791" y="1415"/>
                    <a:pt x="1771" y="1464"/>
                    <a:pt x="1771" y="1464"/>
                  </a:cubicBezTo>
                  <a:cubicBezTo>
                    <a:pt x="1789" y="1517"/>
                    <a:pt x="1807" y="1475"/>
                    <a:pt x="1827" y="1448"/>
                  </a:cubicBezTo>
                  <a:cubicBezTo>
                    <a:pt x="1842" y="1404"/>
                    <a:pt x="1868" y="1374"/>
                    <a:pt x="1883" y="1328"/>
                  </a:cubicBezTo>
                  <a:cubicBezTo>
                    <a:pt x="1888" y="1312"/>
                    <a:pt x="1899" y="1280"/>
                    <a:pt x="1899" y="1280"/>
                  </a:cubicBezTo>
                  <a:cubicBezTo>
                    <a:pt x="1904" y="1213"/>
                    <a:pt x="1887" y="1170"/>
                    <a:pt x="1939" y="1136"/>
                  </a:cubicBezTo>
                  <a:cubicBezTo>
                    <a:pt x="1947" y="1160"/>
                    <a:pt x="1955" y="1184"/>
                    <a:pt x="1963" y="1208"/>
                  </a:cubicBezTo>
                  <a:cubicBezTo>
                    <a:pt x="1966" y="1216"/>
                    <a:pt x="1971" y="1232"/>
                    <a:pt x="1971" y="1232"/>
                  </a:cubicBezTo>
                  <a:cubicBezTo>
                    <a:pt x="1963" y="1296"/>
                    <a:pt x="1964" y="1303"/>
                    <a:pt x="1923" y="1344"/>
                  </a:cubicBezTo>
                  <a:cubicBezTo>
                    <a:pt x="1905" y="1398"/>
                    <a:pt x="1900" y="1462"/>
                    <a:pt x="1875" y="1512"/>
                  </a:cubicBezTo>
                  <a:cubicBezTo>
                    <a:pt x="1871" y="1521"/>
                    <a:pt x="1863" y="1527"/>
                    <a:pt x="1859" y="1536"/>
                  </a:cubicBezTo>
                  <a:cubicBezTo>
                    <a:pt x="1828" y="1606"/>
                    <a:pt x="1863" y="1564"/>
                    <a:pt x="1819" y="1608"/>
                  </a:cubicBezTo>
                  <a:cubicBezTo>
                    <a:pt x="1816" y="1616"/>
                    <a:pt x="1817" y="1626"/>
                    <a:pt x="1811" y="1632"/>
                  </a:cubicBezTo>
                  <a:cubicBezTo>
                    <a:pt x="1797" y="1646"/>
                    <a:pt x="1763" y="1664"/>
                    <a:pt x="1763" y="1664"/>
                  </a:cubicBezTo>
                  <a:cubicBezTo>
                    <a:pt x="1752" y="1697"/>
                    <a:pt x="1754" y="1746"/>
                    <a:pt x="1739" y="1776"/>
                  </a:cubicBezTo>
                  <a:cubicBezTo>
                    <a:pt x="1727" y="1799"/>
                    <a:pt x="1667" y="1808"/>
                    <a:pt x="1667" y="1808"/>
                  </a:cubicBezTo>
                  <a:cubicBezTo>
                    <a:pt x="1627" y="1805"/>
                    <a:pt x="1584" y="1816"/>
                    <a:pt x="1547" y="1800"/>
                  </a:cubicBezTo>
                  <a:cubicBezTo>
                    <a:pt x="1535" y="1795"/>
                    <a:pt x="1547" y="1771"/>
                    <a:pt x="1555" y="1760"/>
                  </a:cubicBezTo>
                  <a:cubicBezTo>
                    <a:pt x="1567" y="1742"/>
                    <a:pt x="1597" y="1748"/>
                    <a:pt x="1619" y="1744"/>
                  </a:cubicBezTo>
                  <a:cubicBezTo>
                    <a:pt x="1661" y="1716"/>
                    <a:pt x="1729" y="1614"/>
                    <a:pt x="1747" y="1560"/>
                  </a:cubicBezTo>
                  <a:cubicBezTo>
                    <a:pt x="1744" y="1549"/>
                    <a:pt x="1748" y="1534"/>
                    <a:pt x="1739" y="1528"/>
                  </a:cubicBezTo>
                  <a:cubicBezTo>
                    <a:pt x="1725" y="1520"/>
                    <a:pt x="1692" y="1546"/>
                    <a:pt x="1683" y="1552"/>
                  </a:cubicBezTo>
                  <a:cubicBezTo>
                    <a:pt x="1682" y="1547"/>
                    <a:pt x="1679" y="1489"/>
                    <a:pt x="1651" y="1528"/>
                  </a:cubicBezTo>
                  <a:cubicBezTo>
                    <a:pt x="1636" y="1549"/>
                    <a:pt x="1645" y="1582"/>
                    <a:pt x="1627" y="1600"/>
                  </a:cubicBezTo>
                  <a:cubicBezTo>
                    <a:pt x="1603" y="1624"/>
                    <a:pt x="1587" y="1637"/>
                    <a:pt x="1555" y="1648"/>
                  </a:cubicBezTo>
                  <a:cubicBezTo>
                    <a:pt x="1538" y="1623"/>
                    <a:pt x="1518" y="1605"/>
                    <a:pt x="1547" y="1568"/>
                  </a:cubicBezTo>
                  <a:cubicBezTo>
                    <a:pt x="1557" y="1555"/>
                    <a:pt x="1595" y="1552"/>
                    <a:pt x="1595" y="1552"/>
                  </a:cubicBezTo>
                  <a:cubicBezTo>
                    <a:pt x="1600" y="1544"/>
                    <a:pt x="1607" y="1537"/>
                    <a:pt x="1611" y="1528"/>
                  </a:cubicBezTo>
                  <a:cubicBezTo>
                    <a:pt x="1618" y="1513"/>
                    <a:pt x="1627" y="1480"/>
                    <a:pt x="1627" y="1480"/>
                  </a:cubicBezTo>
                  <a:cubicBezTo>
                    <a:pt x="1560" y="1436"/>
                    <a:pt x="1668" y="1502"/>
                    <a:pt x="1539" y="1456"/>
                  </a:cubicBezTo>
                  <a:cubicBezTo>
                    <a:pt x="1521" y="1450"/>
                    <a:pt x="1491" y="1424"/>
                    <a:pt x="1491" y="1424"/>
                  </a:cubicBezTo>
                  <a:cubicBezTo>
                    <a:pt x="1494" y="1403"/>
                    <a:pt x="1490" y="1380"/>
                    <a:pt x="1499" y="1360"/>
                  </a:cubicBezTo>
                  <a:cubicBezTo>
                    <a:pt x="1502" y="1352"/>
                    <a:pt x="1521" y="1360"/>
                    <a:pt x="1523" y="1352"/>
                  </a:cubicBezTo>
                  <a:cubicBezTo>
                    <a:pt x="1537" y="1303"/>
                    <a:pt x="1518" y="1305"/>
                    <a:pt x="1491" y="1296"/>
                  </a:cubicBezTo>
                  <a:cubicBezTo>
                    <a:pt x="1483" y="1304"/>
                    <a:pt x="1473" y="1310"/>
                    <a:pt x="1467" y="1320"/>
                  </a:cubicBezTo>
                  <a:cubicBezTo>
                    <a:pt x="1464" y="1325"/>
                    <a:pt x="1457" y="1369"/>
                    <a:pt x="1451" y="1376"/>
                  </a:cubicBezTo>
                  <a:cubicBezTo>
                    <a:pt x="1440" y="1390"/>
                    <a:pt x="1419" y="1395"/>
                    <a:pt x="1403" y="1400"/>
                  </a:cubicBezTo>
                  <a:cubicBezTo>
                    <a:pt x="1363" y="1387"/>
                    <a:pt x="1371" y="1369"/>
                    <a:pt x="1363" y="1328"/>
                  </a:cubicBezTo>
                  <a:cubicBezTo>
                    <a:pt x="1316" y="1359"/>
                    <a:pt x="1341" y="1385"/>
                    <a:pt x="1315" y="1424"/>
                  </a:cubicBezTo>
                  <a:cubicBezTo>
                    <a:pt x="1253" y="1517"/>
                    <a:pt x="1205" y="1512"/>
                    <a:pt x="1099" y="1520"/>
                  </a:cubicBezTo>
                  <a:cubicBezTo>
                    <a:pt x="1042" y="1539"/>
                    <a:pt x="989" y="1545"/>
                    <a:pt x="931" y="1560"/>
                  </a:cubicBezTo>
                  <a:cubicBezTo>
                    <a:pt x="853" y="1555"/>
                    <a:pt x="832" y="1573"/>
                    <a:pt x="787" y="1536"/>
                  </a:cubicBezTo>
                  <a:cubicBezTo>
                    <a:pt x="778" y="1529"/>
                    <a:pt x="773" y="1517"/>
                    <a:pt x="763" y="1512"/>
                  </a:cubicBezTo>
                  <a:cubicBezTo>
                    <a:pt x="748" y="1504"/>
                    <a:pt x="715" y="1496"/>
                    <a:pt x="715" y="1496"/>
                  </a:cubicBezTo>
                  <a:cubicBezTo>
                    <a:pt x="718" y="1512"/>
                    <a:pt x="715" y="1530"/>
                    <a:pt x="723" y="1544"/>
                  </a:cubicBezTo>
                  <a:cubicBezTo>
                    <a:pt x="727" y="1551"/>
                    <a:pt x="742" y="1545"/>
                    <a:pt x="747" y="1552"/>
                  </a:cubicBezTo>
                  <a:cubicBezTo>
                    <a:pt x="797" y="1622"/>
                    <a:pt x="739" y="1576"/>
                    <a:pt x="771" y="1632"/>
                  </a:cubicBezTo>
                  <a:cubicBezTo>
                    <a:pt x="790" y="1664"/>
                    <a:pt x="827" y="1666"/>
                    <a:pt x="859" y="1672"/>
                  </a:cubicBezTo>
                  <a:cubicBezTo>
                    <a:pt x="856" y="1685"/>
                    <a:pt x="862" y="1704"/>
                    <a:pt x="851" y="1712"/>
                  </a:cubicBezTo>
                  <a:cubicBezTo>
                    <a:pt x="842" y="1719"/>
                    <a:pt x="830" y="1707"/>
                    <a:pt x="819" y="1704"/>
                  </a:cubicBezTo>
                  <a:cubicBezTo>
                    <a:pt x="766" y="1688"/>
                    <a:pt x="738" y="1671"/>
                    <a:pt x="707" y="1624"/>
                  </a:cubicBezTo>
                  <a:cubicBezTo>
                    <a:pt x="692" y="1549"/>
                    <a:pt x="713" y="1588"/>
                    <a:pt x="595" y="1576"/>
                  </a:cubicBezTo>
                  <a:cubicBezTo>
                    <a:pt x="579" y="1574"/>
                    <a:pt x="563" y="1572"/>
                    <a:pt x="547" y="1568"/>
                  </a:cubicBezTo>
                  <a:cubicBezTo>
                    <a:pt x="531" y="1564"/>
                    <a:pt x="499" y="1552"/>
                    <a:pt x="499" y="1552"/>
                  </a:cubicBezTo>
                  <a:cubicBezTo>
                    <a:pt x="462" y="1441"/>
                    <a:pt x="753" y="1597"/>
                    <a:pt x="675" y="1480"/>
                  </a:cubicBezTo>
                  <a:cubicBezTo>
                    <a:pt x="665" y="1465"/>
                    <a:pt x="642" y="1466"/>
                    <a:pt x="627" y="1456"/>
                  </a:cubicBezTo>
                  <a:cubicBezTo>
                    <a:pt x="609" y="1428"/>
                    <a:pt x="591" y="1410"/>
                    <a:pt x="563" y="1392"/>
                  </a:cubicBezTo>
                  <a:cubicBezTo>
                    <a:pt x="525" y="1334"/>
                    <a:pt x="579" y="1405"/>
                    <a:pt x="499" y="1352"/>
                  </a:cubicBezTo>
                  <a:cubicBezTo>
                    <a:pt x="466" y="1330"/>
                    <a:pt x="482" y="1343"/>
                    <a:pt x="451" y="1312"/>
                  </a:cubicBezTo>
                  <a:cubicBezTo>
                    <a:pt x="440" y="1280"/>
                    <a:pt x="431" y="1267"/>
                    <a:pt x="403" y="1248"/>
                  </a:cubicBezTo>
                  <a:cubicBezTo>
                    <a:pt x="379" y="1212"/>
                    <a:pt x="366" y="1221"/>
                    <a:pt x="355" y="1176"/>
                  </a:cubicBezTo>
                  <a:cubicBezTo>
                    <a:pt x="363" y="992"/>
                    <a:pt x="405" y="958"/>
                    <a:pt x="347" y="101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4560" y="5159160"/>
              <a:ext cx="129960" cy="19224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97000" y="5003640"/>
              <a:ext cx="129960" cy="19188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17360" y="3924000"/>
              <a:ext cx="129960" cy="192240"/>
            </a:xfrm>
            <a:custGeom>
              <a:avLst/>
              <a:gdLst/>
              <a:ahLst/>
              <a:rect l="l" t="t" r="r" b="b"/>
              <a:pathLst>
                <a:path w="82" h="121">
                  <a:moveTo>
                    <a:pt x="61" y="0"/>
                  </a:moveTo>
                  <a:cubicBezTo>
                    <a:pt x="30" y="10"/>
                    <a:pt x="16" y="16"/>
                    <a:pt x="5" y="48"/>
                  </a:cubicBezTo>
                  <a:cubicBezTo>
                    <a:pt x="8" y="64"/>
                    <a:pt x="0" y="87"/>
                    <a:pt x="13" y="96"/>
                  </a:cubicBezTo>
                  <a:cubicBezTo>
                    <a:pt x="48" y="121"/>
                    <a:pt x="66" y="81"/>
                    <a:pt x="77" y="64"/>
                  </a:cubicBezTo>
                  <a:cubicBezTo>
                    <a:pt x="68" y="4"/>
                    <a:pt x="82" y="21"/>
                    <a:pt x="61" y="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8600" y="6175080"/>
              <a:ext cx="159840" cy="258840"/>
            </a:xfrm>
            <a:custGeom>
              <a:avLst/>
              <a:gdLst/>
              <a:ahLst/>
              <a:rect l="l" t="t" r="r" b="b"/>
              <a:pathLst>
                <a:path w="101" h="163">
                  <a:moveTo>
                    <a:pt x="53" y="24"/>
                  </a:moveTo>
                  <a:cubicBezTo>
                    <a:pt x="0" y="59"/>
                    <a:pt x="23" y="91"/>
                    <a:pt x="29" y="160"/>
                  </a:cubicBezTo>
                  <a:cubicBezTo>
                    <a:pt x="45" y="157"/>
                    <a:pt x="65" y="163"/>
                    <a:pt x="77" y="152"/>
                  </a:cubicBezTo>
                  <a:cubicBezTo>
                    <a:pt x="90" y="141"/>
                    <a:pt x="88" y="120"/>
                    <a:pt x="93" y="104"/>
                  </a:cubicBezTo>
                  <a:cubicBezTo>
                    <a:pt x="96" y="96"/>
                    <a:pt x="101" y="80"/>
                    <a:pt x="101" y="80"/>
                  </a:cubicBezTo>
                  <a:cubicBezTo>
                    <a:pt x="88" y="0"/>
                    <a:pt x="95" y="32"/>
                    <a:pt x="37" y="32"/>
                  </a:cubicBezTo>
                  <a:cubicBezTo>
                    <a:pt x="31" y="32"/>
                    <a:pt x="48" y="27"/>
                    <a:pt x="53" y="2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24240" y="6581520"/>
              <a:ext cx="77400" cy="14616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17" y="40"/>
                  </a:moveTo>
                  <a:cubicBezTo>
                    <a:pt x="2" y="84"/>
                    <a:pt x="0" y="92"/>
                    <a:pt x="49" y="80"/>
                  </a:cubicBezTo>
                  <a:cubicBezTo>
                    <a:pt x="46" y="67"/>
                    <a:pt x="49" y="51"/>
                    <a:pt x="41" y="40"/>
                  </a:cubicBezTo>
                  <a:cubicBezTo>
                    <a:pt x="14" y="0"/>
                    <a:pt x="17" y="33"/>
                    <a:pt x="17" y="4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81120" y="5522760"/>
              <a:ext cx="180720" cy="156960"/>
            </a:xfrm>
            <a:custGeom>
              <a:avLst/>
              <a:gdLst/>
              <a:ahLst/>
              <a:rect l="l" t="t" r="r" b="b"/>
              <a:pathLst>
                <a:path w="114" h="99">
                  <a:moveTo>
                    <a:pt x="13" y="11"/>
                  </a:moveTo>
                  <a:cubicBezTo>
                    <a:pt x="0" y="50"/>
                    <a:pt x="2" y="76"/>
                    <a:pt x="37" y="99"/>
                  </a:cubicBezTo>
                  <a:cubicBezTo>
                    <a:pt x="77" y="89"/>
                    <a:pt x="114" y="91"/>
                    <a:pt x="61" y="11"/>
                  </a:cubicBezTo>
                  <a:cubicBezTo>
                    <a:pt x="53" y="0"/>
                    <a:pt x="34" y="16"/>
                    <a:pt x="21" y="19"/>
                  </a:cubicBezTo>
                  <a:cubicBezTo>
                    <a:pt x="10" y="53"/>
                    <a:pt x="13" y="51"/>
                    <a:pt x="13" y="11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81360" y="5730840"/>
              <a:ext cx="75960" cy="2206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0" y="48"/>
                  </a:moveTo>
                  <a:cubicBezTo>
                    <a:pt x="7" y="88"/>
                    <a:pt x="9" y="139"/>
                    <a:pt x="48" y="80"/>
                  </a:cubicBezTo>
                  <a:cubicBezTo>
                    <a:pt x="41" y="41"/>
                    <a:pt x="48" y="0"/>
                    <a:pt x="0" y="4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33720" y="4787640"/>
              <a:ext cx="248760" cy="42408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68640" y="4817880"/>
              <a:ext cx="205920" cy="3715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22" y="23"/>
                  </a:moveTo>
                  <a:cubicBezTo>
                    <a:pt x="56" y="0"/>
                    <a:pt x="36" y="6"/>
                    <a:pt x="82" y="11"/>
                  </a:cubicBezTo>
                  <a:cubicBezTo>
                    <a:pt x="86" y="14"/>
                    <a:pt x="94" y="14"/>
                    <a:pt x="94" y="19"/>
                  </a:cubicBezTo>
                  <a:cubicBezTo>
                    <a:pt x="94" y="32"/>
                    <a:pt x="58" y="35"/>
                    <a:pt x="58" y="35"/>
                  </a:cubicBezTo>
                  <a:cubicBezTo>
                    <a:pt x="35" y="69"/>
                    <a:pt x="75" y="61"/>
                    <a:pt x="106" y="63"/>
                  </a:cubicBezTo>
                  <a:cubicBezTo>
                    <a:pt x="118" y="99"/>
                    <a:pt x="98" y="92"/>
                    <a:pt x="62" y="95"/>
                  </a:cubicBezTo>
                  <a:cubicBezTo>
                    <a:pt x="40" y="102"/>
                    <a:pt x="32" y="126"/>
                    <a:pt x="58" y="135"/>
                  </a:cubicBezTo>
                  <a:cubicBezTo>
                    <a:pt x="80" y="132"/>
                    <a:pt x="93" y="126"/>
                    <a:pt x="114" y="131"/>
                  </a:cubicBezTo>
                  <a:cubicBezTo>
                    <a:pt x="130" y="179"/>
                    <a:pt x="91" y="172"/>
                    <a:pt x="54" y="175"/>
                  </a:cubicBezTo>
                  <a:cubicBezTo>
                    <a:pt x="42" y="211"/>
                    <a:pt x="69" y="200"/>
                    <a:pt x="106" y="203"/>
                  </a:cubicBezTo>
                  <a:cubicBezTo>
                    <a:pt x="112" y="222"/>
                    <a:pt x="102" y="222"/>
                    <a:pt x="86" y="227"/>
                  </a:cubicBezTo>
                  <a:cubicBezTo>
                    <a:pt x="32" y="223"/>
                    <a:pt x="29" y="234"/>
                    <a:pt x="6" y="199"/>
                  </a:cubicBezTo>
                  <a:cubicBezTo>
                    <a:pt x="11" y="158"/>
                    <a:pt x="9" y="165"/>
                    <a:pt x="46" y="159"/>
                  </a:cubicBezTo>
                  <a:cubicBezTo>
                    <a:pt x="35" y="152"/>
                    <a:pt x="10" y="143"/>
                    <a:pt x="10" y="143"/>
                  </a:cubicBezTo>
                  <a:cubicBezTo>
                    <a:pt x="2" y="118"/>
                    <a:pt x="10" y="107"/>
                    <a:pt x="34" y="99"/>
                  </a:cubicBezTo>
                  <a:cubicBezTo>
                    <a:pt x="55" y="68"/>
                    <a:pt x="46" y="73"/>
                    <a:pt x="14" y="67"/>
                  </a:cubicBezTo>
                  <a:cubicBezTo>
                    <a:pt x="5" y="53"/>
                    <a:pt x="0" y="52"/>
                    <a:pt x="10" y="31"/>
                  </a:cubicBezTo>
                  <a:cubicBezTo>
                    <a:pt x="12" y="27"/>
                    <a:pt x="22" y="23"/>
                    <a:pt x="22" y="23"/>
                  </a:cubicBez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3418800">
              <a:off x="5012640" y="5290920"/>
              <a:ext cx="249120" cy="42336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797360" y="6156000"/>
              <a:ext cx="248760" cy="279360"/>
            </a:xfrm>
            <a:custGeom>
              <a:avLst/>
              <a:gdLst/>
              <a:ahLst/>
              <a:rect l="l" t="t" r="r" b="b"/>
              <a:pathLst>
                <a:path w="157" h="267">
                  <a:moveTo>
                    <a:pt x="20" y="40"/>
                  </a:moveTo>
                  <a:cubicBezTo>
                    <a:pt x="12" y="99"/>
                    <a:pt x="0" y="168"/>
                    <a:pt x="28" y="224"/>
                  </a:cubicBezTo>
                  <a:cubicBezTo>
                    <a:pt x="39" y="247"/>
                    <a:pt x="92" y="264"/>
                    <a:pt x="92" y="264"/>
                  </a:cubicBezTo>
                  <a:cubicBezTo>
                    <a:pt x="108" y="261"/>
                    <a:pt x="128" y="267"/>
                    <a:pt x="140" y="256"/>
                  </a:cubicBezTo>
                  <a:cubicBezTo>
                    <a:pt x="153" y="245"/>
                    <a:pt x="156" y="208"/>
                    <a:pt x="156" y="208"/>
                  </a:cubicBezTo>
                  <a:cubicBezTo>
                    <a:pt x="142" y="153"/>
                    <a:pt x="157" y="91"/>
                    <a:pt x="132" y="40"/>
                  </a:cubicBezTo>
                  <a:cubicBezTo>
                    <a:pt x="128" y="31"/>
                    <a:pt x="124" y="21"/>
                    <a:pt x="116" y="16"/>
                  </a:cubicBezTo>
                  <a:cubicBezTo>
                    <a:pt x="102" y="7"/>
                    <a:pt x="68" y="0"/>
                    <a:pt x="68" y="0"/>
                  </a:cubicBezTo>
                  <a:cubicBezTo>
                    <a:pt x="32" y="7"/>
                    <a:pt x="20" y="2"/>
                    <a:pt x="20" y="40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3240000">
              <a:off x="5023440" y="5352840"/>
              <a:ext cx="206640" cy="37116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22" y="23"/>
                  </a:moveTo>
                  <a:cubicBezTo>
                    <a:pt x="56" y="0"/>
                    <a:pt x="36" y="6"/>
                    <a:pt x="82" y="11"/>
                  </a:cubicBezTo>
                  <a:cubicBezTo>
                    <a:pt x="86" y="14"/>
                    <a:pt x="94" y="14"/>
                    <a:pt x="94" y="19"/>
                  </a:cubicBezTo>
                  <a:cubicBezTo>
                    <a:pt x="94" y="32"/>
                    <a:pt x="58" y="35"/>
                    <a:pt x="58" y="35"/>
                  </a:cubicBezTo>
                  <a:cubicBezTo>
                    <a:pt x="35" y="69"/>
                    <a:pt x="75" y="61"/>
                    <a:pt x="106" y="63"/>
                  </a:cubicBezTo>
                  <a:cubicBezTo>
                    <a:pt x="118" y="99"/>
                    <a:pt x="98" y="92"/>
                    <a:pt x="62" y="95"/>
                  </a:cubicBezTo>
                  <a:cubicBezTo>
                    <a:pt x="40" y="102"/>
                    <a:pt x="32" y="126"/>
                    <a:pt x="58" y="135"/>
                  </a:cubicBezTo>
                  <a:cubicBezTo>
                    <a:pt x="80" y="132"/>
                    <a:pt x="93" y="126"/>
                    <a:pt x="114" y="131"/>
                  </a:cubicBezTo>
                  <a:cubicBezTo>
                    <a:pt x="130" y="179"/>
                    <a:pt x="91" y="172"/>
                    <a:pt x="54" y="175"/>
                  </a:cubicBezTo>
                  <a:cubicBezTo>
                    <a:pt x="42" y="211"/>
                    <a:pt x="69" y="200"/>
                    <a:pt x="106" y="203"/>
                  </a:cubicBezTo>
                  <a:cubicBezTo>
                    <a:pt x="112" y="222"/>
                    <a:pt x="102" y="222"/>
                    <a:pt x="86" y="227"/>
                  </a:cubicBezTo>
                  <a:cubicBezTo>
                    <a:pt x="32" y="223"/>
                    <a:pt x="29" y="234"/>
                    <a:pt x="6" y="199"/>
                  </a:cubicBezTo>
                  <a:cubicBezTo>
                    <a:pt x="11" y="158"/>
                    <a:pt x="9" y="165"/>
                    <a:pt x="46" y="159"/>
                  </a:cubicBezTo>
                  <a:cubicBezTo>
                    <a:pt x="35" y="152"/>
                    <a:pt x="10" y="143"/>
                    <a:pt x="10" y="143"/>
                  </a:cubicBezTo>
                  <a:cubicBezTo>
                    <a:pt x="2" y="118"/>
                    <a:pt x="10" y="107"/>
                    <a:pt x="34" y="99"/>
                  </a:cubicBezTo>
                  <a:cubicBezTo>
                    <a:pt x="55" y="68"/>
                    <a:pt x="46" y="73"/>
                    <a:pt x="14" y="67"/>
                  </a:cubicBezTo>
                  <a:cubicBezTo>
                    <a:pt x="5" y="53"/>
                    <a:pt x="0" y="52"/>
                    <a:pt x="10" y="31"/>
                  </a:cubicBezTo>
                  <a:cubicBezTo>
                    <a:pt x="12" y="27"/>
                    <a:pt x="22" y="23"/>
                    <a:pt x="22" y="23"/>
                  </a:cubicBezTo>
                  <a:close/>
                </a:path>
              </a:pathLst>
            </a:custGeom>
            <a:solidFill>
              <a:srgbClr val="ff7c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33920" y="5984640"/>
              <a:ext cx="196560" cy="219240"/>
            </a:xfrm>
            <a:custGeom>
              <a:avLst/>
              <a:gdLst/>
              <a:ahLst/>
              <a:rect l="l" t="t" r="r" b="b"/>
              <a:pathLst>
                <a:path w="124" h="138">
                  <a:moveTo>
                    <a:pt x="32" y="0"/>
                  </a:moveTo>
                  <a:cubicBezTo>
                    <a:pt x="12" y="20"/>
                    <a:pt x="9" y="42"/>
                    <a:pt x="0" y="68"/>
                  </a:cubicBezTo>
                  <a:cubicBezTo>
                    <a:pt x="4" y="107"/>
                    <a:pt x="0" y="115"/>
                    <a:pt x="36" y="124"/>
                  </a:cubicBezTo>
                  <a:cubicBezTo>
                    <a:pt x="56" y="138"/>
                    <a:pt x="76" y="133"/>
                    <a:pt x="96" y="120"/>
                  </a:cubicBezTo>
                  <a:cubicBezTo>
                    <a:pt x="102" y="111"/>
                    <a:pt x="111" y="105"/>
                    <a:pt x="116" y="96"/>
                  </a:cubicBezTo>
                  <a:cubicBezTo>
                    <a:pt x="120" y="89"/>
                    <a:pt x="124" y="72"/>
                    <a:pt x="124" y="72"/>
                  </a:cubicBezTo>
                  <a:cubicBezTo>
                    <a:pt x="120" y="36"/>
                    <a:pt x="120" y="19"/>
                    <a:pt x="80" y="12"/>
                  </a:cubicBezTo>
                  <a:cubicBezTo>
                    <a:pt x="76" y="11"/>
                    <a:pt x="24" y="0"/>
                    <a:pt x="32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62440" y="6083280"/>
              <a:ext cx="2808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9360" y="6011640"/>
              <a:ext cx="28080" cy="5256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89360" y="6083280"/>
              <a:ext cx="28080" cy="52200"/>
            </a:xfrm>
            <a:custGeom>
              <a:avLst/>
              <a:gdLst/>
              <a:ahLst/>
              <a:rect l="l" t="t" r="r" b="b"/>
              <a:pathLst>
                <a:path w="18" h="33">
                  <a:moveTo>
                    <a:pt x="0" y="4"/>
                  </a:moveTo>
                  <a:cubicBezTo>
                    <a:pt x="7" y="33"/>
                    <a:pt x="18" y="24"/>
                    <a:pt x="12" y="0"/>
                  </a:cubicBezTo>
                  <a:cubicBezTo>
                    <a:pt x="8" y="1"/>
                    <a:pt x="0" y="4"/>
                    <a:pt x="0" y="4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41920" y="5319360"/>
              <a:ext cx="77400" cy="138240"/>
            </a:xfrm>
            <a:custGeom>
              <a:avLst/>
              <a:gdLst/>
              <a:ahLst/>
              <a:rect l="l" t="t" r="r" b="b"/>
              <a:pathLst>
                <a:path w="49" h="87">
                  <a:moveTo>
                    <a:pt x="16" y="15"/>
                  </a:moveTo>
                  <a:cubicBezTo>
                    <a:pt x="9" y="26"/>
                    <a:pt x="0" y="51"/>
                    <a:pt x="0" y="51"/>
                  </a:cubicBezTo>
                  <a:cubicBezTo>
                    <a:pt x="7" y="87"/>
                    <a:pt x="26" y="81"/>
                    <a:pt x="44" y="55"/>
                  </a:cubicBezTo>
                  <a:cubicBezTo>
                    <a:pt x="43" y="39"/>
                    <a:pt x="49" y="21"/>
                    <a:pt x="40" y="7"/>
                  </a:cubicBezTo>
                  <a:cubicBezTo>
                    <a:pt x="36" y="0"/>
                    <a:pt x="24" y="8"/>
                    <a:pt x="16" y="11"/>
                  </a:cubicBezTo>
                  <a:cubicBezTo>
                    <a:pt x="15" y="11"/>
                    <a:pt x="16" y="14"/>
                    <a:pt x="16" y="15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30560" y="4898880"/>
              <a:ext cx="169560" cy="127080"/>
            </a:xfrm>
            <a:custGeom>
              <a:avLst/>
              <a:gdLst/>
              <a:ahLst/>
              <a:rect l="l" t="t" r="r" b="b"/>
              <a:pathLst>
                <a:path w="107" h="80">
                  <a:moveTo>
                    <a:pt x="20" y="0"/>
                  </a:moveTo>
                  <a:cubicBezTo>
                    <a:pt x="7" y="13"/>
                    <a:pt x="0" y="18"/>
                    <a:pt x="8" y="36"/>
                  </a:cubicBezTo>
                  <a:cubicBezTo>
                    <a:pt x="23" y="70"/>
                    <a:pt x="61" y="70"/>
                    <a:pt x="92" y="80"/>
                  </a:cubicBezTo>
                  <a:cubicBezTo>
                    <a:pt x="107" y="57"/>
                    <a:pt x="93" y="32"/>
                    <a:pt x="68" y="24"/>
                  </a:cubicBezTo>
                  <a:cubicBezTo>
                    <a:pt x="60" y="1"/>
                    <a:pt x="42" y="0"/>
                    <a:pt x="20" y="0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90880" y="6789600"/>
              <a:ext cx="285480" cy="209520"/>
            </a:xfrm>
            <a:custGeom>
              <a:avLst/>
              <a:gdLst/>
              <a:ahLst/>
              <a:rect l="l" t="t" r="r" b="b"/>
              <a:pathLst>
                <a:path w="180" h="132">
                  <a:moveTo>
                    <a:pt x="52" y="13"/>
                  </a:moveTo>
                  <a:cubicBezTo>
                    <a:pt x="52" y="13"/>
                    <a:pt x="26" y="19"/>
                    <a:pt x="24" y="21"/>
                  </a:cubicBezTo>
                  <a:cubicBezTo>
                    <a:pt x="17" y="28"/>
                    <a:pt x="13" y="37"/>
                    <a:pt x="8" y="45"/>
                  </a:cubicBezTo>
                  <a:cubicBezTo>
                    <a:pt x="5" y="49"/>
                    <a:pt x="0" y="57"/>
                    <a:pt x="0" y="57"/>
                  </a:cubicBezTo>
                  <a:cubicBezTo>
                    <a:pt x="6" y="132"/>
                    <a:pt x="50" y="126"/>
                    <a:pt x="128" y="121"/>
                  </a:cubicBezTo>
                  <a:cubicBezTo>
                    <a:pt x="158" y="113"/>
                    <a:pt x="136" y="87"/>
                    <a:pt x="168" y="85"/>
                  </a:cubicBezTo>
                  <a:cubicBezTo>
                    <a:pt x="177" y="19"/>
                    <a:pt x="180" y="12"/>
                    <a:pt x="116" y="1"/>
                  </a:cubicBezTo>
                  <a:cubicBezTo>
                    <a:pt x="93" y="2"/>
                    <a:pt x="70" y="0"/>
                    <a:pt x="48" y="5"/>
                  </a:cubicBezTo>
                  <a:cubicBezTo>
                    <a:pt x="44" y="6"/>
                    <a:pt x="42" y="13"/>
                    <a:pt x="44" y="17"/>
                  </a:cubicBezTo>
                  <a:cubicBezTo>
                    <a:pt x="45" y="20"/>
                    <a:pt x="49" y="14"/>
                    <a:pt x="52" y="13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0080" y="6875280"/>
              <a:ext cx="60120" cy="522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8" y="8"/>
                  </a:moveTo>
                  <a:cubicBezTo>
                    <a:pt x="0" y="33"/>
                    <a:pt x="6" y="32"/>
                    <a:pt x="32" y="28"/>
                  </a:cubicBezTo>
                  <a:cubicBezTo>
                    <a:pt x="38" y="11"/>
                    <a:pt x="37" y="6"/>
                    <a:pt x="20" y="0"/>
                  </a:cubicBezTo>
                  <a:cubicBezTo>
                    <a:pt x="11" y="14"/>
                    <a:pt x="15" y="15"/>
                    <a:pt x="8" y="8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03640" y="6840360"/>
              <a:ext cx="41040" cy="586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6" y="5"/>
                  </a:moveTo>
                  <a:cubicBezTo>
                    <a:pt x="0" y="22"/>
                    <a:pt x="0" y="31"/>
                    <a:pt x="18" y="37"/>
                  </a:cubicBezTo>
                  <a:cubicBezTo>
                    <a:pt x="21" y="29"/>
                    <a:pt x="26" y="21"/>
                    <a:pt x="18" y="13"/>
                  </a:cubicBezTo>
                  <a:cubicBezTo>
                    <a:pt x="5" y="0"/>
                    <a:pt x="6" y="16"/>
                    <a:pt x="6" y="5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06800" y="6802200"/>
              <a:ext cx="4392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7" y="9"/>
                  </a:moveTo>
                  <a:cubicBezTo>
                    <a:pt x="0" y="29"/>
                    <a:pt x="12" y="26"/>
                    <a:pt x="27" y="21"/>
                  </a:cubicBezTo>
                  <a:cubicBezTo>
                    <a:pt x="22" y="0"/>
                    <a:pt x="28" y="4"/>
                    <a:pt x="7" y="9"/>
                  </a:cubicBez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208680" y="2916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élula pro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37760" y="687708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élula eucari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907920" y="900000"/>
            <a:ext cx="4686480" cy="307656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2296080" y="406728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íntesis de r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1680" y="6012000"/>
            <a:ext cx="661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nucléolos aumentan en tamaño y número cu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célula es estimulada a sintetizar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nucléolos se desorganizan durante la mitosis y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uelven a ensamblar luego de la división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666880" y="25146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24280" y="36576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181480" y="533412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2280" y="525780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91120" y="6934320"/>
            <a:ext cx="1143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23880" y="3886200"/>
            <a:ext cx="3429000" cy="3505320"/>
          </a:xfrm>
          <a:prstGeom prst="donut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44956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3809880" y="43434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43200" y="4267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962520" y="60958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191120" y="5257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1904760" y="60958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95480" y="670572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52480" y="5334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76720" y="2819520"/>
            <a:ext cx="304560" cy="380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05520" y="43434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334120" y="4038480"/>
            <a:ext cx="15228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4038480"/>
            <a:ext cx="152640" cy="152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410080" y="388620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7315200"/>
            <a:ext cx="15228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95280" y="7315200"/>
            <a:ext cx="99072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74674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739152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648320" y="7543800"/>
            <a:ext cx="7596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28800" y="7620120"/>
            <a:ext cx="30492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120" y="5486400"/>
            <a:ext cx="304560" cy="228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0" y="2590920"/>
            <a:ext cx="350496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rot="9504600">
            <a:off x="2117520" y="6204600"/>
            <a:ext cx="35046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6197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61974"/>
              </a:path>
            </a:pathLst>
          </a:custGeom>
          <a:noFill/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0" y="8305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-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0574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iso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990720"/>
            <a:ext cx="571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ganización y desorganización del nucleolo durante el ciclo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182680" y="3564000"/>
            <a:ext cx="1371600" cy="895320"/>
            <a:chOff x="2182680" y="3564000"/>
            <a:chExt cx="1371600" cy="895320"/>
          </a:xfrm>
        </p:grpSpPr>
        <p:sp>
          <p:nvSpPr>
            <p:cNvPr id="541" name=""/>
            <p:cNvSpPr/>
            <p:nvPr/>
          </p:nvSpPr>
          <p:spPr>
            <a:xfrm>
              <a:off x="2887560" y="3564000"/>
              <a:ext cx="666720" cy="666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82680" y="4240440"/>
              <a:ext cx="352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563400" y="2563920"/>
            <a:ext cx="5731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26840" y="3084480"/>
            <a:ext cx="94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94120" y="20764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499920" y="241128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2349360" y="2987280"/>
            <a:ext cx="28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685800" y="228600"/>
            <a:ext cx="5943600" cy="7848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838080"/>
            <a:ext cx="3047760" cy="350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228600"/>
            <a:ext cx="1190520" cy="1219320"/>
          </a:xfrm>
          <a:custGeom>
            <a:avLst/>
            <a:gdLst/>
            <a:ahLst/>
            <a:rect l="l" t="t" r="r" b="b"/>
            <a:pathLst>
              <a:path w="750" h="768">
                <a:moveTo>
                  <a:pt x="750" y="317"/>
                </a:moveTo>
                <a:cubicBezTo>
                  <a:pt x="740" y="317"/>
                  <a:pt x="670" y="269"/>
                  <a:pt x="642" y="257"/>
                </a:cubicBezTo>
                <a:cubicBezTo>
                  <a:pt x="614" y="245"/>
                  <a:pt x="598" y="257"/>
                  <a:pt x="582" y="245"/>
                </a:cubicBezTo>
                <a:cubicBezTo>
                  <a:pt x="568" y="247"/>
                  <a:pt x="558" y="178"/>
                  <a:pt x="546" y="185"/>
                </a:cubicBezTo>
                <a:cubicBezTo>
                  <a:pt x="534" y="192"/>
                  <a:pt x="512" y="192"/>
                  <a:pt x="498" y="197"/>
                </a:cubicBezTo>
                <a:cubicBezTo>
                  <a:pt x="450" y="273"/>
                  <a:pt x="408" y="200"/>
                  <a:pt x="317" y="186"/>
                </a:cubicBezTo>
                <a:cubicBezTo>
                  <a:pt x="327" y="197"/>
                  <a:pt x="334" y="211"/>
                  <a:pt x="346" y="218"/>
                </a:cubicBezTo>
                <a:cubicBezTo>
                  <a:pt x="375" y="233"/>
                  <a:pt x="419" y="227"/>
                  <a:pt x="437" y="253"/>
                </a:cubicBezTo>
                <a:cubicBezTo>
                  <a:pt x="448" y="269"/>
                  <a:pt x="428" y="299"/>
                  <a:pt x="411" y="308"/>
                </a:cubicBezTo>
                <a:cubicBezTo>
                  <a:pt x="389" y="319"/>
                  <a:pt x="362" y="304"/>
                  <a:pt x="338" y="302"/>
                </a:cubicBezTo>
                <a:cubicBezTo>
                  <a:pt x="342" y="356"/>
                  <a:pt x="357" y="401"/>
                  <a:pt x="361" y="457"/>
                </a:cubicBezTo>
                <a:cubicBezTo>
                  <a:pt x="362" y="469"/>
                  <a:pt x="364" y="494"/>
                  <a:pt x="364" y="494"/>
                </a:cubicBezTo>
                <a:cubicBezTo>
                  <a:pt x="299" y="711"/>
                  <a:pt x="349" y="768"/>
                  <a:pt x="190" y="698"/>
                </a:cubicBezTo>
                <a:cubicBezTo>
                  <a:pt x="201" y="662"/>
                  <a:pt x="272" y="476"/>
                  <a:pt x="262" y="407"/>
                </a:cubicBezTo>
                <a:cubicBezTo>
                  <a:pt x="260" y="394"/>
                  <a:pt x="241" y="392"/>
                  <a:pt x="230" y="387"/>
                </a:cubicBezTo>
                <a:cubicBezTo>
                  <a:pt x="205" y="374"/>
                  <a:pt x="178" y="366"/>
                  <a:pt x="152" y="355"/>
                </a:cubicBezTo>
                <a:cubicBezTo>
                  <a:pt x="138" y="318"/>
                  <a:pt x="116" y="283"/>
                  <a:pt x="166" y="247"/>
                </a:cubicBezTo>
                <a:cubicBezTo>
                  <a:pt x="182" y="236"/>
                  <a:pt x="207" y="249"/>
                  <a:pt x="227" y="250"/>
                </a:cubicBezTo>
                <a:cubicBezTo>
                  <a:pt x="243" y="225"/>
                  <a:pt x="280" y="178"/>
                  <a:pt x="253" y="145"/>
                </a:cubicBezTo>
                <a:cubicBezTo>
                  <a:pt x="227" y="114"/>
                  <a:pt x="143" y="93"/>
                  <a:pt x="143" y="93"/>
                </a:cubicBezTo>
                <a:cubicBezTo>
                  <a:pt x="110" y="0"/>
                  <a:pt x="53" y="161"/>
                  <a:pt x="42" y="53"/>
                </a:cubicBezTo>
                <a:cubicBezTo>
                  <a:pt x="35" y="43"/>
                  <a:pt x="0" y="65"/>
                  <a:pt x="18" y="65"/>
                </a:cubicBezTo>
                <a:cubicBezTo>
                  <a:pt x="36" y="65"/>
                  <a:pt x="123" y="55"/>
                  <a:pt x="150" y="53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6280" y="2195640"/>
            <a:ext cx="3124080" cy="4572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1752480"/>
            <a:ext cx="152280" cy="152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190512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9480" y="2057400"/>
            <a:ext cx="15264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1905120"/>
            <a:ext cx="152280" cy="152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1143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riboso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267080" y="1447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1969920"/>
            <a:ext cx="1206360" cy="179640"/>
          </a:xfrm>
          <a:custGeom>
            <a:avLst/>
            <a:gdLst/>
            <a:ahLst/>
            <a:rect l="l" t="t" r="r" b="b"/>
            <a:pathLst>
              <a:path w="760" h="113">
                <a:moveTo>
                  <a:pt x="0" y="91"/>
                </a:moveTo>
                <a:cubicBezTo>
                  <a:pt x="7" y="80"/>
                  <a:pt x="31" y="29"/>
                  <a:pt x="60" y="43"/>
                </a:cubicBezTo>
                <a:cubicBezTo>
                  <a:pt x="71" y="49"/>
                  <a:pt x="68" y="67"/>
                  <a:pt x="72" y="79"/>
                </a:cubicBezTo>
                <a:cubicBezTo>
                  <a:pt x="114" y="16"/>
                  <a:pt x="78" y="46"/>
                  <a:pt x="120" y="79"/>
                </a:cubicBezTo>
                <a:cubicBezTo>
                  <a:pt x="130" y="87"/>
                  <a:pt x="144" y="87"/>
                  <a:pt x="156" y="91"/>
                </a:cubicBezTo>
                <a:cubicBezTo>
                  <a:pt x="185" y="3"/>
                  <a:pt x="143" y="91"/>
                  <a:pt x="204" y="79"/>
                </a:cubicBezTo>
                <a:cubicBezTo>
                  <a:pt x="218" y="76"/>
                  <a:pt x="220" y="55"/>
                  <a:pt x="228" y="43"/>
                </a:cubicBezTo>
                <a:cubicBezTo>
                  <a:pt x="232" y="49"/>
                  <a:pt x="268" y="113"/>
                  <a:pt x="288" y="103"/>
                </a:cubicBezTo>
                <a:cubicBezTo>
                  <a:pt x="303" y="96"/>
                  <a:pt x="296" y="71"/>
                  <a:pt x="300" y="55"/>
                </a:cubicBezTo>
                <a:cubicBezTo>
                  <a:pt x="308" y="63"/>
                  <a:pt x="347" y="113"/>
                  <a:pt x="372" y="103"/>
                </a:cubicBezTo>
                <a:cubicBezTo>
                  <a:pt x="385" y="98"/>
                  <a:pt x="385" y="76"/>
                  <a:pt x="396" y="67"/>
                </a:cubicBezTo>
                <a:cubicBezTo>
                  <a:pt x="406" y="59"/>
                  <a:pt x="420" y="59"/>
                  <a:pt x="432" y="55"/>
                </a:cubicBezTo>
                <a:cubicBezTo>
                  <a:pt x="444" y="59"/>
                  <a:pt x="457" y="73"/>
                  <a:pt x="468" y="67"/>
                </a:cubicBezTo>
                <a:cubicBezTo>
                  <a:pt x="479" y="61"/>
                  <a:pt x="467" y="31"/>
                  <a:pt x="480" y="31"/>
                </a:cubicBezTo>
                <a:cubicBezTo>
                  <a:pt x="493" y="31"/>
                  <a:pt x="483" y="58"/>
                  <a:pt x="492" y="67"/>
                </a:cubicBezTo>
                <a:cubicBezTo>
                  <a:pt x="501" y="76"/>
                  <a:pt x="516" y="75"/>
                  <a:pt x="528" y="79"/>
                </a:cubicBezTo>
                <a:cubicBezTo>
                  <a:pt x="580" y="0"/>
                  <a:pt x="524" y="62"/>
                  <a:pt x="576" y="79"/>
                </a:cubicBezTo>
                <a:cubicBezTo>
                  <a:pt x="592" y="84"/>
                  <a:pt x="608" y="71"/>
                  <a:pt x="624" y="67"/>
                </a:cubicBezTo>
                <a:cubicBezTo>
                  <a:pt x="646" y="2"/>
                  <a:pt x="623" y="38"/>
                  <a:pt x="660" y="67"/>
                </a:cubicBezTo>
                <a:cubicBezTo>
                  <a:pt x="670" y="75"/>
                  <a:pt x="684" y="75"/>
                  <a:pt x="696" y="79"/>
                </a:cubicBezTo>
                <a:cubicBezTo>
                  <a:pt x="704" y="67"/>
                  <a:pt x="707" y="48"/>
                  <a:pt x="720" y="43"/>
                </a:cubicBezTo>
                <a:cubicBezTo>
                  <a:pt x="760" y="27"/>
                  <a:pt x="756" y="52"/>
                  <a:pt x="756" y="67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657240" y="220968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33520" y="3428640"/>
            <a:ext cx="31240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0" y="1676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RNA precursor 45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0840" y="2706840"/>
            <a:ext cx="593640" cy="608040"/>
          </a:xfrm>
          <a:custGeom>
            <a:avLst/>
            <a:gdLst/>
            <a:ahLst/>
            <a:rect l="l" t="t" r="r" b="b"/>
            <a:pathLst>
              <a:path w="374" h="383">
                <a:moveTo>
                  <a:pt x="48" y="35"/>
                </a:moveTo>
                <a:cubicBezTo>
                  <a:pt x="37" y="81"/>
                  <a:pt x="15" y="111"/>
                  <a:pt x="0" y="155"/>
                </a:cubicBezTo>
                <a:cubicBezTo>
                  <a:pt x="4" y="207"/>
                  <a:pt x="2" y="260"/>
                  <a:pt x="12" y="311"/>
                </a:cubicBezTo>
                <a:cubicBezTo>
                  <a:pt x="19" y="348"/>
                  <a:pt x="108" y="371"/>
                  <a:pt x="108" y="371"/>
                </a:cubicBezTo>
                <a:cubicBezTo>
                  <a:pt x="189" y="344"/>
                  <a:pt x="169" y="338"/>
                  <a:pt x="252" y="359"/>
                </a:cubicBezTo>
                <a:cubicBezTo>
                  <a:pt x="277" y="365"/>
                  <a:pt x="324" y="383"/>
                  <a:pt x="324" y="383"/>
                </a:cubicBezTo>
                <a:cubicBezTo>
                  <a:pt x="336" y="379"/>
                  <a:pt x="352" y="381"/>
                  <a:pt x="360" y="371"/>
                </a:cubicBezTo>
                <a:cubicBezTo>
                  <a:pt x="370" y="358"/>
                  <a:pt x="372" y="339"/>
                  <a:pt x="372" y="323"/>
                </a:cubicBezTo>
                <a:cubicBezTo>
                  <a:pt x="372" y="243"/>
                  <a:pt x="374" y="162"/>
                  <a:pt x="360" y="83"/>
                </a:cubicBezTo>
                <a:cubicBezTo>
                  <a:pt x="357" y="69"/>
                  <a:pt x="337" y="65"/>
                  <a:pt x="324" y="59"/>
                </a:cubicBezTo>
                <a:cubicBezTo>
                  <a:pt x="269" y="35"/>
                  <a:pt x="212" y="30"/>
                  <a:pt x="156" y="11"/>
                </a:cubicBezTo>
                <a:cubicBezTo>
                  <a:pt x="54" y="24"/>
                  <a:pt x="83" y="0"/>
                  <a:pt x="48" y="35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352680" y="2743200"/>
            <a:ext cx="533520" cy="426960"/>
          </a:xfrm>
          <a:custGeom>
            <a:avLst/>
            <a:gdLst/>
            <a:ahLst/>
            <a:rect l="l" t="t" r="r" b="b"/>
            <a:pathLst>
              <a:path w="272" h="269">
                <a:moveTo>
                  <a:pt x="64" y="12"/>
                </a:moveTo>
                <a:cubicBezTo>
                  <a:pt x="68" y="24"/>
                  <a:pt x="81" y="36"/>
                  <a:pt x="76" y="48"/>
                </a:cubicBezTo>
                <a:cubicBezTo>
                  <a:pt x="60" y="89"/>
                  <a:pt x="0" y="59"/>
                  <a:pt x="76" y="84"/>
                </a:cubicBezTo>
                <a:cubicBezTo>
                  <a:pt x="72" y="100"/>
                  <a:pt x="74" y="119"/>
                  <a:pt x="64" y="132"/>
                </a:cubicBezTo>
                <a:cubicBezTo>
                  <a:pt x="56" y="142"/>
                  <a:pt x="34" y="133"/>
                  <a:pt x="28" y="144"/>
                </a:cubicBezTo>
                <a:cubicBezTo>
                  <a:pt x="22" y="156"/>
                  <a:pt x="59" y="212"/>
                  <a:pt x="64" y="216"/>
                </a:cubicBezTo>
                <a:cubicBezTo>
                  <a:pt x="74" y="224"/>
                  <a:pt x="88" y="224"/>
                  <a:pt x="100" y="228"/>
                </a:cubicBezTo>
                <a:cubicBezTo>
                  <a:pt x="108" y="240"/>
                  <a:pt x="111" y="259"/>
                  <a:pt x="124" y="264"/>
                </a:cubicBezTo>
                <a:cubicBezTo>
                  <a:pt x="136" y="269"/>
                  <a:pt x="147" y="252"/>
                  <a:pt x="160" y="252"/>
                </a:cubicBezTo>
                <a:cubicBezTo>
                  <a:pt x="176" y="252"/>
                  <a:pt x="192" y="260"/>
                  <a:pt x="208" y="264"/>
                </a:cubicBezTo>
                <a:cubicBezTo>
                  <a:pt x="216" y="252"/>
                  <a:pt x="235" y="242"/>
                  <a:pt x="232" y="228"/>
                </a:cubicBezTo>
                <a:cubicBezTo>
                  <a:pt x="229" y="216"/>
                  <a:pt x="207" y="222"/>
                  <a:pt x="196" y="216"/>
                </a:cubicBezTo>
                <a:cubicBezTo>
                  <a:pt x="171" y="202"/>
                  <a:pt x="124" y="168"/>
                  <a:pt x="124" y="168"/>
                </a:cubicBezTo>
                <a:cubicBezTo>
                  <a:pt x="136" y="160"/>
                  <a:pt x="146" y="144"/>
                  <a:pt x="160" y="144"/>
                </a:cubicBezTo>
                <a:cubicBezTo>
                  <a:pt x="175" y="144"/>
                  <a:pt x="230" y="183"/>
                  <a:pt x="244" y="192"/>
                </a:cubicBezTo>
                <a:cubicBezTo>
                  <a:pt x="252" y="169"/>
                  <a:pt x="272" y="131"/>
                  <a:pt x="244" y="108"/>
                </a:cubicBezTo>
                <a:cubicBezTo>
                  <a:pt x="228" y="95"/>
                  <a:pt x="204" y="100"/>
                  <a:pt x="184" y="96"/>
                </a:cubicBezTo>
                <a:cubicBezTo>
                  <a:pt x="188" y="84"/>
                  <a:pt x="185" y="66"/>
                  <a:pt x="196" y="60"/>
                </a:cubicBezTo>
                <a:cubicBezTo>
                  <a:pt x="207" y="54"/>
                  <a:pt x="221" y="78"/>
                  <a:pt x="232" y="72"/>
                </a:cubicBezTo>
                <a:cubicBezTo>
                  <a:pt x="243" y="66"/>
                  <a:pt x="240" y="48"/>
                  <a:pt x="244" y="36"/>
                </a:cubicBezTo>
                <a:cubicBezTo>
                  <a:pt x="212" y="28"/>
                  <a:pt x="173" y="25"/>
                  <a:pt x="148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05320" y="2895480"/>
            <a:ext cx="15228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57600" y="30481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31240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86200" y="3124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504600" y="2743200"/>
            <a:ext cx="7596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9880" y="2819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114800" y="2819520"/>
            <a:ext cx="19051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ícula de ribonucleoproteí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80 proteín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57600" y="3352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2895120" y="3733920"/>
            <a:ext cx="7621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57600" y="3733920"/>
            <a:ext cx="6858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09760" y="5067360"/>
            <a:ext cx="776520" cy="293760"/>
          </a:xfrm>
          <a:custGeom>
            <a:avLst/>
            <a:gdLst/>
            <a:ahLst/>
            <a:rect l="l" t="t" r="r" b="b"/>
            <a:pathLst>
              <a:path w="489" h="185">
                <a:moveTo>
                  <a:pt x="33" y="64"/>
                </a:moveTo>
                <a:cubicBezTo>
                  <a:pt x="36" y="85"/>
                  <a:pt x="29" y="110"/>
                  <a:pt x="41" y="128"/>
                </a:cubicBezTo>
                <a:cubicBezTo>
                  <a:pt x="51" y="142"/>
                  <a:pt x="89" y="144"/>
                  <a:pt x="89" y="144"/>
                </a:cubicBezTo>
                <a:cubicBezTo>
                  <a:pt x="199" y="128"/>
                  <a:pt x="295" y="155"/>
                  <a:pt x="401" y="168"/>
                </a:cubicBezTo>
                <a:cubicBezTo>
                  <a:pt x="452" y="185"/>
                  <a:pt x="473" y="167"/>
                  <a:pt x="489" y="120"/>
                </a:cubicBezTo>
                <a:cubicBezTo>
                  <a:pt x="486" y="101"/>
                  <a:pt x="489" y="81"/>
                  <a:pt x="481" y="64"/>
                </a:cubicBezTo>
                <a:cubicBezTo>
                  <a:pt x="477" y="56"/>
                  <a:pt x="465" y="57"/>
                  <a:pt x="457" y="56"/>
                </a:cubicBezTo>
                <a:cubicBezTo>
                  <a:pt x="428" y="52"/>
                  <a:pt x="398" y="51"/>
                  <a:pt x="369" y="48"/>
                </a:cubicBezTo>
                <a:cubicBezTo>
                  <a:pt x="308" y="41"/>
                  <a:pt x="256" y="29"/>
                  <a:pt x="193" y="24"/>
                </a:cubicBezTo>
                <a:cubicBezTo>
                  <a:pt x="0" y="35"/>
                  <a:pt x="97" y="0"/>
                  <a:pt x="33" y="64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05360" y="4915080"/>
            <a:ext cx="985680" cy="506160"/>
          </a:xfrm>
          <a:custGeom>
            <a:avLst/>
            <a:gdLst/>
            <a:ahLst/>
            <a:rect l="l" t="t" r="r" b="b"/>
            <a:pathLst>
              <a:path w="621" h="319">
                <a:moveTo>
                  <a:pt x="213" y="304"/>
                </a:moveTo>
                <a:cubicBezTo>
                  <a:pt x="181" y="296"/>
                  <a:pt x="149" y="288"/>
                  <a:pt x="117" y="280"/>
                </a:cubicBezTo>
                <a:cubicBezTo>
                  <a:pt x="96" y="275"/>
                  <a:pt x="53" y="264"/>
                  <a:pt x="53" y="264"/>
                </a:cubicBezTo>
                <a:cubicBezTo>
                  <a:pt x="29" y="240"/>
                  <a:pt x="16" y="224"/>
                  <a:pt x="5" y="192"/>
                </a:cubicBezTo>
                <a:cubicBezTo>
                  <a:pt x="8" y="157"/>
                  <a:pt x="0" y="120"/>
                  <a:pt x="13" y="88"/>
                </a:cubicBezTo>
                <a:cubicBezTo>
                  <a:pt x="20" y="70"/>
                  <a:pt x="43" y="62"/>
                  <a:pt x="61" y="56"/>
                </a:cubicBezTo>
                <a:cubicBezTo>
                  <a:pt x="117" y="37"/>
                  <a:pt x="170" y="18"/>
                  <a:pt x="229" y="8"/>
                </a:cubicBezTo>
                <a:cubicBezTo>
                  <a:pt x="298" y="11"/>
                  <a:pt x="369" y="0"/>
                  <a:pt x="437" y="16"/>
                </a:cubicBezTo>
                <a:cubicBezTo>
                  <a:pt x="456" y="20"/>
                  <a:pt x="451" y="58"/>
                  <a:pt x="469" y="64"/>
                </a:cubicBezTo>
                <a:cubicBezTo>
                  <a:pt x="477" y="67"/>
                  <a:pt x="485" y="69"/>
                  <a:pt x="493" y="72"/>
                </a:cubicBezTo>
                <a:cubicBezTo>
                  <a:pt x="517" y="108"/>
                  <a:pt x="547" y="105"/>
                  <a:pt x="581" y="128"/>
                </a:cubicBezTo>
                <a:cubicBezTo>
                  <a:pt x="618" y="183"/>
                  <a:pt x="607" y="158"/>
                  <a:pt x="621" y="200"/>
                </a:cubicBezTo>
                <a:cubicBezTo>
                  <a:pt x="597" y="319"/>
                  <a:pt x="490" y="275"/>
                  <a:pt x="373" y="280"/>
                </a:cubicBezTo>
                <a:cubicBezTo>
                  <a:pt x="330" y="291"/>
                  <a:pt x="171" y="262"/>
                  <a:pt x="213" y="304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4920" y="4876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RNA 5 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0880" y="43434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2280" y="45720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9800" y="4638600"/>
            <a:ext cx="181080" cy="219240"/>
          </a:xfrm>
          <a:custGeom>
            <a:avLst/>
            <a:gdLst/>
            <a:ahLst/>
            <a:rect l="l" t="t" r="r" b="b"/>
            <a:pathLst>
              <a:path w="114" h="138">
                <a:moveTo>
                  <a:pt x="5" y="124"/>
                </a:moveTo>
                <a:cubicBezTo>
                  <a:pt x="46" y="0"/>
                  <a:pt x="0" y="104"/>
                  <a:pt x="41" y="124"/>
                </a:cubicBezTo>
                <a:cubicBezTo>
                  <a:pt x="69" y="138"/>
                  <a:pt x="98" y="104"/>
                  <a:pt x="114" y="88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76520" y="55627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unidad ribosomal pequeñ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33920" y="56386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unidad ribosomal gra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1676160" y="6629400"/>
            <a:ext cx="60948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2880" y="6400800"/>
            <a:ext cx="914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48120" y="81532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05520" y="4648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590920" y="14479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cle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81480" y="254160"/>
            <a:ext cx="1944720" cy="755640"/>
          </a:xfrm>
          <a:custGeom>
            <a:avLst/>
            <a:gdLst/>
            <a:ahLst/>
            <a:rect l="l" t="t" r="r" b="b"/>
            <a:pathLst>
              <a:path w="1225" h="476">
                <a:moveTo>
                  <a:pt x="162" y="20"/>
                </a:moveTo>
                <a:cubicBezTo>
                  <a:pt x="194" y="16"/>
                  <a:pt x="290" y="8"/>
                  <a:pt x="258" y="8"/>
                </a:cubicBezTo>
                <a:cubicBezTo>
                  <a:pt x="210" y="8"/>
                  <a:pt x="158" y="0"/>
                  <a:pt x="114" y="20"/>
                </a:cubicBezTo>
                <a:cubicBezTo>
                  <a:pt x="99" y="27"/>
                  <a:pt x="122" y="52"/>
                  <a:pt x="126" y="68"/>
                </a:cubicBezTo>
                <a:cubicBezTo>
                  <a:pt x="142" y="64"/>
                  <a:pt x="159" y="62"/>
                  <a:pt x="174" y="56"/>
                </a:cubicBezTo>
                <a:cubicBezTo>
                  <a:pt x="187" y="50"/>
                  <a:pt x="196" y="34"/>
                  <a:pt x="210" y="32"/>
                </a:cubicBezTo>
                <a:cubicBezTo>
                  <a:pt x="230" y="29"/>
                  <a:pt x="250" y="40"/>
                  <a:pt x="270" y="44"/>
                </a:cubicBezTo>
                <a:cubicBezTo>
                  <a:pt x="325" y="81"/>
                  <a:pt x="325" y="67"/>
                  <a:pt x="378" y="32"/>
                </a:cubicBezTo>
                <a:cubicBezTo>
                  <a:pt x="382" y="47"/>
                  <a:pt x="387" y="112"/>
                  <a:pt x="426" y="104"/>
                </a:cubicBezTo>
                <a:cubicBezTo>
                  <a:pt x="440" y="101"/>
                  <a:pt x="439" y="77"/>
                  <a:pt x="450" y="68"/>
                </a:cubicBezTo>
                <a:cubicBezTo>
                  <a:pt x="460" y="60"/>
                  <a:pt x="474" y="60"/>
                  <a:pt x="486" y="56"/>
                </a:cubicBezTo>
                <a:cubicBezTo>
                  <a:pt x="509" y="60"/>
                  <a:pt x="582" y="54"/>
                  <a:pt x="582" y="104"/>
                </a:cubicBezTo>
                <a:cubicBezTo>
                  <a:pt x="582" y="118"/>
                  <a:pt x="566" y="128"/>
                  <a:pt x="558" y="140"/>
                </a:cubicBezTo>
                <a:cubicBezTo>
                  <a:pt x="562" y="152"/>
                  <a:pt x="559" y="170"/>
                  <a:pt x="570" y="176"/>
                </a:cubicBezTo>
                <a:cubicBezTo>
                  <a:pt x="581" y="182"/>
                  <a:pt x="600" y="175"/>
                  <a:pt x="606" y="164"/>
                </a:cubicBezTo>
                <a:cubicBezTo>
                  <a:pt x="619" y="139"/>
                  <a:pt x="614" y="108"/>
                  <a:pt x="618" y="80"/>
                </a:cubicBezTo>
                <a:cubicBezTo>
                  <a:pt x="630" y="84"/>
                  <a:pt x="649" y="80"/>
                  <a:pt x="654" y="92"/>
                </a:cubicBezTo>
                <a:cubicBezTo>
                  <a:pt x="689" y="171"/>
                  <a:pt x="639" y="229"/>
                  <a:pt x="690" y="152"/>
                </a:cubicBezTo>
                <a:cubicBezTo>
                  <a:pt x="718" y="160"/>
                  <a:pt x="749" y="162"/>
                  <a:pt x="774" y="176"/>
                </a:cubicBezTo>
                <a:cubicBezTo>
                  <a:pt x="787" y="183"/>
                  <a:pt x="784" y="212"/>
                  <a:pt x="798" y="212"/>
                </a:cubicBezTo>
                <a:cubicBezTo>
                  <a:pt x="811" y="212"/>
                  <a:pt x="794" y="186"/>
                  <a:pt x="786" y="176"/>
                </a:cubicBezTo>
                <a:cubicBezTo>
                  <a:pt x="769" y="155"/>
                  <a:pt x="738" y="148"/>
                  <a:pt x="714" y="140"/>
                </a:cubicBezTo>
                <a:cubicBezTo>
                  <a:pt x="698" y="144"/>
                  <a:pt x="659" y="137"/>
                  <a:pt x="666" y="152"/>
                </a:cubicBezTo>
                <a:cubicBezTo>
                  <a:pt x="678" y="177"/>
                  <a:pt x="758" y="193"/>
                  <a:pt x="786" y="200"/>
                </a:cubicBezTo>
                <a:cubicBezTo>
                  <a:pt x="814" y="191"/>
                  <a:pt x="868" y="186"/>
                  <a:pt x="810" y="128"/>
                </a:cubicBezTo>
                <a:cubicBezTo>
                  <a:pt x="792" y="110"/>
                  <a:pt x="738" y="104"/>
                  <a:pt x="738" y="104"/>
                </a:cubicBezTo>
                <a:cubicBezTo>
                  <a:pt x="726" y="108"/>
                  <a:pt x="699" y="104"/>
                  <a:pt x="702" y="116"/>
                </a:cubicBezTo>
                <a:cubicBezTo>
                  <a:pt x="707" y="135"/>
                  <a:pt x="733" y="142"/>
                  <a:pt x="750" y="152"/>
                </a:cubicBezTo>
                <a:cubicBezTo>
                  <a:pt x="780" y="169"/>
                  <a:pt x="825" y="189"/>
                  <a:pt x="858" y="200"/>
                </a:cubicBezTo>
                <a:cubicBezTo>
                  <a:pt x="866" y="212"/>
                  <a:pt x="877" y="222"/>
                  <a:pt x="882" y="236"/>
                </a:cubicBezTo>
                <a:cubicBezTo>
                  <a:pt x="890" y="259"/>
                  <a:pt x="875" y="292"/>
                  <a:pt x="894" y="308"/>
                </a:cubicBezTo>
                <a:cubicBezTo>
                  <a:pt x="902" y="315"/>
                  <a:pt x="974" y="289"/>
                  <a:pt x="990" y="284"/>
                </a:cubicBezTo>
                <a:cubicBezTo>
                  <a:pt x="1002" y="292"/>
                  <a:pt x="1017" y="297"/>
                  <a:pt x="1026" y="308"/>
                </a:cubicBezTo>
                <a:cubicBezTo>
                  <a:pt x="1045" y="330"/>
                  <a:pt x="1074" y="380"/>
                  <a:pt x="1074" y="380"/>
                </a:cubicBezTo>
                <a:cubicBezTo>
                  <a:pt x="1068" y="399"/>
                  <a:pt x="1038" y="452"/>
                  <a:pt x="1098" y="452"/>
                </a:cubicBezTo>
                <a:cubicBezTo>
                  <a:pt x="1112" y="452"/>
                  <a:pt x="1114" y="428"/>
                  <a:pt x="1122" y="416"/>
                </a:cubicBezTo>
                <a:cubicBezTo>
                  <a:pt x="1118" y="404"/>
                  <a:pt x="1116" y="391"/>
                  <a:pt x="1110" y="380"/>
                </a:cubicBezTo>
                <a:cubicBezTo>
                  <a:pt x="1088" y="337"/>
                  <a:pt x="1064" y="337"/>
                  <a:pt x="1122" y="356"/>
                </a:cubicBezTo>
                <a:cubicBezTo>
                  <a:pt x="1130" y="380"/>
                  <a:pt x="1138" y="404"/>
                  <a:pt x="1146" y="428"/>
                </a:cubicBezTo>
                <a:cubicBezTo>
                  <a:pt x="1162" y="476"/>
                  <a:pt x="1146" y="460"/>
                  <a:pt x="1194" y="476"/>
                </a:cubicBezTo>
                <a:cubicBezTo>
                  <a:pt x="1202" y="464"/>
                  <a:pt x="1225" y="453"/>
                  <a:pt x="1218" y="440"/>
                </a:cubicBezTo>
                <a:cubicBezTo>
                  <a:pt x="1189" y="390"/>
                  <a:pt x="1085" y="372"/>
                  <a:pt x="1038" y="356"/>
                </a:cubicBezTo>
                <a:cubicBezTo>
                  <a:pt x="1024" y="351"/>
                  <a:pt x="1015" y="338"/>
                  <a:pt x="1002" y="332"/>
                </a:cubicBezTo>
                <a:cubicBezTo>
                  <a:pt x="979" y="322"/>
                  <a:pt x="930" y="308"/>
                  <a:pt x="930" y="308"/>
                </a:cubicBezTo>
                <a:cubicBezTo>
                  <a:pt x="856" y="327"/>
                  <a:pt x="827" y="301"/>
                  <a:pt x="750" y="272"/>
                </a:cubicBezTo>
                <a:cubicBezTo>
                  <a:pt x="738" y="256"/>
                  <a:pt x="723" y="242"/>
                  <a:pt x="714" y="224"/>
                </a:cubicBezTo>
                <a:cubicBezTo>
                  <a:pt x="707" y="209"/>
                  <a:pt x="711" y="190"/>
                  <a:pt x="702" y="176"/>
                </a:cubicBezTo>
                <a:cubicBezTo>
                  <a:pt x="662" y="116"/>
                  <a:pt x="460" y="129"/>
                  <a:pt x="450" y="128"/>
                </a:cubicBezTo>
                <a:cubicBezTo>
                  <a:pt x="362" y="99"/>
                  <a:pt x="396" y="122"/>
                  <a:pt x="342" y="68"/>
                </a:cubicBezTo>
                <a:cubicBezTo>
                  <a:pt x="273" y="91"/>
                  <a:pt x="219" y="102"/>
                  <a:pt x="162" y="140"/>
                </a:cubicBezTo>
                <a:cubicBezTo>
                  <a:pt x="134" y="136"/>
                  <a:pt x="104" y="139"/>
                  <a:pt x="78" y="128"/>
                </a:cubicBezTo>
                <a:cubicBezTo>
                  <a:pt x="2" y="94"/>
                  <a:pt x="138" y="8"/>
                  <a:pt x="30" y="44"/>
                </a:cubicBezTo>
                <a:cubicBezTo>
                  <a:pt x="22" y="56"/>
                  <a:pt x="0" y="67"/>
                  <a:pt x="6" y="80"/>
                </a:cubicBezTo>
                <a:cubicBezTo>
                  <a:pt x="12" y="91"/>
                  <a:pt x="32" y="76"/>
                  <a:pt x="42" y="68"/>
                </a:cubicBezTo>
                <a:cubicBezTo>
                  <a:pt x="53" y="59"/>
                  <a:pt x="55" y="41"/>
                  <a:pt x="66" y="32"/>
                </a:cubicBezTo>
                <a:cubicBezTo>
                  <a:pt x="76" y="24"/>
                  <a:pt x="90" y="24"/>
                  <a:pt x="102" y="20"/>
                </a:cubicBezTo>
                <a:cubicBezTo>
                  <a:pt x="110" y="32"/>
                  <a:pt x="113" y="50"/>
                  <a:pt x="126" y="56"/>
                </a:cubicBezTo>
                <a:cubicBezTo>
                  <a:pt x="152" y="67"/>
                  <a:pt x="182" y="63"/>
                  <a:pt x="210" y="68"/>
                </a:cubicBezTo>
                <a:cubicBezTo>
                  <a:pt x="255" y="76"/>
                  <a:pt x="298" y="93"/>
                  <a:pt x="342" y="104"/>
                </a:cubicBezTo>
                <a:cubicBezTo>
                  <a:pt x="346" y="116"/>
                  <a:pt x="343" y="134"/>
                  <a:pt x="354" y="140"/>
                </a:cubicBezTo>
                <a:cubicBezTo>
                  <a:pt x="365" y="146"/>
                  <a:pt x="390" y="128"/>
                  <a:pt x="390" y="128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36840" y="4572000"/>
            <a:ext cx="3207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125360" y="4572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Structuras nucle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80880" y="1523880"/>
            <a:ext cx="647712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Nucleoplas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umen nu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matina (condensada o lax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replicación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as de reparación del 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de transcripción g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quinaria” de procesamiento de 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Lámina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(esqueleto nu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Nucleol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Maquinaria” de síntesis de rRNA 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amblaje de riboso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Envoltura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Membrana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brana externa (continuidad 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pacio prinuclear (cont. lumen 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Poro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jo multiproteico (100 proteí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a molecular 125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" y="7543800"/>
            <a:ext cx="586728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ucturas nucle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sambla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71800" y="8153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836640" y="1547640"/>
            <a:ext cx="2209680" cy="2057400"/>
            <a:chOff x="836640" y="1547640"/>
            <a:chExt cx="2209680" cy="2057400"/>
          </a:xfrm>
        </p:grpSpPr>
        <p:sp>
          <p:nvSpPr>
            <p:cNvPr id="594" name=""/>
            <p:cNvSpPr/>
            <p:nvPr/>
          </p:nvSpPr>
          <p:spPr>
            <a:xfrm>
              <a:off x="836640" y="1547640"/>
              <a:ext cx="2209680" cy="2057400"/>
            </a:xfrm>
            <a:prstGeom prst="ellipse">
              <a:avLst/>
            </a:prstGeom>
            <a:gradFill rotWithShape="0">
              <a:gsLst>
                <a:gs pos="0">
                  <a:srgbClr val="755e46"/>
                </a:gs>
                <a:gs pos="100000">
                  <a:srgbClr val="ff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08240" y="20811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84200" y="26143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79640" y="246204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03320" y="19285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31920" y="29955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74720" y="21571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69800" y="26143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98400" y="24620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598400" y="16999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93840" y="2157120"/>
              <a:ext cx="96840" cy="98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88920" y="2157120"/>
              <a:ext cx="96840" cy="98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293840" y="17762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293840" y="299556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988920" y="2842920"/>
              <a:ext cx="96840" cy="9864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12600" y="2462040"/>
              <a:ext cx="96840" cy="98280"/>
            </a:xfrm>
            <a:prstGeom prst="ellips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7000" y="28429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89120" y="30715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817720" y="28429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894040" y="23857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741400" y="208116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12800" y="185256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208240" y="1699920"/>
              <a:ext cx="96840" cy="98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12800" y="2233440"/>
              <a:ext cx="96840" cy="9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79640" y="1623960"/>
              <a:ext cx="96840" cy="982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54320" y="32731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93960" y="3273120"/>
              <a:ext cx="96840" cy="986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533600" y="3201840"/>
              <a:ext cx="96840" cy="98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60280" y="3787920"/>
            <a:ext cx="6096240" cy="3065760"/>
            <a:chOff x="260280" y="3787920"/>
            <a:chExt cx="6096240" cy="3065760"/>
          </a:xfrm>
        </p:grpSpPr>
        <p:sp>
          <p:nvSpPr>
            <p:cNvPr id="623" name=""/>
            <p:cNvSpPr/>
            <p:nvPr/>
          </p:nvSpPr>
          <p:spPr>
            <a:xfrm>
              <a:off x="5137200" y="3940200"/>
              <a:ext cx="888840" cy="944640"/>
            </a:xfrm>
            <a:custGeom>
              <a:avLst/>
              <a:gdLst/>
              <a:ahLst/>
              <a:rect l="l" t="t" r="r" b="b"/>
              <a:pathLst>
                <a:path w="538" h="595">
                  <a:moveTo>
                    <a:pt x="5" y="0"/>
                  </a:moveTo>
                  <a:cubicBezTo>
                    <a:pt x="94" y="7"/>
                    <a:pt x="180" y="26"/>
                    <a:pt x="269" y="36"/>
                  </a:cubicBezTo>
                  <a:cubicBezTo>
                    <a:pt x="297" y="45"/>
                    <a:pt x="325" y="46"/>
                    <a:pt x="353" y="54"/>
                  </a:cubicBezTo>
                  <a:cubicBezTo>
                    <a:pt x="387" y="63"/>
                    <a:pt x="436" y="13"/>
                    <a:pt x="468" y="24"/>
                  </a:cubicBezTo>
                  <a:cubicBezTo>
                    <a:pt x="538" y="129"/>
                    <a:pt x="455" y="444"/>
                    <a:pt x="449" y="582"/>
                  </a:cubicBezTo>
                  <a:cubicBezTo>
                    <a:pt x="349" y="569"/>
                    <a:pt x="421" y="595"/>
                    <a:pt x="395" y="438"/>
                  </a:cubicBezTo>
                  <a:cubicBezTo>
                    <a:pt x="395" y="436"/>
                    <a:pt x="336" y="424"/>
                    <a:pt x="323" y="420"/>
                  </a:cubicBezTo>
                  <a:cubicBezTo>
                    <a:pt x="319" y="414"/>
                    <a:pt x="311" y="409"/>
                    <a:pt x="311" y="402"/>
                  </a:cubicBezTo>
                  <a:cubicBezTo>
                    <a:pt x="311" y="389"/>
                    <a:pt x="323" y="366"/>
                    <a:pt x="323" y="366"/>
                  </a:cubicBezTo>
                  <a:cubicBezTo>
                    <a:pt x="326" y="328"/>
                    <a:pt x="335" y="290"/>
                    <a:pt x="335" y="252"/>
                  </a:cubicBezTo>
                  <a:cubicBezTo>
                    <a:pt x="335" y="197"/>
                    <a:pt x="327" y="168"/>
                    <a:pt x="311" y="120"/>
                  </a:cubicBezTo>
                  <a:cubicBezTo>
                    <a:pt x="307" y="108"/>
                    <a:pt x="287" y="112"/>
                    <a:pt x="275" y="108"/>
                  </a:cubicBezTo>
                  <a:cubicBezTo>
                    <a:pt x="268" y="106"/>
                    <a:pt x="264" y="99"/>
                    <a:pt x="257" y="96"/>
                  </a:cubicBezTo>
                  <a:cubicBezTo>
                    <a:pt x="198" y="70"/>
                    <a:pt x="136" y="75"/>
                    <a:pt x="71" y="72"/>
                  </a:cubicBezTo>
                  <a:cubicBezTo>
                    <a:pt x="0" y="63"/>
                    <a:pt x="5" y="77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75080" y="3787920"/>
              <a:ext cx="1646280" cy="379440"/>
            </a:xfrm>
            <a:custGeom>
              <a:avLst/>
              <a:gdLst/>
              <a:ahLst/>
              <a:rect l="l" t="t" r="r" b="b"/>
              <a:pathLst>
                <a:path w="1037" h="239">
                  <a:moveTo>
                    <a:pt x="0" y="85"/>
                  </a:moveTo>
                  <a:cubicBezTo>
                    <a:pt x="2" y="94"/>
                    <a:pt x="15" y="144"/>
                    <a:pt x="19" y="145"/>
                  </a:cubicBezTo>
                  <a:cubicBezTo>
                    <a:pt x="118" y="177"/>
                    <a:pt x="43" y="157"/>
                    <a:pt x="250" y="163"/>
                  </a:cubicBezTo>
                  <a:cubicBezTo>
                    <a:pt x="398" y="179"/>
                    <a:pt x="546" y="195"/>
                    <a:pt x="693" y="223"/>
                  </a:cubicBezTo>
                  <a:cubicBezTo>
                    <a:pt x="743" y="221"/>
                    <a:pt x="787" y="239"/>
                    <a:pt x="836" y="232"/>
                  </a:cubicBezTo>
                  <a:cubicBezTo>
                    <a:pt x="865" y="228"/>
                    <a:pt x="847" y="185"/>
                    <a:pt x="842" y="181"/>
                  </a:cubicBezTo>
                  <a:cubicBezTo>
                    <a:pt x="829" y="168"/>
                    <a:pt x="803" y="161"/>
                    <a:pt x="786" y="157"/>
                  </a:cubicBezTo>
                  <a:cubicBezTo>
                    <a:pt x="723" y="142"/>
                    <a:pt x="669" y="142"/>
                    <a:pt x="599" y="139"/>
                  </a:cubicBezTo>
                  <a:cubicBezTo>
                    <a:pt x="580" y="137"/>
                    <a:pt x="561" y="140"/>
                    <a:pt x="543" y="133"/>
                  </a:cubicBezTo>
                  <a:cubicBezTo>
                    <a:pt x="537" y="131"/>
                    <a:pt x="534" y="121"/>
                    <a:pt x="537" y="115"/>
                  </a:cubicBezTo>
                  <a:cubicBezTo>
                    <a:pt x="540" y="109"/>
                    <a:pt x="558" y="122"/>
                    <a:pt x="564" y="120"/>
                  </a:cubicBezTo>
                  <a:cubicBezTo>
                    <a:pt x="648" y="124"/>
                    <a:pt x="648" y="116"/>
                    <a:pt x="711" y="126"/>
                  </a:cubicBezTo>
                  <a:cubicBezTo>
                    <a:pt x="738" y="130"/>
                    <a:pt x="766" y="136"/>
                    <a:pt x="793" y="139"/>
                  </a:cubicBezTo>
                  <a:cubicBezTo>
                    <a:pt x="828" y="143"/>
                    <a:pt x="845" y="154"/>
                    <a:pt x="874" y="162"/>
                  </a:cubicBezTo>
                  <a:cubicBezTo>
                    <a:pt x="886" y="166"/>
                    <a:pt x="911" y="176"/>
                    <a:pt x="924" y="180"/>
                  </a:cubicBezTo>
                  <a:cubicBezTo>
                    <a:pt x="930" y="182"/>
                    <a:pt x="924" y="169"/>
                    <a:pt x="924" y="169"/>
                  </a:cubicBezTo>
                  <a:cubicBezTo>
                    <a:pt x="933" y="195"/>
                    <a:pt x="952" y="198"/>
                    <a:pt x="961" y="224"/>
                  </a:cubicBezTo>
                  <a:cubicBezTo>
                    <a:pt x="965" y="236"/>
                    <a:pt x="974" y="216"/>
                    <a:pt x="974" y="216"/>
                  </a:cubicBezTo>
                  <a:cubicBezTo>
                    <a:pt x="1003" y="204"/>
                    <a:pt x="975" y="219"/>
                    <a:pt x="990" y="212"/>
                  </a:cubicBezTo>
                  <a:cubicBezTo>
                    <a:pt x="996" y="209"/>
                    <a:pt x="1007" y="218"/>
                    <a:pt x="1007" y="212"/>
                  </a:cubicBezTo>
                  <a:cubicBezTo>
                    <a:pt x="1007" y="129"/>
                    <a:pt x="1037" y="159"/>
                    <a:pt x="982" y="124"/>
                  </a:cubicBezTo>
                  <a:cubicBezTo>
                    <a:pt x="950" y="31"/>
                    <a:pt x="759" y="61"/>
                    <a:pt x="680" y="55"/>
                  </a:cubicBezTo>
                  <a:cubicBezTo>
                    <a:pt x="586" y="57"/>
                    <a:pt x="478" y="0"/>
                    <a:pt x="437" y="79"/>
                  </a:cubicBezTo>
                  <a:cubicBezTo>
                    <a:pt x="422" y="108"/>
                    <a:pt x="443" y="89"/>
                    <a:pt x="412" y="109"/>
                  </a:cubicBezTo>
                  <a:cubicBezTo>
                    <a:pt x="295" y="100"/>
                    <a:pt x="187" y="89"/>
                    <a:pt x="69" y="85"/>
                  </a:cubicBezTo>
                  <a:cubicBezTo>
                    <a:pt x="60" y="83"/>
                    <a:pt x="52" y="79"/>
                    <a:pt x="44" y="79"/>
                  </a:cubicBezTo>
                  <a:cubicBezTo>
                    <a:pt x="29" y="79"/>
                    <a:pt x="0" y="85"/>
                    <a:pt x="0" y="85"/>
                  </a:cubicBez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59240" y="3946680"/>
              <a:ext cx="1443240" cy="669600"/>
            </a:xfrm>
            <a:custGeom>
              <a:avLst/>
              <a:gdLst/>
              <a:ahLst/>
              <a:rect l="l" t="t" r="r" b="b"/>
              <a:pathLst>
                <a:path w="874" h="422">
                  <a:moveTo>
                    <a:pt x="2" y="0"/>
                  </a:moveTo>
                  <a:cubicBezTo>
                    <a:pt x="0" y="84"/>
                    <a:pt x="13" y="212"/>
                    <a:pt x="13" y="296"/>
                  </a:cubicBezTo>
                  <a:cubicBezTo>
                    <a:pt x="13" y="312"/>
                    <a:pt x="10" y="331"/>
                    <a:pt x="19" y="344"/>
                  </a:cubicBezTo>
                  <a:cubicBezTo>
                    <a:pt x="31" y="361"/>
                    <a:pt x="59" y="335"/>
                    <a:pt x="79" y="332"/>
                  </a:cubicBezTo>
                  <a:cubicBezTo>
                    <a:pt x="161" y="334"/>
                    <a:pt x="243" y="334"/>
                    <a:pt x="325" y="338"/>
                  </a:cubicBezTo>
                  <a:cubicBezTo>
                    <a:pt x="410" y="342"/>
                    <a:pt x="497" y="367"/>
                    <a:pt x="583" y="374"/>
                  </a:cubicBezTo>
                  <a:cubicBezTo>
                    <a:pt x="662" y="394"/>
                    <a:pt x="746" y="396"/>
                    <a:pt x="823" y="422"/>
                  </a:cubicBezTo>
                  <a:cubicBezTo>
                    <a:pt x="827" y="416"/>
                    <a:pt x="835" y="411"/>
                    <a:pt x="835" y="404"/>
                  </a:cubicBezTo>
                  <a:cubicBezTo>
                    <a:pt x="840" y="177"/>
                    <a:pt x="874" y="92"/>
                    <a:pt x="718" y="128"/>
                  </a:cubicBezTo>
                  <a:cubicBezTo>
                    <a:pt x="556" y="74"/>
                    <a:pt x="420" y="68"/>
                    <a:pt x="246" y="64"/>
                  </a:cubicBezTo>
                  <a:cubicBezTo>
                    <a:pt x="176" y="46"/>
                    <a:pt x="78" y="9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079800" y="3956040"/>
              <a:ext cx="814320" cy="1184400"/>
            </a:xfrm>
            <a:custGeom>
              <a:avLst/>
              <a:gdLst/>
              <a:ahLst/>
              <a:rect l="l" t="t" r="r" b="b"/>
              <a:pathLst>
                <a:path w="493" h="746">
                  <a:moveTo>
                    <a:pt x="457" y="38"/>
                  </a:moveTo>
                  <a:cubicBezTo>
                    <a:pt x="493" y="48"/>
                    <a:pt x="482" y="0"/>
                    <a:pt x="480" y="110"/>
                  </a:cubicBezTo>
                  <a:cubicBezTo>
                    <a:pt x="478" y="220"/>
                    <a:pt x="459" y="592"/>
                    <a:pt x="445" y="698"/>
                  </a:cubicBezTo>
                  <a:cubicBezTo>
                    <a:pt x="443" y="741"/>
                    <a:pt x="431" y="735"/>
                    <a:pt x="397" y="746"/>
                  </a:cubicBezTo>
                  <a:cubicBezTo>
                    <a:pt x="369" y="742"/>
                    <a:pt x="339" y="745"/>
                    <a:pt x="313" y="734"/>
                  </a:cubicBezTo>
                  <a:cubicBezTo>
                    <a:pt x="300" y="728"/>
                    <a:pt x="299" y="708"/>
                    <a:pt x="289" y="698"/>
                  </a:cubicBezTo>
                  <a:cubicBezTo>
                    <a:pt x="279" y="688"/>
                    <a:pt x="265" y="682"/>
                    <a:pt x="253" y="674"/>
                  </a:cubicBezTo>
                  <a:cubicBezTo>
                    <a:pt x="228" y="637"/>
                    <a:pt x="193" y="606"/>
                    <a:pt x="157" y="578"/>
                  </a:cubicBezTo>
                  <a:cubicBezTo>
                    <a:pt x="134" y="560"/>
                    <a:pt x="85" y="530"/>
                    <a:pt x="85" y="530"/>
                  </a:cubicBezTo>
                  <a:cubicBezTo>
                    <a:pt x="30" y="447"/>
                    <a:pt x="46" y="485"/>
                    <a:pt x="25" y="422"/>
                  </a:cubicBezTo>
                  <a:cubicBezTo>
                    <a:pt x="30" y="334"/>
                    <a:pt x="0" y="232"/>
                    <a:pt x="49" y="158"/>
                  </a:cubicBezTo>
                  <a:cubicBezTo>
                    <a:pt x="83" y="107"/>
                    <a:pt x="139" y="92"/>
                    <a:pt x="193" y="74"/>
                  </a:cubicBezTo>
                  <a:cubicBezTo>
                    <a:pt x="217" y="66"/>
                    <a:pt x="265" y="50"/>
                    <a:pt x="265" y="50"/>
                  </a:cubicBezTo>
                  <a:cubicBezTo>
                    <a:pt x="454" y="63"/>
                    <a:pt x="418" y="116"/>
                    <a:pt x="457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6600"/>
                </a:gs>
                <a:gs pos="100000">
                  <a:srgbClr val="462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537000" y="4168800"/>
              <a:ext cx="2378160" cy="2286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37000" y="4168800"/>
              <a:ext cx="2378160" cy="1371600"/>
            </a:xfrm>
            <a:prstGeom prst="flowChartMagneticDisk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65600" y="4245120"/>
              <a:ext cx="1901880" cy="457200"/>
            </a:xfrm>
            <a:prstGeom prst="ellipse">
              <a:avLst/>
            </a:prstGeom>
            <a:gradFill rotWithShape="0">
              <a:gsLst>
                <a:gs pos="0">
                  <a:srgbClr val="465e75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851200" y="4321080"/>
              <a:ext cx="1971720" cy="2237040"/>
            </a:xfrm>
            <a:custGeom>
              <a:avLst/>
              <a:gdLst/>
              <a:ahLst/>
              <a:rect l="l" t="t" r="r" b="b"/>
              <a:pathLst>
                <a:path w="1242" h="1409">
                  <a:moveTo>
                    <a:pt x="412" y="75"/>
                  </a:moveTo>
                  <a:cubicBezTo>
                    <a:pt x="230" y="43"/>
                    <a:pt x="501" y="93"/>
                    <a:pt x="272" y="107"/>
                  </a:cubicBezTo>
                  <a:cubicBezTo>
                    <a:pt x="253" y="123"/>
                    <a:pt x="158" y="65"/>
                    <a:pt x="158" y="88"/>
                  </a:cubicBezTo>
                  <a:cubicBezTo>
                    <a:pt x="158" y="120"/>
                    <a:pt x="216" y="240"/>
                    <a:pt x="232" y="272"/>
                  </a:cubicBezTo>
                  <a:cubicBezTo>
                    <a:pt x="264" y="343"/>
                    <a:pt x="477" y="363"/>
                    <a:pt x="582" y="381"/>
                  </a:cubicBezTo>
                  <a:cubicBezTo>
                    <a:pt x="671" y="398"/>
                    <a:pt x="758" y="396"/>
                    <a:pt x="849" y="408"/>
                  </a:cubicBezTo>
                  <a:cubicBezTo>
                    <a:pt x="891" y="413"/>
                    <a:pt x="973" y="436"/>
                    <a:pt x="973" y="436"/>
                  </a:cubicBezTo>
                  <a:cubicBezTo>
                    <a:pt x="1056" y="503"/>
                    <a:pt x="1040" y="534"/>
                    <a:pt x="1056" y="625"/>
                  </a:cubicBezTo>
                  <a:cubicBezTo>
                    <a:pt x="1049" y="799"/>
                    <a:pt x="1242" y="1221"/>
                    <a:pt x="864" y="1356"/>
                  </a:cubicBezTo>
                  <a:cubicBezTo>
                    <a:pt x="828" y="1353"/>
                    <a:pt x="703" y="1409"/>
                    <a:pt x="648" y="1392"/>
                  </a:cubicBezTo>
                  <a:cubicBezTo>
                    <a:pt x="605" y="1379"/>
                    <a:pt x="534" y="1346"/>
                    <a:pt x="492" y="1332"/>
                  </a:cubicBezTo>
                  <a:cubicBezTo>
                    <a:pt x="471" y="1325"/>
                    <a:pt x="420" y="1260"/>
                    <a:pt x="420" y="1260"/>
                  </a:cubicBezTo>
                  <a:cubicBezTo>
                    <a:pt x="351" y="1206"/>
                    <a:pt x="325" y="1202"/>
                    <a:pt x="300" y="1152"/>
                  </a:cubicBezTo>
                  <a:cubicBezTo>
                    <a:pt x="284" y="1122"/>
                    <a:pt x="240" y="1020"/>
                    <a:pt x="240" y="1020"/>
                  </a:cubicBezTo>
                  <a:cubicBezTo>
                    <a:pt x="227" y="947"/>
                    <a:pt x="218" y="925"/>
                    <a:pt x="204" y="852"/>
                  </a:cubicBezTo>
                  <a:cubicBezTo>
                    <a:pt x="199" y="828"/>
                    <a:pt x="194" y="778"/>
                    <a:pt x="180" y="756"/>
                  </a:cubicBezTo>
                  <a:cubicBezTo>
                    <a:pt x="173" y="745"/>
                    <a:pt x="156" y="636"/>
                    <a:pt x="156" y="636"/>
                  </a:cubicBezTo>
                  <a:cubicBezTo>
                    <a:pt x="170" y="262"/>
                    <a:pt x="0" y="220"/>
                    <a:pt x="335" y="41"/>
                  </a:cubicBezTo>
                  <a:cubicBezTo>
                    <a:pt x="361" y="0"/>
                    <a:pt x="357" y="49"/>
                    <a:pt x="362" y="51"/>
                  </a:cubicBezTo>
                </a:path>
              </a:pathLst>
            </a:custGeom>
            <a:gradFill rotWithShape="0">
              <a:gsLst>
                <a:gs pos="0">
                  <a:srgbClr val="ffcc99"/>
                </a:gs>
                <a:gs pos="100000">
                  <a:srgbClr val="75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030480" y="3868560"/>
              <a:ext cx="1503360" cy="1312920"/>
            </a:xfrm>
            <a:custGeom>
              <a:avLst/>
              <a:gdLst/>
              <a:ahLst/>
              <a:rect l="l" t="t" r="r" b="b"/>
              <a:pathLst>
                <a:path w="911" h="827">
                  <a:moveTo>
                    <a:pt x="511" y="333"/>
                  </a:moveTo>
                  <a:cubicBezTo>
                    <a:pt x="459" y="353"/>
                    <a:pt x="229" y="334"/>
                    <a:pt x="199" y="279"/>
                  </a:cubicBezTo>
                  <a:cubicBezTo>
                    <a:pt x="203" y="258"/>
                    <a:pt x="208" y="217"/>
                    <a:pt x="223" y="207"/>
                  </a:cubicBezTo>
                  <a:cubicBezTo>
                    <a:pt x="249" y="188"/>
                    <a:pt x="266" y="178"/>
                    <a:pt x="297" y="175"/>
                  </a:cubicBezTo>
                  <a:cubicBezTo>
                    <a:pt x="356" y="170"/>
                    <a:pt x="428" y="169"/>
                    <a:pt x="487" y="165"/>
                  </a:cubicBezTo>
                  <a:cubicBezTo>
                    <a:pt x="578" y="0"/>
                    <a:pt x="338" y="82"/>
                    <a:pt x="266" y="87"/>
                  </a:cubicBezTo>
                  <a:cubicBezTo>
                    <a:pt x="245" y="96"/>
                    <a:pt x="224" y="104"/>
                    <a:pt x="204" y="112"/>
                  </a:cubicBezTo>
                  <a:cubicBezTo>
                    <a:pt x="193" y="116"/>
                    <a:pt x="172" y="124"/>
                    <a:pt x="172" y="124"/>
                  </a:cubicBezTo>
                  <a:cubicBezTo>
                    <a:pt x="162" y="137"/>
                    <a:pt x="153" y="153"/>
                    <a:pt x="141" y="162"/>
                  </a:cubicBezTo>
                  <a:cubicBezTo>
                    <a:pt x="132" y="170"/>
                    <a:pt x="119" y="166"/>
                    <a:pt x="110" y="175"/>
                  </a:cubicBezTo>
                  <a:cubicBezTo>
                    <a:pt x="93" y="191"/>
                    <a:pt x="84" y="219"/>
                    <a:pt x="68" y="237"/>
                  </a:cubicBezTo>
                  <a:cubicBezTo>
                    <a:pt x="65" y="250"/>
                    <a:pt x="39" y="285"/>
                    <a:pt x="39" y="285"/>
                  </a:cubicBezTo>
                  <a:cubicBezTo>
                    <a:pt x="44" y="405"/>
                    <a:pt x="0" y="484"/>
                    <a:pt x="79" y="549"/>
                  </a:cubicBezTo>
                  <a:cubicBezTo>
                    <a:pt x="99" y="622"/>
                    <a:pt x="105" y="570"/>
                    <a:pt x="152" y="627"/>
                  </a:cubicBezTo>
                  <a:cubicBezTo>
                    <a:pt x="160" y="637"/>
                    <a:pt x="162" y="655"/>
                    <a:pt x="172" y="664"/>
                  </a:cubicBezTo>
                  <a:cubicBezTo>
                    <a:pt x="191" y="677"/>
                    <a:pt x="214" y="681"/>
                    <a:pt x="235" y="689"/>
                  </a:cubicBezTo>
                  <a:cubicBezTo>
                    <a:pt x="297" y="714"/>
                    <a:pt x="360" y="740"/>
                    <a:pt x="422" y="764"/>
                  </a:cubicBezTo>
                  <a:cubicBezTo>
                    <a:pt x="457" y="778"/>
                    <a:pt x="491" y="789"/>
                    <a:pt x="526" y="802"/>
                  </a:cubicBezTo>
                  <a:cubicBezTo>
                    <a:pt x="547" y="810"/>
                    <a:pt x="589" y="827"/>
                    <a:pt x="589" y="827"/>
                  </a:cubicBezTo>
                  <a:cubicBezTo>
                    <a:pt x="625" y="820"/>
                    <a:pt x="911" y="793"/>
                    <a:pt x="859" y="715"/>
                  </a:cubicBezTo>
                  <a:cubicBezTo>
                    <a:pt x="852" y="704"/>
                    <a:pt x="798" y="680"/>
                    <a:pt x="787" y="679"/>
                  </a:cubicBezTo>
                  <a:cubicBezTo>
                    <a:pt x="779" y="673"/>
                    <a:pt x="675" y="647"/>
                    <a:pt x="619" y="643"/>
                  </a:cubicBezTo>
                  <a:cubicBezTo>
                    <a:pt x="563" y="639"/>
                    <a:pt x="501" y="663"/>
                    <a:pt x="451" y="656"/>
                  </a:cubicBezTo>
                  <a:cubicBezTo>
                    <a:pt x="399" y="635"/>
                    <a:pt x="369" y="623"/>
                    <a:pt x="318" y="601"/>
                  </a:cubicBezTo>
                  <a:cubicBezTo>
                    <a:pt x="275" y="584"/>
                    <a:pt x="296" y="596"/>
                    <a:pt x="256" y="564"/>
                  </a:cubicBezTo>
                  <a:cubicBezTo>
                    <a:pt x="249" y="551"/>
                    <a:pt x="244" y="535"/>
                    <a:pt x="235" y="526"/>
                  </a:cubicBezTo>
                  <a:cubicBezTo>
                    <a:pt x="226" y="518"/>
                    <a:pt x="213" y="520"/>
                    <a:pt x="204" y="514"/>
                  </a:cubicBezTo>
                  <a:cubicBezTo>
                    <a:pt x="180" y="498"/>
                    <a:pt x="172" y="500"/>
                    <a:pt x="157" y="483"/>
                  </a:cubicBezTo>
                  <a:cubicBezTo>
                    <a:pt x="172" y="300"/>
                    <a:pt x="112" y="400"/>
                    <a:pt x="211" y="400"/>
                  </a:cubicBezTo>
                  <a:cubicBezTo>
                    <a:pt x="235" y="387"/>
                    <a:pt x="566" y="392"/>
                    <a:pt x="475" y="403"/>
                  </a:cubicBezTo>
                  <a:cubicBezTo>
                    <a:pt x="488" y="357"/>
                    <a:pt x="487" y="375"/>
                    <a:pt x="511" y="333"/>
                  </a:cubicBezTo>
                  <a:close/>
                </a:path>
              </a:pathLst>
            </a:custGeom>
            <a:gradFill rotWithShape="0">
              <a:gsLst>
                <a:gs pos="0">
                  <a:srgbClr val="465e75"/>
                </a:gs>
                <a:gs pos="50000">
                  <a:srgbClr val="99ccff"/>
                </a:gs>
                <a:gs pos="100000">
                  <a:srgbClr val="465e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5309600">
              <a:off x="4680000" y="57690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493600">
              <a:off x="4679640" y="576864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5309600">
              <a:off x="4603680" y="5464080"/>
              <a:ext cx="76320" cy="76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5309600">
              <a:off x="5594400" y="48546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94400" y="4854600"/>
              <a:ext cx="74520" cy="7776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12" y="0"/>
                  </a:moveTo>
                  <a:cubicBezTo>
                    <a:pt x="14" y="7"/>
                    <a:pt x="5" y="20"/>
                    <a:pt x="11" y="24"/>
                  </a:cubicBezTo>
                  <a:cubicBezTo>
                    <a:pt x="14" y="27"/>
                    <a:pt x="17" y="26"/>
                    <a:pt x="21" y="27"/>
                  </a:cubicBezTo>
                  <a:cubicBezTo>
                    <a:pt x="23" y="27"/>
                    <a:pt x="28" y="28"/>
                    <a:pt x="28" y="28"/>
                  </a:cubicBezTo>
                  <a:cubicBezTo>
                    <a:pt x="33" y="25"/>
                    <a:pt x="46" y="28"/>
                    <a:pt x="46" y="19"/>
                  </a:cubicBezTo>
                  <a:cubicBezTo>
                    <a:pt x="47" y="19"/>
                    <a:pt x="46" y="15"/>
                    <a:pt x="46" y="15"/>
                  </a:cubicBezTo>
                  <a:cubicBezTo>
                    <a:pt x="40" y="36"/>
                    <a:pt x="40" y="30"/>
                    <a:pt x="36" y="40"/>
                  </a:cubicBezTo>
                  <a:cubicBezTo>
                    <a:pt x="17" y="45"/>
                    <a:pt x="16" y="49"/>
                    <a:pt x="2" y="27"/>
                  </a:cubicBezTo>
                  <a:cubicBezTo>
                    <a:pt x="0" y="20"/>
                    <a:pt x="6" y="2"/>
                    <a:pt x="12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5309600">
              <a:off x="4451040" y="4930200"/>
              <a:ext cx="75960" cy="763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5309600">
              <a:off x="3841560" y="477828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5309600">
              <a:off x="5670360" y="5387400"/>
              <a:ext cx="75960" cy="75960"/>
            </a:xfrm>
            <a:prstGeom prst="ellipse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5309600">
              <a:off x="5441760" y="5616000"/>
              <a:ext cx="7596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0493600">
              <a:off x="5441760" y="56163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15309600">
              <a:off x="5137200" y="485460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0493600">
              <a:off x="5136840" y="485424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5309600">
              <a:off x="5060880" y="569268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60880" y="5692680"/>
              <a:ext cx="79560" cy="763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6" y="0"/>
                  </a:moveTo>
                  <a:cubicBezTo>
                    <a:pt x="8" y="7"/>
                    <a:pt x="8" y="17"/>
                    <a:pt x="14" y="21"/>
                  </a:cubicBezTo>
                  <a:cubicBezTo>
                    <a:pt x="17" y="24"/>
                    <a:pt x="20" y="23"/>
                    <a:pt x="24" y="24"/>
                  </a:cubicBezTo>
                  <a:cubicBezTo>
                    <a:pt x="26" y="24"/>
                    <a:pt x="31" y="25"/>
                    <a:pt x="31" y="25"/>
                  </a:cubicBezTo>
                  <a:cubicBezTo>
                    <a:pt x="36" y="22"/>
                    <a:pt x="49" y="25"/>
                    <a:pt x="49" y="16"/>
                  </a:cubicBezTo>
                  <a:cubicBezTo>
                    <a:pt x="50" y="16"/>
                    <a:pt x="49" y="12"/>
                    <a:pt x="49" y="12"/>
                  </a:cubicBezTo>
                  <a:cubicBezTo>
                    <a:pt x="43" y="33"/>
                    <a:pt x="43" y="27"/>
                    <a:pt x="39" y="37"/>
                  </a:cubicBezTo>
                  <a:cubicBezTo>
                    <a:pt x="20" y="42"/>
                    <a:pt x="19" y="46"/>
                    <a:pt x="5" y="24"/>
                  </a:cubicBezTo>
                  <a:cubicBezTo>
                    <a:pt x="3" y="17"/>
                    <a:pt x="0" y="2"/>
                    <a:pt x="6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5309600">
              <a:off x="4908240" y="6073200"/>
              <a:ext cx="7596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493600">
              <a:off x="4908240" y="60735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5309600">
              <a:off x="4984560" y="5235480"/>
              <a:ext cx="7632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493600">
              <a:off x="4984560" y="523512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5309600">
              <a:off x="5441760" y="6073200"/>
              <a:ext cx="75960" cy="7596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493600">
              <a:off x="5441760" y="60735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5309600">
              <a:off x="5365800" y="5235480"/>
              <a:ext cx="7632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493600">
              <a:off x="5365440" y="523512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5309600">
              <a:off x="4603320" y="6301800"/>
              <a:ext cx="75960" cy="76320"/>
            </a:xfrm>
            <a:prstGeom prst="ellipse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493600">
              <a:off x="4603320" y="6302160"/>
              <a:ext cx="74520" cy="77760"/>
            </a:xfrm>
            <a:custGeom>
              <a:avLst/>
              <a:gdLst/>
              <a:ahLst/>
              <a:rect l="l" t="t" r="r" b="b"/>
              <a:pathLst>
                <a:path w="138" h="107">
                  <a:moveTo>
                    <a:pt x="17" y="0"/>
                  </a:moveTo>
                  <a:cubicBezTo>
                    <a:pt x="19" y="15"/>
                    <a:pt x="20" y="39"/>
                    <a:pt x="32" y="51"/>
                  </a:cubicBezTo>
                  <a:cubicBezTo>
                    <a:pt x="39" y="58"/>
                    <a:pt x="50" y="60"/>
                    <a:pt x="59" y="63"/>
                  </a:cubicBezTo>
                  <a:cubicBezTo>
                    <a:pt x="65" y="65"/>
                    <a:pt x="77" y="69"/>
                    <a:pt x="77" y="69"/>
                  </a:cubicBezTo>
                  <a:cubicBezTo>
                    <a:pt x="95" y="68"/>
                    <a:pt x="125" y="84"/>
                    <a:pt x="134" y="66"/>
                  </a:cubicBezTo>
                  <a:cubicBezTo>
                    <a:pt x="138" y="65"/>
                    <a:pt x="137" y="57"/>
                    <a:pt x="137" y="57"/>
                  </a:cubicBezTo>
                  <a:cubicBezTo>
                    <a:pt x="104" y="96"/>
                    <a:pt x="109" y="82"/>
                    <a:pt x="89" y="102"/>
                  </a:cubicBezTo>
                  <a:cubicBezTo>
                    <a:pt x="28" y="99"/>
                    <a:pt x="24" y="107"/>
                    <a:pt x="5" y="51"/>
                  </a:cubicBezTo>
                  <a:cubicBezTo>
                    <a:pt x="6" y="34"/>
                    <a:pt x="0" y="0"/>
                    <a:pt x="17" y="0"/>
                  </a:cubicBez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470320" y="5845320"/>
              <a:ext cx="1218960" cy="380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8880" y="63025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tículo endoplásm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18080" y="5921280"/>
              <a:ext cx="30492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65800" y="614988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784520" y="4626000"/>
              <a:ext cx="22096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0280" y="5006880"/>
              <a:ext cx="198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nvoltura 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836640" y="611280"/>
            <a:ext cx="53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TRUCTURAS NUCLE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13000" y="241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00-4000 po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549360" y="1547640"/>
            <a:ext cx="2628720" cy="2733840"/>
          </a:xfrm>
          <a:prstGeom prst="rect">
            <a:avLst/>
          </a:prstGeom>
          <a:ln w="0">
            <a:noFill/>
          </a:ln>
        </p:spPr>
      </p:pic>
      <p:grpSp>
        <p:nvGrpSpPr>
          <p:cNvPr id="665" name=""/>
          <p:cNvGrpSpPr/>
          <p:nvPr/>
        </p:nvGrpSpPr>
        <p:grpSpPr>
          <a:xfrm>
            <a:off x="3860640" y="1619280"/>
            <a:ext cx="2000520" cy="2571840"/>
            <a:chOff x="3860640" y="1619280"/>
            <a:chExt cx="2000520" cy="2571840"/>
          </a:xfrm>
        </p:grpSpPr>
        <p:pic>
          <p:nvPicPr>
            <p:cNvPr id="666" name="" descr=""/>
            <p:cNvPicPr/>
            <p:nvPr/>
          </p:nvPicPr>
          <p:blipFill>
            <a:blip r:embed="rId2"/>
            <a:stretch/>
          </p:blipFill>
          <p:spPr>
            <a:xfrm>
              <a:off x="3860640" y="1619280"/>
              <a:ext cx="200052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4794120" y="1819080"/>
              <a:ext cx="3906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46600" y="3791160"/>
              <a:ext cx="695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60880" y="2800440"/>
              <a:ext cx="7142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08560" y="1800000"/>
              <a:ext cx="542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1479600" y="755640"/>
            <a:ext cx="37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Tahoma"/>
              </a:rPr>
              <a:t>Envoltura nu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57200" y="5580000"/>
            <a:ext cx="6400800" cy="3119040"/>
            <a:chOff x="457200" y="5580000"/>
            <a:chExt cx="6400800" cy="3119040"/>
          </a:xfrm>
        </p:grpSpPr>
        <p:sp>
          <p:nvSpPr>
            <p:cNvPr id="673" name=""/>
            <p:cNvSpPr/>
            <p:nvPr/>
          </p:nvSpPr>
          <p:spPr>
            <a:xfrm>
              <a:off x="3124080" y="6151680"/>
              <a:ext cx="1981440" cy="1600200"/>
            </a:xfrm>
            <a:prstGeom prst="ellipse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76720" y="6303960"/>
              <a:ext cx="1676160" cy="12952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757600" y="6261120"/>
              <a:ext cx="506160" cy="1547640"/>
            </a:xfrm>
            <a:custGeom>
              <a:avLst/>
              <a:gdLst/>
              <a:ahLst/>
              <a:rect l="l" t="t" r="r" b="b"/>
              <a:pathLst>
                <a:path w="319" h="975">
                  <a:moveTo>
                    <a:pt x="231" y="375"/>
                  </a:moveTo>
                  <a:cubicBezTo>
                    <a:pt x="199" y="371"/>
                    <a:pt x="158" y="386"/>
                    <a:pt x="135" y="363"/>
                  </a:cubicBezTo>
                  <a:cubicBezTo>
                    <a:pt x="122" y="350"/>
                    <a:pt x="150" y="268"/>
                    <a:pt x="171" y="255"/>
                  </a:cubicBezTo>
                  <a:cubicBezTo>
                    <a:pt x="192" y="242"/>
                    <a:pt x="243" y="231"/>
                    <a:pt x="243" y="231"/>
                  </a:cubicBezTo>
                  <a:cubicBezTo>
                    <a:pt x="300" y="145"/>
                    <a:pt x="284" y="187"/>
                    <a:pt x="303" y="111"/>
                  </a:cubicBezTo>
                  <a:cubicBezTo>
                    <a:pt x="281" y="22"/>
                    <a:pt x="292" y="0"/>
                    <a:pt x="111" y="75"/>
                  </a:cubicBezTo>
                  <a:cubicBezTo>
                    <a:pt x="88" y="85"/>
                    <a:pt x="95" y="123"/>
                    <a:pt x="87" y="147"/>
                  </a:cubicBezTo>
                  <a:cubicBezTo>
                    <a:pt x="66" y="209"/>
                    <a:pt x="50" y="263"/>
                    <a:pt x="39" y="327"/>
                  </a:cubicBezTo>
                  <a:cubicBezTo>
                    <a:pt x="23" y="572"/>
                    <a:pt x="0" y="643"/>
                    <a:pt x="27" y="843"/>
                  </a:cubicBezTo>
                  <a:cubicBezTo>
                    <a:pt x="32" y="879"/>
                    <a:pt x="81" y="922"/>
                    <a:pt x="111" y="939"/>
                  </a:cubicBezTo>
                  <a:cubicBezTo>
                    <a:pt x="133" y="951"/>
                    <a:pt x="159" y="955"/>
                    <a:pt x="183" y="963"/>
                  </a:cubicBezTo>
                  <a:cubicBezTo>
                    <a:pt x="195" y="967"/>
                    <a:pt x="219" y="975"/>
                    <a:pt x="219" y="975"/>
                  </a:cubicBezTo>
                  <a:cubicBezTo>
                    <a:pt x="247" y="968"/>
                    <a:pt x="319" y="967"/>
                    <a:pt x="255" y="903"/>
                  </a:cubicBezTo>
                  <a:cubicBezTo>
                    <a:pt x="237" y="885"/>
                    <a:pt x="183" y="879"/>
                    <a:pt x="183" y="879"/>
                  </a:cubicBezTo>
                  <a:cubicBezTo>
                    <a:pt x="122" y="818"/>
                    <a:pt x="103" y="757"/>
                    <a:pt x="87" y="675"/>
                  </a:cubicBezTo>
                  <a:cubicBezTo>
                    <a:pt x="91" y="627"/>
                    <a:pt x="86" y="577"/>
                    <a:pt x="99" y="531"/>
                  </a:cubicBezTo>
                  <a:cubicBezTo>
                    <a:pt x="103" y="517"/>
                    <a:pt x="125" y="517"/>
                    <a:pt x="135" y="507"/>
                  </a:cubicBezTo>
                  <a:cubicBezTo>
                    <a:pt x="145" y="497"/>
                    <a:pt x="148" y="480"/>
                    <a:pt x="159" y="471"/>
                  </a:cubicBezTo>
                  <a:cubicBezTo>
                    <a:pt x="167" y="465"/>
                    <a:pt x="240" y="448"/>
                    <a:pt x="243" y="447"/>
                  </a:cubicBezTo>
                  <a:cubicBezTo>
                    <a:pt x="258" y="388"/>
                    <a:pt x="267" y="411"/>
                    <a:pt x="231" y="375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379760" y="6665760"/>
              <a:ext cx="1060560" cy="1295640"/>
            </a:xfrm>
            <a:custGeom>
              <a:avLst/>
              <a:gdLst/>
              <a:ahLst/>
              <a:rect l="l" t="t" r="r" b="b"/>
              <a:pathLst>
                <a:path w="668" h="816">
                  <a:moveTo>
                    <a:pt x="337" y="468"/>
                  </a:moveTo>
                  <a:cubicBezTo>
                    <a:pt x="349" y="504"/>
                    <a:pt x="384" y="572"/>
                    <a:pt x="349" y="612"/>
                  </a:cubicBezTo>
                  <a:cubicBezTo>
                    <a:pt x="332" y="631"/>
                    <a:pt x="301" y="628"/>
                    <a:pt x="277" y="636"/>
                  </a:cubicBezTo>
                  <a:cubicBezTo>
                    <a:pt x="225" y="653"/>
                    <a:pt x="173" y="667"/>
                    <a:pt x="121" y="684"/>
                  </a:cubicBezTo>
                  <a:cubicBezTo>
                    <a:pt x="109" y="688"/>
                    <a:pt x="97" y="692"/>
                    <a:pt x="85" y="696"/>
                  </a:cubicBezTo>
                  <a:cubicBezTo>
                    <a:pt x="73" y="700"/>
                    <a:pt x="49" y="708"/>
                    <a:pt x="49" y="708"/>
                  </a:cubicBezTo>
                  <a:cubicBezTo>
                    <a:pt x="14" y="761"/>
                    <a:pt x="0" y="761"/>
                    <a:pt x="37" y="816"/>
                  </a:cubicBezTo>
                  <a:cubicBezTo>
                    <a:pt x="81" y="812"/>
                    <a:pt x="126" y="813"/>
                    <a:pt x="169" y="804"/>
                  </a:cubicBezTo>
                  <a:cubicBezTo>
                    <a:pt x="193" y="799"/>
                    <a:pt x="253" y="754"/>
                    <a:pt x="277" y="744"/>
                  </a:cubicBezTo>
                  <a:cubicBezTo>
                    <a:pt x="292" y="738"/>
                    <a:pt x="309" y="737"/>
                    <a:pt x="325" y="732"/>
                  </a:cubicBezTo>
                  <a:cubicBezTo>
                    <a:pt x="349" y="725"/>
                    <a:pt x="397" y="708"/>
                    <a:pt x="397" y="708"/>
                  </a:cubicBezTo>
                  <a:cubicBezTo>
                    <a:pt x="420" y="638"/>
                    <a:pt x="391" y="702"/>
                    <a:pt x="445" y="648"/>
                  </a:cubicBezTo>
                  <a:cubicBezTo>
                    <a:pt x="467" y="626"/>
                    <a:pt x="486" y="601"/>
                    <a:pt x="505" y="576"/>
                  </a:cubicBezTo>
                  <a:cubicBezTo>
                    <a:pt x="559" y="506"/>
                    <a:pt x="551" y="511"/>
                    <a:pt x="577" y="432"/>
                  </a:cubicBezTo>
                  <a:cubicBezTo>
                    <a:pt x="593" y="385"/>
                    <a:pt x="597" y="335"/>
                    <a:pt x="613" y="288"/>
                  </a:cubicBezTo>
                  <a:cubicBezTo>
                    <a:pt x="617" y="276"/>
                    <a:pt x="621" y="264"/>
                    <a:pt x="625" y="252"/>
                  </a:cubicBezTo>
                  <a:cubicBezTo>
                    <a:pt x="629" y="240"/>
                    <a:pt x="637" y="216"/>
                    <a:pt x="637" y="216"/>
                  </a:cubicBezTo>
                  <a:cubicBezTo>
                    <a:pt x="627" y="59"/>
                    <a:pt x="668" y="38"/>
                    <a:pt x="553" y="0"/>
                  </a:cubicBezTo>
                  <a:cubicBezTo>
                    <a:pt x="488" y="97"/>
                    <a:pt x="510" y="212"/>
                    <a:pt x="493" y="324"/>
                  </a:cubicBezTo>
                  <a:cubicBezTo>
                    <a:pt x="493" y="324"/>
                    <a:pt x="463" y="414"/>
                    <a:pt x="457" y="432"/>
                  </a:cubicBezTo>
                  <a:cubicBezTo>
                    <a:pt x="453" y="444"/>
                    <a:pt x="457" y="464"/>
                    <a:pt x="445" y="468"/>
                  </a:cubicBezTo>
                  <a:cubicBezTo>
                    <a:pt x="433" y="472"/>
                    <a:pt x="421" y="476"/>
                    <a:pt x="409" y="480"/>
                  </a:cubicBezTo>
                  <a:cubicBezTo>
                    <a:pt x="338" y="456"/>
                    <a:pt x="343" y="432"/>
                    <a:pt x="313" y="492"/>
                  </a:cubicBezTo>
                  <a:cubicBezTo>
                    <a:pt x="307" y="503"/>
                    <a:pt x="305" y="516"/>
                    <a:pt x="301" y="528"/>
                  </a:cubicBezTo>
                  <a:cubicBezTo>
                    <a:pt x="328" y="546"/>
                    <a:pt x="361" y="562"/>
                    <a:pt x="361" y="600"/>
                  </a:cubicBezTo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73560" y="5580000"/>
              <a:ext cx="1787400" cy="960480"/>
            </a:xfrm>
            <a:custGeom>
              <a:avLst/>
              <a:gdLst/>
              <a:ahLst/>
              <a:rect l="l" t="t" r="r" b="b"/>
              <a:pathLst>
                <a:path w="1126" h="605">
                  <a:moveTo>
                    <a:pt x="491" y="372"/>
                  </a:moveTo>
                  <a:cubicBezTo>
                    <a:pt x="495" y="356"/>
                    <a:pt x="503" y="340"/>
                    <a:pt x="503" y="324"/>
                  </a:cubicBezTo>
                  <a:cubicBezTo>
                    <a:pt x="503" y="180"/>
                    <a:pt x="445" y="255"/>
                    <a:pt x="275" y="264"/>
                  </a:cubicBezTo>
                  <a:cubicBezTo>
                    <a:pt x="251" y="272"/>
                    <a:pt x="217" y="267"/>
                    <a:pt x="203" y="288"/>
                  </a:cubicBezTo>
                  <a:cubicBezTo>
                    <a:pt x="195" y="300"/>
                    <a:pt x="190" y="315"/>
                    <a:pt x="179" y="324"/>
                  </a:cubicBezTo>
                  <a:cubicBezTo>
                    <a:pt x="169" y="332"/>
                    <a:pt x="154" y="330"/>
                    <a:pt x="143" y="336"/>
                  </a:cubicBezTo>
                  <a:cubicBezTo>
                    <a:pt x="130" y="342"/>
                    <a:pt x="119" y="352"/>
                    <a:pt x="107" y="360"/>
                  </a:cubicBezTo>
                  <a:cubicBezTo>
                    <a:pt x="44" y="344"/>
                    <a:pt x="0" y="350"/>
                    <a:pt x="71" y="228"/>
                  </a:cubicBezTo>
                  <a:cubicBezTo>
                    <a:pt x="84" y="206"/>
                    <a:pt x="119" y="212"/>
                    <a:pt x="143" y="204"/>
                  </a:cubicBezTo>
                  <a:cubicBezTo>
                    <a:pt x="303" y="151"/>
                    <a:pt x="309" y="155"/>
                    <a:pt x="515" y="144"/>
                  </a:cubicBezTo>
                  <a:cubicBezTo>
                    <a:pt x="485" y="53"/>
                    <a:pt x="356" y="89"/>
                    <a:pt x="275" y="84"/>
                  </a:cubicBezTo>
                  <a:cubicBezTo>
                    <a:pt x="279" y="64"/>
                    <a:pt x="273" y="38"/>
                    <a:pt x="287" y="24"/>
                  </a:cubicBezTo>
                  <a:cubicBezTo>
                    <a:pt x="305" y="6"/>
                    <a:pt x="359" y="0"/>
                    <a:pt x="359" y="0"/>
                  </a:cubicBezTo>
                  <a:cubicBezTo>
                    <a:pt x="403" y="4"/>
                    <a:pt x="447" y="6"/>
                    <a:pt x="491" y="12"/>
                  </a:cubicBezTo>
                  <a:cubicBezTo>
                    <a:pt x="599" y="27"/>
                    <a:pt x="709" y="81"/>
                    <a:pt x="815" y="108"/>
                  </a:cubicBezTo>
                  <a:cubicBezTo>
                    <a:pt x="826" y="111"/>
                    <a:pt x="885" y="124"/>
                    <a:pt x="899" y="132"/>
                  </a:cubicBezTo>
                  <a:cubicBezTo>
                    <a:pt x="924" y="146"/>
                    <a:pt x="971" y="180"/>
                    <a:pt x="971" y="180"/>
                  </a:cubicBezTo>
                  <a:cubicBezTo>
                    <a:pt x="975" y="192"/>
                    <a:pt x="983" y="203"/>
                    <a:pt x="983" y="216"/>
                  </a:cubicBezTo>
                  <a:cubicBezTo>
                    <a:pt x="983" y="240"/>
                    <a:pt x="991" y="274"/>
                    <a:pt x="971" y="288"/>
                  </a:cubicBezTo>
                  <a:cubicBezTo>
                    <a:pt x="951" y="302"/>
                    <a:pt x="923" y="281"/>
                    <a:pt x="899" y="276"/>
                  </a:cubicBezTo>
                  <a:cubicBezTo>
                    <a:pt x="831" y="261"/>
                    <a:pt x="785" y="202"/>
                    <a:pt x="719" y="180"/>
                  </a:cubicBezTo>
                  <a:cubicBezTo>
                    <a:pt x="695" y="182"/>
                    <a:pt x="520" y="160"/>
                    <a:pt x="611" y="264"/>
                  </a:cubicBezTo>
                  <a:cubicBezTo>
                    <a:pt x="628" y="283"/>
                    <a:pt x="658" y="284"/>
                    <a:pt x="683" y="288"/>
                  </a:cubicBezTo>
                  <a:cubicBezTo>
                    <a:pt x="754" y="298"/>
                    <a:pt x="830" y="307"/>
                    <a:pt x="899" y="324"/>
                  </a:cubicBezTo>
                  <a:cubicBezTo>
                    <a:pt x="924" y="330"/>
                    <a:pt x="947" y="340"/>
                    <a:pt x="971" y="348"/>
                  </a:cubicBezTo>
                  <a:cubicBezTo>
                    <a:pt x="983" y="352"/>
                    <a:pt x="1007" y="360"/>
                    <a:pt x="1007" y="360"/>
                  </a:cubicBezTo>
                  <a:cubicBezTo>
                    <a:pt x="1015" y="372"/>
                    <a:pt x="1021" y="386"/>
                    <a:pt x="1031" y="396"/>
                  </a:cubicBezTo>
                  <a:cubicBezTo>
                    <a:pt x="1041" y="406"/>
                    <a:pt x="1058" y="409"/>
                    <a:pt x="1067" y="420"/>
                  </a:cubicBezTo>
                  <a:cubicBezTo>
                    <a:pt x="1075" y="430"/>
                    <a:pt x="1073" y="445"/>
                    <a:pt x="1079" y="456"/>
                  </a:cubicBezTo>
                  <a:cubicBezTo>
                    <a:pt x="1126" y="549"/>
                    <a:pt x="1085" y="438"/>
                    <a:pt x="1115" y="528"/>
                  </a:cubicBezTo>
                  <a:cubicBezTo>
                    <a:pt x="1102" y="582"/>
                    <a:pt x="1113" y="605"/>
                    <a:pt x="1031" y="564"/>
                  </a:cubicBezTo>
                  <a:cubicBezTo>
                    <a:pt x="986" y="542"/>
                    <a:pt x="1023" y="520"/>
                    <a:pt x="995" y="492"/>
                  </a:cubicBezTo>
                  <a:cubicBezTo>
                    <a:pt x="945" y="442"/>
                    <a:pt x="880" y="418"/>
                    <a:pt x="815" y="396"/>
                  </a:cubicBezTo>
                  <a:cubicBezTo>
                    <a:pt x="801" y="391"/>
                    <a:pt x="792" y="378"/>
                    <a:pt x="779" y="372"/>
                  </a:cubicBezTo>
                  <a:cubicBezTo>
                    <a:pt x="729" y="350"/>
                    <a:pt x="686" y="378"/>
                    <a:pt x="635" y="368"/>
                  </a:cubicBezTo>
                  <a:cubicBezTo>
                    <a:pt x="582" y="379"/>
                    <a:pt x="544" y="361"/>
                    <a:pt x="491" y="372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2120" y="561816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Lúmen del 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1828800" y="6913440"/>
              <a:ext cx="990720" cy="763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419720" y="5770080"/>
              <a:ext cx="914400" cy="838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9480" y="660888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Tahoma"/>
                </a:rPr>
                <a:t>Membrana 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2133720" y="7523280"/>
              <a:ext cx="1295280" cy="3808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57200" y="782784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Membrana nuclear exte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5480" y="805644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Espacio peri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14880" y="6595920"/>
              <a:ext cx="190440" cy="546120"/>
            </a:xfrm>
            <a:custGeom>
              <a:avLst/>
              <a:gdLst/>
              <a:ahLst/>
              <a:rect l="l" t="t" r="r" b="b"/>
              <a:pathLst>
                <a:path w="120" h="344">
                  <a:moveTo>
                    <a:pt x="24" y="344"/>
                  </a:moveTo>
                  <a:cubicBezTo>
                    <a:pt x="19" y="328"/>
                    <a:pt x="13" y="312"/>
                    <a:pt x="8" y="296"/>
                  </a:cubicBezTo>
                  <a:cubicBezTo>
                    <a:pt x="5" y="288"/>
                    <a:pt x="0" y="272"/>
                    <a:pt x="0" y="272"/>
                  </a:cubicBezTo>
                  <a:cubicBezTo>
                    <a:pt x="5" y="253"/>
                    <a:pt x="13" y="235"/>
                    <a:pt x="16" y="216"/>
                  </a:cubicBezTo>
                  <a:cubicBezTo>
                    <a:pt x="30" y="123"/>
                    <a:pt x="0" y="152"/>
                    <a:pt x="48" y="120"/>
                  </a:cubicBezTo>
                  <a:cubicBezTo>
                    <a:pt x="55" y="76"/>
                    <a:pt x="53" y="54"/>
                    <a:pt x="96" y="40"/>
                  </a:cubicBezTo>
                  <a:cubicBezTo>
                    <a:pt x="106" y="9"/>
                    <a:pt x="98" y="22"/>
                    <a:pt x="1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16320" y="6672240"/>
              <a:ext cx="100080" cy="58428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365640" y="6570720"/>
              <a:ext cx="144360" cy="622080"/>
            </a:xfrm>
            <a:custGeom>
              <a:avLst/>
              <a:gdLst/>
              <a:ahLst/>
              <a:rect l="l" t="t" r="r" b="b"/>
              <a:pathLst>
                <a:path w="91" h="392">
                  <a:moveTo>
                    <a:pt x="8" y="392"/>
                  </a:moveTo>
                  <a:cubicBezTo>
                    <a:pt x="11" y="360"/>
                    <a:pt x="11" y="328"/>
                    <a:pt x="16" y="296"/>
                  </a:cubicBezTo>
                  <a:cubicBezTo>
                    <a:pt x="19" y="279"/>
                    <a:pt x="32" y="248"/>
                    <a:pt x="32" y="248"/>
                  </a:cubicBezTo>
                  <a:cubicBezTo>
                    <a:pt x="36" y="174"/>
                    <a:pt x="0" y="75"/>
                    <a:pt x="80" y="48"/>
                  </a:cubicBezTo>
                  <a:cubicBezTo>
                    <a:pt x="91" y="16"/>
                    <a:pt x="88" y="32"/>
                    <a:pt x="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950000">
              <a:off x="3667680" y="7054920"/>
              <a:ext cx="144360" cy="622440"/>
            </a:xfrm>
            <a:custGeom>
              <a:avLst/>
              <a:gdLst/>
              <a:ahLst/>
              <a:rect l="l" t="t" r="r" b="b"/>
              <a:pathLst>
                <a:path w="91" h="392">
                  <a:moveTo>
                    <a:pt x="8" y="392"/>
                  </a:moveTo>
                  <a:cubicBezTo>
                    <a:pt x="11" y="360"/>
                    <a:pt x="11" y="328"/>
                    <a:pt x="16" y="296"/>
                  </a:cubicBezTo>
                  <a:cubicBezTo>
                    <a:pt x="19" y="279"/>
                    <a:pt x="32" y="248"/>
                    <a:pt x="32" y="248"/>
                  </a:cubicBezTo>
                  <a:cubicBezTo>
                    <a:pt x="36" y="174"/>
                    <a:pt x="0" y="75"/>
                    <a:pt x="80" y="48"/>
                  </a:cubicBezTo>
                  <a:cubicBezTo>
                    <a:pt x="91" y="16"/>
                    <a:pt x="88" y="32"/>
                    <a:pt x="8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7367000">
              <a:off x="3747240" y="7128360"/>
              <a:ext cx="100080" cy="58392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7383200">
              <a:off x="3594960" y="7051680"/>
              <a:ext cx="99720" cy="584280"/>
            </a:xfrm>
            <a:custGeom>
              <a:avLst/>
              <a:gdLst/>
              <a:ahLst/>
              <a:rect l="l" t="t" r="r" b="b"/>
              <a:pathLst>
                <a:path w="63" h="368">
                  <a:moveTo>
                    <a:pt x="63" y="368"/>
                  </a:moveTo>
                  <a:cubicBezTo>
                    <a:pt x="60" y="347"/>
                    <a:pt x="62" y="324"/>
                    <a:pt x="55" y="304"/>
                  </a:cubicBezTo>
                  <a:cubicBezTo>
                    <a:pt x="49" y="286"/>
                    <a:pt x="23" y="256"/>
                    <a:pt x="23" y="256"/>
                  </a:cubicBezTo>
                  <a:cubicBezTo>
                    <a:pt x="26" y="229"/>
                    <a:pt x="31" y="203"/>
                    <a:pt x="31" y="176"/>
                  </a:cubicBezTo>
                  <a:cubicBezTo>
                    <a:pt x="31" y="119"/>
                    <a:pt x="0" y="47"/>
                    <a:pt x="4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632040" y="7434360"/>
              <a:ext cx="495360" cy="118800"/>
            </a:xfrm>
            <a:custGeom>
              <a:avLst/>
              <a:gdLst/>
              <a:ahLst/>
              <a:rect l="l" t="t" r="r" b="b"/>
              <a:pathLst>
                <a:path w="312" h="75">
                  <a:moveTo>
                    <a:pt x="0" y="0"/>
                  </a:moveTo>
                  <a:cubicBezTo>
                    <a:pt x="88" y="15"/>
                    <a:pt x="167" y="53"/>
                    <a:pt x="256" y="64"/>
                  </a:cubicBezTo>
                  <a:cubicBezTo>
                    <a:pt x="290" y="75"/>
                    <a:pt x="272" y="72"/>
                    <a:pt x="312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241880" y="7269120"/>
              <a:ext cx="584280" cy="292320"/>
            </a:xfrm>
            <a:custGeom>
              <a:avLst/>
              <a:gdLst/>
              <a:ahLst/>
              <a:rect l="l" t="t" r="r" b="b"/>
              <a:pathLst>
                <a:path w="368" h="184">
                  <a:moveTo>
                    <a:pt x="0" y="184"/>
                  </a:moveTo>
                  <a:cubicBezTo>
                    <a:pt x="58" y="146"/>
                    <a:pt x="80" y="145"/>
                    <a:pt x="152" y="136"/>
                  </a:cubicBezTo>
                  <a:cubicBezTo>
                    <a:pt x="187" y="124"/>
                    <a:pt x="180" y="108"/>
                    <a:pt x="208" y="80"/>
                  </a:cubicBezTo>
                  <a:cubicBezTo>
                    <a:pt x="223" y="36"/>
                    <a:pt x="257" y="42"/>
                    <a:pt x="296" y="32"/>
                  </a:cubicBezTo>
                  <a:cubicBezTo>
                    <a:pt x="304" y="27"/>
                    <a:pt x="311" y="20"/>
                    <a:pt x="320" y="16"/>
                  </a:cubicBezTo>
                  <a:cubicBezTo>
                    <a:pt x="335" y="9"/>
                    <a:pt x="368" y="0"/>
                    <a:pt x="36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56000" y="7356600"/>
              <a:ext cx="330480" cy="191880"/>
            </a:xfrm>
            <a:custGeom>
              <a:avLst/>
              <a:gdLst/>
              <a:ahLst/>
              <a:rect l="l" t="t" r="r" b="b"/>
              <a:pathLst>
                <a:path w="208" h="121">
                  <a:moveTo>
                    <a:pt x="0" y="121"/>
                  </a:moveTo>
                  <a:cubicBezTo>
                    <a:pt x="0" y="121"/>
                    <a:pt x="52" y="109"/>
                    <a:pt x="56" y="105"/>
                  </a:cubicBezTo>
                  <a:cubicBezTo>
                    <a:pt x="79" y="82"/>
                    <a:pt x="56" y="41"/>
                    <a:pt x="96" y="25"/>
                  </a:cubicBezTo>
                  <a:cubicBezTo>
                    <a:pt x="114" y="18"/>
                    <a:pt x="133" y="20"/>
                    <a:pt x="152" y="17"/>
                  </a:cubicBezTo>
                  <a:cubicBezTo>
                    <a:pt x="203" y="0"/>
                    <a:pt x="183" y="1"/>
                    <a:pt x="208" y="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229280" y="7180200"/>
              <a:ext cx="545760" cy="343080"/>
            </a:xfrm>
            <a:custGeom>
              <a:avLst/>
              <a:gdLst/>
              <a:ahLst/>
              <a:rect l="l" t="t" r="r" b="b"/>
              <a:pathLst>
                <a:path w="344" h="216">
                  <a:moveTo>
                    <a:pt x="0" y="216"/>
                  </a:moveTo>
                  <a:cubicBezTo>
                    <a:pt x="38" y="206"/>
                    <a:pt x="95" y="198"/>
                    <a:pt x="128" y="176"/>
                  </a:cubicBezTo>
                  <a:cubicBezTo>
                    <a:pt x="136" y="171"/>
                    <a:pt x="143" y="162"/>
                    <a:pt x="152" y="160"/>
                  </a:cubicBezTo>
                  <a:cubicBezTo>
                    <a:pt x="189" y="153"/>
                    <a:pt x="227" y="155"/>
                    <a:pt x="264" y="152"/>
                  </a:cubicBezTo>
                  <a:cubicBezTo>
                    <a:pt x="279" y="130"/>
                    <a:pt x="319" y="84"/>
                    <a:pt x="328" y="56"/>
                  </a:cubicBezTo>
                  <a:cubicBezTo>
                    <a:pt x="334" y="38"/>
                    <a:pt x="344" y="0"/>
                    <a:pt x="3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813200" y="6723000"/>
              <a:ext cx="127080" cy="457200"/>
            </a:xfrm>
            <a:custGeom>
              <a:avLst/>
              <a:gdLst/>
              <a:ahLst/>
              <a:rect l="l" t="t" r="r" b="b"/>
              <a:pathLst>
                <a:path w="80" h="288">
                  <a:moveTo>
                    <a:pt x="8" y="288"/>
                  </a:moveTo>
                  <a:cubicBezTo>
                    <a:pt x="80" y="216"/>
                    <a:pt x="39" y="269"/>
                    <a:pt x="24" y="56"/>
                  </a:cubicBezTo>
                  <a:cubicBezTo>
                    <a:pt x="22" y="33"/>
                    <a:pt x="0" y="2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75040" y="6634080"/>
              <a:ext cx="140040" cy="558720"/>
            </a:xfrm>
            <a:custGeom>
              <a:avLst/>
              <a:gdLst/>
              <a:ahLst/>
              <a:rect l="l" t="t" r="r" b="b"/>
              <a:pathLst>
                <a:path w="88" h="352">
                  <a:moveTo>
                    <a:pt x="56" y="352"/>
                  </a:moveTo>
                  <a:cubicBezTo>
                    <a:pt x="42" y="261"/>
                    <a:pt x="11" y="205"/>
                    <a:pt x="80" y="136"/>
                  </a:cubicBezTo>
                  <a:cubicBezTo>
                    <a:pt x="64" y="57"/>
                    <a:pt x="88" y="130"/>
                    <a:pt x="40" y="72"/>
                  </a:cubicBezTo>
                  <a:cubicBezTo>
                    <a:pt x="24" y="53"/>
                    <a:pt x="23" y="2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703760" y="6570720"/>
              <a:ext cx="141120" cy="571320"/>
            </a:xfrm>
            <a:custGeom>
              <a:avLst/>
              <a:gdLst/>
              <a:ahLst/>
              <a:rect l="l" t="t" r="r" b="b"/>
              <a:pathLst>
                <a:path w="89" h="360">
                  <a:moveTo>
                    <a:pt x="61" y="360"/>
                  </a:moveTo>
                  <a:cubicBezTo>
                    <a:pt x="67" y="268"/>
                    <a:pt x="89" y="188"/>
                    <a:pt x="21" y="120"/>
                  </a:cubicBezTo>
                  <a:cubicBezTo>
                    <a:pt x="0" y="56"/>
                    <a:pt x="21" y="136"/>
                    <a:pt x="21" y="72"/>
                  </a:cubicBezTo>
                  <a:cubicBezTo>
                    <a:pt x="21" y="48"/>
                    <a:pt x="13" y="24"/>
                    <a:pt x="1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06840" y="6356520"/>
              <a:ext cx="495360" cy="176040"/>
            </a:xfrm>
            <a:custGeom>
              <a:avLst/>
              <a:gdLst/>
              <a:ahLst/>
              <a:rect l="l" t="t" r="r" b="b"/>
              <a:pathLst>
                <a:path w="312" h="111">
                  <a:moveTo>
                    <a:pt x="0" y="111"/>
                  </a:moveTo>
                  <a:cubicBezTo>
                    <a:pt x="72" y="93"/>
                    <a:pt x="43" y="102"/>
                    <a:pt x="88" y="87"/>
                  </a:cubicBezTo>
                  <a:cubicBezTo>
                    <a:pt x="139" y="10"/>
                    <a:pt x="135" y="32"/>
                    <a:pt x="248" y="23"/>
                  </a:cubicBezTo>
                  <a:cubicBezTo>
                    <a:pt x="283" y="0"/>
                    <a:pt x="262" y="7"/>
                    <a:pt x="312" y="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594240" y="6354720"/>
              <a:ext cx="431640" cy="152280"/>
            </a:xfrm>
            <a:custGeom>
              <a:avLst/>
              <a:gdLst/>
              <a:ahLst/>
              <a:rect l="l" t="t" r="r" b="b"/>
              <a:pathLst>
                <a:path w="272" h="96">
                  <a:moveTo>
                    <a:pt x="0" y="96"/>
                  </a:moveTo>
                  <a:cubicBezTo>
                    <a:pt x="65" y="80"/>
                    <a:pt x="125" y="71"/>
                    <a:pt x="192" y="64"/>
                  </a:cubicBezTo>
                  <a:cubicBezTo>
                    <a:pt x="208" y="59"/>
                    <a:pt x="229" y="54"/>
                    <a:pt x="240" y="40"/>
                  </a:cubicBezTo>
                  <a:cubicBezTo>
                    <a:pt x="245" y="33"/>
                    <a:pt x="243" y="23"/>
                    <a:pt x="248" y="16"/>
                  </a:cubicBezTo>
                  <a:cubicBezTo>
                    <a:pt x="254" y="8"/>
                    <a:pt x="272" y="0"/>
                    <a:pt x="2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06840" y="6329520"/>
              <a:ext cx="444600" cy="266400"/>
            </a:xfrm>
            <a:custGeom>
              <a:avLst/>
              <a:gdLst/>
              <a:ahLst/>
              <a:rect l="l" t="t" r="r" b="b"/>
              <a:pathLst>
                <a:path w="280" h="168">
                  <a:moveTo>
                    <a:pt x="0" y="168"/>
                  </a:moveTo>
                  <a:cubicBezTo>
                    <a:pt x="34" y="146"/>
                    <a:pt x="36" y="117"/>
                    <a:pt x="48" y="80"/>
                  </a:cubicBezTo>
                  <a:cubicBezTo>
                    <a:pt x="53" y="64"/>
                    <a:pt x="80" y="69"/>
                    <a:pt x="96" y="64"/>
                  </a:cubicBezTo>
                  <a:cubicBezTo>
                    <a:pt x="128" y="53"/>
                    <a:pt x="160" y="43"/>
                    <a:pt x="192" y="32"/>
                  </a:cubicBezTo>
                  <a:cubicBezTo>
                    <a:pt x="222" y="22"/>
                    <a:pt x="243" y="0"/>
                    <a:pt x="28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65560" y="6329520"/>
              <a:ext cx="533520" cy="22860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33" y="7"/>
                    <a:pt x="68" y="12"/>
                    <a:pt x="96" y="32"/>
                  </a:cubicBezTo>
                  <a:cubicBezTo>
                    <a:pt x="119" y="49"/>
                    <a:pt x="140" y="71"/>
                    <a:pt x="168" y="80"/>
                  </a:cubicBezTo>
                  <a:cubicBezTo>
                    <a:pt x="199" y="90"/>
                    <a:pt x="233" y="94"/>
                    <a:pt x="264" y="104"/>
                  </a:cubicBezTo>
                  <a:cubicBezTo>
                    <a:pt x="290" y="113"/>
                    <a:pt x="311" y="132"/>
                    <a:pt x="336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178160" y="6378480"/>
              <a:ext cx="508320" cy="230400"/>
            </a:xfrm>
            <a:custGeom>
              <a:avLst/>
              <a:gdLst/>
              <a:ahLst/>
              <a:rect l="l" t="t" r="r" b="b"/>
              <a:pathLst>
                <a:path w="320" h="145">
                  <a:moveTo>
                    <a:pt x="0" y="17"/>
                  </a:moveTo>
                  <a:cubicBezTo>
                    <a:pt x="26" y="15"/>
                    <a:pt x="110" y="0"/>
                    <a:pt x="144" y="17"/>
                  </a:cubicBezTo>
                  <a:cubicBezTo>
                    <a:pt x="161" y="26"/>
                    <a:pt x="148" y="58"/>
                    <a:pt x="160" y="73"/>
                  </a:cubicBezTo>
                  <a:cubicBezTo>
                    <a:pt x="165" y="80"/>
                    <a:pt x="176" y="78"/>
                    <a:pt x="184" y="81"/>
                  </a:cubicBezTo>
                  <a:cubicBezTo>
                    <a:pt x="229" y="70"/>
                    <a:pt x="239" y="65"/>
                    <a:pt x="288" y="73"/>
                  </a:cubicBezTo>
                  <a:cubicBezTo>
                    <a:pt x="291" y="92"/>
                    <a:pt x="288" y="112"/>
                    <a:pt x="296" y="129"/>
                  </a:cubicBezTo>
                  <a:cubicBezTo>
                    <a:pt x="300" y="138"/>
                    <a:pt x="320" y="145"/>
                    <a:pt x="320" y="1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38560" y="6340320"/>
              <a:ext cx="561960" cy="371520"/>
            </a:xfrm>
            <a:custGeom>
              <a:avLst/>
              <a:gdLst/>
              <a:ahLst/>
              <a:rect l="l" t="t" r="r" b="b"/>
              <a:pathLst>
                <a:path w="354" h="234">
                  <a:moveTo>
                    <a:pt x="57" y="33"/>
                  </a:moveTo>
                  <a:cubicBezTo>
                    <a:pt x="137" y="86"/>
                    <a:pt x="0" y="0"/>
                    <a:pt x="129" y="57"/>
                  </a:cubicBezTo>
                  <a:cubicBezTo>
                    <a:pt x="154" y="68"/>
                    <a:pt x="178" y="106"/>
                    <a:pt x="201" y="121"/>
                  </a:cubicBezTo>
                  <a:cubicBezTo>
                    <a:pt x="216" y="131"/>
                    <a:pt x="276" y="136"/>
                    <a:pt x="281" y="137"/>
                  </a:cubicBezTo>
                  <a:cubicBezTo>
                    <a:pt x="286" y="145"/>
                    <a:pt x="293" y="152"/>
                    <a:pt x="297" y="161"/>
                  </a:cubicBezTo>
                  <a:cubicBezTo>
                    <a:pt x="301" y="169"/>
                    <a:pt x="299" y="179"/>
                    <a:pt x="305" y="185"/>
                  </a:cubicBezTo>
                  <a:cubicBezTo>
                    <a:pt x="354" y="234"/>
                    <a:pt x="311" y="157"/>
                    <a:pt x="337" y="20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800600" y="6532200"/>
              <a:ext cx="838080" cy="2286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38680" y="6151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ahoma"/>
                </a:rPr>
                <a:t>Lámina nucl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00400" y="6227640"/>
              <a:ext cx="1828800" cy="1447920"/>
            </a:xfrm>
            <a:prstGeom prst="flowChartConnector">
              <a:avLst/>
            </a:prstGeom>
            <a:noFill/>
            <a:ln w="7632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14800" y="7675560"/>
              <a:ext cx="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827440" y="6899400"/>
              <a:ext cx="325440" cy="852480"/>
            </a:xfrm>
            <a:custGeom>
              <a:avLst/>
              <a:gdLst/>
              <a:ahLst/>
              <a:rect l="l" t="t" r="r" b="b"/>
              <a:pathLst>
                <a:path w="205" h="537">
                  <a:moveTo>
                    <a:pt x="205" y="21"/>
                  </a:moveTo>
                  <a:cubicBezTo>
                    <a:pt x="177" y="28"/>
                    <a:pt x="67" y="0"/>
                    <a:pt x="37" y="63"/>
                  </a:cubicBezTo>
                  <a:cubicBezTo>
                    <a:pt x="7" y="126"/>
                    <a:pt x="0" y="320"/>
                    <a:pt x="25" y="399"/>
                  </a:cubicBezTo>
                  <a:cubicBezTo>
                    <a:pt x="50" y="478"/>
                    <a:pt x="153" y="508"/>
                    <a:pt x="187" y="537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895480" y="6380280"/>
              <a:ext cx="243000" cy="533160"/>
            </a:xfrm>
            <a:custGeom>
              <a:avLst/>
              <a:gdLst/>
              <a:ahLst/>
              <a:rect l="l" t="t" r="r" b="b"/>
              <a:pathLst>
                <a:path w="161" h="344">
                  <a:moveTo>
                    <a:pt x="152" y="336"/>
                  </a:moveTo>
                  <a:cubicBezTo>
                    <a:pt x="116" y="340"/>
                    <a:pt x="80" y="344"/>
                    <a:pt x="56" y="336"/>
                  </a:cubicBezTo>
                  <a:cubicBezTo>
                    <a:pt x="32" y="328"/>
                    <a:pt x="16" y="304"/>
                    <a:pt x="8" y="288"/>
                  </a:cubicBezTo>
                  <a:cubicBezTo>
                    <a:pt x="0" y="272"/>
                    <a:pt x="2" y="267"/>
                    <a:pt x="8" y="240"/>
                  </a:cubicBezTo>
                  <a:cubicBezTo>
                    <a:pt x="14" y="213"/>
                    <a:pt x="28" y="158"/>
                    <a:pt x="44" y="126"/>
                  </a:cubicBezTo>
                  <a:cubicBezTo>
                    <a:pt x="60" y="94"/>
                    <a:pt x="86" y="69"/>
                    <a:pt x="104" y="48"/>
                  </a:cubicBezTo>
                  <a:cubicBezTo>
                    <a:pt x="122" y="27"/>
                    <a:pt x="144" y="0"/>
                    <a:pt x="152" y="0"/>
                  </a:cubicBezTo>
                  <a:cubicBezTo>
                    <a:pt x="160" y="0"/>
                    <a:pt x="161" y="27"/>
                    <a:pt x="152" y="48"/>
                  </a:cubicBezTo>
                  <a:cubicBezTo>
                    <a:pt x="143" y="69"/>
                    <a:pt x="116" y="106"/>
                    <a:pt x="98" y="126"/>
                  </a:cubicBezTo>
                  <a:cubicBezTo>
                    <a:pt x="80" y="146"/>
                    <a:pt x="55" y="159"/>
                    <a:pt x="44" y="168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2057400" y="6151680"/>
              <a:ext cx="914400" cy="3808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905360" y="6799320"/>
              <a:ext cx="392040" cy="704880"/>
            </a:xfrm>
            <a:custGeom>
              <a:avLst/>
              <a:gdLst/>
              <a:ahLst/>
              <a:rect l="l" t="t" r="r" b="b"/>
              <a:pathLst>
                <a:path w="247" h="444">
                  <a:moveTo>
                    <a:pt x="0" y="402"/>
                  </a:moveTo>
                  <a:cubicBezTo>
                    <a:pt x="36" y="414"/>
                    <a:pt x="64" y="436"/>
                    <a:pt x="102" y="444"/>
                  </a:cubicBezTo>
                  <a:cubicBezTo>
                    <a:pt x="141" y="431"/>
                    <a:pt x="180" y="366"/>
                    <a:pt x="192" y="330"/>
                  </a:cubicBezTo>
                  <a:cubicBezTo>
                    <a:pt x="217" y="255"/>
                    <a:pt x="242" y="170"/>
                    <a:pt x="246" y="90"/>
                  </a:cubicBezTo>
                  <a:cubicBezTo>
                    <a:pt x="247" y="60"/>
                    <a:pt x="246" y="30"/>
                    <a:pt x="246" y="0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495680" y="7523280"/>
              <a:ext cx="551160" cy="352440"/>
            </a:xfrm>
            <a:custGeom>
              <a:avLst/>
              <a:gdLst/>
              <a:ahLst/>
              <a:rect l="l" t="t" r="r" b="b"/>
              <a:pathLst>
                <a:path w="347" h="222">
                  <a:moveTo>
                    <a:pt x="342" y="0"/>
                  </a:moveTo>
                  <a:cubicBezTo>
                    <a:pt x="340" y="30"/>
                    <a:pt x="347" y="62"/>
                    <a:pt x="336" y="90"/>
                  </a:cubicBezTo>
                  <a:cubicBezTo>
                    <a:pt x="331" y="102"/>
                    <a:pt x="312" y="98"/>
                    <a:pt x="300" y="102"/>
                  </a:cubicBezTo>
                  <a:cubicBezTo>
                    <a:pt x="287" y="106"/>
                    <a:pt x="276" y="114"/>
                    <a:pt x="264" y="120"/>
                  </a:cubicBezTo>
                  <a:cubicBezTo>
                    <a:pt x="242" y="131"/>
                    <a:pt x="212" y="137"/>
                    <a:pt x="192" y="150"/>
                  </a:cubicBezTo>
                  <a:cubicBezTo>
                    <a:pt x="180" y="158"/>
                    <a:pt x="170" y="169"/>
                    <a:pt x="156" y="174"/>
                  </a:cubicBezTo>
                  <a:cubicBezTo>
                    <a:pt x="101" y="192"/>
                    <a:pt x="53" y="195"/>
                    <a:pt x="0" y="222"/>
                  </a:cubicBezTo>
                </a:path>
              </a:pathLst>
            </a:custGeom>
            <a:noFill/>
            <a:ln w="763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648320" y="7446960"/>
              <a:ext cx="761760" cy="30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14680" y="5656320"/>
              <a:ext cx="789120" cy="399960"/>
            </a:xfrm>
            <a:custGeom>
              <a:avLst/>
              <a:gdLst/>
              <a:ahLst/>
              <a:rect l="l" t="t" r="r" b="b"/>
              <a:pathLst>
                <a:path w="497" h="252">
                  <a:moveTo>
                    <a:pt x="228" y="0"/>
                  </a:moveTo>
                  <a:cubicBezTo>
                    <a:pt x="310" y="4"/>
                    <a:pt x="385" y="10"/>
                    <a:pt x="462" y="36"/>
                  </a:cubicBezTo>
                  <a:cubicBezTo>
                    <a:pt x="471" y="64"/>
                    <a:pt x="497" y="126"/>
                    <a:pt x="468" y="150"/>
                  </a:cubicBezTo>
                  <a:cubicBezTo>
                    <a:pt x="443" y="170"/>
                    <a:pt x="404" y="153"/>
                    <a:pt x="372" y="156"/>
                  </a:cubicBezTo>
                  <a:cubicBezTo>
                    <a:pt x="354" y="157"/>
                    <a:pt x="336" y="160"/>
                    <a:pt x="318" y="162"/>
                  </a:cubicBezTo>
                  <a:cubicBezTo>
                    <a:pt x="245" y="180"/>
                    <a:pt x="286" y="173"/>
                    <a:pt x="192" y="180"/>
                  </a:cubicBezTo>
                  <a:cubicBezTo>
                    <a:pt x="143" y="196"/>
                    <a:pt x="91" y="200"/>
                    <a:pt x="42" y="216"/>
                  </a:cubicBezTo>
                  <a:cubicBezTo>
                    <a:pt x="30" y="234"/>
                    <a:pt x="20" y="242"/>
                    <a:pt x="0" y="252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67080" y="5753160"/>
              <a:ext cx="800280" cy="693720"/>
            </a:xfrm>
            <a:custGeom>
              <a:avLst/>
              <a:gdLst/>
              <a:ahLst/>
              <a:rect l="l" t="t" r="r" b="b"/>
              <a:pathLst>
                <a:path w="504" h="437">
                  <a:moveTo>
                    <a:pt x="504" y="437"/>
                  </a:moveTo>
                  <a:cubicBezTo>
                    <a:pt x="476" y="395"/>
                    <a:pt x="498" y="391"/>
                    <a:pt x="468" y="371"/>
                  </a:cubicBezTo>
                  <a:cubicBezTo>
                    <a:pt x="453" y="349"/>
                    <a:pt x="470" y="353"/>
                    <a:pt x="450" y="335"/>
                  </a:cubicBezTo>
                  <a:cubicBezTo>
                    <a:pt x="421" y="310"/>
                    <a:pt x="430" y="316"/>
                    <a:pt x="396" y="305"/>
                  </a:cubicBezTo>
                  <a:cubicBezTo>
                    <a:pt x="365" y="295"/>
                    <a:pt x="330" y="264"/>
                    <a:pt x="300" y="251"/>
                  </a:cubicBezTo>
                  <a:cubicBezTo>
                    <a:pt x="247" y="228"/>
                    <a:pt x="195" y="217"/>
                    <a:pt x="138" y="209"/>
                  </a:cubicBezTo>
                  <a:cubicBezTo>
                    <a:pt x="106" y="211"/>
                    <a:pt x="72" y="209"/>
                    <a:pt x="36" y="179"/>
                  </a:cubicBezTo>
                  <a:cubicBezTo>
                    <a:pt x="28" y="181"/>
                    <a:pt x="32" y="195"/>
                    <a:pt x="30" y="203"/>
                  </a:cubicBezTo>
                  <a:cubicBezTo>
                    <a:pt x="23" y="228"/>
                    <a:pt x="26" y="242"/>
                    <a:pt x="0" y="251"/>
                  </a:cubicBezTo>
                  <a:cubicBezTo>
                    <a:pt x="2" y="233"/>
                    <a:pt x="2" y="215"/>
                    <a:pt x="6" y="197"/>
                  </a:cubicBezTo>
                  <a:cubicBezTo>
                    <a:pt x="8" y="185"/>
                    <a:pt x="14" y="173"/>
                    <a:pt x="18" y="161"/>
                  </a:cubicBezTo>
                  <a:cubicBezTo>
                    <a:pt x="20" y="155"/>
                    <a:pt x="6" y="137"/>
                    <a:pt x="6" y="137"/>
                  </a:cubicBezTo>
                  <a:cubicBezTo>
                    <a:pt x="11" y="101"/>
                    <a:pt x="6" y="65"/>
                    <a:pt x="24" y="35"/>
                  </a:cubicBezTo>
                  <a:cubicBezTo>
                    <a:pt x="6" y="23"/>
                    <a:pt x="46" y="31"/>
                    <a:pt x="54" y="17"/>
                  </a:cubicBezTo>
                  <a:cubicBezTo>
                    <a:pt x="64" y="0"/>
                    <a:pt x="90" y="17"/>
                    <a:pt x="108" y="11"/>
                  </a:cubicBezTo>
                  <a:cubicBezTo>
                    <a:pt x="130" y="13"/>
                    <a:pt x="159" y="29"/>
                    <a:pt x="180" y="35"/>
                  </a:cubicBezTo>
                  <a:cubicBezTo>
                    <a:pt x="207" y="43"/>
                    <a:pt x="226" y="50"/>
                    <a:pt x="252" y="59"/>
                  </a:cubicBezTo>
                  <a:cubicBezTo>
                    <a:pt x="264" y="63"/>
                    <a:pt x="282" y="73"/>
                    <a:pt x="294" y="77"/>
                  </a:cubicBezTo>
                  <a:cubicBezTo>
                    <a:pt x="316" y="84"/>
                    <a:pt x="314" y="94"/>
                    <a:pt x="336" y="101"/>
                  </a:cubicBezTo>
                  <a:cubicBezTo>
                    <a:pt x="342" y="103"/>
                    <a:pt x="372" y="113"/>
                    <a:pt x="372" y="113"/>
                  </a:cubicBezTo>
                  <a:cubicBezTo>
                    <a:pt x="386" y="134"/>
                    <a:pt x="367" y="118"/>
                    <a:pt x="366" y="119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81400" y="5923080"/>
              <a:ext cx="60480" cy="171360"/>
            </a:xfrm>
            <a:custGeom>
              <a:avLst/>
              <a:gdLst/>
              <a:ahLst/>
              <a:rect l="l" t="t" r="r" b="b"/>
              <a:pathLst>
                <a:path w="38" h="108">
                  <a:moveTo>
                    <a:pt x="0" y="0"/>
                  </a:moveTo>
                  <a:cubicBezTo>
                    <a:pt x="38" y="13"/>
                    <a:pt x="36" y="74"/>
                    <a:pt x="36" y="108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91120" y="5694480"/>
              <a:ext cx="179280" cy="569880"/>
            </a:xfrm>
            <a:custGeom>
              <a:avLst/>
              <a:gdLst/>
              <a:ahLst/>
              <a:rect l="l" t="t" r="r" b="b"/>
              <a:pathLst>
                <a:path w="113" h="359">
                  <a:moveTo>
                    <a:pt x="30" y="0"/>
                  </a:moveTo>
                  <a:cubicBezTo>
                    <a:pt x="65" y="12"/>
                    <a:pt x="76" y="16"/>
                    <a:pt x="102" y="42"/>
                  </a:cubicBezTo>
                  <a:cubicBezTo>
                    <a:pt x="113" y="53"/>
                    <a:pt x="67" y="54"/>
                    <a:pt x="60" y="66"/>
                  </a:cubicBezTo>
                  <a:cubicBezTo>
                    <a:pt x="48" y="77"/>
                    <a:pt x="32" y="96"/>
                    <a:pt x="30" y="108"/>
                  </a:cubicBezTo>
                  <a:cubicBezTo>
                    <a:pt x="19" y="117"/>
                    <a:pt x="48" y="138"/>
                    <a:pt x="48" y="138"/>
                  </a:cubicBezTo>
                  <a:cubicBezTo>
                    <a:pt x="19" y="181"/>
                    <a:pt x="42" y="240"/>
                    <a:pt x="0" y="294"/>
                  </a:cubicBezTo>
                  <a:cubicBezTo>
                    <a:pt x="25" y="311"/>
                    <a:pt x="32" y="307"/>
                    <a:pt x="48" y="282"/>
                  </a:cubicBezTo>
                  <a:cubicBezTo>
                    <a:pt x="74" y="359"/>
                    <a:pt x="56" y="197"/>
                    <a:pt x="42" y="156"/>
                  </a:cubicBezTo>
                  <a:cubicBezTo>
                    <a:pt x="46" y="91"/>
                    <a:pt x="36" y="68"/>
                    <a:pt x="66" y="24"/>
                  </a:cubicBezTo>
                  <a:cubicBezTo>
                    <a:pt x="72" y="26"/>
                    <a:pt x="84" y="30"/>
                    <a:pt x="84" y="30"/>
                  </a:cubicBezTo>
                </a:path>
              </a:pathLst>
            </a:custGeom>
            <a:noFill/>
            <a:ln w="5724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 flipH="1" flipV="1">
            <a:off x="2819160" y="5486400"/>
            <a:ext cx="685800" cy="9907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2120" y="5029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Retículo end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057640" y="5076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Lúmen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(nucleoplas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560920" y="738036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mbrana nuclear in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1052640" y="755640"/>
            <a:ext cx="2609640" cy="361944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2"/>
          <a:stretch/>
        </p:blipFill>
        <p:spPr>
          <a:xfrm>
            <a:off x="2205000" y="4643280"/>
            <a:ext cx="3971880" cy="394344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3"/>
          <a:stretch/>
        </p:blipFill>
        <p:spPr>
          <a:xfrm>
            <a:off x="3933720" y="1619280"/>
            <a:ext cx="2076480" cy="225756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3934080" y="654120"/>
            <a:ext cx="24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Poro nu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-579276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3500280" y="900000"/>
            <a:ext cx="2428920" cy="294336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"/>
          <a:stretch/>
        </p:blipFill>
        <p:spPr>
          <a:xfrm>
            <a:off x="476280" y="3348000"/>
            <a:ext cx="2771640" cy="21430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3357720" y="5435640"/>
            <a:ext cx="2676240" cy="23716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692280" y="802692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loom and Fawcett,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 Textbook of Histology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, Chapter 1, Chapman and Hall, Publishers, 199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2280" y="28432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ofra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13600" y="39528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inción neg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64000" y="493236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r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2325600" y="1079640"/>
            <a:ext cx="2092320" cy="1245960"/>
          </a:xfrm>
          <a:custGeom>
            <a:avLst/>
            <a:gdLst/>
            <a:ahLst/>
            <a:rect l="l" t="t" r="r" b="b"/>
            <a:pathLst>
              <a:path w="1318" h="785">
                <a:moveTo>
                  <a:pt x="201" y="785"/>
                </a:moveTo>
                <a:cubicBezTo>
                  <a:pt x="197" y="772"/>
                  <a:pt x="185" y="760"/>
                  <a:pt x="171" y="755"/>
                </a:cubicBezTo>
                <a:cubicBezTo>
                  <a:pt x="165" y="753"/>
                  <a:pt x="153" y="749"/>
                  <a:pt x="153" y="749"/>
                </a:cubicBezTo>
                <a:cubicBezTo>
                  <a:pt x="124" y="727"/>
                  <a:pt x="83" y="715"/>
                  <a:pt x="57" y="689"/>
                </a:cubicBezTo>
                <a:cubicBezTo>
                  <a:pt x="48" y="663"/>
                  <a:pt x="62" y="704"/>
                  <a:pt x="51" y="662"/>
                </a:cubicBezTo>
                <a:cubicBezTo>
                  <a:pt x="49" y="656"/>
                  <a:pt x="3" y="628"/>
                  <a:pt x="3" y="628"/>
                </a:cubicBezTo>
                <a:cubicBezTo>
                  <a:pt x="4" y="592"/>
                  <a:pt x="0" y="575"/>
                  <a:pt x="31" y="556"/>
                </a:cubicBezTo>
                <a:cubicBezTo>
                  <a:pt x="49" y="545"/>
                  <a:pt x="53" y="524"/>
                  <a:pt x="71" y="512"/>
                </a:cubicBezTo>
                <a:cubicBezTo>
                  <a:pt x="91" y="499"/>
                  <a:pt x="32" y="464"/>
                  <a:pt x="55" y="456"/>
                </a:cubicBezTo>
                <a:cubicBezTo>
                  <a:pt x="66" y="452"/>
                  <a:pt x="46" y="402"/>
                  <a:pt x="55" y="396"/>
                </a:cubicBezTo>
                <a:cubicBezTo>
                  <a:pt x="63" y="391"/>
                  <a:pt x="169" y="295"/>
                  <a:pt x="179" y="292"/>
                </a:cubicBezTo>
                <a:cubicBezTo>
                  <a:pt x="192" y="288"/>
                  <a:pt x="253" y="363"/>
                  <a:pt x="267" y="360"/>
                </a:cubicBezTo>
                <a:cubicBezTo>
                  <a:pt x="286" y="360"/>
                  <a:pt x="282" y="351"/>
                  <a:pt x="311" y="336"/>
                </a:cubicBezTo>
                <a:cubicBezTo>
                  <a:pt x="342" y="283"/>
                  <a:pt x="340" y="83"/>
                  <a:pt x="451" y="40"/>
                </a:cubicBezTo>
                <a:cubicBezTo>
                  <a:pt x="587" y="0"/>
                  <a:pt x="843" y="60"/>
                  <a:pt x="975" y="76"/>
                </a:cubicBezTo>
                <a:cubicBezTo>
                  <a:pt x="1104" y="103"/>
                  <a:pt x="1168" y="209"/>
                  <a:pt x="1211" y="232"/>
                </a:cubicBezTo>
                <a:cubicBezTo>
                  <a:pt x="1254" y="255"/>
                  <a:pt x="1218" y="194"/>
                  <a:pt x="1235" y="216"/>
                </a:cubicBezTo>
                <a:cubicBezTo>
                  <a:pt x="1252" y="238"/>
                  <a:pt x="1312" y="335"/>
                  <a:pt x="1315" y="364"/>
                </a:cubicBezTo>
                <a:cubicBezTo>
                  <a:pt x="1318" y="393"/>
                  <a:pt x="1264" y="375"/>
                  <a:pt x="1251" y="388"/>
                </a:cubicBezTo>
                <a:cubicBezTo>
                  <a:pt x="1270" y="392"/>
                  <a:pt x="1216" y="439"/>
                  <a:pt x="1235" y="444"/>
                </a:cubicBezTo>
                <a:cubicBezTo>
                  <a:pt x="1245" y="447"/>
                  <a:pt x="1255" y="516"/>
                  <a:pt x="1255" y="516"/>
                </a:cubicBezTo>
                <a:cubicBezTo>
                  <a:pt x="1273" y="543"/>
                  <a:pt x="1173" y="492"/>
                  <a:pt x="1179" y="524"/>
                </a:cubicBezTo>
                <a:cubicBezTo>
                  <a:pt x="1159" y="661"/>
                  <a:pt x="870" y="579"/>
                  <a:pt x="732" y="578"/>
                </a:cubicBezTo>
                <a:cubicBezTo>
                  <a:pt x="730" y="558"/>
                  <a:pt x="733" y="534"/>
                  <a:pt x="711" y="527"/>
                </a:cubicBezTo>
                <a:cubicBezTo>
                  <a:pt x="663" y="530"/>
                  <a:pt x="682" y="526"/>
                  <a:pt x="651" y="536"/>
                </a:cubicBezTo>
                <a:cubicBezTo>
                  <a:pt x="642" y="539"/>
                  <a:pt x="624" y="545"/>
                  <a:pt x="624" y="545"/>
                </a:cubicBezTo>
                <a:cubicBezTo>
                  <a:pt x="578" y="544"/>
                  <a:pt x="531" y="531"/>
                  <a:pt x="486" y="542"/>
                </a:cubicBezTo>
                <a:cubicBezTo>
                  <a:pt x="471" y="565"/>
                  <a:pt x="467" y="594"/>
                  <a:pt x="447" y="614"/>
                </a:cubicBezTo>
                <a:cubicBezTo>
                  <a:pt x="442" y="629"/>
                  <a:pt x="423" y="643"/>
                  <a:pt x="411" y="653"/>
                </a:cubicBezTo>
                <a:cubicBezTo>
                  <a:pt x="402" y="660"/>
                  <a:pt x="399" y="674"/>
                  <a:pt x="390" y="680"/>
                </a:cubicBezTo>
                <a:cubicBezTo>
                  <a:pt x="372" y="692"/>
                  <a:pt x="362" y="694"/>
                  <a:pt x="342" y="701"/>
                </a:cubicBezTo>
                <a:cubicBezTo>
                  <a:pt x="323" y="715"/>
                  <a:pt x="308" y="730"/>
                  <a:pt x="288" y="743"/>
                </a:cubicBezTo>
                <a:cubicBezTo>
                  <a:pt x="276" y="751"/>
                  <a:pt x="261" y="756"/>
                  <a:pt x="249" y="764"/>
                </a:cubicBezTo>
                <a:cubicBezTo>
                  <a:pt x="238" y="781"/>
                  <a:pt x="222" y="785"/>
                  <a:pt x="201" y="785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048120" y="1219320"/>
            <a:ext cx="457200" cy="761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2f"/>
              </a:gs>
              <a:gs pos="50000">
                <a:srgbClr val="ff9966"/>
              </a:gs>
              <a:gs pos="100000">
                <a:srgbClr val="75462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0" y="914400"/>
            <a:ext cx="1800360" cy="847800"/>
          </a:xfrm>
          <a:custGeom>
            <a:avLst/>
            <a:gdLst/>
            <a:ahLst/>
            <a:rect l="l" t="t" r="r" b="b"/>
            <a:pathLst>
              <a:path w="1134" h="534">
                <a:moveTo>
                  <a:pt x="180" y="534"/>
                </a:moveTo>
                <a:cubicBezTo>
                  <a:pt x="210" y="524"/>
                  <a:pt x="224" y="488"/>
                  <a:pt x="252" y="474"/>
                </a:cubicBezTo>
                <a:cubicBezTo>
                  <a:pt x="283" y="459"/>
                  <a:pt x="323" y="443"/>
                  <a:pt x="348" y="426"/>
                </a:cubicBezTo>
                <a:cubicBezTo>
                  <a:pt x="389" y="398"/>
                  <a:pt x="370" y="407"/>
                  <a:pt x="402" y="396"/>
                </a:cubicBezTo>
                <a:cubicBezTo>
                  <a:pt x="422" y="376"/>
                  <a:pt x="507" y="339"/>
                  <a:pt x="534" y="330"/>
                </a:cubicBezTo>
                <a:cubicBezTo>
                  <a:pt x="543" y="314"/>
                  <a:pt x="496" y="325"/>
                  <a:pt x="480" y="320"/>
                </a:cubicBezTo>
                <a:cubicBezTo>
                  <a:pt x="464" y="315"/>
                  <a:pt x="447" y="307"/>
                  <a:pt x="438" y="300"/>
                </a:cubicBezTo>
                <a:cubicBezTo>
                  <a:pt x="426" y="296"/>
                  <a:pt x="426" y="276"/>
                  <a:pt x="426" y="276"/>
                </a:cubicBezTo>
                <a:cubicBezTo>
                  <a:pt x="402" y="240"/>
                  <a:pt x="378" y="234"/>
                  <a:pt x="402" y="210"/>
                </a:cubicBezTo>
                <a:cubicBezTo>
                  <a:pt x="436" y="158"/>
                  <a:pt x="391" y="207"/>
                  <a:pt x="432" y="174"/>
                </a:cubicBezTo>
                <a:cubicBezTo>
                  <a:pt x="438" y="169"/>
                  <a:pt x="438" y="160"/>
                  <a:pt x="444" y="156"/>
                </a:cubicBezTo>
                <a:cubicBezTo>
                  <a:pt x="474" y="137"/>
                  <a:pt x="541" y="140"/>
                  <a:pt x="564" y="138"/>
                </a:cubicBezTo>
                <a:cubicBezTo>
                  <a:pt x="625" y="123"/>
                  <a:pt x="696" y="138"/>
                  <a:pt x="750" y="150"/>
                </a:cubicBezTo>
                <a:cubicBezTo>
                  <a:pt x="750" y="150"/>
                  <a:pt x="783" y="180"/>
                  <a:pt x="792" y="186"/>
                </a:cubicBezTo>
                <a:cubicBezTo>
                  <a:pt x="798" y="190"/>
                  <a:pt x="810" y="210"/>
                  <a:pt x="810" y="210"/>
                </a:cubicBezTo>
                <a:cubicBezTo>
                  <a:pt x="822" y="228"/>
                  <a:pt x="792" y="252"/>
                  <a:pt x="804" y="270"/>
                </a:cubicBezTo>
                <a:cubicBezTo>
                  <a:pt x="799" y="312"/>
                  <a:pt x="824" y="292"/>
                  <a:pt x="792" y="306"/>
                </a:cubicBezTo>
                <a:cubicBezTo>
                  <a:pt x="744" y="306"/>
                  <a:pt x="789" y="327"/>
                  <a:pt x="780" y="330"/>
                </a:cubicBezTo>
                <a:cubicBezTo>
                  <a:pt x="768" y="334"/>
                  <a:pt x="744" y="342"/>
                  <a:pt x="744" y="342"/>
                </a:cubicBezTo>
                <a:cubicBezTo>
                  <a:pt x="739" y="358"/>
                  <a:pt x="729" y="366"/>
                  <a:pt x="756" y="366"/>
                </a:cubicBezTo>
                <a:cubicBezTo>
                  <a:pt x="765" y="369"/>
                  <a:pt x="772" y="326"/>
                  <a:pt x="798" y="318"/>
                </a:cubicBezTo>
                <a:cubicBezTo>
                  <a:pt x="824" y="310"/>
                  <a:pt x="859" y="319"/>
                  <a:pt x="912" y="318"/>
                </a:cubicBezTo>
                <a:cubicBezTo>
                  <a:pt x="984" y="324"/>
                  <a:pt x="1046" y="314"/>
                  <a:pt x="1116" y="312"/>
                </a:cubicBezTo>
                <a:cubicBezTo>
                  <a:pt x="1122" y="303"/>
                  <a:pt x="1134" y="288"/>
                  <a:pt x="1134" y="276"/>
                </a:cubicBezTo>
                <a:cubicBezTo>
                  <a:pt x="1134" y="234"/>
                  <a:pt x="1133" y="192"/>
                  <a:pt x="1128" y="150"/>
                </a:cubicBezTo>
                <a:cubicBezTo>
                  <a:pt x="1127" y="141"/>
                  <a:pt x="1103" y="118"/>
                  <a:pt x="1098" y="114"/>
                </a:cubicBezTo>
                <a:cubicBezTo>
                  <a:pt x="1042" y="70"/>
                  <a:pt x="957" y="54"/>
                  <a:pt x="888" y="48"/>
                </a:cubicBezTo>
                <a:cubicBezTo>
                  <a:pt x="852" y="45"/>
                  <a:pt x="816" y="44"/>
                  <a:pt x="780" y="42"/>
                </a:cubicBezTo>
                <a:cubicBezTo>
                  <a:pt x="690" y="44"/>
                  <a:pt x="456" y="0"/>
                  <a:pt x="348" y="72"/>
                </a:cubicBezTo>
                <a:cubicBezTo>
                  <a:pt x="344" y="78"/>
                  <a:pt x="330" y="67"/>
                  <a:pt x="324" y="72"/>
                </a:cubicBezTo>
                <a:cubicBezTo>
                  <a:pt x="319" y="76"/>
                  <a:pt x="286" y="92"/>
                  <a:pt x="282" y="96"/>
                </a:cubicBezTo>
                <a:cubicBezTo>
                  <a:pt x="253" y="125"/>
                  <a:pt x="265" y="106"/>
                  <a:pt x="234" y="120"/>
                </a:cubicBezTo>
                <a:cubicBezTo>
                  <a:pt x="222" y="125"/>
                  <a:pt x="192" y="146"/>
                  <a:pt x="180" y="150"/>
                </a:cubicBezTo>
                <a:cubicBezTo>
                  <a:pt x="168" y="154"/>
                  <a:pt x="174" y="170"/>
                  <a:pt x="162" y="174"/>
                </a:cubicBezTo>
                <a:cubicBezTo>
                  <a:pt x="148" y="179"/>
                  <a:pt x="144" y="204"/>
                  <a:pt x="144" y="204"/>
                </a:cubicBezTo>
                <a:cubicBezTo>
                  <a:pt x="130" y="245"/>
                  <a:pt x="155" y="207"/>
                  <a:pt x="126" y="240"/>
                </a:cubicBezTo>
                <a:cubicBezTo>
                  <a:pt x="109" y="259"/>
                  <a:pt x="12" y="294"/>
                  <a:pt x="48" y="318"/>
                </a:cubicBezTo>
                <a:cubicBezTo>
                  <a:pt x="0" y="402"/>
                  <a:pt x="102" y="474"/>
                  <a:pt x="174" y="522"/>
                </a:cubicBezTo>
                <a:cubicBezTo>
                  <a:pt x="190" y="498"/>
                  <a:pt x="204" y="518"/>
                  <a:pt x="180" y="534"/>
                </a:cubicBez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438360" y="1363680"/>
            <a:ext cx="757440" cy="668160"/>
          </a:xfrm>
          <a:custGeom>
            <a:avLst/>
            <a:gdLst/>
            <a:ahLst/>
            <a:rect l="l" t="t" r="r" b="b"/>
            <a:pathLst>
              <a:path w="477" h="421">
                <a:moveTo>
                  <a:pt x="382" y="20"/>
                </a:moveTo>
                <a:cubicBezTo>
                  <a:pt x="328" y="26"/>
                  <a:pt x="116" y="0"/>
                  <a:pt x="58" y="57"/>
                </a:cubicBezTo>
                <a:cubicBezTo>
                  <a:pt x="0" y="114"/>
                  <a:pt x="27" y="303"/>
                  <a:pt x="34" y="362"/>
                </a:cubicBezTo>
                <a:cubicBezTo>
                  <a:pt x="41" y="421"/>
                  <a:pt x="34" y="403"/>
                  <a:pt x="100" y="410"/>
                </a:cubicBezTo>
                <a:cubicBezTo>
                  <a:pt x="166" y="417"/>
                  <a:pt x="383" y="405"/>
                  <a:pt x="430" y="404"/>
                </a:cubicBezTo>
                <a:cubicBezTo>
                  <a:pt x="477" y="403"/>
                  <a:pt x="382" y="404"/>
                  <a:pt x="382" y="404"/>
                </a:cubicBezTo>
                <a:cubicBezTo>
                  <a:pt x="382" y="404"/>
                  <a:pt x="406" y="404"/>
                  <a:pt x="430" y="404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590920" y="1447920"/>
            <a:ext cx="507960" cy="882360"/>
          </a:xfrm>
          <a:custGeom>
            <a:avLst/>
            <a:gdLst/>
            <a:ahLst/>
            <a:rect l="l" t="t" r="r" b="b"/>
            <a:pathLst>
              <a:path w="320" h="556">
                <a:moveTo>
                  <a:pt x="0" y="184"/>
                </a:moveTo>
                <a:cubicBezTo>
                  <a:pt x="37" y="172"/>
                  <a:pt x="58" y="133"/>
                  <a:pt x="90" y="112"/>
                </a:cubicBezTo>
                <a:cubicBezTo>
                  <a:pt x="123" y="90"/>
                  <a:pt x="163" y="77"/>
                  <a:pt x="198" y="58"/>
                </a:cubicBezTo>
                <a:cubicBezTo>
                  <a:pt x="229" y="41"/>
                  <a:pt x="254" y="15"/>
                  <a:pt x="288" y="4"/>
                </a:cubicBezTo>
                <a:cubicBezTo>
                  <a:pt x="304" y="6"/>
                  <a:pt x="307" y="0"/>
                  <a:pt x="320" y="9"/>
                </a:cubicBezTo>
                <a:cubicBezTo>
                  <a:pt x="320" y="9"/>
                  <a:pt x="309" y="72"/>
                  <a:pt x="312" y="81"/>
                </a:cubicBezTo>
                <a:cubicBezTo>
                  <a:pt x="314" y="87"/>
                  <a:pt x="312" y="145"/>
                  <a:pt x="312" y="145"/>
                </a:cubicBezTo>
                <a:cubicBezTo>
                  <a:pt x="319" y="239"/>
                  <a:pt x="312" y="345"/>
                  <a:pt x="248" y="425"/>
                </a:cubicBezTo>
                <a:cubicBezTo>
                  <a:pt x="209" y="464"/>
                  <a:pt x="180" y="507"/>
                  <a:pt x="126" y="520"/>
                </a:cubicBezTo>
                <a:cubicBezTo>
                  <a:pt x="114" y="528"/>
                  <a:pt x="72" y="540"/>
                  <a:pt x="72" y="556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8120" y="1219320"/>
            <a:ext cx="457200" cy="228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67120" y="1143000"/>
            <a:ext cx="646200" cy="266760"/>
          </a:xfrm>
          <a:custGeom>
            <a:avLst/>
            <a:gdLst/>
            <a:ahLst/>
            <a:rect l="l" t="t" r="r" b="b"/>
            <a:pathLst>
              <a:path w="407" h="168">
                <a:moveTo>
                  <a:pt x="375" y="132"/>
                </a:moveTo>
                <a:cubicBezTo>
                  <a:pt x="391" y="121"/>
                  <a:pt x="366" y="162"/>
                  <a:pt x="374" y="143"/>
                </a:cubicBezTo>
                <a:cubicBezTo>
                  <a:pt x="379" y="131"/>
                  <a:pt x="407" y="136"/>
                  <a:pt x="403" y="108"/>
                </a:cubicBezTo>
                <a:cubicBezTo>
                  <a:pt x="401" y="94"/>
                  <a:pt x="378" y="73"/>
                  <a:pt x="374" y="59"/>
                </a:cubicBezTo>
                <a:cubicBezTo>
                  <a:pt x="366" y="34"/>
                  <a:pt x="368" y="51"/>
                  <a:pt x="350" y="41"/>
                </a:cubicBezTo>
                <a:cubicBezTo>
                  <a:pt x="295" y="10"/>
                  <a:pt x="310" y="12"/>
                  <a:pt x="236" y="5"/>
                </a:cubicBezTo>
                <a:cubicBezTo>
                  <a:pt x="196" y="0"/>
                  <a:pt x="146" y="3"/>
                  <a:pt x="121" y="4"/>
                </a:cubicBezTo>
                <a:cubicBezTo>
                  <a:pt x="98" y="5"/>
                  <a:pt x="111" y="7"/>
                  <a:pt x="99" y="12"/>
                </a:cubicBezTo>
                <a:cubicBezTo>
                  <a:pt x="75" y="9"/>
                  <a:pt x="73" y="19"/>
                  <a:pt x="51" y="33"/>
                </a:cubicBezTo>
                <a:cubicBezTo>
                  <a:pt x="49" y="39"/>
                  <a:pt x="19" y="56"/>
                  <a:pt x="15" y="60"/>
                </a:cubicBezTo>
                <a:cubicBezTo>
                  <a:pt x="5" y="70"/>
                  <a:pt x="9" y="78"/>
                  <a:pt x="0" y="105"/>
                </a:cubicBezTo>
                <a:cubicBezTo>
                  <a:pt x="21" y="153"/>
                  <a:pt x="34" y="155"/>
                  <a:pt x="43" y="168"/>
                </a:cubicBezTo>
              </a:path>
            </a:pathLst>
          </a:custGeom>
          <a:noFill/>
          <a:ln w="7632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76440" y="942840"/>
            <a:ext cx="33480" cy="247680"/>
          </a:xfrm>
          <a:custGeom>
            <a:avLst/>
            <a:gdLst/>
            <a:ahLst/>
            <a:rect l="l" t="t" r="r" b="b"/>
            <a:pathLst>
              <a:path w="21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1" y="106"/>
                  <a:pt x="15" y="93"/>
                </a:cubicBezTo>
                <a:cubicBezTo>
                  <a:pt x="15" y="92"/>
                  <a:pt x="21" y="25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05320" y="1143000"/>
            <a:ext cx="33120" cy="247680"/>
          </a:xfrm>
          <a:custGeom>
            <a:avLst/>
            <a:gdLst/>
            <a:ahLst/>
            <a:rect l="l" t="t" r="r" b="b"/>
            <a:pathLst>
              <a:path w="21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1" y="106"/>
                  <a:pt x="15" y="93"/>
                </a:cubicBezTo>
                <a:cubicBezTo>
                  <a:pt x="15" y="92"/>
                  <a:pt x="21" y="25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91440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928960" y="1147680"/>
            <a:ext cx="109440" cy="166680"/>
          </a:xfrm>
          <a:custGeom>
            <a:avLst/>
            <a:gdLst/>
            <a:ahLst/>
            <a:rect l="l" t="t" r="r" b="b"/>
            <a:pathLst>
              <a:path w="69" h="105">
                <a:moveTo>
                  <a:pt x="0" y="105"/>
                </a:moveTo>
                <a:cubicBezTo>
                  <a:pt x="3" y="73"/>
                  <a:pt x="9" y="56"/>
                  <a:pt x="27" y="30"/>
                </a:cubicBezTo>
                <a:cubicBezTo>
                  <a:pt x="39" y="12"/>
                  <a:pt x="44" y="17"/>
                  <a:pt x="60" y="6"/>
                </a:cubicBezTo>
                <a:cubicBezTo>
                  <a:pt x="63" y="4"/>
                  <a:pt x="69" y="0"/>
                  <a:pt x="69" y="0"/>
                </a:cubicBezTo>
              </a:path>
            </a:pathLst>
          </a:custGeom>
          <a:noFill/>
          <a:ln w="7632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48120" y="114300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914560" y="1054080"/>
            <a:ext cx="57240" cy="273240"/>
          </a:xfrm>
          <a:custGeom>
            <a:avLst/>
            <a:gdLst/>
            <a:ahLst/>
            <a:rect l="l" t="t" r="r" b="b"/>
            <a:pathLst>
              <a:path w="36" h="172">
                <a:moveTo>
                  <a:pt x="24" y="172"/>
                </a:moveTo>
                <a:cubicBezTo>
                  <a:pt x="30" y="141"/>
                  <a:pt x="36" y="108"/>
                  <a:pt x="12" y="84"/>
                </a:cubicBezTo>
                <a:cubicBezTo>
                  <a:pt x="0" y="48"/>
                  <a:pt x="13" y="98"/>
                  <a:pt x="16" y="60"/>
                </a:cubicBezTo>
                <a:cubicBezTo>
                  <a:pt x="18" y="40"/>
                  <a:pt x="12" y="20"/>
                  <a:pt x="12" y="0"/>
                </a:cubicBezTo>
              </a:path>
            </a:pathLst>
          </a:custGeom>
          <a:solidFill>
            <a:srgbClr val="33ccff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09960" y="946080"/>
            <a:ext cx="31680" cy="247680"/>
          </a:xfrm>
          <a:custGeom>
            <a:avLst/>
            <a:gdLst/>
            <a:ahLst/>
            <a:rect l="l" t="t" r="r" b="b"/>
            <a:pathLst>
              <a:path w="20" h="156">
                <a:moveTo>
                  <a:pt x="16" y="156"/>
                </a:moveTo>
                <a:cubicBezTo>
                  <a:pt x="13" y="117"/>
                  <a:pt x="9" y="101"/>
                  <a:pt x="20" y="68"/>
                </a:cubicBezTo>
                <a:cubicBezTo>
                  <a:pt x="13" y="40"/>
                  <a:pt x="8" y="60"/>
                  <a:pt x="0" y="36"/>
                </a:cubicBezTo>
                <a:cubicBezTo>
                  <a:pt x="6" y="14"/>
                  <a:pt x="4" y="25"/>
                  <a:pt x="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73280" y="971640"/>
            <a:ext cx="57240" cy="260280"/>
          </a:xfrm>
          <a:custGeom>
            <a:avLst/>
            <a:gdLst/>
            <a:ahLst/>
            <a:rect l="l" t="t" r="r" b="b"/>
            <a:pathLst>
              <a:path w="36" h="164">
                <a:moveTo>
                  <a:pt x="20" y="164"/>
                </a:moveTo>
                <a:cubicBezTo>
                  <a:pt x="11" y="151"/>
                  <a:pt x="5" y="139"/>
                  <a:pt x="0" y="124"/>
                </a:cubicBezTo>
                <a:cubicBezTo>
                  <a:pt x="9" y="96"/>
                  <a:pt x="0" y="103"/>
                  <a:pt x="20" y="96"/>
                </a:cubicBezTo>
                <a:cubicBezTo>
                  <a:pt x="30" y="65"/>
                  <a:pt x="13" y="23"/>
                  <a:pt x="36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895480" y="1752480"/>
            <a:ext cx="150840" cy="200160"/>
          </a:xfrm>
          <a:custGeom>
            <a:avLst/>
            <a:gdLst/>
            <a:ahLst/>
            <a:rect l="l" t="t" r="r" b="b"/>
            <a:pathLst>
              <a:path w="95" h="126">
                <a:moveTo>
                  <a:pt x="95" y="126"/>
                </a:moveTo>
                <a:cubicBezTo>
                  <a:pt x="75" y="119"/>
                  <a:pt x="41" y="96"/>
                  <a:pt x="41" y="96"/>
                </a:cubicBezTo>
                <a:cubicBezTo>
                  <a:pt x="0" y="34"/>
                  <a:pt x="46" y="25"/>
                  <a:pt x="95" y="0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1752480"/>
            <a:ext cx="96840" cy="231840"/>
          </a:xfrm>
          <a:custGeom>
            <a:avLst/>
            <a:gdLst/>
            <a:ahLst/>
            <a:rect l="l" t="t" r="r" b="b"/>
            <a:pathLst>
              <a:path w="61" h="146">
                <a:moveTo>
                  <a:pt x="0" y="0"/>
                </a:moveTo>
                <a:cubicBezTo>
                  <a:pt x="28" y="7"/>
                  <a:pt x="38" y="12"/>
                  <a:pt x="54" y="36"/>
                </a:cubicBezTo>
                <a:cubicBezTo>
                  <a:pt x="50" y="81"/>
                  <a:pt x="61" y="112"/>
                  <a:pt x="18" y="126"/>
                </a:cubicBezTo>
                <a:cubicBezTo>
                  <a:pt x="5" y="146"/>
                  <a:pt x="13" y="144"/>
                  <a:pt x="0" y="144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2666880"/>
            <a:ext cx="584280" cy="263520"/>
          </a:xfrm>
          <a:custGeom>
            <a:avLst/>
            <a:gdLst/>
            <a:ahLst/>
            <a:rect l="l" t="t" r="r" b="b"/>
            <a:pathLst>
              <a:path w="368" h="166">
                <a:moveTo>
                  <a:pt x="132" y="166"/>
                </a:moveTo>
                <a:cubicBezTo>
                  <a:pt x="76" y="161"/>
                  <a:pt x="18" y="159"/>
                  <a:pt x="0" y="106"/>
                </a:cubicBezTo>
                <a:cubicBezTo>
                  <a:pt x="2" y="84"/>
                  <a:pt x="12" y="58"/>
                  <a:pt x="36" y="52"/>
                </a:cubicBezTo>
                <a:cubicBezTo>
                  <a:pt x="47" y="0"/>
                  <a:pt x="158" y="6"/>
                  <a:pt x="186" y="4"/>
                </a:cubicBezTo>
                <a:cubicBezTo>
                  <a:pt x="256" y="8"/>
                  <a:pt x="294" y="20"/>
                  <a:pt x="342" y="52"/>
                </a:cubicBezTo>
                <a:cubicBezTo>
                  <a:pt x="353" y="68"/>
                  <a:pt x="354" y="82"/>
                  <a:pt x="354" y="82"/>
                </a:cubicBezTo>
                <a:cubicBezTo>
                  <a:pt x="352" y="101"/>
                  <a:pt x="368" y="114"/>
                  <a:pt x="348" y="130"/>
                </a:cubicBezTo>
                <a:cubicBezTo>
                  <a:pt x="331" y="144"/>
                  <a:pt x="270" y="166"/>
                  <a:pt x="270" y="166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48120" y="2133720"/>
            <a:ext cx="152280" cy="7617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429000" y="2057400"/>
            <a:ext cx="76320" cy="838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895480" y="2285640"/>
            <a:ext cx="152640" cy="609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276720" y="1980720"/>
            <a:ext cx="144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 flipV="1">
            <a:off x="3124080" y="1980720"/>
            <a:ext cx="7632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352680" y="1980720"/>
            <a:ext cx="7632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3505320" y="205704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3505320" y="2057400"/>
            <a:ext cx="75960" cy="8380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71800" y="2209680"/>
            <a:ext cx="152280" cy="6858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887560" y="1492200"/>
            <a:ext cx="196920" cy="495360"/>
          </a:xfrm>
          <a:custGeom>
            <a:avLst/>
            <a:gdLst/>
            <a:ahLst/>
            <a:rect l="l" t="t" r="r" b="b"/>
            <a:pathLst>
              <a:path w="124" h="312">
                <a:moveTo>
                  <a:pt x="6" y="92"/>
                </a:moveTo>
                <a:lnTo>
                  <a:pt x="6" y="236"/>
                </a:lnTo>
                <a:cubicBezTo>
                  <a:pt x="13" y="256"/>
                  <a:pt x="21" y="281"/>
                  <a:pt x="42" y="288"/>
                </a:cubicBezTo>
                <a:cubicBezTo>
                  <a:pt x="54" y="306"/>
                  <a:pt x="69" y="305"/>
                  <a:pt x="90" y="312"/>
                </a:cubicBezTo>
                <a:cubicBezTo>
                  <a:pt x="124" y="261"/>
                  <a:pt x="101" y="176"/>
                  <a:pt x="106" y="112"/>
                </a:cubicBezTo>
                <a:cubicBezTo>
                  <a:pt x="105" y="83"/>
                  <a:pt x="108" y="37"/>
                  <a:pt x="105" y="8"/>
                </a:cubicBezTo>
                <a:cubicBezTo>
                  <a:pt x="105" y="4"/>
                  <a:pt x="98" y="0"/>
                  <a:pt x="95" y="2"/>
                </a:cubicBezTo>
                <a:cubicBezTo>
                  <a:pt x="88" y="7"/>
                  <a:pt x="93" y="9"/>
                  <a:pt x="85" y="12"/>
                </a:cubicBezTo>
                <a:cubicBezTo>
                  <a:pt x="66" y="18"/>
                  <a:pt x="33" y="45"/>
                  <a:pt x="17" y="56"/>
                </a:cubicBezTo>
                <a:cubicBezTo>
                  <a:pt x="0" y="81"/>
                  <a:pt x="6" y="78"/>
                  <a:pt x="6" y="92"/>
                </a:cubicBez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502080" y="1425600"/>
            <a:ext cx="137880" cy="568440"/>
          </a:xfrm>
          <a:custGeom>
            <a:avLst/>
            <a:gdLst/>
            <a:ahLst/>
            <a:rect l="l" t="t" r="r" b="b"/>
            <a:pathLst>
              <a:path w="87" h="358">
                <a:moveTo>
                  <a:pt x="78" y="2"/>
                </a:moveTo>
                <a:cubicBezTo>
                  <a:pt x="76" y="44"/>
                  <a:pt x="84" y="100"/>
                  <a:pt x="74" y="140"/>
                </a:cubicBezTo>
                <a:cubicBezTo>
                  <a:pt x="80" y="185"/>
                  <a:pt x="87" y="312"/>
                  <a:pt x="30" y="350"/>
                </a:cubicBezTo>
                <a:cubicBezTo>
                  <a:pt x="19" y="308"/>
                  <a:pt x="34" y="358"/>
                  <a:pt x="18" y="322"/>
                </a:cubicBezTo>
                <a:cubicBezTo>
                  <a:pt x="15" y="314"/>
                  <a:pt x="10" y="298"/>
                  <a:pt x="10" y="298"/>
                </a:cubicBezTo>
                <a:cubicBezTo>
                  <a:pt x="11" y="265"/>
                  <a:pt x="0" y="145"/>
                  <a:pt x="5" y="101"/>
                </a:cubicBezTo>
                <a:cubicBezTo>
                  <a:pt x="10" y="57"/>
                  <a:pt x="28" y="46"/>
                  <a:pt x="38" y="32"/>
                </a:cubicBezTo>
                <a:cubicBezTo>
                  <a:pt x="48" y="18"/>
                  <a:pt x="61" y="22"/>
                  <a:pt x="68" y="17"/>
                </a:cubicBezTo>
                <a:cubicBezTo>
                  <a:pt x="79" y="0"/>
                  <a:pt x="73" y="23"/>
                  <a:pt x="78" y="2"/>
                </a:cubicBezTo>
                <a:close/>
              </a:path>
            </a:pathLst>
          </a:cu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70280" y="1271520"/>
            <a:ext cx="129960" cy="243000"/>
          </a:xfrm>
          <a:custGeom>
            <a:avLst/>
            <a:gdLst/>
            <a:ahLst/>
            <a:rect l="l" t="t" r="r" b="b"/>
            <a:pathLst>
              <a:path w="82" h="153">
                <a:moveTo>
                  <a:pt x="19" y="138"/>
                </a:moveTo>
                <a:cubicBezTo>
                  <a:pt x="17" y="107"/>
                  <a:pt x="0" y="32"/>
                  <a:pt x="34" y="9"/>
                </a:cubicBezTo>
                <a:cubicBezTo>
                  <a:pt x="35" y="6"/>
                  <a:pt x="34" y="0"/>
                  <a:pt x="37" y="0"/>
                </a:cubicBezTo>
                <a:cubicBezTo>
                  <a:pt x="40" y="0"/>
                  <a:pt x="40" y="6"/>
                  <a:pt x="40" y="9"/>
                </a:cubicBezTo>
                <a:cubicBezTo>
                  <a:pt x="42" y="23"/>
                  <a:pt x="41" y="37"/>
                  <a:pt x="43" y="51"/>
                </a:cubicBezTo>
                <a:cubicBezTo>
                  <a:pt x="44" y="63"/>
                  <a:pt x="52" y="69"/>
                  <a:pt x="61" y="75"/>
                </a:cubicBezTo>
                <a:cubicBezTo>
                  <a:pt x="75" y="96"/>
                  <a:pt x="67" y="89"/>
                  <a:pt x="82" y="99"/>
                </a:cubicBezTo>
                <a:cubicBezTo>
                  <a:pt x="77" y="113"/>
                  <a:pt x="64" y="112"/>
                  <a:pt x="52" y="120"/>
                </a:cubicBezTo>
                <a:cubicBezTo>
                  <a:pt x="47" y="127"/>
                  <a:pt x="19" y="153"/>
                  <a:pt x="19" y="138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10800000"/>
          </a:gradFill>
          <a:ln w="93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52840" y="1225440"/>
            <a:ext cx="90360" cy="168480"/>
          </a:xfrm>
          <a:custGeom>
            <a:avLst/>
            <a:gdLst/>
            <a:ahLst/>
            <a:rect l="l" t="t" r="r" b="b"/>
            <a:pathLst>
              <a:path w="57" h="106">
                <a:moveTo>
                  <a:pt x="10" y="104"/>
                </a:moveTo>
                <a:cubicBezTo>
                  <a:pt x="26" y="100"/>
                  <a:pt x="36" y="97"/>
                  <a:pt x="50" y="88"/>
                </a:cubicBezTo>
                <a:cubicBezTo>
                  <a:pt x="56" y="82"/>
                  <a:pt x="57" y="78"/>
                  <a:pt x="56" y="66"/>
                </a:cubicBezTo>
                <a:cubicBezTo>
                  <a:pt x="54" y="52"/>
                  <a:pt x="38" y="8"/>
                  <a:pt x="36" y="4"/>
                </a:cubicBezTo>
                <a:cubicBezTo>
                  <a:pt x="35" y="0"/>
                  <a:pt x="43" y="36"/>
                  <a:pt x="42" y="40"/>
                </a:cubicBezTo>
                <a:cubicBezTo>
                  <a:pt x="40" y="48"/>
                  <a:pt x="37" y="51"/>
                  <a:pt x="34" y="58"/>
                </a:cubicBezTo>
                <a:cubicBezTo>
                  <a:pt x="30" y="67"/>
                  <a:pt x="27" y="80"/>
                  <a:pt x="22" y="88"/>
                </a:cubicBezTo>
                <a:cubicBezTo>
                  <a:pt x="19" y="92"/>
                  <a:pt x="19" y="98"/>
                  <a:pt x="14" y="100"/>
                </a:cubicBezTo>
                <a:cubicBezTo>
                  <a:pt x="10" y="101"/>
                  <a:pt x="5" y="101"/>
                  <a:pt x="2" y="104"/>
                </a:cubicBezTo>
                <a:cubicBezTo>
                  <a:pt x="0" y="106"/>
                  <a:pt x="7" y="104"/>
                  <a:pt x="10" y="104"/>
                </a:cubicBezTo>
                <a:close/>
              </a:path>
            </a:pathLst>
          </a:custGeom>
          <a:noFill/>
          <a:ln w="9360">
            <a:solidFill>
              <a:srgbClr val="808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86200" y="1828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181480" y="1676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133720" y="914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90720" y="1295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ol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05320" y="2514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495680" y="2209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amento de la canasta o ja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86000" y="22860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25146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asta o jaula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505320" y="28954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95680" y="312408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illo nuclear anclado a lámina nu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81280" y="129528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72000" y="990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illo cit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276720" y="76176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572000" y="152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nto tapón o diafrag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 flipV="1">
            <a:off x="1981080" y="68544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304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amento citoplás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1371240" y="182880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7200" y="1905120"/>
            <a:ext cx="83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43000" y="4419720"/>
            <a:ext cx="1523880" cy="1295280"/>
          </a:xfrm>
          <a:prstGeom prst="donut">
            <a:avLst>
              <a:gd name="adj" fmla="val 97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90720" y="4267080"/>
            <a:ext cx="1828800" cy="1600200"/>
          </a:xfrm>
          <a:prstGeom prst="donut">
            <a:avLst>
              <a:gd name="adj" fmla="val 972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295280" y="4495680"/>
            <a:ext cx="1219320" cy="1143000"/>
          </a:xfrm>
          <a:prstGeom prst="donut">
            <a:avLst>
              <a:gd name="adj" fmla="val 9722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590920" y="4876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581280" y="40384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teína luminal (anclaje a la envoltu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2514600" y="426672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52680" y="4724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lumna (pared del po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38280" y="5257800"/>
            <a:ext cx="83844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05320" y="5105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Tahoma"/>
              </a:rPr>
              <a:t>componente an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3880" y="525780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752480" y="457200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57400" y="472428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33720" y="502920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472428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71600" y="4952880"/>
            <a:ext cx="30492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905120" y="5334120"/>
            <a:ext cx="304560" cy="2286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86000" y="51814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066680" y="6324480"/>
            <a:ext cx="327672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7467480"/>
            <a:ext cx="327672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33720" y="7315200"/>
            <a:ext cx="30456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95480" y="7315200"/>
            <a:ext cx="304920" cy="2286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38280" y="7391520"/>
            <a:ext cx="15264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743200" y="7391520"/>
            <a:ext cx="1522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7010280"/>
            <a:ext cx="3049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0488600">
            <a:off x="1828080" y="7009560"/>
            <a:ext cx="30492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752480" y="6934320"/>
            <a:ext cx="304920" cy="759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701028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200400" y="777240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28800" y="7772400"/>
            <a:ext cx="30492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6149000">
            <a:off x="3866760" y="6419880"/>
            <a:ext cx="914400" cy="1943280"/>
          </a:xfrm>
          <a:prstGeom prst="blockArc">
            <a:avLst>
              <a:gd name="adj1" fmla="val 10800000"/>
              <a:gd name="adj2" fmla="val 0"/>
              <a:gd name="adj3" fmla="val 920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5262600">
            <a:off x="590040" y="6495840"/>
            <a:ext cx="914400" cy="1942920"/>
          </a:xfrm>
          <a:prstGeom prst="blockArc">
            <a:avLst>
              <a:gd name="adj1" fmla="val 10800000"/>
              <a:gd name="adj2" fmla="val 0"/>
              <a:gd name="adj3" fmla="val 9204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33720" y="80010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905120" y="64771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448080" y="7020000"/>
            <a:ext cx="923760" cy="752400"/>
          </a:xfrm>
          <a:custGeom>
            <a:avLst/>
            <a:gdLst/>
            <a:ahLst/>
            <a:rect l="l" t="t" r="r" b="b"/>
            <a:pathLst>
              <a:path w="582" h="474">
                <a:moveTo>
                  <a:pt x="570" y="0"/>
                </a:moveTo>
                <a:cubicBezTo>
                  <a:pt x="511" y="5"/>
                  <a:pt x="438" y="13"/>
                  <a:pt x="378" y="18"/>
                </a:cubicBezTo>
                <a:cubicBezTo>
                  <a:pt x="337" y="32"/>
                  <a:pt x="295" y="46"/>
                  <a:pt x="252" y="54"/>
                </a:cubicBezTo>
                <a:cubicBezTo>
                  <a:pt x="240" y="56"/>
                  <a:pt x="228" y="57"/>
                  <a:pt x="216" y="60"/>
                </a:cubicBezTo>
                <a:cubicBezTo>
                  <a:pt x="204" y="63"/>
                  <a:pt x="180" y="72"/>
                  <a:pt x="180" y="72"/>
                </a:cubicBezTo>
                <a:cubicBezTo>
                  <a:pt x="177" y="77"/>
                  <a:pt x="147" y="106"/>
                  <a:pt x="144" y="108"/>
                </a:cubicBezTo>
                <a:cubicBezTo>
                  <a:pt x="120" y="120"/>
                  <a:pt x="114" y="128"/>
                  <a:pt x="102" y="132"/>
                </a:cubicBezTo>
                <a:cubicBezTo>
                  <a:pt x="96" y="134"/>
                  <a:pt x="84" y="138"/>
                  <a:pt x="84" y="138"/>
                </a:cubicBezTo>
                <a:cubicBezTo>
                  <a:pt x="66" y="156"/>
                  <a:pt x="50" y="180"/>
                  <a:pt x="42" y="204"/>
                </a:cubicBezTo>
                <a:cubicBezTo>
                  <a:pt x="50" y="337"/>
                  <a:pt x="0" y="266"/>
                  <a:pt x="60" y="306"/>
                </a:cubicBezTo>
                <a:cubicBezTo>
                  <a:pt x="124" y="402"/>
                  <a:pt x="293" y="444"/>
                  <a:pt x="402" y="456"/>
                </a:cubicBezTo>
                <a:cubicBezTo>
                  <a:pt x="472" y="474"/>
                  <a:pt x="470" y="473"/>
                  <a:pt x="582" y="468"/>
                </a:cubicBezTo>
                <a:cubicBezTo>
                  <a:pt x="564" y="432"/>
                  <a:pt x="572" y="328"/>
                  <a:pt x="570" y="264"/>
                </a:cubicBezTo>
                <a:cubicBezTo>
                  <a:pt x="568" y="200"/>
                  <a:pt x="570" y="128"/>
                  <a:pt x="570" y="84"/>
                </a:cubicBezTo>
                <a:cubicBezTo>
                  <a:pt x="570" y="40"/>
                  <a:pt x="577" y="16"/>
                  <a:pt x="570" y="0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028880" y="7058160"/>
            <a:ext cx="884160" cy="795240"/>
          </a:xfrm>
          <a:custGeom>
            <a:avLst/>
            <a:gdLst/>
            <a:ahLst/>
            <a:rect l="l" t="t" r="r" b="b"/>
            <a:pathLst>
              <a:path w="557" h="501">
                <a:moveTo>
                  <a:pt x="13" y="501"/>
                </a:moveTo>
                <a:cubicBezTo>
                  <a:pt x="72" y="499"/>
                  <a:pt x="91" y="485"/>
                  <a:pt x="151" y="483"/>
                </a:cubicBezTo>
                <a:cubicBezTo>
                  <a:pt x="193" y="471"/>
                  <a:pt x="238" y="468"/>
                  <a:pt x="282" y="462"/>
                </a:cubicBezTo>
                <a:cubicBezTo>
                  <a:pt x="294" y="461"/>
                  <a:pt x="310" y="446"/>
                  <a:pt x="322" y="444"/>
                </a:cubicBezTo>
                <a:cubicBezTo>
                  <a:pt x="334" y="441"/>
                  <a:pt x="359" y="434"/>
                  <a:pt x="359" y="434"/>
                </a:cubicBezTo>
                <a:cubicBezTo>
                  <a:pt x="362" y="429"/>
                  <a:pt x="393" y="401"/>
                  <a:pt x="396" y="399"/>
                </a:cubicBezTo>
                <a:cubicBezTo>
                  <a:pt x="421" y="388"/>
                  <a:pt x="427" y="381"/>
                  <a:pt x="439" y="377"/>
                </a:cubicBezTo>
                <a:cubicBezTo>
                  <a:pt x="445" y="376"/>
                  <a:pt x="458" y="372"/>
                  <a:pt x="458" y="372"/>
                </a:cubicBezTo>
                <a:cubicBezTo>
                  <a:pt x="476" y="355"/>
                  <a:pt x="494" y="332"/>
                  <a:pt x="503" y="308"/>
                </a:cubicBezTo>
                <a:cubicBezTo>
                  <a:pt x="501" y="175"/>
                  <a:pt x="557" y="231"/>
                  <a:pt x="499" y="189"/>
                </a:cubicBezTo>
                <a:cubicBezTo>
                  <a:pt x="477" y="153"/>
                  <a:pt x="429" y="96"/>
                  <a:pt x="392" y="74"/>
                </a:cubicBezTo>
                <a:cubicBezTo>
                  <a:pt x="355" y="52"/>
                  <a:pt x="316" y="63"/>
                  <a:pt x="276" y="54"/>
                </a:cubicBezTo>
                <a:cubicBezTo>
                  <a:pt x="236" y="45"/>
                  <a:pt x="198" y="27"/>
                  <a:pt x="152" y="18"/>
                </a:cubicBezTo>
                <a:cubicBezTo>
                  <a:pt x="80" y="18"/>
                  <a:pt x="112" y="0"/>
                  <a:pt x="0" y="0"/>
                </a:cubicBezTo>
                <a:cubicBezTo>
                  <a:pt x="16" y="37"/>
                  <a:pt x="5" y="170"/>
                  <a:pt x="7" y="237"/>
                </a:cubicBezTo>
                <a:cubicBezTo>
                  <a:pt x="9" y="304"/>
                  <a:pt x="12" y="361"/>
                  <a:pt x="13" y="405"/>
                </a:cubicBezTo>
                <a:cubicBezTo>
                  <a:pt x="14" y="449"/>
                  <a:pt x="13" y="481"/>
                  <a:pt x="13" y="501"/>
                </a:cubicBez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352680" y="7315200"/>
            <a:ext cx="457200" cy="228600"/>
          </a:xfrm>
          <a:custGeom>
            <a:avLst/>
            <a:gdLst/>
            <a:ahLst/>
            <a:rect l="l" t="t" r="r" b="b"/>
            <a:pathLst>
              <a:path w="318" h="216">
                <a:moveTo>
                  <a:pt x="153" y="80"/>
                </a:moveTo>
                <a:cubicBezTo>
                  <a:pt x="110" y="83"/>
                  <a:pt x="67" y="79"/>
                  <a:pt x="25" y="88"/>
                </a:cubicBezTo>
                <a:cubicBezTo>
                  <a:pt x="7" y="92"/>
                  <a:pt x="0" y="147"/>
                  <a:pt x="17" y="152"/>
                </a:cubicBezTo>
                <a:cubicBezTo>
                  <a:pt x="66" y="167"/>
                  <a:pt x="118" y="157"/>
                  <a:pt x="169" y="160"/>
                </a:cubicBezTo>
                <a:cubicBezTo>
                  <a:pt x="179" y="199"/>
                  <a:pt x="188" y="204"/>
                  <a:pt x="225" y="216"/>
                </a:cubicBezTo>
                <a:cubicBezTo>
                  <a:pt x="278" y="207"/>
                  <a:pt x="281" y="207"/>
                  <a:pt x="297" y="160"/>
                </a:cubicBezTo>
                <a:cubicBezTo>
                  <a:pt x="292" y="73"/>
                  <a:pt x="318" y="26"/>
                  <a:pt x="241" y="0"/>
                </a:cubicBezTo>
                <a:cubicBezTo>
                  <a:pt x="225" y="3"/>
                  <a:pt x="208" y="1"/>
                  <a:pt x="193" y="8"/>
                </a:cubicBezTo>
                <a:cubicBezTo>
                  <a:pt x="164" y="22"/>
                  <a:pt x="186" y="80"/>
                  <a:pt x="153" y="8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rot="10882800">
            <a:off x="1676520" y="7315200"/>
            <a:ext cx="380880" cy="279360"/>
          </a:xfrm>
          <a:custGeom>
            <a:avLst/>
            <a:gdLst/>
            <a:ahLst/>
            <a:rect l="l" t="t" r="r" b="b"/>
            <a:pathLst>
              <a:path w="318" h="216">
                <a:moveTo>
                  <a:pt x="153" y="80"/>
                </a:moveTo>
                <a:cubicBezTo>
                  <a:pt x="110" y="83"/>
                  <a:pt x="67" y="79"/>
                  <a:pt x="25" y="88"/>
                </a:cubicBezTo>
                <a:cubicBezTo>
                  <a:pt x="7" y="92"/>
                  <a:pt x="0" y="147"/>
                  <a:pt x="17" y="152"/>
                </a:cubicBezTo>
                <a:cubicBezTo>
                  <a:pt x="66" y="167"/>
                  <a:pt x="118" y="157"/>
                  <a:pt x="169" y="160"/>
                </a:cubicBezTo>
                <a:cubicBezTo>
                  <a:pt x="179" y="199"/>
                  <a:pt x="188" y="204"/>
                  <a:pt x="225" y="216"/>
                </a:cubicBezTo>
                <a:cubicBezTo>
                  <a:pt x="278" y="207"/>
                  <a:pt x="281" y="207"/>
                  <a:pt x="297" y="160"/>
                </a:cubicBezTo>
                <a:cubicBezTo>
                  <a:pt x="292" y="73"/>
                  <a:pt x="318" y="26"/>
                  <a:pt x="241" y="0"/>
                </a:cubicBezTo>
                <a:cubicBezTo>
                  <a:pt x="225" y="3"/>
                  <a:pt x="208" y="1"/>
                  <a:pt x="193" y="8"/>
                </a:cubicBezTo>
                <a:cubicBezTo>
                  <a:pt x="164" y="22"/>
                  <a:pt x="186" y="80"/>
                  <a:pt x="153" y="8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15000" y="57913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791320" y="6172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952880" y="5638680"/>
            <a:ext cx="685800" cy="1219320"/>
          </a:xfrm>
          <a:prstGeom prst="flowChartMagneticDisk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52880" y="7010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952880" y="70866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205000" y="1763640"/>
            <a:ext cx="2438280" cy="39150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859680" y="6804000"/>
            <a:ext cx="504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berts et al., Molecular Biology of the Cel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arland Pub., N.Y. 1994, Fig 12-1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6280" y="4067280"/>
            <a:ext cx="6048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os biológicos que ocurren en el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structura del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áfico de moléculas desde/hacia en 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0640" y="3419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01400" y="1332000"/>
            <a:ext cx="420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¿Por qué o para qu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xiste el núcle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990720" y="9907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280" y="1219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066680" y="838080"/>
            <a:ext cx="533520" cy="1143000"/>
          </a:xfrm>
          <a:prstGeom prst="flowChartMagneticDisk">
            <a:avLst/>
          </a:prstGeom>
          <a:gradFill rotWithShape="0">
            <a:gsLst>
              <a:gs pos="0">
                <a:srgbClr val="5e6c75"/>
              </a:gs>
              <a:gs pos="50000">
                <a:srgbClr val="ccecff"/>
              </a:gs>
              <a:gs pos="100000">
                <a:srgbClr val="5e6c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66680" y="21337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2057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57200" y="304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o acu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62320" y="380880"/>
            <a:ext cx="3581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ifusión libre de soluto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queños &lt;5.000 dal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&lt; 60.000 dalt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86000" y="1523880"/>
            <a:ext cx="45720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ransporte de macromolécula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100.000 a 200.000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unidades ribosomales 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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 n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0" y="5105160"/>
            <a:ext cx="6477120" cy="1371600"/>
          </a:xfrm>
          <a:custGeom>
            <a:avLst/>
            <a:gdLst>
              <a:gd name="textAreaLeft" fmla="*/ 1424160 w 6477120"/>
              <a:gd name="textAreaRight" fmla="*/ 5052960 w 6477120"/>
              <a:gd name="textAreaTop" fmla="*/ 301680 h 1371600"/>
              <a:gd name="textAreaBottom" fmla="*/ 10699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5562720"/>
            <a:ext cx="106668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66880" y="5562720"/>
            <a:ext cx="106704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267080" y="5562720"/>
            <a:ext cx="1067040" cy="490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3b3b"/>
              </a:gs>
              <a:gs pos="50000">
                <a:srgbClr val="808080"/>
              </a:gs>
              <a:gs pos="100000">
                <a:srgbClr val="3b3b3b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0" y="4876560"/>
            <a:ext cx="6553080" cy="838080"/>
          </a:xfrm>
          <a:custGeom>
            <a:avLst/>
            <a:gdLst>
              <a:gd name="textAreaLeft" fmla="*/ 1441080 w 6553080"/>
              <a:gd name="textAreaRight" fmla="*/ 5112000 w 6553080"/>
              <a:gd name="textAreaTop" fmla="*/ 184320 h 838080"/>
              <a:gd name="textAreaBottom" fmla="*/ 653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5105520"/>
            <a:ext cx="1066680" cy="392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91120" y="5105520"/>
            <a:ext cx="1143000" cy="293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105520"/>
            <a:ext cx="1067040" cy="3920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67080" y="5105520"/>
            <a:ext cx="990720" cy="1951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71800" y="5181480"/>
            <a:ext cx="457200" cy="98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600200" y="5257800"/>
            <a:ext cx="304920" cy="98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54040" y="3797280"/>
            <a:ext cx="507960" cy="75240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906560" y="417204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10274400">
            <a:off x="3058920" y="4646160"/>
            <a:ext cx="507960" cy="74772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rot="2350800">
            <a:off x="3171600" y="4941360"/>
            <a:ext cx="371520" cy="45252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57800" y="441972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72000" y="6400800"/>
            <a:ext cx="552600" cy="557280"/>
          </a:xfrm>
          <a:custGeom>
            <a:avLst/>
            <a:gdLst/>
            <a:ahLst/>
            <a:rect l="l" t="t" r="r" b="b"/>
            <a:pathLst>
              <a:path w="348" h="273">
                <a:moveTo>
                  <a:pt x="56" y="86"/>
                </a:moveTo>
                <a:cubicBezTo>
                  <a:pt x="23" y="122"/>
                  <a:pt x="0" y="154"/>
                  <a:pt x="32" y="201"/>
                </a:cubicBezTo>
                <a:cubicBezTo>
                  <a:pt x="38" y="209"/>
                  <a:pt x="56" y="208"/>
                  <a:pt x="68" y="210"/>
                </a:cubicBezTo>
                <a:cubicBezTo>
                  <a:pt x="88" y="214"/>
                  <a:pt x="108" y="216"/>
                  <a:pt x="128" y="219"/>
                </a:cubicBezTo>
                <a:cubicBezTo>
                  <a:pt x="152" y="273"/>
                  <a:pt x="186" y="254"/>
                  <a:pt x="260" y="246"/>
                </a:cubicBezTo>
                <a:cubicBezTo>
                  <a:pt x="276" y="209"/>
                  <a:pt x="264" y="183"/>
                  <a:pt x="248" y="148"/>
                </a:cubicBezTo>
                <a:cubicBezTo>
                  <a:pt x="290" y="127"/>
                  <a:pt x="304" y="112"/>
                  <a:pt x="320" y="77"/>
                </a:cubicBezTo>
                <a:cubicBezTo>
                  <a:pt x="285" y="0"/>
                  <a:pt x="348" y="78"/>
                  <a:pt x="270" y="48"/>
                </a:cubicBezTo>
                <a:cubicBezTo>
                  <a:pt x="276" y="66"/>
                  <a:pt x="105" y="46"/>
                  <a:pt x="92" y="50"/>
                </a:cubicBezTo>
                <a:cubicBezTo>
                  <a:pt x="81" y="55"/>
                  <a:pt x="65" y="53"/>
                  <a:pt x="56" y="59"/>
                </a:cubicBezTo>
                <a:cubicBezTo>
                  <a:pt x="16" y="89"/>
                  <a:pt x="40" y="86"/>
                  <a:pt x="56" y="8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724280" y="6477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724280" y="4572000"/>
            <a:ext cx="1800" cy="69696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 flipV="1">
            <a:off x="1066680" y="3733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2133720" y="3962160"/>
            <a:ext cx="457200" cy="39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" y="6705720"/>
            <a:ext cx="181944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acción de l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eína blanc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 proteínas citosólicas especial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492280" y="6732720"/>
            <a:ext cx="1600200" cy="16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ociación con el complejo poro nu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lamen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221000" y="6804000"/>
            <a:ext cx="194472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so a través del poro en proceso dependiente de la 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hidrólisis de A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0880" y="32004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a ser transpor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90920" y="358128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eína citosól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700280" y="6516720"/>
            <a:ext cx="15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ucle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8600" y="2514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94600" y="251460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6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924280" y="414036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84280" y="500364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0028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98900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997360" y="507672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1300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55736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84464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06064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0028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57720" y="507672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6864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9736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53000" y="5148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3700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92640" y="493236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81360" y="485928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869000" y="4859280"/>
            <a:ext cx="3780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013360" y="507672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157720" y="5003640"/>
            <a:ext cx="38160" cy="247680"/>
          </a:xfrm>
          <a:custGeom>
            <a:avLst/>
            <a:gdLst/>
            <a:ahLst/>
            <a:rect l="l" t="t" r="r" b="b"/>
            <a:pathLst>
              <a:path w="24" h="156">
                <a:moveTo>
                  <a:pt x="9" y="156"/>
                </a:moveTo>
                <a:cubicBezTo>
                  <a:pt x="8" y="150"/>
                  <a:pt x="7" y="144"/>
                  <a:pt x="6" y="138"/>
                </a:cubicBezTo>
                <a:cubicBezTo>
                  <a:pt x="4" y="132"/>
                  <a:pt x="0" y="120"/>
                  <a:pt x="0" y="120"/>
                </a:cubicBezTo>
                <a:cubicBezTo>
                  <a:pt x="4" y="106"/>
                  <a:pt x="17" y="100"/>
                  <a:pt x="21" y="87"/>
                </a:cubicBezTo>
                <a:cubicBezTo>
                  <a:pt x="24" y="74"/>
                  <a:pt x="9" y="53"/>
                  <a:pt x="9" y="39"/>
                </a:cubicBezTo>
                <a:cubicBezTo>
                  <a:pt x="9" y="25"/>
                  <a:pt x="19" y="8"/>
                  <a:pt x="21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692280" y="4356000"/>
            <a:ext cx="2433600" cy="22845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555920" y="5416560"/>
            <a:ext cx="1176120" cy="10969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716280" y="6227640"/>
            <a:ext cx="2749680" cy="2519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37000" y="7307280"/>
            <a:ext cx="1222560" cy="112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149800" y="8055000"/>
            <a:ext cx="216000" cy="279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226120" y="7674120"/>
            <a:ext cx="216000" cy="2793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95920" y="7738920"/>
            <a:ext cx="215640" cy="279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211480" y="458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25680" y="496584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906560" y="4737240"/>
            <a:ext cx="228600" cy="3045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525680" y="4584600"/>
            <a:ext cx="228600" cy="304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20760" y="47372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830240" y="5118120"/>
            <a:ext cx="15264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754280" y="473724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292640" y="6875640"/>
            <a:ext cx="14436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877000" y="773892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000680" y="774540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300640" y="658800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011560" y="7020000"/>
            <a:ext cx="14472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58840" y="5041800"/>
            <a:ext cx="152640" cy="152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877000" y="7236000"/>
            <a:ext cx="144360" cy="1411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1720" y="6588000"/>
            <a:ext cx="50328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954360" y="2948760"/>
            <a:ext cx="1158480" cy="1465200"/>
          </a:xfrm>
          <a:prstGeom prst="line">
            <a:avLst/>
          </a:prstGeom>
          <a:ln w="7632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33360" y="3952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Qué proteínas son transportadas al núcle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 rot="19096200">
            <a:off x="1119960" y="2779560"/>
            <a:ext cx="238320" cy="205416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 rot="19096200">
            <a:off x="1410480" y="3420000"/>
            <a:ext cx="144720" cy="1333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45000" y="1042920"/>
            <a:ext cx="2749320" cy="2519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365720" y="2122560"/>
            <a:ext cx="1222200" cy="11221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907920" y="2268360"/>
            <a:ext cx="216000" cy="279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49360" y="2050920"/>
            <a:ext cx="144360" cy="141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05360" y="2268360"/>
            <a:ext cx="86508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076640" y="1835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981000" y="6012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es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1"/>
          <a:stretch/>
        </p:blipFill>
        <p:spPr>
          <a:xfrm>
            <a:off x="333360" y="2627280"/>
            <a:ext cx="6120000" cy="259236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692280" y="723600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a 8 Lys o Arg + Pro   dispuestos en uno o dos blo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j. Pro-Pro-Lys-Lys-Lys-Arg-L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3429000" y="395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6680" y="179280"/>
            <a:ext cx="285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oteínas dest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l núcle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3680" y="3564000"/>
            <a:ext cx="354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roteínas que transi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ntre núcleo y citoplas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68280" y="1042920"/>
            <a:ext cx="2592360" cy="230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920" y="1619280"/>
            <a:ext cx="1228680" cy="1058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71560" y="1979640"/>
            <a:ext cx="887400" cy="309600"/>
          </a:xfrm>
          <a:prstGeom prst="rightArrow">
            <a:avLst>
              <a:gd name="adj1" fmla="val 50000"/>
              <a:gd name="adj2" fmla="val 71657"/>
            </a:avLst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09880" y="3851280"/>
            <a:ext cx="3048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localiz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ñal de exportación nuclear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5000" y="4572000"/>
            <a:ext cx="2592720" cy="2303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628640" y="5076720"/>
            <a:ext cx="1297080" cy="1224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125360" y="5364000"/>
            <a:ext cx="1151280" cy="360360"/>
          </a:xfrm>
          <a:prstGeom prst="leftRightArrow">
            <a:avLst>
              <a:gd name="adj1" fmla="val 50000"/>
              <a:gd name="adj2" fmla="val 63600"/>
            </a:avLst>
          </a:prstGeom>
          <a:solidFill>
            <a:srgbClr val="ff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6280" y="7380360"/>
            <a:ext cx="5943600" cy="178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L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de localización nuclear perma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NLS +N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s que transitan entre el núcleo y el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citopl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/>
          <p:nvPr/>
        </p:nvSpPr>
        <p:spPr>
          <a:xfrm>
            <a:off x="333360" y="468360"/>
            <a:ext cx="61722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gulación de la importación de proteínas al núcl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sforilación de NLS impide transporte hacia el núcl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17440" y="2306520"/>
            <a:ext cx="508320" cy="75276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437000" y="241128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498680" y="2611440"/>
            <a:ext cx="38088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98680" y="253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3933720" y="2627280"/>
            <a:ext cx="533520" cy="990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149720" y="2484360"/>
            <a:ext cx="380880" cy="1219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429000" y="21956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cleopor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060640" y="298764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762440" y="203832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10694400">
            <a:off x="4851360" y="322020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714920" y="2571840"/>
            <a:ext cx="60624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699080" y="25351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308560" y="253512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27680" y="268776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10650000">
            <a:off x="4774320" y="3220200"/>
            <a:ext cx="606600" cy="10188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4766760" y="2992320"/>
            <a:ext cx="1764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 flipV="1">
            <a:off x="5376960" y="299232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588200">
            <a:off x="4926960" y="30679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4640" y="5940360"/>
            <a:ext cx="60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nteracción con proteínas citosólicas inhibit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55640" y="7183440"/>
            <a:ext cx="582480" cy="55080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12760" y="6946920"/>
            <a:ext cx="463680" cy="600120"/>
          </a:xfrm>
          <a:custGeom>
            <a:avLst/>
            <a:gdLst/>
            <a:ahLst/>
            <a:rect l="l" t="t" r="r" b="b"/>
            <a:pathLst>
              <a:path w="292" h="378">
                <a:moveTo>
                  <a:pt x="27" y="80"/>
                </a:moveTo>
                <a:cubicBezTo>
                  <a:pt x="24" y="67"/>
                  <a:pt x="19" y="26"/>
                  <a:pt x="19" y="40"/>
                </a:cubicBezTo>
                <a:cubicBezTo>
                  <a:pt x="19" y="77"/>
                  <a:pt x="2" y="132"/>
                  <a:pt x="11" y="168"/>
                </a:cubicBezTo>
                <a:cubicBezTo>
                  <a:pt x="13" y="177"/>
                  <a:pt x="52" y="162"/>
                  <a:pt x="59" y="168"/>
                </a:cubicBezTo>
                <a:cubicBezTo>
                  <a:pt x="90" y="194"/>
                  <a:pt x="75" y="214"/>
                  <a:pt x="115" y="224"/>
                </a:cubicBezTo>
                <a:cubicBezTo>
                  <a:pt x="170" y="306"/>
                  <a:pt x="79" y="123"/>
                  <a:pt x="163" y="360"/>
                </a:cubicBezTo>
                <a:cubicBezTo>
                  <a:pt x="169" y="378"/>
                  <a:pt x="201" y="370"/>
                  <a:pt x="219" y="376"/>
                </a:cubicBezTo>
                <a:cubicBezTo>
                  <a:pt x="292" y="358"/>
                  <a:pt x="273" y="313"/>
                  <a:pt x="259" y="232"/>
                </a:cubicBezTo>
                <a:cubicBezTo>
                  <a:pt x="254" y="204"/>
                  <a:pt x="195" y="176"/>
                  <a:pt x="195" y="176"/>
                </a:cubicBezTo>
                <a:cubicBezTo>
                  <a:pt x="178" y="126"/>
                  <a:pt x="231" y="47"/>
                  <a:pt x="163" y="24"/>
                </a:cubicBezTo>
                <a:cubicBezTo>
                  <a:pt x="108" y="27"/>
                  <a:pt x="0" y="0"/>
                  <a:pt x="27" y="8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410600">
            <a:off x="1649880" y="638064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523880" y="6705720"/>
            <a:ext cx="76320" cy="759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057400" y="7010280"/>
            <a:ext cx="582480" cy="55116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7315200"/>
            <a:ext cx="75960" cy="763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210400" y="7467480"/>
            <a:ext cx="761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19520" y="7848720"/>
            <a:ext cx="463320" cy="600120"/>
          </a:xfrm>
          <a:custGeom>
            <a:avLst/>
            <a:gdLst/>
            <a:ahLst/>
            <a:rect l="l" t="t" r="r" b="b"/>
            <a:pathLst>
              <a:path w="292" h="378">
                <a:moveTo>
                  <a:pt x="27" y="80"/>
                </a:moveTo>
                <a:cubicBezTo>
                  <a:pt x="24" y="67"/>
                  <a:pt x="19" y="26"/>
                  <a:pt x="19" y="40"/>
                </a:cubicBezTo>
                <a:cubicBezTo>
                  <a:pt x="19" y="77"/>
                  <a:pt x="2" y="132"/>
                  <a:pt x="11" y="168"/>
                </a:cubicBezTo>
                <a:cubicBezTo>
                  <a:pt x="13" y="177"/>
                  <a:pt x="52" y="162"/>
                  <a:pt x="59" y="168"/>
                </a:cubicBezTo>
                <a:cubicBezTo>
                  <a:pt x="90" y="194"/>
                  <a:pt x="75" y="214"/>
                  <a:pt x="115" y="224"/>
                </a:cubicBezTo>
                <a:cubicBezTo>
                  <a:pt x="170" y="306"/>
                  <a:pt x="79" y="123"/>
                  <a:pt x="163" y="360"/>
                </a:cubicBezTo>
                <a:cubicBezTo>
                  <a:pt x="169" y="378"/>
                  <a:pt x="201" y="370"/>
                  <a:pt x="219" y="376"/>
                </a:cubicBezTo>
                <a:cubicBezTo>
                  <a:pt x="292" y="358"/>
                  <a:pt x="273" y="313"/>
                  <a:pt x="259" y="232"/>
                </a:cubicBezTo>
                <a:cubicBezTo>
                  <a:pt x="254" y="204"/>
                  <a:pt x="195" y="176"/>
                  <a:pt x="195" y="176"/>
                </a:cubicBezTo>
                <a:cubicBezTo>
                  <a:pt x="178" y="126"/>
                  <a:pt x="231" y="47"/>
                  <a:pt x="163" y="24"/>
                </a:cubicBezTo>
                <a:cubicBezTo>
                  <a:pt x="108" y="27"/>
                  <a:pt x="0" y="0"/>
                  <a:pt x="27" y="8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7315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590920" y="7391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10410600">
            <a:off x="2792880" y="6380640"/>
            <a:ext cx="7610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836880" y="7005600"/>
            <a:ext cx="319320" cy="420840"/>
          </a:xfrm>
          <a:custGeom>
            <a:avLst/>
            <a:gdLst/>
            <a:ahLst/>
            <a:rect l="l" t="t" r="r" b="b"/>
            <a:pathLst>
              <a:path w="201" h="265">
                <a:moveTo>
                  <a:pt x="65" y="0"/>
                </a:moveTo>
                <a:cubicBezTo>
                  <a:pt x="161" y="88"/>
                  <a:pt x="201" y="66"/>
                  <a:pt x="153" y="178"/>
                </a:cubicBezTo>
                <a:cubicBezTo>
                  <a:pt x="127" y="205"/>
                  <a:pt x="107" y="242"/>
                  <a:pt x="77" y="259"/>
                </a:cubicBezTo>
                <a:cubicBezTo>
                  <a:pt x="66" y="265"/>
                  <a:pt x="14" y="207"/>
                  <a:pt x="15" y="195"/>
                </a:cubicBezTo>
                <a:cubicBezTo>
                  <a:pt x="15" y="183"/>
                  <a:pt x="70" y="208"/>
                  <a:pt x="76" y="195"/>
                </a:cubicBezTo>
                <a:cubicBezTo>
                  <a:pt x="73" y="183"/>
                  <a:pt x="75" y="168"/>
                  <a:pt x="67" y="158"/>
                </a:cubicBezTo>
                <a:cubicBezTo>
                  <a:pt x="50" y="133"/>
                  <a:pt x="13" y="125"/>
                  <a:pt x="5" y="94"/>
                </a:cubicBezTo>
                <a:cubicBezTo>
                  <a:pt x="0" y="71"/>
                  <a:pt x="34" y="23"/>
                  <a:pt x="34" y="23"/>
                </a:cubicBezTo>
                <a:cubicBezTo>
                  <a:pt x="87" y="22"/>
                  <a:pt x="138" y="58"/>
                  <a:pt x="65" y="0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7086600"/>
            <a:ext cx="582840" cy="550800"/>
          </a:xfrm>
          <a:custGeom>
            <a:avLst/>
            <a:gdLst/>
            <a:ahLst/>
            <a:rect l="l" t="t" r="r" b="b"/>
            <a:pathLst>
              <a:path w="367" h="347">
                <a:moveTo>
                  <a:pt x="68" y="83"/>
                </a:moveTo>
                <a:cubicBezTo>
                  <a:pt x="75" y="119"/>
                  <a:pt x="89" y="138"/>
                  <a:pt x="100" y="171"/>
                </a:cubicBezTo>
                <a:cubicBezTo>
                  <a:pt x="97" y="198"/>
                  <a:pt x="108" y="229"/>
                  <a:pt x="92" y="251"/>
                </a:cubicBezTo>
                <a:cubicBezTo>
                  <a:pt x="81" y="266"/>
                  <a:pt x="46" y="243"/>
                  <a:pt x="36" y="259"/>
                </a:cubicBezTo>
                <a:cubicBezTo>
                  <a:pt x="0" y="313"/>
                  <a:pt x="61" y="337"/>
                  <a:pt x="92" y="347"/>
                </a:cubicBezTo>
                <a:cubicBezTo>
                  <a:pt x="121" y="344"/>
                  <a:pt x="151" y="345"/>
                  <a:pt x="180" y="339"/>
                </a:cubicBezTo>
                <a:cubicBezTo>
                  <a:pt x="216" y="331"/>
                  <a:pt x="233" y="279"/>
                  <a:pt x="252" y="251"/>
                </a:cubicBezTo>
                <a:cubicBezTo>
                  <a:pt x="263" y="235"/>
                  <a:pt x="284" y="230"/>
                  <a:pt x="300" y="219"/>
                </a:cubicBezTo>
                <a:cubicBezTo>
                  <a:pt x="308" y="214"/>
                  <a:pt x="324" y="203"/>
                  <a:pt x="324" y="203"/>
                </a:cubicBezTo>
                <a:cubicBezTo>
                  <a:pt x="336" y="168"/>
                  <a:pt x="353" y="141"/>
                  <a:pt x="364" y="107"/>
                </a:cubicBezTo>
                <a:cubicBezTo>
                  <a:pt x="361" y="94"/>
                  <a:pt x="367" y="75"/>
                  <a:pt x="356" y="67"/>
                </a:cubicBezTo>
                <a:cubicBezTo>
                  <a:pt x="341" y="56"/>
                  <a:pt x="318" y="66"/>
                  <a:pt x="300" y="59"/>
                </a:cubicBezTo>
                <a:cubicBezTo>
                  <a:pt x="233" y="33"/>
                  <a:pt x="258" y="17"/>
                  <a:pt x="172" y="3"/>
                </a:cubicBezTo>
                <a:cubicBezTo>
                  <a:pt x="151" y="6"/>
                  <a:pt x="127" y="0"/>
                  <a:pt x="108" y="11"/>
                </a:cubicBezTo>
                <a:cubicBezTo>
                  <a:pt x="91" y="21"/>
                  <a:pt x="76" y="59"/>
                  <a:pt x="76" y="59"/>
                </a:cubicBezTo>
                <a:cubicBezTo>
                  <a:pt x="67" y="94"/>
                  <a:pt x="68" y="102"/>
                  <a:pt x="68" y="83"/>
                </a:cubicBezTo>
                <a:close/>
              </a:path>
            </a:pathLst>
          </a:cu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429000" y="7391520"/>
            <a:ext cx="76320" cy="759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819520" y="6629400"/>
            <a:ext cx="318960" cy="420840"/>
          </a:xfrm>
          <a:custGeom>
            <a:avLst/>
            <a:gdLst/>
            <a:ahLst/>
            <a:rect l="l" t="t" r="r" b="b"/>
            <a:pathLst>
              <a:path w="201" h="265">
                <a:moveTo>
                  <a:pt x="65" y="0"/>
                </a:moveTo>
                <a:cubicBezTo>
                  <a:pt x="161" y="88"/>
                  <a:pt x="201" y="66"/>
                  <a:pt x="153" y="178"/>
                </a:cubicBezTo>
                <a:cubicBezTo>
                  <a:pt x="127" y="205"/>
                  <a:pt x="107" y="242"/>
                  <a:pt x="77" y="259"/>
                </a:cubicBezTo>
                <a:cubicBezTo>
                  <a:pt x="66" y="265"/>
                  <a:pt x="14" y="207"/>
                  <a:pt x="15" y="195"/>
                </a:cubicBezTo>
                <a:cubicBezTo>
                  <a:pt x="15" y="183"/>
                  <a:pt x="70" y="208"/>
                  <a:pt x="76" y="195"/>
                </a:cubicBezTo>
                <a:cubicBezTo>
                  <a:pt x="73" y="183"/>
                  <a:pt x="75" y="168"/>
                  <a:pt x="67" y="158"/>
                </a:cubicBezTo>
                <a:cubicBezTo>
                  <a:pt x="50" y="133"/>
                  <a:pt x="13" y="125"/>
                  <a:pt x="5" y="94"/>
                </a:cubicBezTo>
                <a:cubicBezTo>
                  <a:pt x="0" y="71"/>
                  <a:pt x="34" y="23"/>
                  <a:pt x="34" y="23"/>
                </a:cubicBezTo>
                <a:cubicBezTo>
                  <a:pt x="87" y="22"/>
                  <a:pt x="138" y="58"/>
                  <a:pt x="65" y="0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7391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092560" y="6513480"/>
            <a:ext cx="43524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rot="10694400">
            <a:off x="5181120" y="7695360"/>
            <a:ext cx="43524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45040" y="7047000"/>
            <a:ext cx="60660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029200" y="7010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38680" y="7010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257800" y="716292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rot="10650000">
            <a:off x="5105160" y="7695360"/>
            <a:ext cx="606240" cy="10188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5097600" y="746748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 flipV="1">
            <a:off x="5707080" y="746748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rot="10588200">
            <a:off x="5257080" y="754308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7200" y="304920"/>
            <a:ext cx="586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869000" y="3924360"/>
            <a:ext cx="434880" cy="60624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rot="10694400">
            <a:off x="4957920" y="5106240"/>
            <a:ext cx="434880" cy="606600"/>
          </a:xfrm>
          <a:custGeom>
            <a:avLst/>
            <a:gdLst/>
            <a:ahLst/>
            <a:rect l="l" t="t" r="r" b="b"/>
            <a:pathLst>
              <a:path w="274" h="382">
                <a:moveTo>
                  <a:pt x="52" y="0"/>
                </a:moveTo>
                <a:cubicBezTo>
                  <a:pt x="54" y="67"/>
                  <a:pt x="0" y="347"/>
                  <a:pt x="143" y="382"/>
                </a:cubicBezTo>
                <a:cubicBezTo>
                  <a:pt x="164" y="379"/>
                  <a:pt x="186" y="380"/>
                  <a:pt x="206" y="373"/>
                </a:cubicBezTo>
                <a:cubicBezTo>
                  <a:pt x="240" y="362"/>
                  <a:pt x="242" y="303"/>
                  <a:pt x="252" y="273"/>
                </a:cubicBezTo>
                <a:cubicBezTo>
                  <a:pt x="274" y="208"/>
                  <a:pt x="261" y="46"/>
                  <a:pt x="261" y="27"/>
                </a:cubicBezTo>
              </a:path>
            </a:pathLst>
          </a:custGeom>
          <a:solidFill>
            <a:srgbClr val="b2b2b2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821120" y="4457880"/>
            <a:ext cx="60660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805280" y="442116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15120" y="442116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33880" y="457344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rot="10650000">
            <a:off x="4881240" y="5106600"/>
            <a:ext cx="606240" cy="101520"/>
          </a:xfrm>
          <a:custGeom>
            <a:avLst/>
            <a:gdLst/>
            <a:ahLst/>
            <a:rect l="l" t="t" r="r" b="b"/>
            <a:pathLst>
              <a:path w="382" h="64">
                <a:moveTo>
                  <a:pt x="0" y="0"/>
                </a:moveTo>
                <a:cubicBezTo>
                  <a:pt x="22" y="23"/>
                  <a:pt x="52" y="34"/>
                  <a:pt x="82" y="46"/>
                </a:cubicBezTo>
                <a:cubicBezTo>
                  <a:pt x="100" y="53"/>
                  <a:pt x="136" y="64"/>
                  <a:pt x="136" y="64"/>
                </a:cubicBezTo>
                <a:cubicBezTo>
                  <a:pt x="194" y="61"/>
                  <a:pt x="251" y="60"/>
                  <a:pt x="309" y="55"/>
                </a:cubicBezTo>
                <a:cubicBezTo>
                  <a:pt x="325" y="54"/>
                  <a:pt x="382" y="21"/>
                  <a:pt x="382" y="1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 flipV="1">
            <a:off x="4873680" y="4878360"/>
            <a:ext cx="1728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482800" y="4878360"/>
            <a:ext cx="17640" cy="304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rot="10588200">
            <a:off x="5033160" y="4953960"/>
            <a:ext cx="22860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6680" y="45734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37000" y="2916360"/>
            <a:ext cx="371520" cy="47304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65360" y="4788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197000" y="4284720"/>
            <a:ext cx="507960" cy="752400"/>
          </a:xfrm>
          <a:custGeom>
            <a:avLst/>
            <a:gdLst/>
            <a:ahLst/>
            <a:rect l="l" t="t" r="r" b="b"/>
            <a:pathLst>
              <a:path w="320" h="369">
                <a:moveTo>
                  <a:pt x="56" y="116"/>
                </a:moveTo>
                <a:cubicBezTo>
                  <a:pt x="23" y="165"/>
                  <a:pt x="0" y="208"/>
                  <a:pt x="32" y="272"/>
                </a:cubicBezTo>
                <a:cubicBezTo>
                  <a:pt x="38" y="283"/>
                  <a:pt x="56" y="281"/>
                  <a:pt x="68" y="284"/>
                </a:cubicBezTo>
                <a:cubicBezTo>
                  <a:pt x="88" y="289"/>
                  <a:pt x="108" y="292"/>
                  <a:pt x="128" y="296"/>
                </a:cubicBezTo>
                <a:cubicBezTo>
                  <a:pt x="152" y="369"/>
                  <a:pt x="186" y="343"/>
                  <a:pt x="260" y="332"/>
                </a:cubicBezTo>
                <a:cubicBezTo>
                  <a:pt x="276" y="283"/>
                  <a:pt x="264" y="248"/>
                  <a:pt x="248" y="200"/>
                </a:cubicBezTo>
                <a:cubicBezTo>
                  <a:pt x="290" y="172"/>
                  <a:pt x="304" y="152"/>
                  <a:pt x="320" y="104"/>
                </a:cubicBezTo>
                <a:cubicBezTo>
                  <a:pt x="285" y="0"/>
                  <a:pt x="244" y="34"/>
                  <a:pt x="128" y="44"/>
                </a:cubicBezTo>
                <a:cubicBezTo>
                  <a:pt x="116" y="52"/>
                  <a:pt x="105" y="62"/>
                  <a:pt x="92" y="68"/>
                </a:cubicBezTo>
                <a:cubicBezTo>
                  <a:pt x="81" y="74"/>
                  <a:pt x="65" y="71"/>
                  <a:pt x="56" y="80"/>
                </a:cubicBezTo>
                <a:cubicBezTo>
                  <a:pt x="16" y="120"/>
                  <a:pt x="40" y="116"/>
                  <a:pt x="56" y="11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577880" y="4589640"/>
            <a:ext cx="38124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577880" y="4513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rot="21178800">
            <a:off x="1844640" y="4500360"/>
            <a:ext cx="644400" cy="477720"/>
          </a:xfrm>
          <a:custGeom>
            <a:avLst/>
            <a:gdLst/>
            <a:ahLst/>
            <a:rect l="l" t="t" r="r" b="b"/>
            <a:pathLst>
              <a:path w="234" h="232">
                <a:moveTo>
                  <a:pt x="203" y="12"/>
                </a:moveTo>
                <a:cubicBezTo>
                  <a:pt x="193" y="169"/>
                  <a:pt x="234" y="190"/>
                  <a:pt x="119" y="228"/>
                </a:cubicBezTo>
                <a:cubicBezTo>
                  <a:pt x="83" y="224"/>
                  <a:pt x="43" y="232"/>
                  <a:pt x="11" y="216"/>
                </a:cubicBezTo>
                <a:cubicBezTo>
                  <a:pt x="0" y="210"/>
                  <a:pt x="14" y="189"/>
                  <a:pt x="23" y="180"/>
                </a:cubicBezTo>
                <a:cubicBezTo>
                  <a:pt x="32" y="171"/>
                  <a:pt x="47" y="172"/>
                  <a:pt x="59" y="168"/>
                </a:cubicBezTo>
                <a:cubicBezTo>
                  <a:pt x="67" y="156"/>
                  <a:pt x="80" y="146"/>
                  <a:pt x="83" y="132"/>
                </a:cubicBezTo>
                <a:cubicBezTo>
                  <a:pt x="92" y="97"/>
                  <a:pt x="76" y="55"/>
                  <a:pt x="95" y="24"/>
                </a:cubicBezTo>
                <a:cubicBezTo>
                  <a:pt x="109" y="3"/>
                  <a:pt x="167" y="0"/>
                  <a:pt x="167" y="0"/>
                </a:cubicBezTo>
                <a:cubicBezTo>
                  <a:pt x="199" y="49"/>
                  <a:pt x="203" y="125"/>
                  <a:pt x="203" y="12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1699920" y="4284720"/>
            <a:ext cx="533160" cy="9907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44640" y="4140360"/>
            <a:ext cx="380880" cy="1218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168200" y="630072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lig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838080" y="304920"/>
            <a:ext cx="541044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ción de proteínas al 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teínas con 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133720" y="4419720"/>
            <a:ext cx="99036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8098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814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562040" y="43243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648320" y="434340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rot="10778400">
            <a:off x="5181480" y="434304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rot="10778400">
            <a:off x="2133360" y="434304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002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002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574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0574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483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6483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055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1055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9810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724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029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319040" y="2075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rot="15157800">
            <a:off x="1698120" y="2339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6688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8195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495680" y="6553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29000" y="75438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00200" y="2971800"/>
            <a:ext cx="228600" cy="2685960"/>
          </a:xfrm>
          <a:custGeom>
            <a:avLst/>
            <a:gdLst/>
            <a:ahLst/>
            <a:rect l="l" t="t" r="r" b="b"/>
            <a:pathLst>
              <a:path w="144" h="1692">
                <a:moveTo>
                  <a:pt x="0" y="0"/>
                </a:moveTo>
                <a:cubicBezTo>
                  <a:pt x="30" y="108"/>
                  <a:pt x="10" y="64"/>
                  <a:pt x="48" y="137"/>
                </a:cubicBezTo>
                <a:cubicBezTo>
                  <a:pt x="80" y="266"/>
                  <a:pt x="101" y="405"/>
                  <a:pt x="118" y="539"/>
                </a:cubicBezTo>
                <a:cubicBezTo>
                  <a:pt x="139" y="912"/>
                  <a:pt x="144" y="1095"/>
                  <a:pt x="130" y="1539"/>
                </a:cubicBezTo>
                <a:cubicBezTo>
                  <a:pt x="128" y="1569"/>
                  <a:pt x="65" y="1660"/>
                  <a:pt x="48" y="16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819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371600" y="2286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657600" y="2438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733920" y="1523880"/>
            <a:ext cx="1143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rot="10126200">
            <a:off x="5105160" y="2057040"/>
            <a:ext cx="50616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14800" y="304812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81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209680" y="327672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886200" y="2590920"/>
            <a:ext cx="38088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181480" y="2743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0126200">
            <a:off x="3809160" y="632412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191120" y="54864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066680" y="72388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648320" y="6934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an-GAP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990720" y="6095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4479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895480" y="22096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952880" y="121932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2286000" y="2438280"/>
            <a:ext cx="1218240" cy="12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7187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718772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257800" y="1371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6606600">
            <a:off x="5082120" y="230832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H="1" rot="9678000">
            <a:off x="4342680" y="3428280"/>
            <a:ext cx="609480" cy="205740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1417400">
            <a:off x="5005080" y="3065040"/>
            <a:ext cx="457200" cy="281952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rot="10126200">
            <a:off x="4952160" y="586692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029200" y="6553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rot="6606600">
            <a:off x="4929840" y="61189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581280" y="72388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038480" y="7162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752480" y="3657600"/>
            <a:ext cx="1825920" cy="3581280"/>
          </a:xfrm>
          <a:custGeom>
            <a:avLst/>
            <a:gdLst/>
            <a:ahLst/>
            <a:rect l="l" t="t" r="r" b="b"/>
            <a:pathLst>
              <a:path w="1150" h="2256">
                <a:moveTo>
                  <a:pt x="333" y="0"/>
                </a:moveTo>
                <a:cubicBezTo>
                  <a:pt x="227" y="146"/>
                  <a:pt x="185" y="318"/>
                  <a:pt x="125" y="482"/>
                </a:cubicBezTo>
                <a:cubicBezTo>
                  <a:pt x="120" y="528"/>
                  <a:pt x="111" y="575"/>
                  <a:pt x="111" y="621"/>
                </a:cubicBezTo>
                <a:cubicBezTo>
                  <a:pt x="111" y="937"/>
                  <a:pt x="0" y="1342"/>
                  <a:pt x="163" y="1640"/>
                </a:cubicBezTo>
                <a:cubicBezTo>
                  <a:pt x="173" y="1826"/>
                  <a:pt x="213" y="1751"/>
                  <a:pt x="215" y="1760"/>
                </a:cubicBezTo>
                <a:cubicBezTo>
                  <a:pt x="217" y="1769"/>
                  <a:pt x="181" y="1703"/>
                  <a:pt x="178" y="1696"/>
                </a:cubicBezTo>
                <a:cubicBezTo>
                  <a:pt x="175" y="1689"/>
                  <a:pt x="196" y="1715"/>
                  <a:pt x="198" y="1720"/>
                </a:cubicBezTo>
                <a:cubicBezTo>
                  <a:pt x="200" y="1725"/>
                  <a:pt x="189" y="1721"/>
                  <a:pt x="190" y="1724"/>
                </a:cubicBezTo>
                <a:cubicBezTo>
                  <a:pt x="191" y="1727"/>
                  <a:pt x="200" y="1731"/>
                  <a:pt x="206" y="1740"/>
                </a:cubicBezTo>
                <a:cubicBezTo>
                  <a:pt x="212" y="1749"/>
                  <a:pt x="219" y="1762"/>
                  <a:pt x="226" y="1776"/>
                </a:cubicBezTo>
                <a:cubicBezTo>
                  <a:pt x="233" y="1790"/>
                  <a:pt x="232" y="1796"/>
                  <a:pt x="250" y="1824"/>
                </a:cubicBezTo>
                <a:cubicBezTo>
                  <a:pt x="268" y="1852"/>
                  <a:pt x="270" y="1884"/>
                  <a:pt x="334" y="1944"/>
                </a:cubicBezTo>
                <a:cubicBezTo>
                  <a:pt x="396" y="2001"/>
                  <a:pt x="559" y="2145"/>
                  <a:pt x="634" y="2184"/>
                </a:cubicBezTo>
                <a:cubicBezTo>
                  <a:pt x="738" y="2231"/>
                  <a:pt x="812" y="2232"/>
                  <a:pt x="898" y="2244"/>
                </a:cubicBezTo>
                <a:cubicBezTo>
                  <a:pt x="984" y="2256"/>
                  <a:pt x="1098" y="2254"/>
                  <a:pt x="1150" y="2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14480" y="5504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15157800">
            <a:off x="1393560" y="5768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5715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66880" y="6095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267080" y="60199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752480" y="6248520"/>
            <a:ext cx="2070360" cy="450720"/>
          </a:xfrm>
          <a:custGeom>
            <a:avLst/>
            <a:gdLst/>
            <a:ahLst/>
            <a:rect l="l" t="t" r="r" b="b"/>
            <a:pathLst>
              <a:path w="1276" h="260">
                <a:moveTo>
                  <a:pt x="0" y="0"/>
                </a:moveTo>
                <a:cubicBezTo>
                  <a:pt x="23" y="9"/>
                  <a:pt x="44" y="16"/>
                  <a:pt x="68" y="20"/>
                </a:cubicBezTo>
                <a:cubicBezTo>
                  <a:pt x="105" y="38"/>
                  <a:pt x="132" y="74"/>
                  <a:pt x="172" y="84"/>
                </a:cubicBezTo>
                <a:cubicBezTo>
                  <a:pt x="192" y="97"/>
                  <a:pt x="217" y="100"/>
                  <a:pt x="240" y="108"/>
                </a:cubicBezTo>
                <a:cubicBezTo>
                  <a:pt x="258" y="121"/>
                  <a:pt x="273" y="119"/>
                  <a:pt x="292" y="128"/>
                </a:cubicBezTo>
                <a:cubicBezTo>
                  <a:pt x="332" y="146"/>
                  <a:pt x="361" y="167"/>
                  <a:pt x="404" y="172"/>
                </a:cubicBezTo>
                <a:cubicBezTo>
                  <a:pt x="427" y="183"/>
                  <a:pt x="451" y="185"/>
                  <a:pt x="476" y="192"/>
                </a:cubicBezTo>
                <a:cubicBezTo>
                  <a:pt x="525" y="205"/>
                  <a:pt x="570" y="221"/>
                  <a:pt x="620" y="228"/>
                </a:cubicBezTo>
                <a:cubicBezTo>
                  <a:pt x="683" y="249"/>
                  <a:pt x="762" y="239"/>
                  <a:pt x="828" y="244"/>
                </a:cubicBezTo>
                <a:cubicBezTo>
                  <a:pt x="977" y="255"/>
                  <a:pt x="1126" y="260"/>
                  <a:pt x="1276" y="26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28600" y="7620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eína con N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733400" y="6477120"/>
            <a:ext cx="311400" cy="1001520"/>
          </a:xfrm>
          <a:custGeom>
            <a:avLst/>
            <a:gdLst/>
            <a:ahLst/>
            <a:rect l="l" t="t" r="r" b="b"/>
            <a:pathLst>
              <a:path w="196" h="631">
                <a:moveTo>
                  <a:pt x="0" y="624"/>
                </a:moveTo>
                <a:cubicBezTo>
                  <a:pt x="69" y="601"/>
                  <a:pt x="11" y="631"/>
                  <a:pt x="48" y="576"/>
                </a:cubicBezTo>
                <a:cubicBezTo>
                  <a:pt x="57" y="562"/>
                  <a:pt x="73" y="553"/>
                  <a:pt x="84" y="540"/>
                </a:cubicBezTo>
                <a:cubicBezTo>
                  <a:pt x="118" y="499"/>
                  <a:pt x="101" y="513"/>
                  <a:pt x="120" y="468"/>
                </a:cubicBezTo>
                <a:cubicBezTo>
                  <a:pt x="127" y="452"/>
                  <a:pt x="137" y="437"/>
                  <a:pt x="144" y="420"/>
                </a:cubicBezTo>
                <a:cubicBezTo>
                  <a:pt x="153" y="397"/>
                  <a:pt x="168" y="348"/>
                  <a:pt x="168" y="348"/>
                </a:cubicBezTo>
                <a:cubicBezTo>
                  <a:pt x="183" y="226"/>
                  <a:pt x="196" y="166"/>
                  <a:pt x="168" y="24"/>
                </a:cubicBezTo>
                <a:cubicBezTo>
                  <a:pt x="166" y="12"/>
                  <a:pt x="143" y="19"/>
                  <a:pt x="132" y="12"/>
                </a:cubicBezTo>
                <a:cubicBezTo>
                  <a:pt x="129" y="10"/>
                  <a:pt x="132" y="4"/>
                  <a:pt x="1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4495680" y="640080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62120" y="1295280"/>
            <a:ext cx="213336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81480" y="4952880"/>
            <a:ext cx="167652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3716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58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3623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895480" y="822960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/>
          <p:nvPr/>
        </p:nvSpPr>
        <p:spPr>
          <a:xfrm>
            <a:off x="53352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981080" y="2971800"/>
            <a:ext cx="99072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65760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02920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09760" y="287640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95680" y="289548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rot="10778400">
            <a:off x="5029200" y="28951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rot="10778400">
            <a:off x="1981080" y="28951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447920" y="28954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1447920" y="33526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905120" y="28954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35268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95680" y="28954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33526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952880" y="28954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952880" y="3352680"/>
            <a:ext cx="152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4479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8288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720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7692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rot="10482600">
            <a:off x="1068120" y="4265640"/>
            <a:ext cx="506160" cy="393840"/>
          </a:xfrm>
          <a:custGeom>
            <a:avLst/>
            <a:gdLst/>
            <a:ahLst/>
            <a:rect l="l" t="t" r="r" b="b"/>
            <a:pathLst>
              <a:path w="319" h="248">
                <a:moveTo>
                  <a:pt x="27" y="13"/>
                </a:moveTo>
                <a:cubicBezTo>
                  <a:pt x="5" y="79"/>
                  <a:pt x="13" y="49"/>
                  <a:pt x="0" y="104"/>
                </a:cubicBezTo>
                <a:cubicBezTo>
                  <a:pt x="3" y="131"/>
                  <a:pt x="2" y="159"/>
                  <a:pt x="9" y="185"/>
                </a:cubicBezTo>
                <a:cubicBezTo>
                  <a:pt x="16" y="211"/>
                  <a:pt x="82" y="222"/>
                  <a:pt x="82" y="222"/>
                </a:cubicBezTo>
                <a:cubicBezTo>
                  <a:pt x="244" y="214"/>
                  <a:pt x="223" y="248"/>
                  <a:pt x="291" y="176"/>
                </a:cubicBezTo>
                <a:cubicBezTo>
                  <a:pt x="305" y="133"/>
                  <a:pt x="319" y="104"/>
                  <a:pt x="291" y="49"/>
                </a:cubicBezTo>
                <a:cubicBezTo>
                  <a:pt x="284" y="35"/>
                  <a:pt x="260" y="43"/>
                  <a:pt x="245" y="40"/>
                </a:cubicBezTo>
                <a:cubicBezTo>
                  <a:pt x="193" y="50"/>
                  <a:pt x="171" y="67"/>
                  <a:pt x="136" y="104"/>
                </a:cubicBezTo>
                <a:cubicBezTo>
                  <a:pt x="123" y="0"/>
                  <a:pt x="131" y="26"/>
                  <a:pt x="27" y="13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0147200">
            <a:off x="762120" y="1599840"/>
            <a:ext cx="506160" cy="393840"/>
          </a:xfrm>
          <a:custGeom>
            <a:avLst/>
            <a:gdLst/>
            <a:ahLst/>
            <a:rect l="l" t="t" r="r" b="b"/>
            <a:pathLst>
              <a:path w="319" h="248">
                <a:moveTo>
                  <a:pt x="27" y="13"/>
                </a:moveTo>
                <a:cubicBezTo>
                  <a:pt x="5" y="79"/>
                  <a:pt x="13" y="49"/>
                  <a:pt x="0" y="104"/>
                </a:cubicBezTo>
                <a:cubicBezTo>
                  <a:pt x="3" y="131"/>
                  <a:pt x="2" y="159"/>
                  <a:pt x="9" y="185"/>
                </a:cubicBezTo>
                <a:cubicBezTo>
                  <a:pt x="16" y="211"/>
                  <a:pt x="82" y="222"/>
                  <a:pt x="82" y="222"/>
                </a:cubicBezTo>
                <a:cubicBezTo>
                  <a:pt x="244" y="214"/>
                  <a:pt x="223" y="248"/>
                  <a:pt x="291" y="176"/>
                </a:cubicBezTo>
                <a:cubicBezTo>
                  <a:pt x="305" y="133"/>
                  <a:pt x="319" y="104"/>
                  <a:pt x="291" y="49"/>
                </a:cubicBezTo>
                <a:cubicBezTo>
                  <a:pt x="284" y="35"/>
                  <a:pt x="260" y="43"/>
                  <a:pt x="245" y="40"/>
                </a:cubicBezTo>
                <a:cubicBezTo>
                  <a:pt x="193" y="50"/>
                  <a:pt x="171" y="67"/>
                  <a:pt x="136" y="104"/>
                </a:cubicBezTo>
                <a:cubicBezTo>
                  <a:pt x="123" y="0"/>
                  <a:pt x="131" y="26"/>
                  <a:pt x="27" y="13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rot="10126200">
            <a:off x="1980360" y="159516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06668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7621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98108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371600" y="1752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83808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71680" y="2006640"/>
            <a:ext cx="204840" cy="210816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295280" y="1371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1752480" y="2209680"/>
            <a:ext cx="609840" cy="2057400"/>
          </a:xfrm>
          <a:custGeom>
            <a:avLst/>
            <a:gdLst/>
            <a:ahLst/>
            <a:rect l="l" t="t" r="r" b="b"/>
            <a:pathLst>
              <a:path w="111" h="963">
                <a:moveTo>
                  <a:pt x="0" y="0"/>
                </a:moveTo>
                <a:cubicBezTo>
                  <a:pt x="23" y="64"/>
                  <a:pt x="8" y="38"/>
                  <a:pt x="37" y="81"/>
                </a:cubicBezTo>
                <a:cubicBezTo>
                  <a:pt x="62" y="157"/>
                  <a:pt x="78" y="239"/>
                  <a:pt x="91" y="318"/>
                </a:cubicBezTo>
                <a:cubicBezTo>
                  <a:pt x="107" y="538"/>
                  <a:pt x="111" y="646"/>
                  <a:pt x="100" y="908"/>
                </a:cubicBezTo>
                <a:cubicBezTo>
                  <a:pt x="99" y="926"/>
                  <a:pt x="85" y="963"/>
                  <a:pt x="64" y="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506680" y="199692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90920" y="1676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971800" y="182844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rot="10126200">
            <a:off x="4419360" y="1371240"/>
            <a:ext cx="50616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419720" y="152388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495680" y="18288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752480" y="3809880"/>
            <a:ext cx="596880" cy="50184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09680" y="3733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in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352680" y="9144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09880" y="1295280"/>
            <a:ext cx="304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43828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-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00600" y="2286000"/>
            <a:ext cx="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343400" y="1143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0126200">
            <a:off x="4571280" y="419076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0" y="43434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648320" y="46483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49568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2133360" y="4495320"/>
            <a:ext cx="2438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638680" y="525780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 rot="15286200">
            <a:off x="2787840" y="4349160"/>
            <a:ext cx="457560" cy="12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691" y="4670"/>
                </a:moveTo>
                <a:arcTo wR="10800" hR="10800" stAng="-2075095" swAng="8945775"/>
                <a:lnTo>
                  <a:pt x="10800" y="10800"/>
                </a:lnTo>
                <a:close/>
              </a:path>
              <a:path fill="none" w="21600" h="21600">
                <a:moveTo>
                  <a:pt x="19691" y="4670"/>
                </a:moveTo>
                <a:arcTo wR="10800" hR="10800" stAng="-2075095" swAng="8945775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257800" y="49528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59092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04920" y="624852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ortación de proteínas que tienen secuencias de exportación nucl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95480" y="4191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-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80880" y="7848720"/>
            <a:ext cx="4724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200400" y="5410080"/>
            <a:ext cx="175248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343400" y="380880"/>
            <a:ext cx="213372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68580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33720" y="4419720"/>
            <a:ext cx="99036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8098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181480" y="441972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562040" y="432432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48320" y="434340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rot="10778400">
            <a:off x="5181480" y="4343040"/>
            <a:ext cx="8424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rot="10778400">
            <a:off x="2133360" y="4343040"/>
            <a:ext cx="83880" cy="457200"/>
          </a:xfrm>
          <a:custGeom>
            <a:avLst/>
            <a:gdLst/>
            <a:ahLst/>
            <a:rect l="l" t="t" r="r" b="b"/>
            <a:pathLst>
              <a:path w="53" h="288">
                <a:moveTo>
                  <a:pt x="0" y="0"/>
                </a:moveTo>
                <a:cubicBezTo>
                  <a:pt x="8" y="12"/>
                  <a:pt x="18" y="23"/>
                  <a:pt x="24" y="36"/>
                </a:cubicBezTo>
                <a:cubicBezTo>
                  <a:pt x="34" y="59"/>
                  <a:pt x="48" y="108"/>
                  <a:pt x="48" y="108"/>
                </a:cubicBezTo>
                <a:cubicBezTo>
                  <a:pt x="44" y="149"/>
                  <a:pt x="53" y="247"/>
                  <a:pt x="12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6002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6002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05740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5740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6483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6483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105520" y="43434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05520" y="4800600"/>
            <a:ext cx="152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9810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724280" y="4495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02920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319040" y="2075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5157800">
            <a:off x="1698120" y="2339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66688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8195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29000" y="7391520"/>
            <a:ext cx="76212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600200" y="2971800"/>
            <a:ext cx="228600" cy="2685960"/>
          </a:xfrm>
          <a:custGeom>
            <a:avLst/>
            <a:gdLst/>
            <a:ahLst/>
            <a:rect l="l" t="t" r="r" b="b"/>
            <a:pathLst>
              <a:path w="144" h="1692">
                <a:moveTo>
                  <a:pt x="0" y="0"/>
                </a:moveTo>
                <a:cubicBezTo>
                  <a:pt x="30" y="108"/>
                  <a:pt x="10" y="64"/>
                  <a:pt x="48" y="137"/>
                </a:cubicBezTo>
                <a:cubicBezTo>
                  <a:pt x="80" y="266"/>
                  <a:pt x="101" y="405"/>
                  <a:pt x="118" y="539"/>
                </a:cubicBezTo>
                <a:cubicBezTo>
                  <a:pt x="139" y="912"/>
                  <a:pt x="144" y="1095"/>
                  <a:pt x="130" y="1539"/>
                </a:cubicBezTo>
                <a:cubicBezTo>
                  <a:pt x="128" y="1569"/>
                  <a:pt x="65" y="1660"/>
                  <a:pt x="48" y="169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62320" y="2819520"/>
            <a:ext cx="914400" cy="337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RCC1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371600" y="2286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209680" y="3276720"/>
            <a:ext cx="61776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572000" y="1828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rot="10126200">
            <a:off x="456480" y="708624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14400" y="739152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52480" y="74674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429000" y="6553080"/>
            <a:ext cx="1447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an-GA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990720" y="6095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447920" y="6172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895480" y="2209680"/>
            <a:ext cx="617760" cy="41940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286000" y="1371600"/>
            <a:ext cx="484200" cy="38268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2286000" y="2438280"/>
            <a:ext cx="1218240" cy="121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71877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718772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209680" y="13716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6606600">
            <a:off x="4472640" y="215640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57200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6606600">
            <a:off x="4929840" y="566172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429000" y="7086600"/>
            <a:ext cx="617400" cy="419040"/>
          </a:xfrm>
          <a:custGeom>
            <a:avLst/>
            <a:gdLst/>
            <a:ahLst/>
            <a:rect l="l" t="t" r="r" b="b"/>
            <a:pathLst>
              <a:path w="389" h="264">
                <a:moveTo>
                  <a:pt x="78" y="83"/>
                </a:moveTo>
                <a:cubicBezTo>
                  <a:pt x="96" y="76"/>
                  <a:pt x="118" y="76"/>
                  <a:pt x="133" y="64"/>
                </a:cubicBezTo>
                <a:cubicBezTo>
                  <a:pt x="183" y="25"/>
                  <a:pt x="116" y="46"/>
                  <a:pt x="178" y="19"/>
                </a:cubicBezTo>
                <a:cubicBezTo>
                  <a:pt x="196" y="11"/>
                  <a:pt x="233" y="1"/>
                  <a:pt x="233" y="1"/>
                </a:cubicBezTo>
                <a:cubicBezTo>
                  <a:pt x="263" y="4"/>
                  <a:pt x="295" y="0"/>
                  <a:pt x="323" y="10"/>
                </a:cubicBezTo>
                <a:cubicBezTo>
                  <a:pt x="344" y="18"/>
                  <a:pt x="327" y="68"/>
                  <a:pt x="323" y="73"/>
                </a:cubicBezTo>
                <a:cubicBezTo>
                  <a:pt x="317" y="80"/>
                  <a:pt x="305" y="80"/>
                  <a:pt x="296" y="83"/>
                </a:cubicBezTo>
                <a:cubicBezTo>
                  <a:pt x="269" y="164"/>
                  <a:pt x="301" y="38"/>
                  <a:pt x="342" y="119"/>
                </a:cubicBezTo>
                <a:cubicBezTo>
                  <a:pt x="389" y="211"/>
                  <a:pt x="293" y="215"/>
                  <a:pt x="242" y="228"/>
                </a:cubicBezTo>
                <a:cubicBezTo>
                  <a:pt x="150" y="223"/>
                  <a:pt x="0" y="264"/>
                  <a:pt x="60" y="128"/>
                </a:cubicBezTo>
                <a:cubicBezTo>
                  <a:pt x="64" y="118"/>
                  <a:pt x="78" y="116"/>
                  <a:pt x="87" y="110"/>
                </a:cubicBezTo>
                <a:cubicBezTo>
                  <a:pt x="98" y="77"/>
                  <a:pt x="105" y="83"/>
                  <a:pt x="78" y="83"/>
                </a:cubicBez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62520" y="7010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1752480" y="3657600"/>
            <a:ext cx="1825920" cy="3581280"/>
          </a:xfrm>
          <a:custGeom>
            <a:avLst/>
            <a:gdLst/>
            <a:ahLst/>
            <a:rect l="l" t="t" r="r" b="b"/>
            <a:pathLst>
              <a:path w="1150" h="2256">
                <a:moveTo>
                  <a:pt x="333" y="0"/>
                </a:moveTo>
                <a:cubicBezTo>
                  <a:pt x="227" y="146"/>
                  <a:pt x="185" y="318"/>
                  <a:pt x="125" y="482"/>
                </a:cubicBezTo>
                <a:cubicBezTo>
                  <a:pt x="120" y="528"/>
                  <a:pt x="111" y="575"/>
                  <a:pt x="111" y="621"/>
                </a:cubicBezTo>
                <a:cubicBezTo>
                  <a:pt x="111" y="937"/>
                  <a:pt x="0" y="1342"/>
                  <a:pt x="163" y="1640"/>
                </a:cubicBezTo>
                <a:cubicBezTo>
                  <a:pt x="173" y="1826"/>
                  <a:pt x="213" y="1751"/>
                  <a:pt x="215" y="1760"/>
                </a:cubicBezTo>
                <a:cubicBezTo>
                  <a:pt x="217" y="1769"/>
                  <a:pt x="181" y="1703"/>
                  <a:pt x="178" y="1696"/>
                </a:cubicBezTo>
                <a:cubicBezTo>
                  <a:pt x="175" y="1689"/>
                  <a:pt x="196" y="1715"/>
                  <a:pt x="198" y="1720"/>
                </a:cubicBezTo>
                <a:cubicBezTo>
                  <a:pt x="200" y="1725"/>
                  <a:pt x="189" y="1721"/>
                  <a:pt x="190" y="1724"/>
                </a:cubicBezTo>
                <a:cubicBezTo>
                  <a:pt x="191" y="1727"/>
                  <a:pt x="200" y="1731"/>
                  <a:pt x="206" y="1740"/>
                </a:cubicBezTo>
                <a:cubicBezTo>
                  <a:pt x="212" y="1749"/>
                  <a:pt x="219" y="1762"/>
                  <a:pt x="226" y="1776"/>
                </a:cubicBezTo>
                <a:cubicBezTo>
                  <a:pt x="233" y="1790"/>
                  <a:pt x="232" y="1796"/>
                  <a:pt x="250" y="1824"/>
                </a:cubicBezTo>
                <a:cubicBezTo>
                  <a:pt x="268" y="1852"/>
                  <a:pt x="270" y="1884"/>
                  <a:pt x="334" y="1944"/>
                </a:cubicBezTo>
                <a:cubicBezTo>
                  <a:pt x="396" y="2001"/>
                  <a:pt x="559" y="2145"/>
                  <a:pt x="634" y="2184"/>
                </a:cubicBezTo>
                <a:cubicBezTo>
                  <a:pt x="738" y="2231"/>
                  <a:pt x="812" y="2232"/>
                  <a:pt x="898" y="2244"/>
                </a:cubicBezTo>
                <a:cubicBezTo>
                  <a:pt x="984" y="2256"/>
                  <a:pt x="1098" y="2254"/>
                  <a:pt x="1150" y="22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1014480" y="5504040"/>
            <a:ext cx="484200" cy="382320"/>
          </a:xfrm>
          <a:custGeom>
            <a:avLst/>
            <a:gdLst/>
            <a:ahLst/>
            <a:rect l="l" t="t" r="r" b="b"/>
            <a:pathLst>
              <a:path w="305" h="241">
                <a:moveTo>
                  <a:pt x="296" y="196"/>
                </a:moveTo>
                <a:cubicBezTo>
                  <a:pt x="305" y="127"/>
                  <a:pt x="303" y="158"/>
                  <a:pt x="305" y="102"/>
                </a:cubicBezTo>
                <a:cubicBezTo>
                  <a:pt x="297" y="76"/>
                  <a:pt x="293" y="48"/>
                  <a:pt x="281" y="24"/>
                </a:cubicBezTo>
                <a:cubicBezTo>
                  <a:pt x="269" y="0"/>
                  <a:pt x="203" y="2"/>
                  <a:pt x="203" y="2"/>
                </a:cubicBezTo>
                <a:cubicBezTo>
                  <a:pt x="45" y="40"/>
                  <a:pt x="59" y="3"/>
                  <a:pt x="6" y="86"/>
                </a:cubicBezTo>
                <a:cubicBezTo>
                  <a:pt x="0" y="131"/>
                  <a:pt x="21" y="229"/>
                  <a:pt x="105" y="229"/>
                </a:cubicBezTo>
                <a:cubicBezTo>
                  <a:pt x="115" y="241"/>
                  <a:pt x="62" y="211"/>
                  <a:pt x="77" y="211"/>
                </a:cubicBezTo>
                <a:cubicBezTo>
                  <a:pt x="126" y="191"/>
                  <a:pt x="144" y="171"/>
                  <a:pt x="172" y="128"/>
                </a:cubicBezTo>
                <a:cubicBezTo>
                  <a:pt x="204" y="227"/>
                  <a:pt x="191" y="203"/>
                  <a:pt x="296" y="1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rot="15157800">
            <a:off x="1393560" y="5768280"/>
            <a:ext cx="506520" cy="398520"/>
          </a:xfrm>
          <a:custGeom>
            <a:avLst/>
            <a:gdLst/>
            <a:ahLst/>
            <a:rect l="l" t="t" r="r" b="b"/>
            <a:pathLst>
              <a:path w="319" h="251">
                <a:moveTo>
                  <a:pt x="27" y="16"/>
                </a:moveTo>
                <a:cubicBezTo>
                  <a:pt x="5" y="82"/>
                  <a:pt x="13" y="52"/>
                  <a:pt x="0" y="107"/>
                </a:cubicBezTo>
                <a:cubicBezTo>
                  <a:pt x="3" y="134"/>
                  <a:pt x="2" y="162"/>
                  <a:pt x="9" y="188"/>
                </a:cubicBezTo>
                <a:cubicBezTo>
                  <a:pt x="16" y="214"/>
                  <a:pt x="82" y="225"/>
                  <a:pt x="82" y="225"/>
                </a:cubicBezTo>
                <a:cubicBezTo>
                  <a:pt x="244" y="217"/>
                  <a:pt x="223" y="251"/>
                  <a:pt x="291" y="179"/>
                </a:cubicBezTo>
                <a:cubicBezTo>
                  <a:pt x="305" y="136"/>
                  <a:pt x="319" y="107"/>
                  <a:pt x="291" y="52"/>
                </a:cubicBezTo>
                <a:cubicBezTo>
                  <a:pt x="284" y="38"/>
                  <a:pt x="260" y="46"/>
                  <a:pt x="245" y="43"/>
                </a:cubicBezTo>
                <a:cubicBezTo>
                  <a:pt x="193" y="53"/>
                  <a:pt x="216" y="159"/>
                  <a:pt x="107" y="104"/>
                </a:cubicBezTo>
                <a:cubicBezTo>
                  <a:pt x="94" y="0"/>
                  <a:pt x="131" y="29"/>
                  <a:pt x="27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1066680" y="5715000"/>
            <a:ext cx="596880" cy="501480"/>
          </a:xfrm>
          <a:custGeom>
            <a:avLst/>
            <a:gdLst/>
            <a:ahLst/>
            <a:rect l="l" t="t" r="r" b="b"/>
            <a:pathLst>
              <a:path w="376" h="316">
                <a:moveTo>
                  <a:pt x="103" y="133"/>
                </a:moveTo>
                <a:cubicBezTo>
                  <a:pt x="113" y="19"/>
                  <a:pt x="87" y="0"/>
                  <a:pt x="194" y="15"/>
                </a:cubicBezTo>
                <a:cubicBezTo>
                  <a:pt x="210" y="39"/>
                  <a:pt x="226" y="104"/>
                  <a:pt x="257" y="115"/>
                </a:cubicBezTo>
                <a:cubicBezTo>
                  <a:pt x="277" y="122"/>
                  <a:pt x="300" y="121"/>
                  <a:pt x="321" y="124"/>
                </a:cubicBezTo>
                <a:cubicBezTo>
                  <a:pt x="356" y="136"/>
                  <a:pt x="364" y="143"/>
                  <a:pt x="376" y="178"/>
                </a:cubicBezTo>
                <a:cubicBezTo>
                  <a:pt x="348" y="262"/>
                  <a:pt x="301" y="227"/>
                  <a:pt x="194" y="233"/>
                </a:cubicBezTo>
                <a:cubicBezTo>
                  <a:pt x="182" y="291"/>
                  <a:pt x="184" y="287"/>
                  <a:pt x="130" y="305"/>
                </a:cubicBezTo>
                <a:cubicBezTo>
                  <a:pt x="109" y="302"/>
                  <a:pt x="75" y="316"/>
                  <a:pt x="67" y="296"/>
                </a:cubicBezTo>
                <a:cubicBezTo>
                  <a:pt x="0" y="139"/>
                  <a:pt x="103" y="216"/>
                  <a:pt x="103" y="133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600" y="8001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inas a 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143000" y="6324480"/>
            <a:ext cx="311040" cy="1001880"/>
          </a:xfrm>
          <a:custGeom>
            <a:avLst/>
            <a:gdLst/>
            <a:ahLst/>
            <a:rect l="l" t="t" r="r" b="b"/>
            <a:pathLst>
              <a:path w="196" h="631">
                <a:moveTo>
                  <a:pt x="0" y="624"/>
                </a:moveTo>
                <a:cubicBezTo>
                  <a:pt x="69" y="601"/>
                  <a:pt x="11" y="631"/>
                  <a:pt x="48" y="576"/>
                </a:cubicBezTo>
                <a:cubicBezTo>
                  <a:pt x="57" y="562"/>
                  <a:pt x="73" y="553"/>
                  <a:pt x="84" y="540"/>
                </a:cubicBezTo>
                <a:cubicBezTo>
                  <a:pt x="118" y="499"/>
                  <a:pt x="101" y="513"/>
                  <a:pt x="120" y="468"/>
                </a:cubicBezTo>
                <a:cubicBezTo>
                  <a:pt x="127" y="452"/>
                  <a:pt x="137" y="437"/>
                  <a:pt x="144" y="420"/>
                </a:cubicBezTo>
                <a:cubicBezTo>
                  <a:pt x="153" y="397"/>
                  <a:pt x="168" y="348"/>
                  <a:pt x="168" y="348"/>
                </a:cubicBezTo>
                <a:cubicBezTo>
                  <a:pt x="183" y="226"/>
                  <a:pt x="196" y="166"/>
                  <a:pt x="168" y="24"/>
                </a:cubicBezTo>
                <a:cubicBezTo>
                  <a:pt x="166" y="12"/>
                  <a:pt x="143" y="19"/>
                  <a:pt x="132" y="12"/>
                </a:cubicBezTo>
                <a:cubicBezTo>
                  <a:pt x="129" y="10"/>
                  <a:pt x="132" y="4"/>
                  <a:pt x="13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146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cle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819520" y="5029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3716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85800" y="47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36232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895480" y="8229600"/>
            <a:ext cx="3733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CC1: Ran nucleotide exchange 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*Ran-GAP: Ran GTPase activating prote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828800" y="75438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2133720" y="18288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05320" y="2209680"/>
            <a:ext cx="1123920" cy="135000"/>
          </a:xfrm>
          <a:custGeom>
            <a:avLst/>
            <a:gdLst/>
            <a:ahLst/>
            <a:rect l="l" t="t" r="r" b="b"/>
            <a:pathLst>
              <a:path w="876" h="121">
                <a:moveTo>
                  <a:pt x="0" y="85"/>
                </a:moveTo>
                <a:cubicBezTo>
                  <a:pt x="103" y="51"/>
                  <a:pt x="47" y="67"/>
                  <a:pt x="168" y="37"/>
                </a:cubicBezTo>
                <a:cubicBezTo>
                  <a:pt x="184" y="33"/>
                  <a:pt x="216" y="25"/>
                  <a:pt x="216" y="25"/>
                </a:cubicBezTo>
                <a:cubicBezTo>
                  <a:pt x="589" y="38"/>
                  <a:pt x="454" y="0"/>
                  <a:pt x="636" y="61"/>
                </a:cubicBezTo>
                <a:cubicBezTo>
                  <a:pt x="683" y="77"/>
                  <a:pt x="733" y="81"/>
                  <a:pt x="780" y="97"/>
                </a:cubicBezTo>
                <a:cubicBezTo>
                  <a:pt x="811" y="107"/>
                  <a:pt x="876" y="121"/>
                  <a:pt x="876" y="1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rot="20506200">
            <a:off x="4419720" y="2742840"/>
            <a:ext cx="779400" cy="32400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638680" y="3048120"/>
            <a:ext cx="779760" cy="39996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rot="15745800">
            <a:off x="4628520" y="245736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638680" y="3124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rot="15745800">
            <a:off x="5695200" y="207648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10080" y="1752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xportin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181480" y="2476440"/>
            <a:ext cx="324000" cy="190440"/>
          </a:xfrm>
          <a:custGeom>
            <a:avLst/>
            <a:gdLst/>
            <a:ahLst/>
            <a:rect l="l" t="t" r="r" b="b"/>
            <a:pathLst>
              <a:path w="204" h="120">
                <a:moveTo>
                  <a:pt x="0" y="120"/>
                </a:moveTo>
                <a:cubicBezTo>
                  <a:pt x="63" y="99"/>
                  <a:pt x="25" y="115"/>
                  <a:pt x="108" y="60"/>
                </a:cubicBezTo>
                <a:cubicBezTo>
                  <a:pt x="119" y="53"/>
                  <a:pt x="133" y="54"/>
                  <a:pt x="144" y="48"/>
                </a:cubicBezTo>
                <a:cubicBezTo>
                  <a:pt x="174" y="33"/>
                  <a:pt x="182" y="22"/>
                  <a:pt x="20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238720" y="2952720"/>
            <a:ext cx="362160" cy="266760"/>
          </a:xfrm>
          <a:custGeom>
            <a:avLst/>
            <a:gdLst/>
            <a:ahLst/>
            <a:rect l="l" t="t" r="r" b="b"/>
            <a:pathLst>
              <a:path w="228" h="168">
                <a:moveTo>
                  <a:pt x="228" y="168"/>
                </a:moveTo>
                <a:cubicBezTo>
                  <a:pt x="205" y="100"/>
                  <a:pt x="197" y="113"/>
                  <a:pt x="144" y="84"/>
                </a:cubicBezTo>
                <a:cubicBezTo>
                  <a:pt x="119" y="70"/>
                  <a:pt x="96" y="52"/>
                  <a:pt x="72" y="36"/>
                </a:cubicBezTo>
                <a:cubicBezTo>
                  <a:pt x="61" y="29"/>
                  <a:pt x="47" y="30"/>
                  <a:pt x="36" y="24"/>
                </a:cubicBezTo>
                <a:cubicBezTo>
                  <a:pt x="23" y="18"/>
                  <a:pt x="0" y="0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572360" y="3276720"/>
            <a:ext cx="45648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rot="15745800">
            <a:off x="5085720" y="596268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rot="20506200">
            <a:off x="4876920" y="6248160"/>
            <a:ext cx="779400" cy="32364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5334120" y="5790600"/>
            <a:ext cx="9144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14" y="4809"/>
                </a:moveTo>
                <a:arcTo wR="10800" hR="10800" stAng="-8778596" swAng="8778596"/>
                <a:lnTo>
                  <a:pt x="10800" y="10800"/>
                </a:lnTo>
                <a:close/>
              </a:path>
              <a:path fill="none" w="21600" h="21600">
                <a:moveTo>
                  <a:pt x="1814" y="4809"/>
                </a:moveTo>
                <a:arcTo wR="10800" hR="10800" stAng="-8778596" swAng="8778596"/>
              </a:path>
            </a:pathLst>
          </a:cu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rot="20506200">
            <a:off x="4800600" y="7467120"/>
            <a:ext cx="779400" cy="324000"/>
          </a:xfrm>
          <a:custGeom>
            <a:avLst/>
            <a:gdLst/>
            <a:ahLst/>
            <a:rect l="l" t="t" r="r" b="b"/>
            <a:pathLst>
              <a:path w="491" h="204">
                <a:moveTo>
                  <a:pt x="179" y="37"/>
                </a:moveTo>
                <a:cubicBezTo>
                  <a:pt x="124" y="0"/>
                  <a:pt x="100" y="0"/>
                  <a:pt x="35" y="13"/>
                </a:cubicBezTo>
                <a:cubicBezTo>
                  <a:pt x="27" y="25"/>
                  <a:pt x="12" y="35"/>
                  <a:pt x="11" y="49"/>
                </a:cubicBezTo>
                <a:cubicBezTo>
                  <a:pt x="0" y="173"/>
                  <a:pt x="2" y="129"/>
                  <a:pt x="59" y="157"/>
                </a:cubicBezTo>
                <a:cubicBezTo>
                  <a:pt x="152" y="204"/>
                  <a:pt x="41" y="163"/>
                  <a:pt x="131" y="193"/>
                </a:cubicBezTo>
                <a:cubicBezTo>
                  <a:pt x="155" y="189"/>
                  <a:pt x="179" y="187"/>
                  <a:pt x="203" y="181"/>
                </a:cubicBezTo>
                <a:cubicBezTo>
                  <a:pt x="228" y="175"/>
                  <a:pt x="275" y="157"/>
                  <a:pt x="275" y="157"/>
                </a:cubicBezTo>
                <a:cubicBezTo>
                  <a:pt x="415" y="185"/>
                  <a:pt x="355" y="189"/>
                  <a:pt x="455" y="169"/>
                </a:cubicBezTo>
                <a:cubicBezTo>
                  <a:pt x="463" y="157"/>
                  <a:pt x="477" y="147"/>
                  <a:pt x="479" y="133"/>
                </a:cubicBezTo>
                <a:cubicBezTo>
                  <a:pt x="486" y="89"/>
                  <a:pt x="456" y="97"/>
                  <a:pt x="431" y="85"/>
                </a:cubicBezTo>
                <a:cubicBezTo>
                  <a:pt x="339" y="39"/>
                  <a:pt x="473" y="61"/>
                  <a:pt x="275" y="61"/>
                </a:cubicBezTo>
                <a:lnTo>
                  <a:pt x="491" y="109"/>
                </a:lnTo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4495680" y="655308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rot="15745800">
            <a:off x="6000120" y="6343560"/>
            <a:ext cx="361800" cy="474840"/>
          </a:xfrm>
          <a:custGeom>
            <a:avLst/>
            <a:gdLst/>
            <a:ahLst/>
            <a:rect l="l" t="t" r="r" b="b"/>
            <a:pathLst>
              <a:path w="228" h="299">
                <a:moveTo>
                  <a:pt x="120" y="0"/>
                </a:moveTo>
                <a:cubicBezTo>
                  <a:pt x="56" y="13"/>
                  <a:pt x="36" y="18"/>
                  <a:pt x="0" y="72"/>
                </a:cubicBezTo>
                <a:cubicBezTo>
                  <a:pt x="11" y="147"/>
                  <a:pt x="33" y="214"/>
                  <a:pt x="48" y="288"/>
                </a:cubicBezTo>
                <a:cubicBezTo>
                  <a:pt x="92" y="284"/>
                  <a:pt x="142" y="299"/>
                  <a:pt x="180" y="276"/>
                </a:cubicBezTo>
                <a:cubicBezTo>
                  <a:pt x="197" y="266"/>
                  <a:pt x="168" y="236"/>
                  <a:pt x="168" y="216"/>
                </a:cubicBezTo>
                <a:cubicBezTo>
                  <a:pt x="168" y="175"/>
                  <a:pt x="228" y="108"/>
                  <a:pt x="228" y="108"/>
                </a:cubicBezTo>
                <a:cubicBezTo>
                  <a:pt x="214" y="39"/>
                  <a:pt x="199" y="0"/>
                  <a:pt x="120" y="0"/>
                </a:cubicBezTo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257800" y="66294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09480" y="609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POR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657600" y="5335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ORT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743040" y="5394240"/>
            <a:ext cx="2216160" cy="1266840"/>
          </a:xfrm>
          <a:custGeom>
            <a:avLst/>
            <a:gdLst/>
            <a:ahLst/>
            <a:rect l="l" t="t" r="r" b="b"/>
            <a:pathLst>
              <a:path w="1396" h="798">
                <a:moveTo>
                  <a:pt x="0" y="720"/>
                </a:moveTo>
                <a:cubicBezTo>
                  <a:pt x="10" y="758"/>
                  <a:pt x="24" y="731"/>
                  <a:pt x="60" y="720"/>
                </a:cubicBezTo>
                <a:cubicBezTo>
                  <a:pt x="88" y="722"/>
                  <a:pt x="110" y="798"/>
                  <a:pt x="168" y="732"/>
                </a:cubicBezTo>
                <a:cubicBezTo>
                  <a:pt x="208" y="574"/>
                  <a:pt x="280" y="427"/>
                  <a:pt x="408" y="321"/>
                </a:cubicBezTo>
                <a:cubicBezTo>
                  <a:pt x="468" y="271"/>
                  <a:pt x="417" y="294"/>
                  <a:pt x="480" y="273"/>
                </a:cubicBezTo>
                <a:cubicBezTo>
                  <a:pt x="549" y="171"/>
                  <a:pt x="457" y="291"/>
                  <a:pt x="540" y="226"/>
                </a:cubicBezTo>
                <a:cubicBezTo>
                  <a:pt x="551" y="217"/>
                  <a:pt x="553" y="199"/>
                  <a:pt x="564" y="190"/>
                </a:cubicBezTo>
                <a:cubicBezTo>
                  <a:pt x="689" y="91"/>
                  <a:pt x="884" y="170"/>
                  <a:pt x="1044" y="166"/>
                </a:cubicBezTo>
                <a:cubicBezTo>
                  <a:pt x="1144" y="142"/>
                  <a:pt x="1242" y="134"/>
                  <a:pt x="1344" y="119"/>
                </a:cubicBezTo>
                <a:cubicBezTo>
                  <a:pt x="1356" y="115"/>
                  <a:pt x="1377" y="119"/>
                  <a:pt x="1380" y="107"/>
                </a:cubicBezTo>
                <a:cubicBezTo>
                  <a:pt x="1387" y="80"/>
                  <a:pt x="1396" y="27"/>
                  <a:pt x="1368" y="24"/>
                </a:cubicBezTo>
                <a:cubicBezTo>
                  <a:pt x="1109" y="0"/>
                  <a:pt x="848" y="32"/>
                  <a:pt x="588" y="36"/>
                </a:cubicBezTo>
                <a:cubicBezTo>
                  <a:pt x="457" y="79"/>
                  <a:pt x="656" y="10"/>
                  <a:pt x="516" y="71"/>
                </a:cubicBezTo>
                <a:cubicBezTo>
                  <a:pt x="516" y="71"/>
                  <a:pt x="426" y="101"/>
                  <a:pt x="408" y="107"/>
                </a:cubicBezTo>
                <a:cubicBezTo>
                  <a:pt x="381" y="116"/>
                  <a:pt x="360" y="139"/>
                  <a:pt x="336" y="154"/>
                </a:cubicBezTo>
                <a:cubicBezTo>
                  <a:pt x="324" y="162"/>
                  <a:pt x="300" y="178"/>
                  <a:pt x="300" y="178"/>
                </a:cubicBezTo>
                <a:cubicBezTo>
                  <a:pt x="284" y="202"/>
                  <a:pt x="276" y="234"/>
                  <a:pt x="252" y="249"/>
                </a:cubicBezTo>
                <a:cubicBezTo>
                  <a:pt x="228" y="265"/>
                  <a:pt x="200" y="277"/>
                  <a:pt x="180" y="297"/>
                </a:cubicBezTo>
                <a:cubicBezTo>
                  <a:pt x="168" y="309"/>
                  <a:pt x="157" y="323"/>
                  <a:pt x="144" y="333"/>
                </a:cubicBezTo>
                <a:cubicBezTo>
                  <a:pt x="121" y="350"/>
                  <a:pt x="72" y="380"/>
                  <a:pt x="72" y="380"/>
                </a:cubicBezTo>
                <a:cubicBezTo>
                  <a:pt x="58" y="421"/>
                  <a:pt x="69" y="407"/>
                  <a:pt x="48" y="428"/>
                </a:cubicBezTo>
                <a:lnTo>
                  <a:pt x="0" y="72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962520" y="5394240"/>
            <a:ext cx="2419200" cy="1287720"/>
          </a:xfrm>
          <a:custGeom>
            <a:avLst/>
            <a:gdLst/>
            <a:ahLst/>
            <a:rect l="l" t="t" r="r" b="b"/>
            <a:pathLst>
              <a:path w="1524" h="811">
                <a:moveTo>
                  <a:pt x="1524" y="804"/>
                </a:moveTo>
                <a:cubicBezTo>
                  <a:pt x="1463" y="811"/>
                  <a:pt x="1348" y="768"/>
                  <a:pt x="1287" y="747"/>
                </a:cubicBezTo>
                <a:cubicBezTo>
                  <a:pt x="1243" y="566"/>
                  <a:pt x="1217" y="487"/>
                  <a:pt x="1077" y="366"/>
                </a:cubicBezTo>
                <a:cubicBezTo>
                  <a:pt x="1012" y="310"/>
                  <a:pt x="1067" y="336"/>
                  <a:pt x="999" y="312"/>
                </a:cubicBezTo>
                <a:cubicBezTo>
                  <a:pt x="924" y="196"/>
                  <a:pt x="1024" y="333"/>
                  <a:pt x="933" y="258"/>
                </a:cubicBezTo>
                <a:cubicBezTo>
                  <a:pt x="921" y="248"/>
                  <a:pt x="919" y="227"/>
                  <a:pt x="907" y="217"/>
                </a:cubicBezTo>
                <a:cubicBezTo>
                  <a:pt x="771" y="104"/>
                  <a:pt x="558" y="195"/>
                  <a:pt x="384" y="190"/>
                </a:cubicBezTo>
                <a:cubicBezTo>
                  <a:pt x="275" y="162"/>
                  <a:pt x="168" y="153"/>
                  <a:pt x="57" y="136"/>
                </a:cubicBezTo>
                <a:cubicBezTo>
                  <a:pt x="44" y="131"/>
                  <a:pt x="21" y="136"/>
                  <a:pt x="17" y="122"/>
                </a:cubicBezTo>
                <a:cubicBezTo>
                  <a:pt x="10" y="92"/>
                  <a:pt x="0" y="31"/>
                  <a:pt x="31" y="27"/>
                </a:cubicBezTo>
                <a:cubicBezTo>
                  <a:pt x="313" y="0"/>
                  <a:pt x="598" y="36"/>
                  <a:pt x="881" y="41"/>
                </a:cubicBezTo>
                <a:cubicBezTo>
                  <a:pt x="1024" y="90"/>
                  <a:pt x="807" y="11"/>
                  <a:pt x="960" y="81"/>
                </a:cubicBezTo>
                <a:cubicBezTo>
                  <a:pt x="960" y="81"/>
                  <a:pt x="1058" y="115"/>
                  <a:pt x="1077" y="122"/>
                </a:cubicBezTo>
                <a:cubicBezTo>
                  <a:pt x="1107" y="132"/>
                  <a:pt x="1130" y="158"/>
                  <a:pt x="1156" y="176"/>
                </a:cubicBezTo>
                <a:cubicBezTo>
                  <a:pt x="1169" y="185"/>
                  <a:pt x="1195" y="204"/>
                  <a:pt x="1195" y="204"/>
                </a:cubicBezTo>
                <a:cubicBezTo>
                  <a:pt x="1213" y="231"/>
                  <a:pt x="1221" y="267"/>
                  <a:pt x="1247" y="285"/>
                </a:cubicBezTo>
                <a:cubicBezTo>
                  <a:pt x="1274" y="303"/>
                  <a:pt x="1304" y="317"/>
                  <a:pt x="1326" y="339"/>
                </a:cubicBezTo>
                <a:cubicBezTo>
                  <a:pt x="1339" y="353"/>
                  <a:pt x="1351" y="369"/>
                  <a:pt x="1365" y="380"/>
                </a:cubicBezTo>
                <a:cubicBezTo>
                  <a:pt x="1390" y="400"/>
                  <a:pt x="1444" y="434"/>
                  <a:pt x="1444" y="434"/>
                </a:cubicBezTo>
                <a:cubicBezTo>
                  <a:pt x="1459" y="481"/>
                  <a:pt x="1447" y="465"/>
                  <a:pt x="1470" y="489"/>
                </a:cubicBezTo>
                <a:lnTo>
                  <a:pt x="1524" y="804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819520" y="5089680"/>
            <a:ext cx="15228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36" y="0"/>
                </a:moveTo>
                <a:cubicBezTo>
                  <a:pt x="44" y="24"/>
                  <a:pt x="52" y="48"/>
                  <a:pt x="60" y="72"/>
                </a:cubicBezTo>
                <a:cubicBezTo>
                  <a:pt x="64" y="84"/>
                  <a:pt x="68" y="96"/>
                  <a:pt x="72" y="108"/>
                </a:cubicBezTo>
                <a:cubicBezTo>
                  <a:pt x="76" y="120"/>
                  <a:pt x="80" y="132"/>
                  <a:pt x="84" y="144"/>
                </a:cubicBezTo>
                <a:cubicBezTo>
                  <a:pt x="88" y="156"/>
                  <a:pt x="96" y="180"/>
                  <a:pt x="96" y="180"/>
                </a:cubicBezTo>
                <a:cubicBezTo>
                  <a:pt x="92" y="252"/>
                  <a:pt x="91" y="324"/>
                  <a:pt x="84" y="396"/>
                </a:cubicBezTo>
                <a:cubicBezTo>
                  <a:pt x="80" y="435"/>
                  <a:pt x="0" y="480"/>
                  <a:pt x="0" y="4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>
            <a:off x="3961800" y="5089680"/>
            <a:ext cx="75960" cy="761760"/>
          </a:xfrm>
          <a:custGeom>
            <a:avLst/>
            <a:gdLst/>
            <a:ahLst/>
            <a:rect l="l" t="t" r="r" b="b"/>
            <a:pathLst>
              <a:path w="96" h="480">
                <a:moveTo>
                  <a:pt x="36" y="0"/>
                </a:moveTo>
                <a:cubicBezTo>
                  <a:pt x="44" y="24"/>
                  <a:pt x="52" y="48"/>
                  <a:pt x="60" y="72"/>
                </a:cubicBezTo>
                <a:cubicBezTo>
                  <a:pt x="64" y="84"/>
                  <a:pt x="68" y="96"/>
                  <a:pt x="72" y="108"/>
                </a:cubicBezTo>
                <a:cubicBezTo>
                  <a:pt x="76" y="120"/>
                  <a:pt x="80" y="132"/>
                  <a:pt x="84" y="144"/>
                </a:cubicBezTo>
                <a:cubicBezTo>
                  <a:pt x="88" y="156"/>
                  <a:pt x="96" y="180"/>
                  <a:pt x="96" y="180"/>
                </a:cubicBezTo>
                <a:cubicBezTo>
                  <a:pt x="92" y="252"/>
                  <a:pt x="91" y="324"/>
                  <a:pt x="84" y="396"/>
                </a:cubicBezTo>
                <a:cubicBezTo>
                  <a:pt x="80" y="435"/>
                  <a:pt x="0" y="480"/>
                  <a:pt x="0" y="48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2895480" y="508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19520" y="5851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809880" y="585144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733920" y="50896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971800" y="53942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733920" y="53942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276720" y="6004080"/>
            <a:ext cx="38088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352680" y="6384960"/>
            <a:ext cx="38124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352680" y="6765840"/>
            <a:ext cx="381240" cy="3812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200400" y="4861080"/>
            <a:ext cx="380880" cy="38088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72000" y="3718080"/>
            <a:ext cx="609480" cy="2286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200400" y="40226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276720" y="42512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200400" y="379404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276720" y="3641760"/>
            <a:ext cx="457200" cy="3962520"/>
          </a:xfrm>
          <a:custGeom>
            <a:avLst/>
            <a:gdLst/>
            <a:ahLst/>
            <a:rect l="l" t="t" r="r" b="b"/>
            <a:pathLst>
              <a:path w="396" h="3032">
                <a:moveTo>
                  <a:pt x="60" y="0"/>
                </a:moveTo>
                <a:cubicBezTo>
                  <a:pt x="43" y="85"/>
                  <a:pt x="54" y="41"/>
                  <a:pt x="24" y="132"/>
                </a:cubicBezTo>
                <a:cubicBezTo>
                  <a:pt x="20" y="144"/>
                  <a:pt x="12" y="168"/>
                  <a:pt x="12" y="168"/>
                </a:cubicBezTo>
                <a:cubicBezTo>
                  <a:pt x="18" y="220"/>
                  <a:pt x="22" y="283"/>
                  <a:pt x="36" y="336"/>
                </a:cubicBezTo>
                <a:cubicBezTo>
                  <a:pt x="43" y="360"/>
                  <a:pt x="52" y="384"/>
                  <a:pt x="60" y="408"/>
                </a:cubicBezTo>
                <a:cubicBezTo>
                  <a:pt x="64" y="420"/>
                  <a:pt x="72" y="444"/>
                  <a:pt x="72" y="444"/>
                </a:cubicBezTo>
                <a:cubicBezTo>
                  <a:pt x="68" y="480"/>
                  <a:pt x="71" y="518"/>
                  <a:pt x="60" y="552"/>
                </a:cubicBezTo>
                <a:cubicBezTo>
                  <a:pt x="51" y="579"/>
                  <a:pt x="12" y="624"/>
                  <a:pt x="12" y="624"/>
                </a:cubicBezTo>
                <a:cubicBezTo>
                  <a:pt x="17" y="688"/>
                  <a:pt x="0" y="762"/>
                  <a:pt x="36" y="816"/>
                </a:cubicBezTo>
                <a:cubicBezTo>
                  <a:pt x="57" y="848"/>
                  <a:pt x="124" y="856"/>
                  <a:pt x="156" y="864"/>
                </a:cubicBezTo>
                <a:cubicBezTo>
                  <a:pt x="144" y="872"/>
                  <a:pt x="133" y="882"/>
                  <a:pt x="120" y="888"/>
                </a:cubicBezTo>
                <a:cubicBezTo>
                  <a:pt x="105" y="894"/>
                  <a:pt x="63" y="886"/>
                  <a:pt x="72" y="900"/>
                </a:cubicBezTo>
                <a:cubicBezTo>
                  <a:pt x="86" y="921"/>
                  <a:pt x="144" y="924"/>
                  <a:pt x="144" y="924"/>
                </a:cubicBezTo>
                <a:cubicBezTo>
                  <a:pt x="148" y="936"/>
                  <a:pt x="162" y="949"/>
                  <a:pt x="156" y="960"/>
                </a:cubicBezTo>
                <a:cubicBezTo>
                  <a:pt x="150" y="971"/>
                  <a:pt x="132" y="969"/>
                  <a:pt x="120" y="972"/>
                </a:cubicBezTo>
                <a:cubicBezTo>
                  <a:pt x="104" y="977"/>
                  <a:pt x="88" y="980"/>
                  <a:pt x="72" y="984"/>
                </a:cubicBezTo>
                <a:cubicBezTo>
                  <a:pt x="105" y="1006"/>
                  <a:pt x="115" y="1006"/>
                  <a:pt x="132" y="1044"/>
                </a:cubicBezTo>
                <a:cubicBezTo>
                  <a:pt x="142" y="1067"/>
                  <a:pt x="156" y="1116"/>
                  <a:pt x="156" y="1116"/>
                </a:cubicBezTo>
                <a:cubicBezTo>
                  <a:pt x="145" y="1179"/>
                  <a:pt x="162" y="1188"/>
                  <a:pt x="108" y="1212"/>
                </a:cubicBezTo>
                <a:cubicBezTo>
                  <a:pt x="85" y="1222"/>
                  <a:pt x="36" y="1236"/>
                  <a:pt x="36" y="1236"/>
                </a:cubicBezTo>
                <a:cubicBezTo>
                  <a:pt x="40" y="1256"/>
                  <a:pt x="35" y="1280"/>
                  <a:pt x="48" y="1296"/>
                </a:cubicBezTo>
                <a:cubicBezTo>
                  <a:pt x="59" y="1309"/>
                  <a:pt x="90" y="1293"/>
                  <a:pt x="96" y="1308"/>
                </a:cubicBezTo>
                <a:cubicBezTo>
                  <a:pt x="115" y="1357"/>
                  <a:pt x="83" y="1393"/>
                  <a:pt x="60" y="1428"/>
                </a:cubicBezTo>
                <a:cubicBezTo>
                  <a:pt x="92" y="1432"/>
                  <a:pt x="128" y="1424"/>
                  <a:pt x="156" y="1440"/>
                </a:cubicBezTo>
                <a:cubicBezTo>
                  <a:pt x="167" y="1446"/>
                  <a:pt x="154" y="1469"/>
                  <a:pt x="144" y="1476"/>
                </a:cubicBezTo>
                <a:cubicBezTo>
                  <a:pt x="123" y="1491"/>
                  <a:pt x="72" y="1500"/>
                  <a:pt x="72" y="1500"/>
                </a:cubicBezTo>
                <a:cubicBezTo>
                  <a:pt x="44" y="1584"/>
                  <a:pt x="24" y="1564"/>
                  <a:pt x="84" y="1584"/>
                </a:cubicBezTo>
                <a:cubicBezTo>
                  <a:pt x="96" y="1580"/>
                  <a:pt x="109" y="1566"/>
                  <a:pt x="120" y="1572"/>
                </a:cubicBezTo>
                <a:cubicBezTo>
                  <a:pt x="131" y="1578"/>
                  <a:pt x="132" y="1595"/>
                  <a:pt x="132" y="1608"/>
                </a:cubicBezTo>
                <a:cubicBezTo>
                  <a:pt x="132" y="1660"/>
                  <a:pt x="121" y="1667"/>
                  <a:pt x="96" y="1704"/>
                </a:cubicBezTo>
                <a:cubicBezTo>
                  <a:pt x="120" y="1708"/>
                  <a:pt x="156" y="1695"/>
                  <a:pt x="168" y="1716"/>
                </a:cubicBezTo>
                <a:cubicBezTo>
                  <a:pt x="217" y="1804"/>
                  <a:pt x="162" y="1810"/>
                  <a:pt x="120" y="1824"/>
                </a:cubicBezTo>
                <a:cubicBezTo>
                  <a:pt x="101" y="1843"/>
                  <a:pt x="52" y="1871"/>
                  <a:pt x="96" y="1908"/>
                </a:cubicBezTo>
                <a:cubicBezTo>
                  <a:pt x="112" y="1921"/>
                  <a:pt x="136" y="1916"/>
                  <a:pt x="156" y="1920"/>
                </a:cubicBezTo>
                <a:cubicBezTo>
                  <a:pt x="184" y="2005"/>
                  <a:pt x="99" y="2045"/>
                  <a:pt x="192" y="2076"/>
                </a:cubicBezTo>
                <a:cubicBezTo>
                  <a:pt x="196" y="2088"/>
                  <a:pt x="192" y="2108"/>
                  <a:pt x="204" y="2112"/>
                </a:cubicBezTo>
                <a:cubicBezTo>
                  <a:pt x="239" y="2124"/>
                  <a:pt x="275" y="2093"/>
                  <a:pt x="300" y="2076"/>
                </a:cubicBezTo>
                <a:cubicBezTo>
                  <a:pt x="296" y="2112"/>
                  <a:pt x="304" y="2152"/>
                  <a:pt x="288" y="2184"/>
                </a:cubicBezTo>
                <a:cubicBezTo>
                  <a:pt x="282" y="2197"/>
                  <a:pt x="277" y="2153"/>
                  <a:pt x="264" y="2148"/>
                </a:cubicBezTo>
                <a:cubicBezTo>
                  <a:pt x="252" y="2143"/>
                  <a:pt x="240" y="2156"/>
                  <a:pt x="228" y="2160"/>
                </a:cubicBezTo>
                <a:cubicBezTo>
                  <a:pt x="214" y="2202"/>
                  <a:pt x="200" y="2237"/>
                  <a:pt x="156" y="2256"/>
                </a:cubicBezTo>
                <a:cubicBezTo>
                  <a:pt x="133" y="2266"/>
                  <a:pt x="84" y="2280"/>
                  <a:pt x="84" y="2280"/>
                </a:cubicBezTo>
                <a:cubicBezTo>
                  <a:pt x="173" y="2340"/>
                  <a:pt x="162" y="2271"/>
                  <a:pt x="144" y="2412"/>
                </a:cubicBezTo>
                <a:cubicBezTo>
                  <a:pt x="148" y="2432"/>
                  <a:pt x="145" y="2455"/>
                  <a:pt x="156" y="2472"/>
                </a:cubicBezTo>
                <a:cubicBezTo>
                  <a:pt x="163" y="2483"/>
                  <a:pt x="185" y="2474"/>
                  <a:pt x="192" y="2484"/>
                </a:cubicBezTo>
                <a:cubicBezTo>
                  <a:pt x="207" y="2505"/>
                  <a:pt x="216" y="2556"/>
                  <a:pt x="216" y="2556"/>
                </a:cubicBezTo>
                <a:cubicBezTo>
                  <a:pt x="208" y="2568"/>
                  <a:pt x="192" y="2578"/>
                  <a:pt x="192" y="2592"/>
                </a:cubicBezTo>
                <a:cubicBezTo>
                  <a:pt x="192" y="2659"/>
                  <a:pt x="211" y="2661"/>
                  <a:pt x="252" y="2688"/>
                </a:cubicBezTo>
                <a:cubicBezTo>
                  <a:pt x="264" y="2750"/>
                  <a:pt x="252" y="2776"/>
                  <a:pt x="312" y="2796"/>
                </a:cubicBezTo>
                <a:cubicBezTo>
                  <a:pt x="316" y="2852"/>
                  <a:pt x="310" y="2910"/>
                  <a:pt x="324" y="2964"/>
                </a:cubicBezTo>
                <a:cubicBezTo>
                  <a:pt x="327" y="2978"/>
                  <a:pt x="351" y="2977"/>
                  <a:pt x="360" y="2988"/>
                </a:cubicBezTo>
                <a:cubicBezTo>
                  <a:pt x="395" y="3032"/>
                  <a:pt x="346" y="3024"/>
                  <a:pt x="396" y="3024"/>
                </a:cubicBezTo>
              </a:path>
            </a:pathLst>
          </a:custGeom>
          <a:noFill/>
          <a:ln w="5724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886200" y="3718080"/>
            <a:ext cx="15228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 rot="9993600">
            <a:off x="4153320" y="388800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 rot="4765200">
            <a:off x="2622240" y="3838680"/>
            <a:ext cx="91368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429000" y="1889280"/>
            <a:ext cx="1447920" cy="501480"/>
          </a:xfrm>
          <a:custGeom>
            <a:avLst/>
            <a:gdLst/>
            <a:ahLst/>
            <a:rect l="l" t="t" r="r" b="b"/>
            <a:pathLst>
              <a:path w="809" h="316">
                <a:moveTo>
                  <a:pt x="43" y="129"/>
                </a:moveTo>
                <a:cubicBezTo>
                  <a:pt x="47" y="177"/>
                  <a:pt x="13" y="249"/>
                  <a:pt x="55" y="273"/>
                </a:cubicBezTo>
                <a:cubicBezTo>
                  <a:pt x="132" y="316"/>
                  <a:pt x="231" y="280"/>
                  <a:pt x="319" y="285"/>
                </a:cubicBezTo>
                <a:cubicBezTo>
                  <a:pt x="363" y="288"/>
                  <a:pt x="407" y="293"/>
                  <a:pt x="451" y="297"/>
                </a:cubicBezTo>
                <a:cubicBezTo>
                  <a:pt x="499" y="293"/>
                  <a:pt x="549" y="298"/>
                  <a:pt x="595" y="285"/>
                </a:cubicBezTo>
                <a:cubicBezTo>
                  <a:pt x="623" y="277"/>
                  <a:pt x="667" y="237"/>
                  <a:pt x="667" y="237"/>
                </a:cubicBezTo>
                <a:cubicBezTo>
                  <a:pt x="809" y="25"/>
                  <a:pt x="341" y="94"/>
                  <a:pt x="319" y="93"/>
                </a:cubicBezTo>
                <a:cubicBezTo>
                  <a:pt x="240" y="80"/>
                  <a:pt x="0" y="0"/>
                  <a:pt x="43" y="129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276720" y="1050840"/>
            <a:ext cx="1471320" cy="995400"/>
          </a:xfrm>
          <a:custGeom>
            <a:avLst/>
            <a:gdLst/>
            <a:ahLst/>
            <a:rect l="l" t="t" r="r" b="b"/>
            <a:pathLst>
              <a:path w="927" h="627">
                <a:moveTo>
                  <a:pt x="68" y="220"/>
                </a:moveTo>
                <a:cubicBezTo>
                  <a:pt x="72" y="260"/>
                  <a:pt x="74" y="300"/>
                  <a:pt x="80" y="340"/>
                </a:cubicBezTo>
                <a:cubicBezTo>
                  <a:pt x="87" y="384"/>
                  <a:pt x="96" y="372"/>
                  <a:pt x="116" y="412"/>
                </a:cubicBezTo>
                <a:cubicBezTo>
                  <a:pt x="224" y="627"/>
                  <a:pt x="573" y="528"/>
                  <a:pt x="752" y="532"/>
                </a:cubicBezTo>
                <a:cubicBezTo>
                  <a:pt x="800" y="528"/>
                  <a:pt x="850" y="533"/>
                  <a:pt x="896" y="520"/>
                </a:cubicBezTo>
                <a:cubicBezTo>
                  <a:pt x="910" y="516"/>
                  <a:pt x="919" y="498"/>
                  <a:pt x="920" y="484"/>
                </a:cubicBezTo>
                <a:cubicBezTo>
                  <a:pt x="923" y="440"/>
                  <a:pt x="927" y="392"/>
                  <a:pt x="908" y="352"/>
                </a:cubicBezTo>
                <a:cubicBezTo>
                  <a:pt x="893" y="319"/>
                  <a:pt x="834" y="303"/>
                  <a:pt x="800" y="292"/>
                </a:cubicBezTo>
                <a:cubicBezTo>
                  <a:pt x="772" y="250"/>
                  <a:pt x="771" y="217"/>
                  <a:pt x="752" y="172"/>
                </a:cubicBezTo>
                <a:cubicBezTo>
                  <a:pt x="726" y="111"/>
                  <a:pt x="666" y="90"/>
                  <a:pt x="608" y="76"/>
                </a:cubicBezTo>
                <a:cubicBezTo>
                  <a:pt x="494" y="0"/>
                  <a:pt x="383" y="46"/>
                  <a:pt x="236" y="52"/>
                </a:cubicBezTo>
                <a:cubicBezTo>
                  <a:pt x="172" y="73"/>
                  <a:pt x="135" y="124"/>
                  <a:pt x="80" y="160"/>
                </a:cubicBezTo>
                <a:cubicBezTo>
                  <a:pt x="72" y="172"/>
                  <a:pt x="0" y="254"/>
                  <a:pt x="68" y="22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581280" y="7604280"/>
            <a:ext cx="304920" cy="152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9480" y="432756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143000" y="67658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914400" y="4572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orte de mRNA desde el núcleo al cit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419720" y="699444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bonucleoprote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962520" y="615636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114800" y="1508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b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2817720" y="1660680"/>
            <a:ext cx="9151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04661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046619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 rot="19425000">
            <a:off x="3293640" y="3837240"/>
            <a:ext cx="913320" cy="761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57" y="868"/>
                </a:moveTo>
                <a:arcTo wR="10800" hR="10800" stAng="-6787928" swAng="6787928"/>
                <a:lnTo>
                  <a:pt x="10800" y="10800"/>
                </a:lnTo>
                <a:close/>
              </a:path>
              <a:path fill="none" w="21600" h="21600">
                <a:moveTo>
                  <a:pt x="6557" y="868"/>
                </a:moveTo>
                <a:arcTo wR="10800" hR="10800" stAng="-6787928" swAng="678792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038480" y="41752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-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753000" y="3946680"/>
            <a:ext cx="1644480" cy="990360"/>
          </a:xfrm>
          <a:custGeom>
            <a:avLst/>
            <a:gdLst/>
            <a:ahLst/>
            <a:rect l="l" t="t" r="r" b="b"/>
            <a:pathLst>
              <a:path w="1036" h="624">
                <a:moveTo>
                  <a:pt x="960" y="0"/>
                </a:moveTo>
                <a:cubicBezTo>
                  <a:pt x="998" y="57"/>
                  <a:pt x="979" y="22"/>
                  <a:pt x="1008" y="108"/>
                </a:cubicBezTo>
                <a:cubicBezTo>
                  <a:pt x="1012" y="120"/>
                  <a:pt x="1020" y="144"/>
                  <a:pt x="1020" y="144"/>
                </a:cubicBezTo>
                <a:cubicBezTo>
                  <a:pt x="1015" y="232"/>
                  <a:pt x="1036" y="329"/>
                  <a:pt x="996" y="408"/>
                </a:cubicBezTo>
                <a:cubicBezTo>
                  <a:pt x="965" y="471"/>
                  <a:pt x="831" y="551"/>
                  <a:pt x="756" y="552"/>
                </a:cubicBezTo>
                <a:cubicBezTo>
                  <a:pt x="512" y="556"/>
                  <a:pt x="268" y="560"/>
                  <a:pt x="24" y="564"/>
                </a:cubicBezTo>
                <a:cubicBezTo>
                  <a:pt x="9" y="608"/>
                  <a:pt x="18" y="589"/>
                  <a:pt x="0" y="62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74320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7672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8620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419720" y="2727360"/>
            <a:ext cx="228600" cy="22860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3716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2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828800" y="272736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447920" y="2727360"/>
            <a:ext cx="3485880" cy="279360"/>
          </a:xfrm>
          <a:custGeom>
            <a:avLst/>
            <a:gdLst/>
            <a:ahLst/>
            <a:rect l="l" t="t" r="r" b="b"/>
            <a:pathLst>
              <a:path w="2196" h="176">
                <a:moveTo>
                  <a:pt x="0" y="81"/>
                </a:moveTo>
                <a:cubicBezTo>
                  <a:pt x="62" y="65"/>
                  <a:pt x="65" y="45"/>
                  <a:pt x="120" y="81"/>
                </a:cubicBezTo>
                <a:cubicBezTo>
                  <a:pt x="128" y="69"/>
                  <a:pt x="138" y="58"/>
                  <a:pt x="144" y="45"/>
                </a:cubicBezTo>
                <a:cubicBezTo>
                  <a:pt x="150" y="34"/>
                  <a:pt x="147" y="0"/>
                  <a:pt x="156" y="9"/>
                </a:cubicBezTo>
                <a:cubicBezTo>
                  <a:pt x="174" y="27"/>
                  <a:pt x="180" y="81"/>
                  <a:pt x="180" y="81"/>
                </a:cubicBezTo>
                <a:cubicBezTo>
                  <a:pt x="188" y="69"/>
                  <a:pt x="190" y="50"/>
                  <a:pt x="204" y="45"/>
                </a:cubicBezTo>
                <a:cubicBezTo>
                  <a:pt x="230" y="36"/>
                  <a:pt x="270" y="69"/>
                  <a:pt x="288" y="81"/>
                </a:cubicBezTo>
                <a:cubicBezTo>
                  <a:pt x="304" y="77"/>
                  <a:pt x="321" y="75"/>
                  <a:pt x="336" y="69"/>
                </a:cubicBezTo>
                <a:cubicBezTo>
                  <a:pt x="349" y="63"/>
                  <a:pt x="359" y="39"/>
                  <a:pt x="372" y="45"/>
                </a:cubicBezTo>
                <a:cubicBezTo>
                  <a:pt x="387" y="52"/>
                  <a:pt x="380" y="77"/>
                  <a:pt x="384" y="93"/>
                </a:cubicBezTo>
                <a:cubicBezTo>
                  <a:pt x="405" y="31"/>
                  <a:pt x="417" y="35"/>
                  <a:pt x="468" y="69"/>
                </a:cubicBezTo>
                <a:cubicBezTo>
                  <a:pt x="492" y="61"/>
                  <a:pt x="516" y="53"/>
                  <a:pt x="540" y="45"/>
                </a:cubicBezTo>
                <a:cubicBezTo>
                  <a:pt x="564" y="37"/>
                  <a:pt x="556" y="93"/>
                  <a:pt x="564" y="117"/>
                </a:cubicBezTo>
                <a:cubicBezTo>
                  <a:pt x="568" y="129"/>
                  <a:pt x="588" y="125"/>
                  <a:pt x="600" y="129"/>
                </a:cubicBezTo>
                <a:cubicBezTo>
                  <a:pt x="608" y="117"/>
                  <a:pt x="618" y="106"/>
                  <a:pt x="624" y="93"/>
                </a:cubicBezTo>
                <a:cubicBezTo>
                  <a:pt x="630" y="82"/>
                  <a:pt x="626" y="64"/>
                  <a:pt x="636" y="57"/>
                </a:cubicBezTo>
                <a:cubicBezTo>
                  <a:pt x="657" y="42"/>
                  <a:pt x="708" y="33"/>
                  <a:pt x="708" y="33"/>
                </a:cubicBezTo>
                <a:cubicBezTo>
                  <a:pt x="724" y="99"/>
                  <a:pt x="730" y="96"/>
                  <a:pt x="792" y="117"/>
                </a:cubicBezTo>
                <a:cubicBezTo>
                  <a:pt x="793" y="114"/>
                  <a:pt x="811" y="35"/>
                  <a:pt x="840" y="57"/>
                </a:cubicBezTo>
                <a:cubicBezTo>
                  <a:pt x="856" y="69"/>
                  <a:pt x="839" y="101"/>
                  <a:pt x="852" y="117"/>
                </a:cubicBezTo>
                <a:cubicBezTo>
                  <a:pt x="863" y="130"/>
                  <a:pt x="884" y="125"/>
                  <a:pt x="900" y="129"/>
                </a:cubicBezTo>
                <a:cubicBezTo>
                  <a:pt x="906" y="110"/>
                  <a:pt x="918" y="57"/>
                  <a:pt x="948" y="57"/>
                </a:cubicBezTo>
                <a:cubicBezTo>
                  <a:pt x="961" y="57"/>
                  <a:pt x="956" y="81"/>
                  <a:pt x="960" y="93"/>
                </a:cubicBezTo>
                <a:cubicBezTo>
                  <a:pt x="1020" y="73"/>
                  <a:pt x="996" y="53"/>
                  <a:pt x="1056" y="33"/>
                </a:cubicBezTo>
                <a:cubicBezTo>
                  <a:pt x="1084" y="117"/>
                  <a:pt x="1056" y="113"/>
                  <a:pt x="1116" y="93"/>
                </a:cubicBezTo>
                <a:cubicBezTo>
                  <a:pt x="1176" y="4"/>
                  <a:pt x="1107" y="15"/>
                  <a:pt x="1248" y="33"/>
                </a:cubicBezTo>
                <a:cubicBezTo>
                  <a:pt x="1259" y="76"/>
                  <a:pt x="1247" y="128"/>
                  <a:pt x="1272" y="165"/>
                </a:cubicBezTo>
                <a:cubicBezTo>
                  <a:pt x="1279" y="176"/>
                  <a:pt x="1296" y="157"/>
                  <a:pt x="1308" y="153"/>
                </a:cubicBezTo>
                <a:cubicBezTo>
                  <a:pt x="1327" y="96"/>
                  <a:pt x="1301" y="102"/>
                  <a:pt x="1320" y="45"/>
                </a:cubicBezTo>
                <a:cubicBezTo>
                  <a:pt x="1332" y="53"/>
                  <a:pt x="1342" y="67"/>
                  <a:pt x="1356" y="69"/>
                </a:cubicBezTo>
                <a:cubicBezTo>
                  <a:pt x="1437" y="79"/>
                  <a:pt x="1391" y="35"/>
                  <a:pt x="1452" y="69"/>
                </a:cubicBezTo>
                <a:cubicBezTo>
                  <a:pt x="1477" y="83"/>
                  <a:pt x="1524" y="117"/>
                  <a:pt x="1524" y="117"/>
                </a:cubicBezTo>
                <a:cubicBezTo>
                  <a:pt x="1526" y="112"/>
                  <a:pt x="1546" y="40"/>
                  <a:pt x="1560" y="45"/>
                </a:cubicBezTo>
                <a:cubicBezTo>
                  <a:pt x="1576" y="50"/>
                  <a:pt x="1568" y="77"/>
                  <a:pt x="1572" y="93"/>
                </a:cubicBezTo>
                <a:cubicBezTo>
                  <a:pt x="1596" y="85"/>
                  <a:pt x="1620" y="77"/>
                  <a:pt x="1644" y="69"/>
                </a:cubicBezTo>
                <a:cubicBezTo>
                  <a:pt x="1656" y="65"/>
                  <a:pt x="1680" y="57"/>
                  <a:pt x="1680" y="57"/>
                </a:cubicBezTo>
                <a:cubicBezTo>
                  <a:pt x="1692" y="65"/>
                  <a:pt x="1702" y="81"/>
                  <a:pt x="1716" y="81"/>
                </a:cubicBezTo>
                <a:cubicBezTo>
                  <a:pt x="1730" y="81"/>
                  <a:pt x="1739" y="63"/>
                  <a:pt x="1752" y="57"/>
                </a:cubicBezTo>
                <a:cubicBezTo>
                  <a:pt x="1763" y="51"/>
                  <a:pt x="1776" y="49"/>
                  <a:pt x="1788" y="45"/>
                </a:cubicBezTo>
                <a:cubicBezTo>
                  <a:pt x="1869" y="126"/>
                  <a:pt x="1828" y="128"/>
                  <a:pt x="1896" y="105"/>
                </a:cubicBezTo>
                <a:cubicBezTo>
                  <a:pt x="1900" y="93"/>
                  <a:pt x="1897" y="75"/>
                  <a:pt x="1908" y="69"/>
                </a:cubicBezTo>
                <a:cubicBezTo>
                  <a:pt x="1919" y="63"/>
                  <a:pt x="1931" y="81"/>
                  <a:pt x="1944" y="81"/>
                </a:cubicBezTo>
                <a:cubicBezTo>
                  <a:pt x="1964" y="81"/>
                  <a:pt x="1984" y="73"/>
                  <a:pt x="2004" y="69"/>
                </a:cubicBezTo>
                <a:cubicBezTo>
                  <a:pt x="2032" y="73"/>
                  <a:pt x="2060" y="84"/>
                  <a:pt x="2088" y="81"/>
                </a:cubicBezTo>
                <a:cubicBezTo>
                  <a:pt x="2102" y="80"/>
                  <a:pt x="2110" y="57"/>
                  <a:pt x="2124" y="57"/>
                </a:cubicBezTo>
                <a:cubicBezTo>
                  <a:pt x="2149" y="57"/>
                  <a:pt x="2196" y="81"/>
                  <a:pt x="2196" y="81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7200" y="318456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lyA binding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1447560" y="29559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86200" y="2955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R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13000" y="4643280"/>
            <a:ext cx="0" cy="2592720"/>
          </a:xfrm>
          <a:prstGeom prst="line">
            <a:avLst/>
          </a:prstGeom>
          <a:ln w="38160">
            <a:solidFill>
              <a:srgbClr val="b2b2b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74760" y="1704960"/>
            <a:ext cx="1640160" cy="46044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7880" y="1860480"/>
            <a:ext cx="15264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2743200"/>
            <a:ext cx="304560" cy="137160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2933640" y="3467160"/>
            <a:ext cx="990720" cy="30456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724280"/>
            <a:ext cx="5105520" cy="304920"/>
          </a:xfrm>
          <a:prstGeom prst="rightArrow">
            <a:avLst>
              <a:gd name="adj1" fmla="val 50000"/>
              <a:gd name="adj2" fmla="val 418595"/>
            </a:avLst>
          </a:prstGeom>
          <a:gradFill rotWithShape="0">
            <a:gsLst>
              <a:gs pos="0">
                <a:srgbClr val="7c00a6"/>
              </a:gs>
              <a:gs pos="100000">
                <a:srgbClr val="9900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2640" y="428472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ntrifugación a velocidad cre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53352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6324480"/>
            <a:ext cx="304920" cy="137160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5524560" y="7048080"/>
            <a:ext cx="99036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25780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0 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7924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núcl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7924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tocond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oxi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34290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525780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5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390200">
            <a:off x="91440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6219720"/>
            <a:ext cx="30456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1752480" y="7009920"/>
            <a:ext cx="1066680" cy="30456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390200">
            <a:off x="2133360" y="7464600"/>
            <a:ext cx="304560" cy="30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52578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00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04812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390200">
            <a:off x="342900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6219720"/>
            <a:ext cx="304920" cy="1476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4343400" y="7009920"/>
            <a:ext cx="1066680" cy="304920"/>
          </a:xfrm>
          <a:prstGeom prst="flowChartOnlineStorag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390200">
            <a:off x="4724280" y="7464240"/>
            <a:ext cx="3045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792468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br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cr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52578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00.000 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20 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7953480"/>
            <a:ext cx="1447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unidades riboso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li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80773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to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7696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7162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7086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7086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7720" y="1403280"/>
            <a:ext cx="1639800" cy="46044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30480" y="1558800"/>
            <a:ext cx="152640" cy="152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4200" y="1098720"/>
            <a:ext cx="1639800" cy="460080"/>
          </a:xfrm>
          <a:custGeom>
            <a:avLst/>
            <a:gdLst/>
            <a:ahLst/>
            <a:rect l="l" t="t" r="r" b="b"/>
            <a:pathLst>
              <a:path w="1033" h="290">
                <a:moveTo>
                  <a:pt x="25" y="230"/>
                </a:moveTo>
                <a:cubicBezTo>
                  <a:pt x="94" y="207"/>
                  <a:pt x="131" y="207"/>
                  <a:pt x="205" y="218"/>
                </a:cubicBezTo>
                <a:cubicBezTo>
                  <a:pt x="253" y="234"/>
                  <a:pt x="273" y="248"/>
                  <a:pt x="301" y="290"/>
                </a:cubicBezTo>
                <a:cubicBezTo>
                  <a:pt x="383" y="263"/>
                  <a:pt x="456" y="247"/>
                  <a:pt x="541" y="230"/>
                </a:cubicBezTo>
                <a:cubicBezTo>
                  <a:pt x="687" y="132"/>
                  <a:pt x="834" y="188"/>
                  <a:pt x="1033" y="182"/>
                </a:cubicBezTo>
                <a:cubicBezTo>
                  <a:pt x="996" y="72"/>
                  <a:pt x="878" y="116"/>
                  <a:pt x="769" y="110"/>
                </a:cubicBezTo>
                <a:cubicBezTo>
                  <a:pt x="753" y="102"/>
                  <a:pt x="732" y="100"/>
                  <a:pt x="721" y="86"/>
                </a:cubicBezTo>
                <a:cubicBezTo>
                  <a:pt x="706" y="66"/>
                  <a:pt x="697" y="14"/>
                  <a:pt x="697" y="14"/>
                </a:cubicBezTo>
                <a:cubicBezTo>
                  <a:pt x="579" y="53"/>
                  <a:pt x="650" y="40"/>
                  <a:pt x="481" y="26"/>
                </a:cubicBezTo>
                <a:cubicBezTo>
                  <a:pt x="403" y="0"/>
                  <a:pt x="370" y="56"/>
                  <a:pt x="301" y="62"/>
                </a:cubicBezTo>
                <a:cubicBezTo>
                  <a:pt x="253" y="66"/>
                  <a:pt x="205" y="70"/>
                  <a:pt x="157" y="74"/>
                </a:cubicBezTo>
                <a:cubicBezTo>
                  <a:pt x="153" y="98"/>
                  <a:pt x="161" y="128"/>
                  <a:pt x="145" y="146"/>
                </a:cubicBezTo>
                <a:cubicBezTo>
                  <a:pt x="145" y="146"/>
                  <a:pt x="55" y="176"/>
                  <a:pt x="37" y="182"/>
                </a:cubicBezTo>
                <a:cubicBezTo>
                  <a:pt x="25" y="186"/>
                  <a:pt x="1" y="194"/>
                  <a:pt x="1" y="194"/>
                </a:cubicBezTo>
                <a:cubicBezTo>
                  <a:pt x="14" y="234"/>
                  <a:pt x="0" y="230"/>
                  <a:pt x="25" y="230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97320" y="1254240"/>
            <a:ext cx="152280" cy="1522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2124000"/>
            <a:ext cx="0" cy="54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5000" y="2195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ogene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31000" y="324000"/>
            <a:ext cx="406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3300"/>
                </a:solidFill>
                <a:latin typeface="Tahoma"/>
              </a:rPr>
              <a:t>Separación del núc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54000" y="1042920"/>
            <a:ext cx="47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¿Qué hay en el núcle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1000" y="2268360"/>
            <a:ext cx="54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olécuas pequeñ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Macromolécu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Acidos nucleicos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NA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765000" y="1042920"/>
            <a:ext cx="5545080" cy="3810240"/>
            <a:chOff x="765000" y="1042920"/>
            <a:chExt cx="5545080" cy="3810240"/>
          </a:xfrm>
        </p:grpSpPr>
        <p:sp>
          <p:nvSpPr>
            <p:cNvPr id="136" name=""/>
            <p:cNvSpPr/>
            <p:nvPr/>
          </p:nvSpPr>
          <p:spPr>
            <a:xfrm rot="562800">
              <a:off x="5736960" y="2262240"/>
              <a:ext cx="171360" cy="2032200"/>
            </a:xfrm>
            <a:prstGeom prst="flowChartTerminator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1265800">
              <a:off x="6022440" y="2261880"/>
              <a:ext cx="171720" cy="2032200"/>
            </a:xfrm>
            <a:prstGeom prst="flowChartTerminator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729000">
              <a:off x="6022800" y="1144800"/>
              <a:ext cx="171720" cy="1117440"/>
            </a:xfrm>
            <a:prstGeom prst="flowChartTerminator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1187200">
              <a:off x="5794200" y="1144800"/>
              <a:ext cx="171720" cy="1117440"/>
            </a:xfrm>
            <a:prstGeom prst="flowChartTerminator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5000" y="1424160"/>
              <a:ext cx="3429000" cy="3429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6814400">
              <a:off x="1898640" y="3948120"/>
              <a:ext cx="611280" cy="74448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78" y="303"/>
                  </a:moveTo>
                  <a:cubicBezTo>
                    <a:pt x="70" y="411"/>
                    <a:pt x="54" y="520"/>
                    <a:pt x="89" y="625"/>
                  </a:cubicBezTo>
                  <a:cubicBezTo>
                    <a:pt x="147" y="538"/>
                    <a:pt x="126" y="485"/>
                    <a:pt x="134" y="358"/>
                  </a:cubicBezTo>
                  <a:cubicBezTo>
                    <a:pt x="180" y="430"/>
                    <a:pt x="152" y="513"/>
                    <a:pt x="178" y="592"/>
                  </a:cubicBezTo>
                  <a:cubicBezTo>
                    <a:pt x="289" y="552"/>
                    <a:pt x="206" y="375"/>
                    <a:pt x="145" y="314"/>
                  </a:cubicBezTo>
                  <a:cubicBezTo>
                    <a:pt x="150" y="220"/>
                    <a:pt x="124" y="126"/>
                    <a:pt x="189" y="58"/>
                  </a:cubicBezTo>
                  <a:cubicBezTo>
                    <a:pt x="193" y="47"/>
                    <a:pt x="205" y="35"/>
                    <a:pt x="200" y="25"/>
                  </a:cubicBezTo>
                  <a:cubicBezTo>
                    <a:pt x="187" y="0"/>
                    <a:pt x="147" y="21"/>
                    <a:pt x="134" y="25"/>
                  </a:cubicBezTo>
                  <a:cubicBezTo>
                    <a:pt x="101" y="116"/>
                    <a:pt x="108" y="145"/>
                    <a:pt x="100" y="269"/>
                  </a:cubicBezTo>
                  <a:cubicBezTo>
                    <a:pt x="80" y="210"/>
                    <a:pt x="79" y="211"/>
                    <a:pt x="67" y="158"/>
                  </a:cubicBezTo>
                  <a:cubicBezTo>
                    <a:pt x="63" y="140"/>
                    <a:pt x="65" y="119"/>
                    <a:pt x="56" y="103"/>
                  </a:cubicBezTo>
                  <a:cubicBezTo>
                    <a:pt x="49" y="91"/>
                    <a:pt x="33" y="88"/>
                    <a:pt x="22" y="81"/>
                  </a:cubicBezTo>
                  <a:cubicBezTo>
                    <a:pt x="0" y="148"/>
                    <a:pt x="8" y="219"/>
                    <a:pt x="67" y="258"/>
                  </a:cubicBezTo>
                  <a:cubicBezTo>
                    <a:pt x="71" y="273"/>
                    <a:pt x="78" y="303"/>
                    <a:pt x="78" y="303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8000" y="2033640"/>
              <a:ext cx="304920" cy="76212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78" y="122"/>
                  </a:moveTo>
                  <a:cubicBezTo>
                    <a:pt x="18" y="82"/>
                    <a:pt x="33" y="72"/>
                    <a:pt x="45" y="0"/>
                  </a:cubicBezTo>
                  <a:cubicBezTo>
                    <a:pt x="106" y="20"/>
                    <a:pt x="87" y="52"/>
                    <a:pt x="101" y="111"/>
                  </a:cubicBezTo>
                  <a:cubicBezTo>
                    <a:pt x="152" y="94"/>
                    <a:pt x="138" y="77"/>
                    <a:pt x="167" y="33"/>
                  </a:cubicBezTo>
                  <a:cubicBezTo>
                    <a:pt x="211" y="75"/>
                    <a:pt x="200" y="104"/>
                    <a:pt x="145" y="122"/>
                  </a:cubicBezTo>
                  <a:cubicBezTo>
                    <a:pt x="136" y="135"/>
                    <a:pt x="110" y="168"/>
                    <a:pt x="112" y="188"/>
                  </a:cubicBezTo>
                  <a:cubicBezTo>
                    <a:pt x="115" y="211"/>
                    <a:pt x="127" y="233"/>
                    <a:pt x="134" y="255"/>
                  </a:cubicBezTo>
                  <a:cubicBezTo>
                    <a:pt x="138" y="266"/>
                    <a:pt x="145" y="288"/>
                    <a:pt x="145" y="288"/>
                  </a:cubicBezTo>
                  <a:cubicBezTo>
                    <a:pt x="141" y="310"/>
                    <a:pt x="157" y="355"/>
                    <a:pt x="134" y="355"/>
                  </a:cubicBezTo>
                  <a:cubicBezTo>
                    <a:pt x="118" y="355"/>
                    <a:pt x="103" y="228"/>
                    <a:pt x="101" y="222"/>
                  </a:cubicBezTo>
                  <a:cubicBezTo>
                    <a:pt x="97" y="212"/>
                    <a:pt x="86" y="207"/>
                    <a:pt x="78" y="200"/>
                  </a:cubicBezTo>
                  <a:cubicBezTo>
                    <a:pt x="71" y="211"/>
                    <a:pt x="61" y="221"/>
                    <a:pt x="56" y="233"/>
                  </a:cubicBezTo>
                  <a:cubicBezTo>
                    <a:pt x="45" y="262"/>
                    <a:pt x="55" y="300"/>
                    <a:pt x="34" y="322"/>
                  </a:cubicBezTo>
                  <a:cubicBezTo>
                    <a:pt x="26" y="330"/>
                    <a:pt x="12" y="329"/>
                    <a:pt x="1" y="333"/>
                  </a:cubicBezTo>
                  <a:cubicBezTo>
                    <a:pt x="5" y="303"/>
                    <a:pt x="0" y="271"/>
                    <a:pt x="12" y="244"/>
                  </a:cubicBezTo>
                  <a:cubicBezTo>
                    <a:pt x="17" y="233"/>
                    <a:pt x="37" y="241"/>
                    <a:pt x="45" y="233"/>
                  </a:cubicBezTo>
                  <a:cubicBezTo>
                    <a:pt x="53" y="225"/>
                    <a:pt x="50" y="210"/>
                    <a:pt x="56" y="200"/>
                  </a:cubicBezTo>
                  <a:cubicBezTo>
                    <a:pt x="91" y="141"/>
                    <a:pt x="78" y="227"/>
                    <a:pt x="78" y="122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4118600">
              <a:off x="2358000" y="1735560"/>
              <a:ext cx="608040" cy="74592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4092000">
              <a:off x="3051360" y="2338200"/>
              <a:ext cx="269640" cy="851040"/>
            </a:xfrm>
            <a:custGeom>
              <a:avLst/>
              <a:gdLst/>
              <a:ahLst/>
              <a:rect l="l" t="t" r="r" b="b"/>
              <a:pathLst>
                <a:path w="226" h="402">
                  <a:moveTo>
                    <a:pt x="67" y="180"/>
                  </a:moveTo>
                  <a:cubicBezTo>
                    <a:pt x="63" y="136"/>
                    <a:pt x="66" y="90"/>
                    <a:pt x="56" y="47"/>
                  </a:cubicBezTo>
                  <a:cubicBezTo>
                    <a:pt x="54" y="37"/>
                    <a:pt x="43" y="22"/>
                    <a:pt x="33" y="25"/>
                  </a:cubicBezTo>
                  <a:cubicBezTo>
                    <a:pt x="20" y="28"/>
                    <a:pt x="17" y="46"/>
                    <a:pt x="11" y="58"/>
                  </a:cubicBezTo>
                  <a:cubicBezTo>
                    <a:pt x="6" y="68"/>
                    <a:pt x="4" y="80"/>
                    <a:pt x="0" y="91"/>
                  </a:cubicBezTo>
                  <a:cubicBezTo>
                    <a:pt x="10" y="134"/>
                    <a:pt x="30" y="161"/>
                    <a:pt x="45" y="202"/>
                  </a:cubicBezTo>
                  <a:cubicBezTo>
                    <a:pt x="41" y="247"/>
                    <a:pt x="33" y="291"/>
                    <a:pt x="33" y="336"/>
                  </a:cubicBezTo>
                  <a:cubicBezTo>
                    <a:pt x="33" y="355"/>
                    <a:pt x="29" y="382"/>
                    <a:pt x="45" y="391"/>
                  </a:cubicBezTo>
                  <a:cubicBezTo>
                    <a:pt x="64" y="402"/>
                    <a:pt x="89" y="384"/>
                    <a:pt x="111" y="380"/>
                  </a:cubicBezTo>
                  <a:cubicBezTo>
                    <a:pt x="107" y="343"/>
                    <a:pt x="108" y="305"/>
                    <a:pt x="100" y="269"/>
                  </a:cubicBezTo>
                  <a:cubicBezTo>
                    <a:pt x="80" y="181"/>
                    <a:pt x="63" y="298"/>
                    <a:pt x="89" y="191"/>
                  </a:cubicBezTo>
                  <a:cubicBezTo>
                    <a:pt x="93" y="202"/>
                    <a:pt x="94" y="214"/>
                    <a:pt x="100" y="224"/>
                  </a:cubicBezTo>
                  <a:cubicBezTo>
                    <a:pt x="105" y="233"/>
                    <a:pt x="117" y="238"/>
                    <a:pt x="122" y="247"/>
                  </a:cubicBezTo>
                  <a:cubicBezTo>
                    <a:pt x="153" y="309"/>
                    <a:pt x="131" y="330"/>
                    <a:pt x="189" y="369"/>
                  </a:cubicBezTo>
                  <a:cubicBezTo>
                    <a:pt x="208" y="311"/>
                    <a:pt x="226" y="259"/>
                    <a:pt x="156" y="236"/>
                  </a:cubicBezTo>
                  <a:cubicBezTo>
                    <a:pt x="142" y="192"/>
                    <a:pt x="132" y="183"/>
                    <a:pt x="89" y="169"/>
                  </a:cubicBezTo>
                  <a:cubicBezTo>
                    <a:pt x="111" y="104"/>
                    <a:pt x="121" y="156"/>
                    <a:pt x="145" y="91"/>
                  </a:cubicBezTo>
                  <a:cubicBezTo>
                    <a:pt x="141" y="73"/>
                    <a:pt x="144" y="52"/>
                    <a:pt x="133" y="36"/>
                  </a:cubicBezTo>
                  <a:cubicBezTo>
                    <a:pt x="109" y="0"/>
                    <a:pt x="82" y="39"/>
                    <a:pt x="78" y="58"/>
                  </a:cubicBezTo>
                  <a:cubicBezTo>
                    <a:pt x="69" y="98"/>
                    <a:pt x="71" y="139"/>
                    <a:pt x="67" y="18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9600" y="2033640"/>
              <a:ext cx="330480" cy="874800"/>
            </a:xfrm>
            <a:custGeom>
              <a:avLst/>
              <a:gdLst/>
              <a:ahLst/>
              <a:rect l="l" t="t" r="r" b="b"/>
              <a:pathLst>
                <a:path w="277" h="413">
                  <a:moveTo>
                    <a:pt x="70" y="145"/>
                  </a:moveTo>
                  <a:cubicBezTo>
                    <a:pt x="74" y="122"/>
                    <a:pt x="106" y="36"/>
                    <a:pt x="81" y="11"/>
                  </a:cubicBezTo>
                  <a:cubicBezTo>
                    <a:pt x="73" y="3"/>
                    <a:pt x="59" y="4"/>
                    <a:pt x="48" y="0"/>
                  </a:cubicBezTo>
                  <a:cubicBezTo>
                    <a:pt x="0" y="51"/>
                    <a:pt x="36" y="127"/>
                    <a:pt x="70" y="178"/>
                  </a:cubicBezTo>
                  <a:cubicBezTo>
                    <a:pt x="60" y="229"/>
                    <a:pt x="54" y="258"/>
                    <a:pt x="26" y="300"/>
                  </a:cubicBezTo>
                  <a:cubicBezTo>
                    <a:pt x="30" y="322"/>
                    <a:pt x="17" y="356"/>
                    <a:pt x="37" y="367"/>
                  </a:cubicBezTo>
                  <a:cubicBezTo>
                    <a:pt x="119" y="413"/>
                    <a:pt x="124" y="361"/>
                    <a:pt x="137" y="322"/>
                  </a:cubicBezTo>
                  <a:cubicBezTo>
                    <a:pt x="133" y="300"/>
                    <a:pt x="136" y="276"/>
                    <a:pt x="126" y="256"/>
                  </a:cubicBezTo>
                  <a:cubicBezTo>
                    <a:pt x="120" y="244"/>
                    <a:pt x="99" y="246"/>
                    <a:pt x="92" y="234"/>
                  </a:cubicBezTo>
                  <a:cubicBezTo>
                    <a:pt x="82" y="218"/>
                    <a:pt x="85" y="197"/>
                    <a:pt x="81" y="178"/>
                  </a:cubicBezTo>
                  <a:cubicBezTo>
                    <a:pt x="123" y="138"/>
                    <a:pt x="131" y="158"/>
                    <a:pt x="159" y="200"/>
                  </a:cubicBezTo>
                  <a:cubicBezTo>
                    <a:pt x="180" y="263"/>
                    <a:pt x="176" y="288"/>
                    <a:pt x="226" y="322"/>
                  </a:cubicBezTo>
                  <a:cubicBezTo>
                    <a:pt x="277" y="305"/>
                    <a:pt x="276" y="318"/>
                    <a:pt x="248" y="234"/>
                  </a:cubicBezTo>
                  <a:cubicBezTo>
                    <a:pt x="231" y="183"/>
                    <a:pt x="128" y="157"/>
                    <a:pt x="81" y="145"/>
                  </a:cubicBezTo>
                  <a:cubicBezTo>
                    <a:pt x="93" y="94"/>
                    <a:pt x="119" y="51"/>
                    <a:pt x="170" y="34"/>
                  </a:cubicBezTo>
                  <a:cubicBezTo>
                    <a:pt x="166" y="71"/>
                    <a:pt x="172" y="110"/>
                    <a:pt x="159" y="145"/>
                  </a:cubicBezTo>
                  <a:cubicBezTo>
                    <a:pt x="155" y="156"/>
                    <a:pt x="136" y="151"/>
                    <a:pt x="126" y="156"/>
                  </a:cubicBezTo>
                  <a:cubicBezTo>
                    <a:pt x="77" y="180"/>
                    <a:pt x="103" y="194"/>
                    <a:pt x="70" y="145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290800">
              <a:off x="1450440" y="3252600"/>
              <a:ext cx="330480" cy="874800"/>
            </a:xfrm>
            <a:custGeom>
              <a:avLst/>
              <a:gdLst/>
              <a:ahLst/>
              <a:rect l="l" t="t" r="r" b="b"/>
              <a:pathLst>
                <a:path w="277" h="413">
                  <a:moveTo>
                    <a:pt x="70" y="145"/>
                  </a:moveTo>
                  <a:cubicBezTo>
                    <a:pt x="74" y="122"/>
                    <a:pt x="106" y="36"/>
                    <a:pt x="81" y="11"/>
                  </a:cubicBezTo>
                  <a:cubicBezTo>
                    <a:pt x="73" y="3"/>
                    <a:pt x="59" y="4"/>
                    <a:pt x="48" y="0"/>
                  </a:cubicBezTo>
                  <a:cubicBezTo>
                    <a:pt x="0" y="51"/>
                    <a:pt x="36" y="127"/>
                    <a:pt x="70" y="178"/>
                  </a:cubicBezTo>
                  <a:cubicBezTo>
                    <a:pt x="60" y="229"/>
                    <a:pt x="54" y="258"/>
                    <a:pt x="26" y="300"/>
                  </a:cubicBezTo>
                  <a:cubicBezTo>
                    <a:pt x="30" y="322"/>
                    <a:pt x="17" y="356"/>
                    <a:pt x="37" y="367"/>
                  </a:cubicBezTo>
                  <a:cubicBezTo>
                    <a:pt x="119" y="413"/>
                    <a:pt x="124" y="361"/>
                    <a:pt x="137" y="322"/>
                  </a:cubicBezTo>
                  <a:cubicBezTo>
                    <a:pt x="133" y="300"/>
                    <a:pt x="136" y="276"/>
                    <a:pt x="126" y="256"/>
                  </a:cubicBezTo>
                  <a:cubicBezTo>
                    <a:pt x="120" y="244"/>
                    <a:pt x="99" y="246"/>
                    <a:pt x="92" y="234"/>
                  </a:cubicBezTo>
                  <a:cubicBezTo>
                    <a:pt x="82" y="218"/>
                    <a:pt x="85" y="197"/>
                    <a:pt x="81" y="178"/>
                  </a:cubicBezTo>
                  <a:cubicBezTo>
                    <a:pt x="123" y="138"/>
                    <a:pt x="131" y="158"/>
                    <a:pt x="159" y="200"/>
                  </a:cubicBezTo>
                  <a:cubicBezTo>
                    <a:pt x="180" y="263"/>
                    <a:pt x="176" y="288"/>
                    <a:pt x="226" y="322"/>
                  </a:cubicBezTo>
                  <a:cubicBezTo>
                    <a:pt x="277" y="305"/>
                    <a:pt x="276" y="318"/>
                    <a:pt x="248" y="234"/>
                  </a:cubicBezTo>
                  <a:cubicBezTo>
                    <a:pt x="231" y="183"/>
                    <a:pt x="128" y="157"/>
                    <a:pt x="81" y="145"/>
                  </a:cubicBezTo>
                  <a:cubicBezTo>
                    <a:pt x="93" y="94"/>
                    <a:pt x="119" y="51"/>
                    <a:pt x="170" y="34"/>
                  </a:cubicBezTo>
                  <a:cubicBezTo>
                    <a:pt x="166" y="71"/>
                    <a:pt x="172" y="110"/>
                    <a:pt x="159" y="145"/>
                  </a:cubicBezTo>
                  <a:cubicBezTo>
                    <a:pt x="155" y="156"/>
                    <a:pt x="136" y="151"/>
                    <a:pt x="126" y="156"/>
                  </a:cubicBezTo>
                  <a:cubicBezTo>
                    <a:pt x="77" y="180"/>
                    <a:pt x="103" y="194"/>
                    <a:pt x="70" y="145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823400">
              <a:off x="1139040" y="242100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8739800">
              <a:off x="2594160" y="2490840"/>
              <a:ext cx="188640" cy="503280"/>
            </a:xfrm>
            <a:custGeom>
              <a:avLst/>
              <a:gdLst/>
              <a:ahLst/>
              <a:rect l="l" t="t" r="r" b="b"/>
              <a:pathLst>
                <a:path w="159" h="238">
                  <a:moveTo>
                    <a:pt x="55" y="105"/>
                  </a:moveTo>
                  <a:cubicBezTo>
                    <a:pt x="44" y="98"/>
                    <a:pt x="29" y="94"/>
                    <a:pt x="22" y="83"/>
                  </a:cubicBezTo>
                  <a:cubicBezTo>
                    <a:pt x="10" y="63"/>
                    <a:pt x="0" y="16"/>
                    <a:pt x="0" y="16"/>
                  </a:cubicBezTo>
                  <a:cubicBezTo>
                    <a:pt x="11" y="12"/>
                    <a:pt x="23" y="0"/>
                    <a:pt x="33" y="5"/>
                  </a:cubicBezTo>
                  <a:cubicBezTo>
                    <a:pt x="43" y="10"/>
                    <a:pt x="41" y="27"/>
                    <a:pt x="44" y="38"/>
                  </a:cubicBezTo>
                  <a:cubicBezTo>
                    <a:pt x="49" y="56"/>
                    <a:pt x="51" y="75"/>
                    <a:pt x="55" y="94"/>
                  </a:cubicBezTo>
                  <a:cubicBezTo>
                    <a:pt x="63" y="87"/>
                    <a:pt x="73" y="81"/>
                    <a:pt x="78" y="72"/>
                  </a:cubicBezTo>
                  <a:cubicBezTo>
                    <a:pt x="89" y="51"/>
                    <a:pt x="100" y="5"/>
                    <a:pt x="100" y="5"/>
                  </a:cubicBezTo>
                  <a:cubicBezTo>
                    <a:pt x="107" y="16"/>
                    <a:pt x="120" y="25"/>
                    <a:pt x="122" y="38"/>
                  </a:cubicBezTo>
                  <a:cubicBezTo>
                    <a:pt x="129" y="79"/>
                    <a:pt x="85" y="106"/>
                    <a:pt x="55" y="116"/>
                  </a:cubicBezTo>
                  <a:cubicBezTo>
                    <a:pt x="46" y="142"/>
                    <a:pt x="27" y="194"/>
                    <a:pt x="33" y="216"/>
                  </a:cubicBezTo>
                  <a:cubicBezTo>
                    <a:pt x="36" y="229"/>
                    <a:pt x="56" y="231"/>
                    <a:pt x="67" y="238"/>
                  </a:cubicBezTo>
                  <a:cubicBezTo>
                    <a:pt x="110" y="174"/>
                    <a:pt x="65" y="217"/>
                    <a:pt x="122" y="227"/>
                  </a:cubicBezTo>
                  <a:cubicBezTo>
                    <a:pt x="133" y="229"/>
                    <a:pt x="144" y="220"/>
                    <a:pt x="155" y="216"/>
                  </a:cubicBezTo>
                  <a:cubicBezTo>
                    <a:pt x="140" y="98"/>
                    <a:pt x="159" y="125"/>
                    <a:pt x="55" y="10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0200" y="3684600"/>
              <a:ext cx="188640" cy="503280"/>
            </a:xfrm>
            <a:custGeom>
              <a:avLst/>
              <a:gdLst/>
              <a:ahLst/>
              <a:rect l="l" t="t" r="r" b="b"/>
              <a:pathLst>
                <a:path w="159" h="238">
                  <a:moveTo>
                    <a:pt x="55" y="105"/>
                  </a:moveTo>
                  <a:cubicBezTo>
                    <a:pt x="44" y="98"/>
                    <a:pt x="29" y="94"/>
                    <a:pt x="22" y="83"/>
                  </a:cubicBezTo>
                  <a:cubicBezTo>
                    <a:pt x="10" y="63"/>
                    <a:pt x="0" y="16"/>
                    <a:pt x="0" y="16"/>
                  </a:cubicBezTo>
                  <a:cubicBezTo>
                    <a:pt x="11" y="12"/>
                    <a:pt x="23" y="0"/>
                    <a:pt x="33" y="5"/>
                  </a:cubicBezTo>
                  <a:cubicBezTo>
                    <a:pt x="43" y="10"/>
                    <a:pt x="41" y="27"/>
                    <a:pt x="44" y="38"/>
                  </a:cubicBezTo>
                  <a:cubicBezTo>
                    <a:pt x="49" y="56"/>
                    <a:pt x="51" y="75"/>
                    <a:pt x="55" y="94"/>
                  </a:cubicBezTo>
                  <a:cubicBezTo>
                    <a:pt x="63" y="87"/>
                    <a:pt x="73" y="81"/>
                    <a:pt x="78" y="72"/>
                  </a:cubicBezTo>
                  <a:cubicBezTo>
                    <a:pt x="89" y="51"/>
                    <a:pt x="100" y="5"/>
                    <a:pt x="100" y="5"/>
                  </a:cubicBezTo>
                  <a:cubicBezTo>
                    <a:pt x="107" y="16"/>
                    <a:pt x="120" y="25"/>
                    <a:pt x="122" y="38"/>
                  </a:cubicBezTo>
                  <a:cubicBezTo>
                    <a:pt x="129" y="79"/>
                    <a:pt x="85" y="106"/>
                    <a:pt x="55" y="116"/>
                  </a:cubicBezTo>
                  <a:cubicBezTo>
                    <a:pt x="46" y="142"/>
                    <a:pt x="27" y="194"/>
                    <a:pt x="33" y="216"/>
                  </a:cubicBezTo>
                  <a:cubicBezTo>
                    <a:pt x="36" y="229"/>
                    <a:pt x="56" y="231"/>
                    <a:pt x="67" y="238"/>
                  </a:cubicBezTo>
                  <a:cubicBezTo>
                    <a:pt x="110" y="174"/>
                    <a:pt x="65" y="217"/>
                    <a:pt x="122" y="227"/>
                  </a:cubicBezTo>
                  <a:cubicBezTo>
                    <a:pt x="133" y="229"/>
                    <a:pt x="144" y="220"/>
                    <a:pt x="155" y="216"/>
                  </a:cubicBezTo>
                  <a:cubicBezTo>
                    <a:pt x="140" y="98"/>
                    <a:pt x="159" y="125"/>
                    <a:pt x="55" y="105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3537000">
              <a:off x="3075120" y="3075840"/>
              <a:ext cx="433440" cy="482760"/>
            </a:xfrm>
            <a:custGeom>
              <a:avLst/>
              <a:gdLst/>
              <a:ahLst/>
              <a:rect l="l" t="t" r="r" b="b"/>
              <a:pathLst>
                <a:path w="205" h="405">
                  <a:moveTo>
                    <a:pt x="51" y="171"/>
                  </a:moveTo>
                  <a:cubicBezTo>
                    <a:pt x="55" y="130"/>
                    <a:pt x="47" y="87"/>
                    <a:pt x="62" y="49"/>
                  </a:cubicBezTo>
                  <a:cubicBezTo>
                    <a:pt x="66" y="38"/>
                    <a:pt x="92" y="49"/>
                    <a:pt x="96" y="60"/>
                  </a:cubicBezTo>
                  <a:cubicBezTo>
                    <a:pt x="109" y="102"/>
                    <a:pt x="103" y="149"/>
                    <a:pt x="107" y="193"/>
                  </a:cubicBezTo>
                  <a:cubicBezTo>
                    <a:pt x="205" y="160"/>
                    <a:pt x="134" y="53"/>
                    <a:pt x="85" y="4"/>
                  </a:cubicBezTo>
                  <a:cubicBezTo>
                    <a:pt x="17" y="21"/>
                    <a:pt x="45" y="0"/>
                    <a:pt x="18" y="82"/>
                  </a:cubicBezTo>
                  <a:cubicBezTo>
                    <a:pt x="14" y="93"/>
                    <a:pt x="7" y="115"/>
                    <a:pt x="7" y="115"/>
                  </a:cubicBezTo>
                  <a:cubicBezTo>
                    <a:pt x="11" y="148"/>
                    <a:pt x="0" y="186"/>
                    <a:pt x="18" y="215"/>
                  </a:cubicBezTo>
                  <a:cubicBezTo>
                    <a:pt x="26" y="228"/>
                    <a:pt x="49" y="196"/>
                    <a:pt x="62" y="204"/>
                  </a:cubicBezTo>
                  <a:cubicBezTo>
                    <a:pt x="75" y="212"/>
                    <a:pt x="70" y="233"/>
                    <a:pt x="74" y="248"/>
                  </a:cubicBezTo>
                  <a:cubicBezTo>
                    <a:pt x="66" y="296"/>
                    <a:pt x="69" y="348"/>
                    <a:pt x="51" y="393"/>
                  </a:cubicBezTo>
                  <a:cubicBezTo>
                    <a:pt x="46" y="405"/>
                    <a:pt x="30" y="373"/>
                    <a:pt x="29" y="360"/>
                  </a:cubicBezTo>
                  <a:cubicBezTo>
                    <a:pt x="26" y="315"/>
                    <a:pt x="36" y="271"/>
                    <a:pt x="40" y="226"/>
                  </a:cubicBezTo>
                  <a:cubicBezTo>
                    <a:pt x="59" y="230"/>
                    <a:pt x="88" y="220"/>
                    <a:pt x="96" y="237"/>
                  </a:cubicBezTo>
                  <a:cubicBezTo>
                    <a:pt x="159" y="384"/>
                    <a:pt x="44" y="398"/>
                    <a:pt x="151" y="371"/>
                  </a:cubicBezTo>
                  <a:cubicBezTo>
                    <a:pt x="142" y="310"/>
                    <a:pt x="118" y="254"/>
                    <a:pt x="118" y="193"/>
                  </a:cubicBezTo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94000" y="1042920"/>
              <a:ext cx="1505160" cy="14479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8040" y="3633840"/>
              <a:ext cx="1600200" cy="812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8436600">
              <a:off x="1755360" y="2719080"/>
              <a:ext cx="433440" cy="482760"/>
            </a:xfrm>
            <a:custGeom>
              <a:avLst/>
              <a:gdLst/>
              <a:ahLst/>
              <a:rect l="l" t="t" r="r" b="b"/>
              <a:pathLst>
                <a:path w="205" h="405">
                  <a:moveTo>
                    <a:pt x="51" y="171"/>
                  </a:moveTo>
                  <a:cubicBezTo>
                    <a:pt x="55" y="130"/>
                    <a:pt x="47" y="87"/>
                    <a:pt x="62" y="49"/>
                  </a:cubicBezTo>
                  <a:cubicBezTo>
                    <a:pt x="66" y="38"/>
                    <a:pt x="92" y="49"/>
                    <a:pt x="96" y="60"/>
                  </a:cubicBezTo>
                  <a:cubicBezTo>
                    <a:pt x="109" y="102"/>
                    <a:pt x="103" y="149"/>
                    <a:pt x="107" y="193"/>
                  </a:cubicBezTo>
                  <a:cubicBezTo>
                    <a:pt x="205" y="160"/>
                    <a:pt x="134" y="53"/>
                    <a:pt x="85" y="4"/>
                  </a:cubicBezTo>
                  <a:cubicBezTo>
                    <a:pt x="17" y="21"/>
                    <a:pt x="45" y="0"/>
                    <a:pt x="18" y="82"/>
                  </a:cubicBezTo>
                  <a:cubicBezTo>
                    <a:pt x="14" y="93"/>
                    <a:pt x="7" y="115"/>
                    <a:pt x="7" y="115"/>
                  </a:cubicBezTo>
                  <a:cubicBezTo>
                    <a:pt x="11" y="148"/>
                    <a:pt x="0" y="186"/>
                    <a:pt x="18" y="215"/>
                  </a:cubicBezTo>
                  <a:cubicBezTo>
                    <a:pt x="26" y="228"/>
                    <a:pt x="49" y="196"/>
                    <a:pt x="62" y="204"/>
                  </a:cubicBezTo>
                  <a:cubicBezTo>
                    <a:pt x="75" y="212"/>
                    <a:pt x="70" y="233"/>
                    <a:pt x="74" y="248"/>
                  </a:cubicBezTo>
                  <a:cubicBezTo>
                    <a:pt x="66" y="296"/>
                    <a:pt x="69" y="348"/>
                    <a:pt x="51" y="393"/>
                  </a:cubicBezTo>
                  <a:cubicBezTo>
                    <a:pt x="46" y="405"/>
                    <a:pt x="30" y="373"/>
                    <a:pt x="29" y="360"/>
                  </a:cubicBezTo>
                  <a:cubicBezTo>
                    <a:pt x="26" y="315"/>
                    <a:pt x="36" y="271"/>
                    <a:pt x="40" y="226"/>
                  </a:cubicBezTo>
                  <a:cubicBezTo>
                    <a:pt x="59" y="230"/>
                    <a:pt x="88" y="220"/>
                    <a:pt x="96" y="237"/>
                  </a:cubicBezTo>
                  <a:cubicBezTo>
                    <a:pt x="159" y="384"/>
                    <a:pt x="44" y="398"/>
                    <a:pt x="151" y="371"/>
                  </a:cubicBezTo>
                  <a:cubicBezTo>
                    <a:pt x="142" y="310"/>
                    <a:pt x="118" y="254"/>
                    <a:pt x="118" y="193"/>
                  </a:cubicBezTo>
                </a:path>
              </a:pathLst>
            </a:custGeom>
            <a:solidFill>
              <a:srgbClr val="9933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2245400">
              <a:off x="2738160" y="341244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5200" y="3252960"/>
              <a:ext cx="304920" cy="761760"/>
            </a:xfrm>
            <a:custGeom>
              <a:avLst/>
              <a:gdLst/>
              <a:ahLst/>
              <a:rect l="l" t="t" r="r" b="b"/>
              <a:pathLst>
                <a:path w="211" h="355">
                  <a:moveTo>
                    <a:pt x="78" y="122"/>
                  </a:moveTo>
                  <a:cubicBezTo>
                    <a:pt x="18" y="82"/>
                    <a:pt x="33" y="72"/>
                    <a:pt x="45" y="0"/>
                  </a:cubicBezTo>
                  <a:cubicBezTo>
                    <a:pt x="106" y="20"/>
                    <a:pt x="87" y="52"/>
                    <a:pt x="101" y="111"/>
                  </a:cubicBezTo>
                  <a:cubicBezTo>
                    <a:pt x="152" y="94"/>
                    <a:pt x="138" y="77"/>
                    <a:pt x="167" y="33"/>
                  </a:cubicBezTo>
                  <a:cubicBezTo>
                    <a:pt x="211" y="75"/>
                    <a:pt x="200" y="104"/>
                    <a:pt x="145" y="122"/>
                  </a:cubicBezTo>
                  <a:cubicBezTo>
                    <a:pt x="136" y="135"/>
                    <a:pt x="110" y="168"/>
                    <a:pt x="112" y="188"/>
                  </a:cubicBezTo>
                  <a:cubicBezTo>
                    <a:pt x="115" y="211"/>
                    <a:pt x="127" y="233"/>
                    <a:pt x="134" y="255"/>
                  </a:cubicBezTo>
                  <a:cubicBezTo>
                    <a:pt x="138" y="266"/>
                    <a:pt x="145" y="288"/>
                    <a:pt x="145" y="288"/>
                  </a:cubicBezTo>
                  <a:cubicBezTo>
                    <a:pt x="141" y="310"/>
                    <a:pt x="157" y="355"/>
                    <a:pt x="134" y="355"/>
                  </a:cubicBezTo>
                  <a:cubicBezTo>
                    <a:pt x="118" y="355"/>
                    <a:pt x="103" y="228"/>
                    <a:pt x="101" y="222"/>
                  </a:cubicBezTo>
                  <a:cubicBezTo>
                    <a:pt x="97" y="212"/>
                    <a:pt x="86" y="207"/>
                    <a:pt x="78" y="200"/>
                  </a:cubicBezTo>
                  <a:cubicBezTo>
                    <a:pt x="71" y="211"/>
                    <a:pt x="61" y="221"/>
                    <a:pt x="56" y="233"/>
                  </a:cubicBezTo>
                  <a:cubicBezTo>
                    <a:pt x="45" y="262"/>
                    <a:pt x="55" y="300"/>
                    <a:pt x="34" y="322"/>
                  </a:cubicBezTo>
                  <a:cubicBezTo>
                    <a:pt x="26" y="330"/>
                    <a:pt x="12" y="329"/>
                    <a:pt x="1" y="333"/>
                  </a:cubicBezTo>
                  <a:cubicBezTo>
                    <a:pt x="5" y="303"/>
                    <a:pt x="0" y="271"/>
                    <a:pt x="12" y="244"/>
                  </a:cubicBezTo>
                  <a:cubicBezTo>
                    <a:pt x="17" y="233"/>
                    <a:pt x="37" y="241"/>
                    <a:pt x="45" y="233"/>
                  </a:cubicBezTo>
                  <a:cubicBezTo>
                    <a:pt x="53" y="225"/>
                    <a:pt x="50" y="210"/>
                    <a:pt x="56" y="200"/>
                  </a:cubicBezTo>
                  <a:cubicBezTo>
                    <a:pt x="91" y="141"/>
                    <a:pt x="78" y="227"/>
                    <a:pt x="78" y="122"/>
                  </a:cubicBezTo>
                  <a:close/>
                </a:path>
              </a:pathLst>
            </a:custGeom>
            <a:solidFill>
              <a:srgbClr val="ff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9425000">
              <a:off x="1908000" y="2948040"/>
              <a:ext cx="270000" cy="851040"/>
            </a:xfrm>
            <a:custGeom>
              <a:avLst/>
              <a:gdLst/>
              <a:ahLst/>
              <a:rect l="l" t="t" r="r" b="b"/>
              <a:pathLst>
                <a:path w="226" h="402">
                  <a:moveTo>
                    <a:pt x="67" y="180"/>
                  </a:moveTo>
                  <a:cubicBezTo>
                    <a:pt x="63" y="136"/>
                    <a:pt x="66" y="90"/>
                    <a:pt x="56" y="47"/>
                  </a:cubicBezTo>
                  <a:cubicBezTo>
                    <a:pt x="54" y="37"/>
                    <a:pt x="43" y="22"/>
                    <a:pt x="33" y="25"/>
                  </a:cubicBezTo>
                  <a:cubicBezTo>
                    <a:pt x="20" y="28"/>
                    <a:pt x="17" y="46"/>
                    <a:pt x="11" y="58"/>
                  </a:cubicBezTo>
                  <a:cubicBezTo>
                    <a:pt x="6" y="68"/>
                    <a:pt x="4" y="80"/>
                    <a:pt x="0" y="91"/>
                  </a:cubicBezTo>
                  <a:cubicBezTo>
                    <a:pt x="10" y="134"/>
                    <a:pt x="30" y="161"/>
                    <a:pt x="45" y="202"/>
                  </a:cubicBezTo>
                  <a:cubicBezTo>
                    <a:pt x="41" y="247"/>
                    <a:pt x="33" y="291"/>
                    <a:pt x="33" y="336"/>
                  </a:cubicBezTo>
                  <a:cubicBezTo>
                    <a:pt x="33" y="355"/>
                    <a:pt x="29" y="382"/>
                    <a:pt x="45" y="391"/>
                  </a:cubicBezTo>
                  <a:cubicBezTo>
                    <a:pt x="64" y="402"/>
                    <a:pt x="89" y="384"/>
                    <a:pt x="111" y="380"/>
                  </a:cubicBezTo>
                  <a:cubicBezTo>
                    <a:pt x="107" y="343"/>
                    <a:pt x="108" y="305"/>
                    <a:pt x="100" y="269"/>
                  </a:cubicBezTo>
                  <a:cubicBezTo>
                    <a:pt x="80" y="181"/>
                    <a:pt x="63" y="298"/>
                    <a:pt x="89" y="191"/>
                  </a:cubicBezTo>
                  <a:cubicBezTo>
                    <a:pt x="93" y="202"/>
                    <a:pt x="94" y="214"/>
                    <a:pt x="100" y="224"/>
                  </a:cubicBezTo>
                  <a:cubicBezTo>
                    <a:pt x="105" y="233"/>
                    <a:pt x="117" y="238"/>
                    <a:pt x="122" y="247"/>
                  </a:cubicBezTo>
                  <a:cubicBezTo>
                    <a:pt x="153" y="309"/>
                    <a:pt x="131" y="330"/>
                    <a:pt x="189" y="369"/>
                  </a:cubicBezTo>
                  <a:cubicBezTo>
                    <a:pt x="208" y="311"/>
                    <a:pt x="226" y="259"/>
                    <a:pt x="156" y="236"/>
                  </a:cubicBezTo>
                  <a:cubicBezTo>
                    <a:pt x="142" y="192"/>
                    <a:pt x="132" y="183"/>
                    <a:pt x="89" y="169"/>
                  </a:cubicBezTo>
                  <a:cubicBezTo>
                    <a:pt x="111" y="104"/>
                    <a:pt x="121" y="156"/>
                    <a:pt x="145" y="91"/>
                  </a:cubicBezTo>
                  <a:cubicBezTo>
                    <a:pt x="141" y="73"/>
                    <a:pt x="144" y="52"/>
                    <a:pt x="133" y="36"/>
                  </a:cubicBezTo>
                  <a:cubicBezTo>
                    <a:pt x="109" y="0"/>
                    <a:pt x="82" y="39"/>
                    <a:pt x="78" y="58"/>
                  </a:cubicBezTo>
                  <a:cubicBezTo>
                    <a:pt x="69" y="98"/>
                    <a:pt x="71" y="139"/>
                    <a:pt x="67" y="18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738400">
              <a:off x="2441160" y="2795760"/>
              <a:ext cx="611280" cy="744480"/>
            </a:xfrm>
            <a:custGeom>
              <a:avLst/>
              <a:gdLst/>
              <a:ahLst/>
              <a:rect l="l" t="t" r="r" b="b"/>
              <a:pathLst>
                <a:path w="289" h="625">
                  <a:moveTo>
                    <a:pt x="78" y="303"/>
                  </a:moveTo>
                  <a:cubicBezTo>
                    <a:pt x="70" y="411"/>
                    <a:pt x="54" y="520"/>
                    <a:pt x="89" y="625"/>
                  </a:cubicBezTo>
                  <a:cubicBezTo>
                    <a:pt x="147" y="538"/>
                    <a:pt x="126" y="485"/>
                    <a:pt x="134" y="358"/>
                  </a:cubicBezTo>
                  <a:cubicBezTo>
                    <a:pt x="180" y="430"/>
                    <a:pt x="152" y="513"/>
                    <a:pt x="178" y="592"/>
                  </a:cubicBezTo>
                  <a:cubicBezTo>
                    <a:pt x="289" y="552"/>
                    <a:pt x="206" y="375"/>
                    <a:pt x="145" y="314"/>
                  </a:cubicBezTo>
                  <a:cubicBezTo>
                    <a:pt x="150" y="220"/>
                    <a:pt x="124" y="126"/>
                    <a:pt x="189" y="58"/>
                  </a:cubicBezTo>
                  <a:cubicBezTo>
                    <a:pt x="193" y="47"/>
                    <a:pt x="205" y="35"/>
                    <a:pt x="200" y="25"/>
                  </a:cubicBezTo>
                  <a:cubicBezTo>
                    <a:pt x="187" y="0"/>
                    <a:pt x="147" y="21"/>
                    <a:pt x="134" y="25"/>
                  </a:cubicBezTo>
                  <a:cubicBezTo>
                    <a:pt x="101" y="116"/>
                    <a:pt x="108" y="145"/>
                    <a:pt x="100" y="269"/>
                  </a:cubicBezTo>
                  <a:cubicBezTo>
                    <a:pt x="80" y="210"/>
                    <a:pt x="79" y="211"/>
                    <a:pt x="67" y="158"/>
                  </a:cubicBezTo>
                  <a:cubicBezTo>
                    <a:pt x="63" y="140"/>
                    <a:pt x="65" y="119"/>
                    <a:pt x="56" y="103"/>
                  </a:cubicBezTo>
                  <a:cubicBezTo>
                    <a:pt x="49" y="91"/>
                    <a:pt x="33" y="88"/>
                    <a:pt x="22" y="81"/>
                  </a:cubicBezTo>
                  <a:cubicBezTo>
                    <a:pt x="0" y="148"/>
                    <a:pt x="8" y="219"/>
                    <a:pt x="67" y="258"/>
                  </a:cubicBezTo>
                  <a:cubicBezTo>
                    <a:pt x="71" y="273"/>
                    <a:pt x="78" y="303"/>
                    <a:pt x="78" y="303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009000">
              <a:off x="3431880" y="2871720"/>
              <a:ext cx="608040" cy="746280"/>
            </a:xfrm>
            <a:custGeom>
              <a:avLst/>
              <a:gdLst/>
              <a:ahLst/>
              <a:rect l="l" t="t" r="r" b="b"/>
              <a:pathLst>
                <a:path w="287" h="626">
                  <a:moveTo>
                    <a:pt x="184" y="180"/>
                  </a:moveTo>
                  <a:cubicBezTo>
                    <a:pt x="97" y="137"/>
                    <a:pt x="130" y="112"/>
                    <a:pt x="140" y="3"/>
                  </a:cubicBezTo>
                  <a:cubicBezTo>
                    <a:pt x="155" y="7"/>
                    <a:pt x="179" y="0"/>
                    <a:pt x="184" y="14"/>
                  </a:cubicBezTo>
                  <a:cubicBezTo>
                    <a:pt x="194" y="46"/>
                    <a:pt x="174" y="101"/>
                    <a:pt x="162" y="136"/>
                  </a:cubicBezTo>
                  <a:cubicBezTo>
                    <a:pt x="166" y="158"/>
                    <a:pt x="159" y="185"/>
                    <a:pt x="173" y="203"/>
                  </a:cubicBezTo>
                  <a:cubicBezTo>
                    <a:pt x="181" y="212"/>
                    <a:pt x="203" y="202"/>
                    <a:pt x="207" y="191"/>
                  </a:cubicBezTo>
                  <a:cubicBezTo>
                    <a:pt x="238" y="114"/>
                    <a:pt x="187" y="46"/>
                    <a:pt x="284" y="14"/>
                  </a:cubicBezTo>
                  <a:cubicBezTo>
                    <a:pt x="274" y="75"/>
                    <a:pt x="287" y="106"/>
                    <a:pt x="229" y="125"/>
                  </a:cubicBezTo>
                  <a:cubicBezTo>
                    <a:pt x="206" y="194"/>
                    <a:pt x="220" y="267"/>
                    <a:pt x="240" y="336"/>
                  </a:cubicBezTo>
                  <a:cubicBezTo>
                    <a:pt x="247" y="359"/>
                    <a:pt x="262" y="403"/>
                    <a:pt x="262" y="403"/>
                  </a:cubicBezTo>
                  <a:cubicBezTo>
                    <a:pt x="258" y="470"/>
                    <a:pt x="273" y="540"/>
                    <a:pt x="251" y="603"/>
                  </a:cubicBezTo>
                  <a:cubicBezTo>
                    <a:pt x="245" y="621"/>
                    <a:pt x="200" y="609"/>
                    <a:pt x="196" y="591"/>
                  </a:cubicBezTo>
                  <a:cubicBezTo>
                    <a:pt x="172" y="476"/>
                    <a:pt x="253" y="300"/>
                    <a:pt x="140" y="225"/>
                  </a:cubicBezTo>
                  <a:cubicBezTo>
                    <a:pt x="110" y="315"/>
                    <a:pt x="155" y="174"/>
                    <a:pt x="118" y="347"/>
                  </a:cubicBezTo>
                  <a:cubicBezTo>
                    <a:pt x="113" y="370"/>
                    <a:pt x="96" y="414"/>
                    <a:pt x="96" y="414"/>
                  </a:cubicBezTo>
                  <a:cubicBezTo>
                    <a:pt x="72" y="626"/>
                    <a:pt x="137" y="593"/>
                    <a:pt x="40" y="625"/>
                  </a:cubicBezTo>
                  <a:cubicBezTo>
                    <a:pt x="0" y="502"/>
                    <a:pt x="14" y="384"/>
                    <a:pt x="107" y="291"/>
                  </a:cubicBezTo>
                  <a:cubicBezTo>
                    <a:pt x="136" y="203"/>
                    <a:pt x="111" y="240"/>
                    <a:pt x="184" y="180"/>
                  </a:cubicBez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486800" y="48592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cromos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0280" y="250920"/>
            <a:ext cx="60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Residencia del material ge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DNA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 estructurado en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romos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429000" y="4859280"/>
            <a:ext cx="3171960" cy="3216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04640" y="5219640"/>
            <a:ext cx="2714760" cy="26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09840" y="8170920"/>
            <a:ext cx="559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Alberts et al, Molecular Biology of the Cell, Garland Publishing, 1994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pages 352 and 35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73280" y="356256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oehringer Mannheim Biochemicals "Non Radioactive In Situ Hybridization Application Manual", Figure 14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92280" y="250920"/>
            <a:ext cx="5865840" cy="3247560"/>
            <a:chOff x="692280" y="250920"/>
            <a:chExt cx="5865840" cy="3247560"/>
          </a:xfrm>
        </p:grpSpPr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>
              <a:off x="2853000" y="898200"/>
              <a:ext cx="3705120" cy="26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21360" y="250920"/>
              <a:ext cx="27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úcleo interfá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92280" y="1761840"/>
              <a:ext cx="223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ahoma"/>
                </a:rPr>
                <a:t>Núcleo metafás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48280" y="753840"/>
              <a:ext cx="7164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65720" y="22669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81000" y="4211640"/>
            <a:ext cx="5256360" cy="4761360"/>
            <a:chOff x="981000" y="4211640"/>
            <a:chExt cx="5256360" cy="4761360"/>
          </a:xfrm>
        </p:grpSpPr>
        <p:sp>
          <p:nvSpPr>
            <p:cNvPr id="172" name=""/>
            <p:cNvSpPr/>
            <p:nvPr/>
          </p:nvSpPr>
          <p:spPr>
            <a:xfrm>
              <a:off x="1104840" y="4211640"/>
              <a:ext cx="4373640" cy="426708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40000" y="4744800"/>
              <a:ext cx="3429000" cy="3365640"/>
            </a:xfrm>
            <a:custGeom>
              <a:avLst/>
              <a:gdLst/>
              <a:ahLst/>
              <a:rect l="l" t="t" r="r" b="b"/>
              <a:pathLst>
                <a:path w="2296" h="2120">
                  <a:moveTo>
                    <a:pt x="142" y="498"/>
                  </a:moveTo>
                  <a:cubicBezTo>
                    <a:pt x="132" y="556"/>
                    <a:pt x="116" y="608"/>
                    <a:pt x="98" y="664"/>
                  </a:cubicBezTo>
                  <a:cubicBezTo>
                    <a:pt x="94" y="675"/>
                    <a:pt x="91" y="687"/>
                    <a:pt x="87" y="698"/>
                  </a:cubicBezTo>
                  <a:cubicBezTo>
                    <a:pt x="83" y="709"/>
                    <a:pt x="76" y="731"/>
                    <a:pt x="76" y="731"/>
                  </a:cubicBezTo>
                  <a:cubicBezTo>
                    <a:pt x="79" y="895"/>
                    <a:pt x="0" y="1211"/>
                    <a:pt x="131" y="1386"/>
                  </a:cubicBezTo>
                  <a:cubicBezTo>
                    <a:pt x="135" y="1401"/>
                    <a:pt x="133" y="1418"/>
                    <a:pt x="142" y="1431"/>
                  </a:cubicBezTo>
                  <a:cubicBezTo>
                    <a:pt x="160" y="1457"/>
                    <a:pt x="209" y="1497"/>
                    <a:pt x="209" y="1497"/>
                  </a:cubicBezTo>
                  <a:cubicBezTo>
                    <a:pt x="228" y="1554"/>
                    <a:pt x="267" y="1581"/>
                    <a:pt x="298" y="1631"/>
                  </a:cubicBezTo>
                  <a:cubicBezTo>
                    <a:pt x="329" y="1682"/>
                    <a:pt x="351" y="1736"/>
                    <a:pt x="398" y="1775"/>
                  </a:cubicBezTo>
                  <a:cubicBezTo>
                    <a:pt x="454" y="1821"/>
                    <a:pt x="407" y="1777"/>
                    <a:pt x="465" y="1809"/>
                  </a:cubicBezTo>
                  <a:cubicBezTo>
                    <a:pt x="488" y="1822"/>
                    <a:pt x="509" y="1838"/>
                    <a:pt x="531" y="1853"/>
                  </a:cubicBezTo>
                  <a:cubicBezTo>
                    <a:pt x="608" y="1904"/>
                    <a:pt x="566" y="1894"/>
                    <a:pt x="609" y="1942"/>
                  </a:cubicBezTo>
                  <a:cubicBezTo>
                    <a:pt x="660" y="2000"/>
                    <a:pt x="652" y="1990"/>
                    <a:pt x="709" y="2020"/>
                  </a:cubicBezTo>
                  <a:cubicBezTo>
                    <a:pt x="752" y="2084"/>
                    <a:pt x="848" y="2109"/>
                    <a:pt x="920" y="2120"/>
                  </a:cubicBezTo>
                  <a:cubicBezTo>
                    <a:pt x="1013" y="2116"/>
                    <a:pt x="1106" y="2117"/>
                    <a:pt x="1198" y="2108"/>
                  </a:cubicBezTo>
                  <a:cubicBezTo>
                    <a:pt x="1261" y="2102"/>
                    <a:pt x="1334" y="2075"/>
                    <a:pt x="1398" y="2064"/>
                  </a:cubicBezTo>
                  <a:cubicBezTo>
                    <a:pt x="1420" y="2057"/>
                    <a:pt x="1445" y="2055"/>
                    <a:pt x="1465" y="2042"/>
                  </a:cubicBezTo>
                  <a:cubicBezTo>
                    <a:pt x="1498" y="2020"/>
                    <a:pt x="1521" y="1986"/>
                    <a:pt x="1554" y="1964"/>
                  </a:cubicBezTo>
                  <a:cubicBezTo>
                    <a:pt x="1576" y="1949"/>
                    <a:pt x="1602" y="1939"/>
                    <a:pt x="1620" y="1920"/>
                  </a:cubicBezTo>
                  <a:cubicBezTo>
                    <a:pt x="1627" y="1912"/>
                    <a:pt x="1633" y="1903"/>
                    <a:pt x="1642" y="1897"/>
                  </a:cubicBezTo>
                  <a:cubicBezTo>
                    <a:pt x="1691" y="1868"/>
                    <a:pt x="1765" y="1875"/>
                    <a:pt x="1820" y="1864"/>
                  </a:cubicBezTo>
                  <a:cubicBezTo>
                    <a:pt x="1831" y="1857"/>
                    <a:pt x="1842" y="1847"/>
                    <a:pt x="1854" y="1842"/>
                  </a:cubicBezTo>
                  <a:cubicBezTo>
                    <a:pt x="1875" y="1833"/>
                    <a:pt x="1920" y="1820"/>
                    <a:pt x="1920" y="1820"/>
                  </a:cubicBezTo>
                  <a:cubicBezTo>
                    <a:pt x="1947" y="1793"/>
                    <a:pt x="1979" y="1765"/>
                    <a:pt x="2009" y="1742"/>
                  </a:cubicBezTo>
                  <a:cubicBezTo>
                    <a:pt x="2030" y="1725"/>
                    <a:pt x="2057" y="1716"/>
                    <a:pt x="2076" y="1697"/>
                  </a:cubicBezTo>
                  <a:cubicBezTo>
                    <a:pt x="2119" y="1654"/>
                    <a:pt x="2096" y="1672"/>
                    <a:pt x="2143" y="1642"/>
                  </a:cubicBezTo>
                  <a:lnTo>
                    <a:pt x="2187" y="1542"/>
                  </a:lnTo>
                  <a:cubicBezTo>
                    <a:pt x="2187" y="1542"/>
                    <a:pt x="2187" y="1542"/>
                    <a:pt x="2187" y="1542"/>
                  </a:cubicBezTo>
                  <a:cubicBezTo>
                    <a:pt x="2239" y="1454"/>
                    <a:pt x="2268" y="1374"/>
                    <a:pt x="2287" y="1275"/>
                  </a:cubicBezTo>
                  <a:cubicBezTo>
                    <a:pt x="2281" y="1151"/>
                    <a:pt x="2296" y="987"/>
                    <a:pt x="2220" y="875"/>
                  </a:cubicBezTo>
                  <a:cubicBezTo>
                    <a:pt x="2204" y="826"/>
                    <a:pt x="2194" y="774"/>
                    <a:pt x="2165" y="731"/>
                  </a:cubicBezTo>
                  <a:cubicBezTo>
                    <a:pt x="2161" y="716"/>
                    <a:pt x="2161" y="700"/>
                    <a:pt x="2154" y="686"/>
                  </a:cubicBezTo>
                  <a:cubicBezTo>
                    <a:pt x="2142" y="662"/>
                    <a:pt x="2109" y="620"/>
                    <a:pt x="2109" y="620"/>
                  </a:cubicBezTo>
                  <a:cubicBezTo>
                    <a:pt x="2092" y="568"/>
                    <a:pt x="2076" y="553"/>
                    <a:pt x="2031" y="520"/>
                  </a:cubicBezTo>
                  <a:cubicBezTo>
                    <a:pt x="1995" y="407"/>
                    <a:pt x="1891" y="360"/>
                    <a:pt x="1798" y="298"/>
                  </a:cubicBezTo>
                  <a:cubicBezTo>
                    <a:pt x="1789" y="292"/>
                    <a:pt x="1785" y="281"/>
                    <a:pt x="1776" y="275"/>
                  </a:cubicBezTo>
                  <a:cubicBezTo>
                    <a:pt x="1677" y="209"/>
                    <a:pt x="1565" y="164"/>
                    <a:pt x="1465" y="98"/>
                  </a:cubicBezTo>
                  <a:cubicBezTo>
                    <a:pt x="1438" y="80"/>
                    <a:pt x="1373" y="73"/>
                    <a:pt x="1342" y="64"/>
                  </a:cubicBezTo>
                  <a:cubicBezTo>
                    <a:pt x="1267" y="43"/>
                    <a:pt x="1197" y="30"/>
                    <a:pt x="1120" y="20"/>
                  </a:cubicBezTo>
                  <a:cubicBezTo>
                    <a:pt x="631" y="35"/>
                    <a:pt x="890" y="0"/>
                    <a:pt x="698" y="64"/>
                  </a:cubicBezTo>
                  <a:cubicBezTo>
                    <a:pt x="648" y="104"/>
                    <a:pt x="603" y="144"/>
                    <a:pt x="542" y="164"/>
                  </a:cubicBezTo>
                  <a:cubicBezTo>
                    <a:pt x="489" y="199"/>
                    <a:pt x="429" y="218"/>
                    <a:pt x="376" y="253"/>
                  </a:cubicBezTo>
                  <a:cubicBezTo>
                    <a:pt x="353" y="322"/>
                    <a:pt x="385" y="256"/>
                    <a:pt x="331" y="298"/>
                  </a:cubicBezTo>
                  <a:cubicBezTo>
                    <a:pt x="294" y="327"/>
                    <a:pt x="254" y="373"/>
                    <a:pt x="220" y="409"/>
                  </a:cubicBezTo>
                  <a:cubicBezTo>
                    <a:pt x="193" y="437"/>
                    <a:pt x="142" y="450"/>
                    <a:pt x="142" y="49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46840" y="6383160"/>
              <a:ext cx="330120" cy="409680"/>
            </a:xfrm>
            <a:custGeom>
              <a:avLst/>
              <a:gdLst/>
              <a:ahLst/>
              <a:rect l="l" t="t" r="r" b="b"/>
              <a:pathLst>
                <a:path w="221" h="258">
                  <a:moveTo>
                    <a:pt x="47" y="58"/>
                  </a:moveTo>
                  <a:cubicBezTo>
                    <a:pt x="52" y="78"/>
                    <a:pt x="71" y="160"/>
                    <a:pt x="80" y="169"/>
                  </a:cubicBezTo>
                  <a:cubicBezTo>
                    <a:pt x="145" y="234"/>
                    <a:pt x="121" y="203"/>
                    <a:pt x="158" y="258"/>
                  </a:cubicBezTo>
                  <a:cubicBezTo>
                    <a:pt x="207" y="242"/>
                    <a:pt x="221" y="245"/>
                    <a:pt x="203" y="192"/>
                  </a:cubicBezTo>
                  <a:cubicBezTo>
                    <a:pt x="184" y="196"/>
                    <a:pt x="164" y="212"/>
                    <a:pt x="147" y="203"/>
                  </a:cubicBezTo>
                  <a:cubicBezTo>
                    <a:pt x="136" y="198"/>
                    <a:pt x="165" y="179"/>
                    <a:pt x="158" y="169"/>
                  </a:cubicBezTo>
                  <a:cubicBezTo>
                    <a:pt x="149" y="157"/>
                    <a:pt x="129" y="162"/>
                    <a:pt x="114" y="158"/>
                  </a:cubicBezTo>
                  <a:cubicBezTo>
                    <a:pt x="125" y="154"/>
                    <a:pt x="138" y="154"/>
                    <a:pt x="147" y="147"/>
                  </a:cubicBezTo>
                  <a:cubicBezTo>
                    <a:pt x="157" y="139"/>
                    <a:pt x="181" y="120"/>
                    <a:pt x="169" y="114"/>
                  </a:cubicBezTo>
                  <a:cubicBezTo>
                    <a:pt x="146" y="103"/>
                    <a:pt x="0" y="170"/>
                    <a:pt x="114" y="114"/>
                  </a:cubicBezTo>
                  <a:cubicBezTo>
                    <a:pt x="118" y="103"/>
                    <a:pt x="133" y="89"/>
                    <a:pt x="125" y="81"/>
                  </a:cubicBezTo>
                  <a:cubicBezTo>
                    <a:pt x="116" y="73"/>
                    <a:pt x="99" y="101"/>
                    <a:pt x="91" y="92"/>
                  </a:cubicBezTo>
                  <a:cubicBezTo>
                    <a:pt x="83" y="83"/>
                    <a:pt x="99" y="69"/>
                    <a:pt x="103" y="58"/>
                  </a:cubicBezTo>
                  <a:cubicBezTo>
                    <a:pt x="92" y="47"/>
                    <a:pt x="47" y="0"/>
                    <a:pt x="47" y="58"/>
                  </a:cubicBezTo>
                  <a:close/>
                </a:path>
              </a:pathLst>
            </a:custGeom>
            <a:solidFill>
              <a:srgbClr val="5f5f5f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24440" y="6154560"/>
              <a:ext cx="214560" cy="228600"/>
            </a:xfrm>
            <a:custGeom>
              <a:avLst/>
              <a:gdLst/>
              <a:ahLst/>
              <a:rect l="l" t="t" r="r" b="b"/>
              <a:pathLst>
                <a:path w="220" h="216">
                  <a:moveTo>
                    <a:pt x="68" y="0"/>
                  </a:moveTo>
                  <a:cubicBezTo>
                    <a:pt x="44" y="24"/>
                    <a:pt x="31" y="40"/>
                    <a:pt x="20" y="72"/>
                  </a:cubicBezTo>
                  <a:cubicBezTo>
                    <a:pt x="27" y="177"/>
                    <a:pt x="0" y="191"/>
                    <a:pt x="76" y="216"/>
                  </a:cubicBezTo>
                  <a:cubicBezTo>
                    <a:pt x="111" y="213"/>
                    <a:pt x="146" y="216"/>
                    <a:pt x="180" y="208"/>
                  </a:cubicBezTo>
                  <a:cubicBezTo>
                    <a:pt x="214" y="199"/>
                    <a:pt x="216" y="134"/>
                    <a:pt x="220" y="112"/>
                  </a:cubicBezTo>
                  <a:cubicBezTo>
                    <a:pt x="217" y="88"/>
                    <a:pt x="220" y="63"/>
                    <a:pt x="212" y="40"/>
                  </a:cubicBezTo>
                  <a:cubicBezTo>
                    <a:pt x="203" y="15"/>
                    <a:pt x="165" y="16"/>
                    <a:pt x="140" y="8"/>
                  </a:cubicBezTo>
                  <a:cubicBezTo>
                    <a:pt x="132" y="5"/>
                    <a:pt x="116" y="0"/>
                    <a:pt x="116" y="0"/>
                  </a:cubicBezTo>
                  <a:cubicBezTo>
                    <a:pt x="36" y="9"/>
                    <a:pt x="21" y="16"/>
                    <a:pt x="68" y="0"/>
                  </a:cubicBezTo>
                  <a:close/>
                </a:path>
              </a:pathLst>
            </a:custGeom>
            <a:solidFill>
              <a:srgbClr val="808080"/>
            </a:solidFill>
            <a:ln w="2844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14840" y="4840200"/>
              <a:ext cx="216000" cy="380880"/>
            </a:xfrm>
            <a:prstGeom prst="ellipse">
              <a:avLst/>
            </a:prstGeom>
            <a:solidFill>
              <a:srgbClr val="5f5f5f"/>
            </a:solidFill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46840" y="5640120"/>
              <a:ext cx="209520" cy="343080"/>
            </a:xfrm>
            <a:custGeom>
              <a:avLst/>
              <a:gdLst/>
              <a:ahLst/>
              <a:rect l="l" t="t" r="r" b="b"/>
              <a:pathLst>
                <a:path w="140" h="216">
                  <a:moveTo>
                    <a:pt x="63" y="0"/>
                  </a:moveTo>
                  <a:cubicBezTo>
                    <a:pt x="50" y="9"/>
                    <a:pt x="43" y="21"/>
                    <a:pt x="30" y="30"/>
                  </a:cubicBezTo>
                  <a:cubicBezTo>
                    <a:pt x="27" y="35"/>
                    <a:pt x="17" y="50"/>
                    <a:pt x="12" y="57"/>
                  </a:cubicBezTo>
                  <a:cubicBezTo>
                    <a:pt x="11" y="59"/>
                    <a:pt x="8" y="75"/>
                    <a:pt x="3" y="75"/>
                  </a:cubicBezTo>
                  <a:cubicBezTo>
                    <a:pt x="0" y="75"/>
                    <a:pt x="5" y="69"/>
                    <a:pt x="6" y="66"/>
                  </a:cubicBezTo>
                  <a:cubicBezTo>
                    <a:pt x="22" y="71"/>
                    <a:pt x="28" y="53"/>
                    <a:pt x="39" y="42"/>
                  </a:cubicBezTo>
                  <a:cubicBezTo>
                    <a:pt x="46" y="21"/>
                    <a:pt x="71" y="17"/>
                    <a:pt x="90" y="12"/>
                  </a:cubicBezTo>
                  <a:cubicBezTo>
                    <a:pt x="93" y="13"/>
                    <a:pt x="98" y="12"/>
                    <a:pt x="99" y="15"/>
                  </a:cubicBezTo>
                  <a:cubicBezTo>
                    <a:pt x="107" y="38"/>
                    <a:pt x="64" y="50"/>
                    <a:pt x="51" y="57"/>
                  </a:cubicBezTo>
                  <a:cubicBezTo>
                    <a:pt x="45" y="61"/>
                    <a:pt x="39" y="65"/>
                    <a:pt x="33" y="69"/>
                  </a:cubicBezTo>
                  <a:cubicBezTo>
                    <a:pt x="30" y="71"/>
                    <a:pt x="24" y="75"/>
                    <a:pt x="24" y="75"/>
                  </a:cubicBezTo>
                  <a:cubicBezTo>
                    <a:pt x="20" y="88"/>
                    <a:pt x="13" y="98"/>
                    <a:pt x="9" y="111"/>
                  </a:cubicBezTo>
                  <a:cubicBezTo>
                    <a:pt x="8" y="114"/>
                    <a:pt x="12" y="104"/>
                    <a:pt x="15" y="102"/>
                  </a:cubicBezTo>
                  <a:cubicBezTo>
                    <a:pt x="20" y="97"/>
                    <a:pt x="33" y="90"/>
                    <a:pt x="33" y="90"/>
                  </a:cubicBezTo>
                  <a:cubicBezTo>
                    <a:pt x="46" y="70"/>
                    <a:pt x="70" y="62"/>
                    <a:pt x="93" y="54"/>
                  </a:cubicBezTo>
                  <a:cubicBezTo>
                    <a:pt x="102" y="40"/>
                    <a:pt x="114" y="40"/>
                    <a:pt x="129" y="45"/>
                  </a:cubicBezTo>
                  <a:cubicBezTo>
                    <a:pt x="128" y="53"/>
                    <a:pt x="131" y="62"/>
                    <a:pt x="126" y="69"/>
                  </a:cubicBezTo>
                  <a:cubicBezTo>
                    <a:pt x="122" y="75"/>
                    <a:pt x="92" y="79"/>
                    <a:pt x="84" y="81"/>
                  </a:cubicBezTo>
                  <a:cubicBezTo>
                    <a:pt x="68" y="92"/>
                    <a:pt x="54" y="104"/>
                    <a:pt x="39" y="114"/>
                  </a:cubicBezTo>
                  <a:cubicBezTo>
                    <a:pt x="30" y="127"/>
                    <a:pt x="21" y="127"/>
                    <a:pt x="15" y="144"/>
                  </a:cubicBezTo>
                  <a:cubicBezTo>
                    <a:pt x="18" y="146"/>
                    <a:pt x="20" y="151"/>
                    <a:pt x="24" y="150"/>
                  </a:cubicBezTo>
                  <a:cubicBezTo>
                    <a:pt x="28" y="149"/>
                    <a:pt x="30" y="144"/>
                    <a:pt x="33" y="141"/>
                  </a:cubicBezTo>
                  <a:cubicBezTo>
                    <a:pt x="48" y="129"/>
                    <a:pt x="59" y="113"/>
                    <a:pt x="75" y="102"/>
                  </a:cubicBezTo>
                  <a:cubicBezTo>
                    <a:pt x="83" y="96"/>
                    <a:pt x="97" y="93"/>
                    <a:pt x="105" y="90"/>
                  </a:cubicBezTo>
                  <a:cubicBezTo>
                    <a:pt x="111" y="88"/>
                    <a:pt x="123" y="84"/>
                    <a:pt x="123" y="84"/>
                  </a:cubicBezTo>
                  <a:cubicBezTo>
                    <a:pt x="137" y="89"/>
                    <a:pt x="140" y="86"/>
                    <a:pt x="129" y="111"/>
                  </a:cubicBezTo>
                  <a:cubicBezTo>
                    <a:pt x="124" y="121"/>
                    <a:pt x="107" y="116"/>
                    <a:pt x="96" y="117"/>
                  </a:cubicBezTo>
                  <a:cubicBezTo>
                    <a:pt x="83" y="121"/>
                    <a:pt x="81" y="127"/>
                    <a:pt x="72" y="135"/>
                  </a:cubicBezTo>
                  <a:cubicBezTo>
                    <a:pt x="67" y="140"/>
                    <a:pt x="54" y="147"/>
                    <a:pt x="54" y="147"/>
                  </a:cubicBezTo>
                  <a:cubicBezTo>
                    <a:pt x="47" y="158"/>
                    <a:pt x="36" y="170"/>
                    <a:pt x="24" y="174"/>
                  </a:cubicBezTo>
                  <a:cubicBezTo>
                    <a:pt x="18" y="191"/>
                    <a:pt x="32" y="186"/>
                    <a:pt x="45" y="183"/>
                  </a:cubicBezTo>
                  <a:cubicBezTo>
                    <a:pt x="54" y="174"/>
                    <a:pt x="55" y="166"/>
                    <a:pt x="66" y="159"/>
                  </a:cubicBezTo>
                  <a:cubicBezTo>
                    <a:pt x="75" y="145"/>
                    <a:pt x="80" y="134"/>
                    <a:pt x="96" y="129"/>
                  </a:cubicBezTo>
                  <a:cubicBezTo>
                    <a:pt x="111" y="114"/>
                    <a:pt x="113" y="117"/>
                    <a:pt x="135" y="120"/>
                  </a:cubicBezTo>
                  <a:cubicBezTo>
                    <a:pt x="134" y="126"/>
                    <a:pt x="133" y="140"/>
                    <a:pt x="126" y="144"/>
                  </a:cubicBezTo>
                  <a:cubicBezTo>
                    <a:pt x="121" y="147"/>
                    <a:pt x="108" y="150"/>
                    <a:pt x="108" y="150"/>
                  </a:cubicBezTo>
                  <a:cubicBezTo>
                    <a:pt x="91" y="162"/>
                    <a:pt x="80" y="181"/>
                    <a:pt x="63" y="192"/>
                  </a:cubicBezTo>
                  <a:cubicBezTo>
                    <a:pt x="55" y="203"/>
                    <a:pt x="46" y="202"/>
                    <a:pt x="51" y="216"/>
                  </a:cubicBezTo>
                  <a:cubicBezTo>
                    <a:pt x="74" y="212"/>
                    <a:pt x="81" y="199"/>
                    <a:pt x="99" y="186"/>
                  </a:cubicBezTo>
                  <a:cubicBezTo>
                    <a:pt x="107" y="180"/>
                    <a:pt x="126" y="174"/>
                    <a:pt x="126" y="174"/>
                  </a:cubicBezTo>
                  <a:cubicBezTo>
                    <a:pt x="131" y="166"/>
                    <a:pt x="138" y="147"/>
                    <a:pt x="138" y="147"/>
                  </a:cubicBezTo>
                </a:path>
              </a:pathLst>
            </a:custGeom>
            <a:solidFill>
              <a:srgbClr val="808080"/>
            </a:solidFill>
            <a:ln w="1908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2800" y="5297400"/>
              <a:ext cx="436320" cy="762120"/>
            </a:xfrm>
            <a:custGeom>
              <a:avLst/>
              <a:gdLst/>
              <a:ahLst/>
              <a:rect l="l" t="t" r="r" b="b"/>
              <a:pathLst>
                <a:path w="292" h="480">
                  <a:moveTo>
                    <a:pt x="269" y="471"/>
                  </a:moveTo>
                  <a:cubicBezTo>
                    <a:pt x="257" y="459"/>
                    <a:pt x="256" y="454"/>
                    <a:pt x="251" y="438"/>
                  </a:cubicBezTo>
                  <a:cubicBezTo>
                    <a:pt x="253" y="391"/>
                    <a:pt x="257" y="366"/>
                    <a:pt x="284" y="330"/>
                  </a:cubicBezTo>
                  <a:cubicBezTo>
                    <a:pt x="292" y="297"/>
                    <a:pt x="288" y="248"/>
                    <a:pt x="257" y="228"/>
                  </a:cubicBezTo>
                  <a:cubicBezTo>
                    <a:pt x="249" y="203"/>
                    <a:pt x="236" y="207"/>
                    <a:pt x="209" y="204"/>
                  </a:cubicBezTo>
                  <a:cubicBezTo>
                    <a:pt x="198" y="201"/>
                    <a:pt x="186" y="201"/>
                    <a:pt x="176" y="195"/>
                  </a:cubicBezTo>
                  <a:cubicBezTo>
                    <a:pt x="170" y="191"/>
                    <a:pt x="164" y="187"/>
                    <a:pt x="158" y="183"/>
                  </a:cubicBezTo>
                  <a:cubicBezTo>
                    <a:pt x="155" y="181"/>
                    <a:pt x="149" y="177"/>
                    <a:pt x="149" y="177"/>
                  </a:cubicBezTo>
                  <a:cubicBezTo>
                    <a:pt x="144" y="163"/>
                    <a:pt x="128" y="152"/>
                    <a:pt x="116" y="144"/>
                  </a:cubicBezTo>
                  <a:cubicBezTo>
                    <a:pt x="108" y="121"/>
                    <a:pt x="91" y="93"/>
                    <a:pt x="77" y="72"/>
                  </a:cubicBezTo>
                  <a:cubicBezTo>
                    <a:pt x="72" y="52"/>
                    <a:pt x="75" y="22"/>
                    <a:pt x="53" y="15"/>
                  </a:cubicBezTo>
                  <a:cubicBezTo>
                    <a:pt x="45" y="3"/>
                    <a:pt x="40" y="3"/>
                    <a:pt x="26" y="0"/>
                  </a:cubicBezTo>
                  <a:cubicBezTo>
                    <a:pt x="10" y="4"/>
                    <a:pt x="0" y="9"/>
                    <a:pt x="23" y="15"/>
                  </a:cubicBezTo>
                  <a:cubicBezTo>
                    <a:pt x="26" y="16"/>
                    <a:pt x="29" y="17"/>
                    <a:pt x="32" y="18"/>
                  </a:cubicBezTo>
                  <a:cubicBezTo>
                    <a:pt x="39" y="38"/>
                    <a:pt x="41" y="57"/>
                    <a:pt x="59" y="69"/>
                  </a:cubicBezTo>
                  <a:cubicBezTo>
                    <a:pt x="74" y="91"/>
                    <a:pt x="80" y="130"/>
                    <a:pt x="101" y="144"/>
                  </a:cubicBezTo>
                  <a:cubicBezTo>
                    <a:pt x="106" y="158"/>
                    <a:pt x="105" y="159"/>
                    <a:pt x="122" y="171"/>
                  </a:cubicBezTo>
                  <a:cubicBezTo>
                    <a:pt x="128" y="175"/>
                    <a:pt x="140" y="183"/>
                    <a:pt x="140" y="183"/>
                  </a:cubicBezTo>
                  <a:cubicBezTo>
                    <a:pt x="154" y="204"/>
                    <a:pt x="186" y="210"/>
                    <a:pt x="209" y="216"/>
                  </a:cubicBezTo>
                  <a:cubicBezTo>
                    <a:pt x="218" y="218"/>
                    <a:pt x="236" y="225"/>
                    <a:pt x="236" y="225"/>
                  </a:cubicBezTo>
                  <a:cubicBezTo>
                    <a:pt x="246" y="240"/>
                    <a:pt x="254" y="260"/>
                    <a:pt x="269" y="270"/>
                  </a:cubicBezTo>
                  <a:cubicBezTo>
                    <a:pt x="279" y="300"/>
                    <a:pt x="284" y="336"/>
                    <a:pt x="260" y="360"/>
                  </a:cubicBezTo>
                  <a:cubicBezTo>
                    <a:pt x="255" y="374"/>
                    <a:pt x="245" y="392"/>
                    <a:pt x="236" y="405"/>
                  </a:cubicBezTo>
                  <a:cubicBezTo>
                    <a:pt x="229" y="431"/>
                    <a:pt x="230" y="464"/>
                    <a:pt x="254" y="480"/>
                  </a:cubicBezTo>
                  <a:cubicBezTo>
                    <a:pt x="266" y="476"/>
                    <a:pt x="261" y="479"/>
                    <a:pt x="269" y="471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07040" y="4840200"/>
              <a:ext cx="627120" cy="704880"/>
            </a:xfrm>
            <a:custGeom>
              <a:avLst/>
              <a:gdLst/>
              <a:ahLst/>
              <a:rect l="l" t="t" r="r" b="b"/>
              <a:pathLst>
                <a:path w="419" h="444">
                  <a:moveTo>
                    <a:pt x="406" y="414"/>
                  </a:moveTo>
                  <a:cubicBezTo>
                    <a:pt x="387" y="412"/>
                    <a:pt x="378" y="408"/>
                    <a:pt x="361" y="402"/>
                  </a:cubicBezTo>
                  <a:cubicBezTo>
                    <a:pt x="353" y="369"/>
                    <a:pt x="351" y="330"/>
                    <a:pt x="334" y="300"/>
                  </a:cubicBezTo>
                  <a:cubicBezTo>
                    <a:pt x="320" y="274"/>
                    <a:pt x="292" y="250"/>
                    <a:pt x="268" y="234"/>
                  </a:cubicBezTo>
                  <a:cubicBezTo>
                    <a:pt x="252" y="224"/>
                    <a:pt x="265" y="221"/>
                    <a:pt x="241" y="213"/>
                  </a:cubicBezTo>
                  <a:cubicBezTo>
                    <a:pt x="222" y="207"/>
                    <a:pt x="201" y="204"/>
                    <a:pt x="181" y="198"/>
                  </a:cubicBezTo>
                  <a:cubicBezTo>
                    <a:pt x="172" y="195"/>
                    <a:pt x="163" y="191"/>
                    <a:pt x="154" y="189"/>
                  </a:cubicBezTo>
                  <a:cubicBezTo>
                    <a:pt x="146" y="187"/>
                    <a:pt x="130" y="183"/>
                    <a:pt x="130" y="183"/>
                  </a:cubicBezTo>
                  <a:cubicBezTo>
                    <a:pt x="118" y="165"/>
                    <a:pt x="118" y="123"/>
                    <a:pt x="106" y="111"/>
                  </a:cubicBezTo>
                  <a:cubicBezTo>
                    <a:pt x="92" y="97"/>
                    <a:pt x="75" y="83"/>
                    <a:pt x="58" y="72"/>
                  </a:cubicBezTo>
                  <a:cubicBezTo>
                    <a:pt x="43" y="49"/>
                    <a:pt x="48" y="37"/>
                    <a:pt x="46" y="3"/>
                  </a:cubicBezTo>
                  <a:cubicBezTo>
                    <a:pt x="35" y="4"/>
                    <a:pt x="22" y="0"/>
                    <a:pt x="13" y="6"/>
                  </a:cubicBezTo>
                  <a:cubicBezTo>
                    <a:pt x="0" y="15"/>
                    <a:pt x="26" y="34"/>
                    <a:pt x="31" y="36"/>
                  </a:cubicBezTo>
                  <a:cubicBezTo>
                    <a:pt x="36" y="52"/>
                    <a:pt x="45" y="66"/>
                    <a:pt x="52" y="81"/>
                  </a:cubicBezTo>
                  <a:cubicBezTo>
                    <a:pt x="56" y="89"/>
                    <a:pt x="53" y="100"/>
                    <a:pt x="58" y="108"/>
                  </a:cubicBezTo>
                  <a:cubicBezTo>
                    <a:pt x="64" y="117"/>
                    <a:pt x="75" y="120"/>
                    <a:pt x="85" y="123"/>
                  </a:cubicBezTo>
                  <a:cubicBezTo>
                    <a:pt x="89" y="129"/>
                    <a:pt x="96" y="134"/>
                    <a:pt x="100" y="141"/>
                  </a:cubicBezTo>
                  <a:cubicBezTo>
                    <a:pt x="116" y="170"/>
                    <a:pt x="107" y="177"/>
                    <a:pt x="139" y="198"/>
                  </a:cubicBezTo>
                  <a:cubicBezTo>
                    <a:pt x="150" y="205"/>
                    <a:pt x="165" y="203"/>
                    <a:pt x="178" y="204"/>
                  </a:cubicBezTo>
                  <a:cubicBezTo>
                    <a:pt x="203" y="212"/>
                    <a:pt x="163" y="200"/>
                    <a:pt x="208" y="210"/>
                  </a:cubicBezTo>
                  <a:cubicBezTo>
                    <a:pt x="214" y="211"/>
                    <a:pt x="226" y="216"/>
                    <a:pt x="226" y="216"/>
                  </a:cubicBezTo>
                  <a:cubicBezTo>
                    <a:pt x="233" y="223"/>
                    <a:pt x="237" y="231"/>
                    <a:pt x="244" y="237"/>
                  </a:cubicBezTo>
                  <a:cubicBezTo>
                    <a:pt x="258" y="250"/>
                    <a:pt x="276" y="254"/>
                    <a:pt x="292" y="264"/>
                  </a:cubicBezTo>
                  <a:cubicBezTo>
                    <a:pt x="302" y="294"/>
                    <a:pt x="329" y="311"/>
                    <a:pt x="340" y="336"/>
                  </a:cubicBezTo>
                  <a:cubicBezTo>
                    <a:pt x="348" y="354"/>
                    <a:pt x="346" y="376"/>
                    <a:pt x="355" y="393"/>
                  </a:cubicBezTo>
                  <a:cubicBezTo>
                    <a:pt x="358" y="398"/>
                    <a:pt x="376" y="436"/>
                    <a:pt x="379" y="438"/>
                  </a:cubicBezTo>
                  <a:cubicBezTo>
                    <a:pt x="384" y="441"/>
                    <a:pt x="397" y="444"/>
                    <a:pt x="397" y="444"/>
                  </a:cubicBezTo>
                  <a:cubicBezTo>
                    <a:pt x="419" y="439"/>
                    <a:pt x="416" y="434"/>
                    <a:pt x="406" y="414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94120" y="4516200"/>
              <a:ext cx="285840" cy="2286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38760" y="4554360"/>
              <a:ext cx="252360" cy="19836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6" y="12"/>
                  </a:moveTo>
                  <a:cubicBezTo>
                    <a:pt x="2" y="50"/>
                    <a:pt x="0" y="54"/>
                    <a:pt x="3" y="96"/>
                  </a:cubicBezTo>
                  <a:cubicBezTo>
                    <a:pt x="30" y="83"/>
                    <a:pt x="13" y="95"/>
                    <a:pt x="18" y="42"/>
                  </a:cubicBezTo>
                  <a:cubicBezTo>
                    <a:pt x="19" y="30"/>
                    <a:pt x="23" y="20"/>
                    <a:pt x="27" y="9"/>
                  </a:cubicBezTo>
                  <a:cubicBezTo>
                    <a:pt x="28" y="6"/>
                    <a:pt x="30" y="0"/>
                    <a:pt x="30" y="0"/>
                  </a:cubicBezTo>
                  <a:cubicBezTo>
                    <a:pt x="39" y="22"/>
                    <a:pt x="39" y="15"/>
                    <a:pt x="33" y="45"/>
                  </a:cubicBezTo>
                  <a:cubicBezTo>
                    <a:pt x="31" y="54"/>
                    <a:pt x="24" y="72"/>
                    <a:pt x="24" y="72"/>
                  </a:cubicBezTo>
                  <a:cubicBezTo>
                    <a:pt x="25" y="83"/>
                    <a:pt x="22" y="95"/>
                    <a:pt x="27" y="105"/>
                  </a:cubicBezTo>
                  <a:cubicBezTo>
                    <a:pt x="31" y="113"/>
                    <a:pt x="54" y="114"/>
                    <a:pt x="54" y="114"/>
                  </a:cubicBezTo>
                  <a:cubicBezTo>
                    <a:pt x="57" y="98"/>
                    <a:pt x="65" y="87"/>
                    <a:pt x="72" y="72"/>
                  </a:cubicBezTo>
                  <a:cubicBezTo>
                    <a:pt x="82" y="53"/>
                    <a:pt x="82" y="26"/>
                    <a:pt x="84" y="6"/>
                  </a:cubicBezTo>
                  <a:cubicBezTo>
                    <a:pt x="89" y="25"/>
                    <a:pt x="82" y="37"/>
                    <a:pt x="75" y="54"/>
                  </a:cubicBezTo>
                  <a:cubicBezTo>
                    <a:pt x="73" y="60"/>
                    <a:pt x="69" y="72"/>
                    <a:pt x="69" y="72"/>
                  </a:cubicBezTo>
                  <a:cubicBezTo>
                    <a:pt x="70" y="86"/>
                    <a:pt x="63" y="125"/>
                    <a:pt x="87" y="117"/>
                  </a:cubicBezTo>
                  <a:cubicBezTo>
                    <a:pt x="92" y="105"/>
                    <a:pt x="95" y="93"/>
                    <a:pt x="99" y="81"/>
                  </a:cubicBezTo>
                  <a:cubicBezTo>
                    <a:pt x="101" y="54"/>
                    <a:pt x="101" y="26"/>
                    <a:pt x="108" y="0"/>
                  </a:cubicBezTo>
                  <a:cubicBezTo>
                    <a:pt x="112" y="17"/>
                    <a:pt x="113" y="13"/>
                    <a:pt x="108" y="36"/>
                  </a:cubicBezTo>
                  <a:cubicBezTo>
                    <a:pt x="106" y="45"/>
                    <a:pt x="99" y="63"/>
                    <a:pt x="99" y="63"/>
                  </a:cubicBezTo>
                  <a:cubicBezTo>
                    <a:pt x="101" y="87"/>
                    <a:pt x="92" y="123"/>
                    <a:pt x="120" y="105"/>
                  </a:cubicBezTo>
                  <a:cubicBezTo>
                    <a:pt x="137" y="71"/>
                    <a:pt x="118" y="31"/>
                    <a:pt x="138" y="0"/>
                  </a:cubicBezTo>
                  <a:cubicBezTo>
                    <a:pt x="139" y="34"/>
                    <a:pt x="134" y="69"/>
                    <a:pt x="141" y="102"/>
                  </a:cubicBezTo>
                  <a:cubicBezTo>
                    <a:pt x="143" y="110"/>
                    <a:pt x="160" y="98"/>
                    <a:pt x="162" y="90"/>
                  </a:cubicBezTo>
                  <a:cubicBezTo>
                    <a:pt x="169" y="67"/>
                    <a:pt x="165" y="70"/>
                    <a:pt x="165" y="33"/>
                  </a:cubicBezTo>
                </a:path>
              </a:pathLst>
            </a:custGeom>
            <a:noFill/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13000" y="4725720"/>
              <a:ext cx="3382920" cy="3299040"/>
            </a:xfrm>
            <a:custGeom>
              <a:avLst/>
              <a:gdLst/>
              <a:ahLst/>
              <a:rect l="l" t="t" r="r" b="b"/>
              <a:pathLst>
                <a:path w="2264" h="2078">
                  <a:moveTo>
                    <a:pt x="2231" y="1353"/>
                  </a:moveTo>
                  <a:cubicBezTo>
                    <a:pt x="2229" y="1332"/>
                    <a:pt x="2230" y="1281"/>
                    <a:pt x="2207" y="1263"/>
                  </a:cubicBezTo>
                  <a:cubicBezTo>
                    <a:pt x="2202" y="1259"/>
                    <a:pt x="2195" y="1260"/>
                    <a:pt x="2189" y="1257"/>
                  </a:cubicBezTo>
                  <a:cubicBezTo>
                    <a:pt x="2176" y="1250"/>
                    <a:pt x="2153" y="1233"/>
                    <a:pt x="2153" y="1233"/>
                  </a:cubicBezTo>
                  <a:cubicBezTo>
                    <a:pt x="2142" y="1201"/>
                    <a:pt x="2160" y="1210"/>
                    <a:pt x="2189" y="1203"/>
                  </a:cubicBezTo>
                  <a:cubicBezTo>
                    <a:pt x="2209" y="1174"/>
                    <a:pt x="2207" y="1168"/>
                    <a:pt x="2201" y="1131"/>
                  </a:cubicBezTo>
                  <a:cubicBezTo>
                    <a:pt x="2206" y="1104"/>
                    <a:pt x="2217" y="1090"/>
                    <a:pt x="2225" y="1065"/>
                  </a:cubicBezTo>
                  <a:cubicBezTo>
                    <a:pt x="2223" y="1045"/>
                    <a:pt x="2222" y="1025"/>
                    <a:pt x="2219" y="1005"/>
                  </a:cubicBezTo>
                  <a:cubicBezTo>
                    <a:pt x="2216" y="983"/>
                    <a:pt x="2211" y="989"/>
                    <a:pt x="2201" y="969"/>
                  </a:cubicBezTo>
                  <a:cubicBezTo>
                    <a:pt x="2190" y="946"/>
                    <a:pt x="2185" y="915"/>
                    <a:pt x="2177" y="891"/>
                  </a:cubicBezTo>
                  <a:cubicBezTo>
                    <a:pt x="2173" y="878"/>
                    <a:pt x="2163" y="868"/>
                    <a:pt x="2159" y="855"/>
                  </a:cubicBezTo>
                  <a:cubicBezTo>
                    <a:pt x="2153" y="815"/>
                    <a:pt x="2135" y="780"/>
                    <a:pt x="2129" y="741"/>
                  </a:cubicBezTo>
                  <a:cubicBezTo>
                    <a:pt x="2127" y="729"/>
                    <a:pt x="2128" y="716"/>
                    <a:pt x="2123" y="705"/>
                  </a:cubicBezTo>
                  <a:cubicBezTo>
                    <a:pt x="2120" y="699"/>
                    <a:pt x="2111" y="697"/>
                    <a:pt x="2105" y="693"/>
                  </a:cubicBezTo>
                  <a:cubicBezTo>
                    <a:pt x="2096" y="679"/>
                    <a:pt x="2099" y="657"/>
                    <a:pt x="2087" y="645"/>
                  </a:cubicBezTo>
                  <a:cubicBezTo>
                    <a:pt x="2069" y="627"/>
                    <a:pt x="1965" y="628"/>
                    <a:pt x="1955" y="627"/>
                  </a:cubicBezTo>
                  <a:cubicBezTo>
                    <a:pt x="1964" y="589"/>
                    <a:pt x="1968" y="589"/>
                    <a:pt x="1955" y="549"/>
                  </a:cubicBezTo>
                  <a:cubicBezTo>
                    <a:pt x="1967" y="547"/>
                    <a:pt x="1983" y="552"/>
                    <a:pt x="1991" y="543"/>
                  </a:cubicBezTo>
                  <a:cubicBezTo>
                    <a:pt x="2008" y="522"/>
                    <a:pt x="1976" y="507"/>
                    <a:pt x="1967" y="501"/>
                  </a:cubicBezTo>
                  <a:cubicBezTo>
                    <a:pt x="1959" y="486"/>
                    <a:pt x="1957" y="468"/>
                    <a:pt x="1949" y="453"/>
                  </a:cubicBezTo>
                  <a:cubicBezTo>
                    <a:pt x="1936" y="430"/>
                    <a:pt x="1899" y="422"/>
                    <a:pt x="1877" y="411"/>
                  </a:cubicBezTo>
                  <a:cubicBezTo>
                    <a:pt x="1856" y="401"/>
                    <a:pt x="1842" y="382"/>
                    <a:pt x="1823" y="369"/>
                  </a:cubicBezTo>
                  <a:cubicBezTo>
                    <a:pt x="1798" y="331"/>
                    <a:pt x="1775" y="317"/>
                    <a:pt x="1739" y="297"/>
                  </a:cubicBezTo>
                  <a:cubicBezTo>
                    <a:pt x="1696" y="273"/>
                    <a:pt x="1672" y="249"/>
                    <a:pt x="1625" y="237"/>
                  </a:cubicBezTo>
                  <a:cubicBezTo>
                    <a:pt x="1593" y="216"/>
                    <a:pt x="1572" y="207"/>
                    <a:pt x="1535" y="195"/>
                  </a:cubicBezTo>
                  <a:cubicBezTo>
                    <a:pt x="1523" y="191"/>
                    <a:pt x="1511" y="187"/>
                    <a:pt x="1499" y="183"/>
                  </a:cubicBezTo>
                  <a:cubicBezTo>
                    <a:pt x="1493" y="181"/>
                    <a:pt x="1481" y="177"/>
                    <a:pt x="1481" y="177"/>
                  </a:cubicBezTo>
                  <a:cubicBezTo>
                    <a:pt x="1474" y="166"/>
                    <a:pt x="1472" y="150"/>
                    <a:pt x="1463" y="141"/>
                  </a:cubicBezTo>
                  <a:cubicBezTo>
                    <a:pt x="1459" y="137"/>
                    <a:pt x="1451" y="138"/>
                    <a:pt x="1445" y="135"/>
                  </a:cubicBezTo>
                  <a:cubicBezTo>
                    <a:pt x="1432" y="128"/>
                    <a:pt x="1421" y="119"/>
                    <a:pt x="1409" y="111"/>
                  </a:cubicBezTo>
                  <a:cubicBezTo>
                    <a:pt x="1403" y="107"/>
                    <a:pt x="1391" y="99"/>
                    <a:pt x="1391" y="99"/>
                  </a:cubicBezTo>
                  <a:cubicBezTo>
                    <a:pt x="1367" y="107"/>
                    <a:pt x="1357" y="111"/>
                    <a:pt x="1349" y="135"/>
                  </a:cubicBezTo>
                  <a:cubicBezTo>
                    <a:pt x="1373" y="170"/>
                    <a:pt x="1352" y="178"/>
                    <a:pt x="1319" y="189"/>
                  </a:cubicBezTo>
                  <a:cubicBezTo>
                    <a:pt x="1299" y="187"/>
                    <a:pt x="1278" y="189"/>
                    <a:pt x="1259" y="183"/>
                  </a:cubicBezTo>
                  <a:cubicBezTo>
                    <a:pt x="1245" y="179"/>
                    <a:pt x="1223" y="159"/>
                    <a:pt x="1223" y="159"/>
                  </a:cubicBezTo>
                  <a:cubicBezTo>
                    <a:pt x="1247" y="86"/>
                    <a:pt x="1231" y="94"/>
                    <a:pt x="1169" y="87"/>
                  </a:cubicBezTo>
                  <a:cubicBezTo>
                    <a:pt x="1167" y="77"/>
                    <a:pt x="1170" y="64"/>
                    <a:pt x="1163" y="57"/>
                  </a:cubicBezTo>
                  <a:cubicBezTo>
                    <a:pt x="1152" y="46"/>
                    <a:pt x="1103" y="38"/>
                    <a:pt x="1085" y="33"/>
                  </a:cubicBezTo>
                  <a:cubicBezTo>
                    <a:pt x="975" y="38"/>
                    <a:pt x="948" y="0"/>
                    <a:pt x="923" y="75"/>
                  </a:cubicBezTo>
                  <a:cubicBezTo>
                    <a:pt x="811" y="68"/>
                    <a:pt x="852" y="66"/>
                    <a:pt x="779" y="51"/>
                  </a:cubicBezTo>
                  <a:cubicBezTo>
                    <a:pt x="769" y="53"/>
                    <a:pt x="758" y="52"/>
                    <a:pt x="749" y="57"/>
                  </a:cubicBezTo>
                  <a:cubicBezTo>
                    <a:pt x="741" y="61"/>
                    <a:pt x="738" y="70"/>
                    <a:pt x="731" y="75"/>
                  </a:cubicBezTo>
                  <a:cubicBezTo>
                    <a:pt x="715" y="89"/>
                    <a:pt x="695" y="93"/>
                    <a:pt x="677" y="105"/>
                  </a:cubicBezTo>
                  <a:cubicBezTo>
                    <a:pt x="650" y="146"/>
                    <a:pt x="655" y="142"/>
                    <a:pt x="611" y="153"/>
                  </a:cubicBezTo>
                  <a:cubicBezTo>
                    <a:pt x="563" y="185"/>
                    <a:pt x="621" y="143"/>
                    <a:pt x="581" y="183"/>
                  </a:cubicBezTo>
                  <a:cubicBezTo>
                    <a:pt x="561" y="203"/>
                    <a:pt x="567" y="189"/>
                    <a:pt x="545" y="201"/>
                  </a:cubicBezTo>
                  <a:cubicBezTo>
                    <a:pt x="502" y="225"/>
                    <a:pt x="499" y="242"/>
                    <a:pt x="449" y="255"/>
                  </a:cubicBezTo>
                  <a:cubicBezTo>
                    <a:pt x="411" y="281"/>
                    <a:pt x="432" y="282"/>
                    <a:pt x="413" y="315"/>
                  </a:cubicBezTo>
                  <a:cubicBezTo>
                    <a:pt x="399" y="340"/>
                    <a:pt x="336" y="343"/>
                    <a:pt x="311" y="351"/>
                  </a:cubicBezTo>
                  <a:cubicBezTo>
                    <a:pt x="298" y="371"/>
                    <a:pt x="299" y="365"/>
                    <a:pt x="293" y="387"/>
                  </a:cubicBezTo>
                  <a:cubicBezTo>
                    <a:pt x="291" y="395"/>
                    <a:pt x="293" y="406"/>
                    <a:pt x="287" y="411"/>
                  </a:cubicBezTo>
                  <a:cubicBezTo>
                    <a:pt x="277" y="419"/>
                    <a:pt x="262" y="416"/>
                    <a:pt x="251" y="423"/>
                  </a:cubicBezTo>
                  <a:cubicBezTo>
                    <a:pt x="232" y="436"/>
                    <a:pt x="216" y="452"/>
                    <a:pt x="197" y="465"/>
                  </a:cubicBezTo>
                  <a:cubicBezTo>
                    <a:pt x="165" y="513"/>
                    <a:pt x="207" y="455"/>
                    <a:pt x="167" y="495"/>
                  </a:cubicBezTo>
                  <a:cubicBezTo>
                    <a:pt x="152" y="510"/>
                    <a:pt x="144" y="537"/>
                    <a:pt x="131" y="555"/>
                  </a:cubicBezTo>
                  <a:cubicBezTo>
                    <a:pt x="114" y="607"/>
                    <a:pt x="131" y="550"/>
                    <a:pt x="119" y="669"/>
                  </a:cubicBezTo>
                  <a:cubicBezTo>
                    <a:pt x="117" y="693"/>
                    <a:pt x="104" y="717"/>
                    <a:pt x="101" y="741"/>
                  </a:cubicBezTo>
                  <a:cubicBezTo>
                    <a:pt x="98" y="759"/>
                    <a:pt x="98" y="777"/>
                    <a:pt x="95" y="795"/>
                  </a:cubicBezTo>
                  <a:cubicBezTo>
                    <a:pt x="92" y="811"/>
                    <a:pt x="83" y="843"/>
                    <a:pt x="83" y="843"/>
                  </a:cubicBezTo>
                  <a:cubicBezTo>
                    <a:pt x="85" y="865"/>
                    <a:pt x="82" y="888"/>
                    <a:pt x="89" y="909"/>
                  </a:cubicBezTo>
                  <a:cubicBezTo>
                    <a:pt x="91" y="915"/>
                    <a:pt x="102" y="911"/>
                    <a:pt x="107" y="915"/>
                  </a:cubicBezTo>
                  <a:cubicBezTo>
                    <a:pt x="118" y="923"/>
                    <a:pt x="121" y="939"/>
                    <a:pt x="125" y="951"/>
                  </a:cubicBezTo>
                  <a:cubicBezTo>
                    <a:pt x="123" y="977"/>
                    <a:pt x="140" y="1070"/>
                    <a:pt x="89" y="1053"/>
                  </a:cubicBezTo>
                  <a:cubicBezTo>
                    <a:pt x="72" y="1057"/>
                    <a:pt x="0" y="1067"/>
                    <a:pt x="71" y="1119"/>
                  </a:cubicBezTo>
                  <a:cubicBezTo>
                    <a:pt x="94" y="1136"/>
                    <a:pt x="127" y="1123"/>
                    <a:pt x="155" y="1125"/>
                  </a:cubicBezTo>
                  <a:cubicBezTo>
                    <a:pt x="164" y="1161"/>
                    <a:pt x="170" y="1214"/>
                    <a:pt x="131" y="1227"/>
                  </a:cubicBezTo>
                  <a:cubicBezTo>
                    <a:pt x="127" y="1239"/>
                    <a:pt x="123" y="1251"/>
                    <a:pt x="119" y="1263"/>
                  </a:cubicBezTo>
                  <a:cubicBezTo>
                    <a:pt x="117" y="1269"/>
                    <a:pt x="113" y="1281"/>
                    <a:pt x="113" y="1281"/>
                  </a:cubicBezTo>
                  <a:cubicBezTo>
                    <a:pt x="115" y="1299"/>
                    <a:pt x="112" y="1318"/>
                    <a:pt x="119" y="1335"/>
                  </a:cubicBezTo>
                  <a:cubicBezTo>
                    <a:pt x="121" y="1341"/>
                    <a:pt x="134" y="1336"/>
                    <a:pt x="137" y="1341"/>
                  </a:cubicBezTo>
                  <a:cubicBezTo>
                    <a:pt x="158" y="1377"/>
                    <a:pt x="138" y="1416"/>
                    <a:pt x="179" y="1443"/>
                  </a:cubicBezTo>
                  <a:cubicBezTo>
                    <a:pt x="206" y="1438"/>
                    <a:pt x="230" y="1432"/>
                    <a:pt x="257" y="1425"/>
                  </a:cubicBezTo>
                  <a:cubicBezTo>
                    <a:pt x="271" y="1447"/>
                    <a:pt x="291" y="1477"/>
                    <a:pt x="311" y="1491"/>
                  </a:cubicBezTo>
                  <a:cubicBezTo>
                    <a:pt x="325" y="1487"/>
                    <a:pt x="341" y="1487"/>
                    <a:pt x="353" y="1479"/>
                  </a:cubicBezTo>
                  <a:cubicBezTo>
                    <a:pt x="358" y="1476"/>
                    <a:pt x="353" y="1463"/>
                    <a:pt x="359" y="1461"/>
                  </a:cubicBezTo>
                  <a:cubicBezTo>
                    <a:pt x="371" y="1458"/>
                    <a:pt x="383" y="1465"/>
                    <a:pt x="395" y="1467"/>
                  </a:cubicBezTo>
                  <a:cubicBezTo>
                    <a:pt x="402" y="1489"/>
                    <a:pt x="417" y="1516"/>
                    <a:pt x="401" y="1539"/>
                  </a:cubicBezTo>
                  <a:cubicBezTo>
                    <a:pt x="393" y="1551"/>
                    <a:pt x="365" y="1563"/>
                    <a:pt x="365" y="1563"/>
                  </a:cubicBezTo>
                  <a:cubicBezTo>
                    <a:pt x="360" y="1614"/>
                    <a:pt x="335" y="1674"/>
                    <a:pt x="353" y="1725"/>
                  </a:cubicBezTo>
                  <a:cubicBezTo>
                    <a:pt x="356" y="1733"/>
                    <a:pt x="369" y="1730"/>
                    <a:pt x="377" y="1731"/>
                  </a:cubicBezTo>
                  <a:cubicBezTo>
                    <a:pt x="401" y="1734"/>
                    <a:pt x="425" y="1735"/>
                    <a:pt x="449" y="1737"/>
                  </a:cubicBezTo>
                  <a:cubicBezTo>
                    <a:pt x="454" y="1752"/>
                    <a:pt x="462" y="1802"/>
                    <a:pt x="485" y="1809"/>
                  </a:cubicBezTo>
                  <a:cubicBezTo>
                    <a:pt x="504" y="1815"/>
                    <a:pt x="525" y="1813"/>
                    <a:pt x="545" y="1815"/>
                  </a:cubicBezTo>
                  <a:cubicBezTo>
                    <a:pt x="576" y="1862"/>
                    <a:pt x="564" y="1837"/>
                    <a:pt x="581" y="1887"/>
                  </a:cubicBezTo>
                  <a:cubicBezTo>
                    <a:pt x="586" y="1901"/>
                    <a:pt x="605" y="1903"/>
                    <a:pt x="617" y="1911"/>
                  </a:cubicBezTo>
                  <a:cubicBezTo>
                    <a:pt x="624" y="1916"/>
                    <a:pt x="628" y="1924"/>
                    <a:pt x="635" y="1929"/>
                  </a:cubicBezTo>
                  <a:cubicBezTo>
                    <a:pt x="646" y="1938"/>
                    <a:pt x="671" y="1953"/>
                    <a:pt x="671" y="1953"/>
                  </a:cubicBezTo>
                  <a:cubicBezTo>
                    <a:pt x="692" y="1984"/>
                    <a:pt x="760" y="1995"/>
                    <a:pt x="797" y="2001"/>
                  </a:cubicBezTo>
                  <a:cubicBezTo>
                    <a:pt x="827" y="2021"/>
                    <a:pt x="826" y="2061"/>
                    <a:pt x="863" y="2073"/>
                  </a:cubicBezTo>
                  <a:cubicBezTo>
                    <a:pt x="931" y="2071"/>
                    <a:pt x="1000" y="2078"/>
                    <a:pt x="1067" y="2067"/>
                  </a:cubicBezTo>
                  <a:cubicBezTo>
                    <a:pt x="1077" y="2065"/>
                    <a:pt x="1072" y="2047"/>
                    <a:pt x="1073" y="2037"/>
                  </a:cubicBezTo>
                  <a:cubicBezTo>
                    <a:pt x="1076" y="2017"/>
                    <a:pt x="1071" y="1996"/>
                    <a:pt x="1079" y="1977"/>
                  </a:cubicBezTo>
                  <a:cubicBezTo>
                    <a:pt x="1091" y="1949"/>
                    <a:pt x="1258" y="1942"/>
                    <a:pt x="1271" y="1941"/>
                  </a:cubicBezTo>
                  <a:cubicBezTo>
                    <a:pt x="1281" y="1939"/>
                    <a:pt x="1295" y="1927"/>
                    <a:pt x="1301" y="1935"/>
                  </a:cubicBezTo>
                  <a:cubicBezTo>
                    <a:pt x="1304" y="1939"/>
                    <a:pt x="1278" y="1996"/>
                    <a:pt x="1271" y="2001"/>
                  </a:cubicBezTo>
                  <a:cubicBezTo>
                    <a:pt x="1253" y="2014"/>
                    <a:pt x="1225" y="2016"/>
                    <a:pt x="1205" y="2019"/>
                  </a:cubicBezTo>
                  <a:cubicBezTo>
                    <a:pt x="1188" y="2045"/>
                    <a:pt x="1192" y="2056"/>
                    <a:pt x="1217" y="2073"/>
                  </a:cubicBezTo>
                  <a:cubicBezTo>
                    <a:pt x="1239" y="2071"/>
                    <a:pt x="1262" y="2073"/>
                    <a:pt x="1283" y="2067"/>
                  </a:cubicBezTo>
                  <a:cubicBezTo>
                    <a:pt x="1310" y="2059"/>
                    <a:pt x="1295" y="2046"/>
                    <a:pt x="1307" y="2031"/>
                  </a:cubicBezTo>
                  <a:cubicBezTo>
                    <a:pt x="1325" y="2008"/>
                    <a:pt x="1376" y="2009"/>
                    <a:pt x="1397" y="2007"/>
                  </a:cubicBezTo>
                  <a:cubicBezTo>
                    <a:pt x="1483" y="1921"/>
                    <a:pt x="1403" y="2017"/>
                    <a:pt x="1451" y="1893"/>
                  </a:cubicBezTo>
                  <a:cubicBezTo>
                    <a:pt x="1453" y="1887"/>
                    <a:pt x="1505" y="1882"/>
                    <a:pt x="1517" y="1881"/>
                  </a:cubicBezTo>
                  <a:cubicBezTo>
                    <a:pt x="1528" y="1835"/>
                    <a:pt x="1539" y="1806"/>
                    <a:pt x="1583" y="1791"/>
                  </a:cubicBezTo>
                  <a:cubicBezTo>
                    <a:pt x="1593" y="1793"/>
                    <a:pt x="1624" y="1796"/>
                    <a:pt x="1637" y="1803"/>
                  </a:cubicBezTo>
                  <a:cubicBezTo>
                    <a:pt x="1650" y="1810"/>
                    <a:pt x="1673" y="1827"/>
                    <a:pt x="1673" y="1827"/>
                  </a:cubicBezTo>
                  <a:cubicBezTo>
                    <a:pt x="1767" y="1819"/>
                    <a:pt x="1784" y="1821"/>
                    <a:pt x="1853" y="1767"/>
                  </a:cubicBezTo>
                  <a:cubicBezTo>
                    <a:pt x="1864" y="1758"/>
                    <a:pt x="1875" y="1746"/>
                    <a:pt x="1889" y="1743"/>
                  </a:cubicBezTo>
                  <a:cubicBezTo>
                    <a:pt x="1909" y="1739"/>
                    <a:pt x="1949" y="1731"/>
                    <a:pt x="1949" y="1731"/>
                  </a:cubicBezTo>
                  <a:cubicBezTo>
                    <a:pt x="1955" y="1727"/>
                    <a:pt x="1962" y="1725"/>
                    <a:pt x="1967" y="1719"/>
                  </a:cubicBezTo>
                  <a:cubicBezTo>
                    <a:pt x="1982" y="1700"/>
                    <a:pt x="1959" y="1678"/>
                    <a:pt x="1997" y="1665"/>
                  </a:cubicBezTo>
                  <a:cubicBezTo>
                    <a:pt x="2017" y="1658"/>
                    <a:pt x="2039" y="1651"/>
                    <a:pt x="2057" y="1641"/>
                  </a:cubicBezTo>
                  <a:cubicBezTo>
                    <a:pt x="2070" y="1634"/>
                    <a:pt x="2093" y="1617"/>
                    <a:pt x="2093" y="1617"/>
                  </a:cubicBezTo>
                  <a:cubicBezTo>
                    <a:pt x="2093" y="1613"/>
                    <a:pt x="2073" y="1523"/>
                    <a:pt x="2087" y="1509"/>
                  </a:cubicBezTo>
                  <a:cubicBezTo>
                    <a:pt x="2101" y="1495"/>
                    <a:pt x="2125" y="1496"/>
                    <a:pt x="2141" y="1485"/>
                  </a:cubicBezTo>
                  <a:cubicBezTo>
                    <a:pt x="2143" y="1469"/>
                    <a:pt x="2141" y="1452"/>
                    <a:pt x="2147" y="1437"/>
                  </a:cubicBezTo>
                  <a:cubicBezTo>
                    <a:pt x="2156" y="1412"/>
                    <a:pt x="2198" y="1409"/>
                    <a:pt x="2219" y="1395"/>
                  </a:cubicBezTo>
                  <a:cubicBezTo>
                    <a:pt x="2234" y="1372"/>
                    <a:pt x="2240" y="1346"/>
                    <a:pt x="2255" y="1323"/>
                  </a:cubicBezTo>
                  <a:cubicBezTo>
                    <a:pt x="2264" y="1161"/>
                    <a:pt x="2261" y="1251"/>
                    <a:pt x="2261" y="1053"/>
                  </a:cubicBez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94080" y="6364080"/>
              <a:ext cx="220680" cy="241200"/>
            </a:xfrm>
            <a:custGeom>
              <a:avLst/>
              <a:gdLst/>
              <a:ahLst/>
              <a:rect l="l" t="t" r="r" b="b"/>
              <a:pathLst>
                <a:path w="148" h="152">
                  <a:moveTo>
                    <a:pt x="4" y="54"/>
                  </a:moveTo>
                  <a:cubicBezTo>
                    <a:pt x="6" y="78"/>
                    <a:pt x="0" y="104"/>
                    <a:pt x="10" y="126"/>
                  </a:cubicBezTo>
                  <a:cubicBezTo>
                    <a:pt x="14" y="135"/>
                    <a:pt x="32" y="126"/>
                    <a:pt x="40" y="132"/>
                  </a:cubicBezTo>
                  <a:cubicBezTo>
                    <a:pt x="45" y="136"/>
                    <a:pt x="44" y="144"/>
                    <a:pt x="46" y="150"/>
                  </a:cubicBezTo>
                  <a:cubicBezTo>
                    <a:pt x="58" y="148"/>
                    <a:pt x="73" y="152"/>
                    <a:pt x="82" y="144"/>
                  </a:cubicBezTo>
                  <a:cubicBezTo>
                    <a:pt x="87" y="140"/>
                    <a:pt x="76" y="132"/>
                    <a:pt x="76" y="126"/>
                  </a:cubicBezTo>
                  <a:cubicBezTo>
                    <a:pt x="76" y="120"/>
                    <a:pt x="77" y="112"/>
                    <a:pt x="82" y="108"/>
                  </a:cubicBezTo>
                  <a:cubicBezTo>
                    <a:pt x="94" y="100"/>
                    <a:pt x="133" y="93"/>
                    <a:pt x="148" y="90"/>
                  </a:cubicBezTo>
                  <a:cubicBezTo>
                    <a:pt x="135" y="25"/>
                    <a:pt x="125" y="37"/>
                    <a:pt x="52" y="30"/>
                  </a:cubicBezTo>
                  <a:cubicBezTo>
                    <a:pt x="44" y="18"/>
                    <a:pt x="40" y="0"/>
                    <a:pt x="22" y="18"/>
                  </a:cubicBezTo>
                  <a:cubicBezTo>
                    <a:pt x="18" y="22"/>
                    <a:pt x="19" y="30"/>
                    <a:pt x="16" y="36"/>
                  </a:cubicBezTo>
                  <a:cubicBezTo>
                    <a:pt x="13" y="42"/>
                    <a:pt x="4" y="54"/>
                    <a:pt x="4" y="5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33760" y="6449760"/>
              <a:ext cx="162000" cy="500040"/>
            </a:xfrm>
            <a:custGeom>
              <a:avLst/>
              <a:gdLst/>
              <a:ahLst/>
              <a:rect l="l" t="t" r="r" b="b"/>
              <a:pathLst>
                <a:path w="108" h="315">
                  <a:moveTo>
                    <a:pt x="88" y="6"/>
                  </a:moveTo>
                  <a:cubicBezTo>
                    <a:pt x="73" y="35"/>
                    <a:pt x="66" y="31"/>
                    <a:pt x="40" y="48"/>
                  </a:cubicBezTo>
                  <a:cubicBezTo>
                    <a:pt x="0" y="109"/>
                    <a:pt x="32" y="138"/>
                    <a:pt x="64" y="186"/>
                  </a:cubicBezTo>
                  <a:cubicBezTo>
                    <a:pt x="56" y="236"/>
                    <a:pt x="54" y="220"/>
                    <a:pt x="22" y="252"/>
                  </a:cubicBezTo>
                  <a:cubicBezTo>
                    <a:pt x="31" y="279"/>
                    <a:pt x="43" y="281"/>
                    <a:pt x="70" y="288"/>
                  </a:cubicBezTo>
                  <a:cubicBezTo>
                    <a:pt x="87" y="236"/>
                    <a:pt x="64" y="315"/>
                    <a:pt x="70" y="192"/>
                  </a:cubicBezTo>
                  <a:cubicBezTo>
                    <a:pt x="71" y="179"/>
                    <a:pt x="82" y="156"/>
                    <a:pt x="82" y="156"/>
                  </a:cubicBezTo>
                  <a:cubicBezTo>
                    <a:pt x="74" y="133"/>
                    <a:pt x="59" y="128"/>
                    <a:pt x="46" y="108"/>
                  </a:cubicBezTo>
                  <a:cubicBezTo>
                    <a:pt x="77" y="102"/>
                    <a:pt x="89" y="104"/>
                    <a:pt x="106" y="78"/>
                  </a:cubicBezTo>
                  <a:cubicBezTo>
                    <a:pt x="104" y="56"/>
                    <a:pt x="108" y="33"/>
                    <a:pt x="100" y="12"/>
                  </a:cubicBezTo>
                  <a:cubicBezTo>
                    <a:pt x="97" y="4"/>
                    <a:pt x="85" y="0"/>
                    <a:pt x="76" y="0"/>
                  </a:cubicBezTo>
                  <a:cubicBezTo>
                    <a:pt x="69" y="0"/>
                    <a:pt x="88" y="8"/>
                    <a:pt x="94" y="12"/>
                  </a:cubicBezTo>
                  <a:cubicBezTo>
                    <a:pt x="86" y="14"/>
                    <a:pt x="73" y="10"/>
                    <a:pt x="70" y="18"/>
                  </a:cubicBezTo>
                  <a:cubicBezTo>
                    <a:pt x="68" y="25"/>
                    <a:pt x="82" y="34"/>
                    <a:pt x="88" y="30"/>
                  </a:cubicBezTo>
                  <a:cubicBezTo>
                    <a:pt x="95" y="26"/>
                    <a:pt x="88" y="14"/>
                    <a:pt x="88" y="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38640" y="5841720"/>
              <a:ext cx="131760" cy="217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22" y="47"/>
                  </a:moveTo>
                  <a:cubicBezTo>
                    <a:pt x="0" y="81"/>
                    <a:pt x="5" y="95"/>
                    <a:pt x="10" y="137"/>
                  </a:cubicBezTo>
                  <a:cubicBezTo>
                    <a:pt x="60" y="127"/>
                    <a:pt x="28" y="125"/>
                    <a:pt x="64" y="101"/>
                  </a:cubicBezTo>
                  <a:cubicBezTo>
                    <a:pt x="69" y="74"/>
                    <a:pt x="73" y="58"/>
                    <a:pt x="88" y="35"/>
                  </a:cubicBezTo>
                  <a:cubicBezTo>
                    <a:pt x="65" y="20"/>
                    <a:pt x="43" y="0"/>
                    <a:pt x="10" y="29"/>
                  </a:cubicBezTo>
                  <a:cubicBezTo>
                    <a:pt x="0" y="37"/>
                    <a:pt x="22" y="78"/>
                    <a:pt x="22" y="65"/>
                  </a:cubicBezTo>
                  <a:cubicBezTo>
                    <a:pt x="22" y="59"/>
                    <a:pt x="22" y="53"/>
                    <a:pt x="22" y="4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19440" y="5659200"/>
              <a:ext cx="1049400" cy="1590840"/>
            </a:xfrm>
            <a:custGeom>
              <a:avLst/>
              <a:gdLst/>
              <a:ahLst/>
              <a:rect l="l" t="t" r="r" b="b"/>
              <a:pathLst>
                <a:path w="703" h="1002">
                  <a:moveTo>
                    <a:pt x="3" y="312"/>
                  </a:moveTo>
                  <a:cubicBezTo>
                    <a:pt x="23" y="342"/>
                    <a:pt x="23" y="374"/>
                    <a:pt x="33" y="408"/>
                  </a:cubicBezTo>
                  <a:cubicBezTo>
                    <a:pt x="37" y="420"/>
                    <a:pt x="45" y="444"/>
                    <a:pt x="45" y="444"/>
                  </a:cubicBezTo>
                  <a:cubicBezTo>
                    <a:pt x="39" y="480"/>
                    <a:pt x="38" y="490"/>
                    <a:pt x="9" y="510"/>
                  </a:cubicBezTo>
                  <a:cubicBezTo>
                    <a:pt x="9" y="511"/>
                    <a:pt x="14" y="571"/>
                    <a:pt x="21" y="576"/>
                  </a:cubicBezTo>
                  <a:cubicBezTo>
                    <a:pt x="31" y="583"/>
                    <a:pt x="45" y="584"/>
                    <a:pt x="57" y="588"/>
                  </a:cubicBezTo>
                  <a:cubicBezTo>
                    <a:pt x="63" y="590"/>
                    <a:pt x="75" y="594"/>
                    <a:pt x="75" y="594"/>
                  </a:cubicBezTo>
                  <a:cubicBezTo>
                    <a:pt x="94" y="651"/>
                    <a:pt x="88" y="617"/>
                    <a:pt x="81" y="696"/>
                  </a:cubicBezTo>
                  <a:cubicBezTo>
                    <a:pt x="98" y="746"/>
                    <a:pt x="87" y="733"/>
                    <a:pt x="141" y="744"/>
                  </a:cubicBezTo>
                  <a:cubicBezTo>
                    <a:pt x="155" y="787"/>
                    <a:pt x="142" y="787"/>
                    <a:pt x="171" y="768"/>
                  </a:cubicBezTo>
                  <a:cubicBezTo>
                    <a:pt x="192" y="725"/>
                    <a:pt x="199" y="732"/>
                    <a:pt x="249" y="738"/>
                  </a:cubicBezTo>
                  <a:cubicBezTo>
                    <a:pt x="271" y="804"/>
                    <a:pt x="234" y="706"/>
                    <a:pt x="273" y="768"/>
                  </a:cubicBezTo>
                  <a:cubicBezTo>
                    <a:pt x="284" y="785"/>
                    <a:pt x="290" y="819"/>
                    <a:pt x="297" y="840"/>
                  </a:cubicBezTo>
                  <a:cubicBezTo>
                    <a:pt x="308" y="872"/>
                    <a:pt x="304" y="911"/>
                    <a:pt x="315" y="942"/>
                  </a:cubicBezTo>
                  <a:cubicBezTo>
                    <a:pt x="320" y="956"/>
                    <a:pt x="331" y="966"/>
                    <a:pt x="339" y="978"/>
                  </a:cubicBezTo>
                  <a:cubicBezTo>
                    <a:pt x="345" y="987"/>
                    <a:pt x="429" y="996"/>
                    <a:pt x="429" y="996"/>
                  </a:cubicBezTo>
                  <a:cubicBezTo>
                    <a:pt x="435" y="998"/>
                    <a:pt x="441" y="1002"/>
                    <a:pt x="447" y="1002"/>
                  </a:cubicBezTo>
                  <a:cubicBezTo>
                    <a:pt x="500" y="1002"/>
                    <a:pt x="444" y="985"/>
                    <a:pt x="477" y="948"/>
                  </a:cubicBezTo>
                  <a:cubicBezTo>
                    <a:pt x="486" y="937"/>
                    <a:pt x="505" y="944"/>
                    <a:pt x="519" y="942"/>
                  </a:cubicBezTo>
                  <a:cubicBezTo>
                    <a:pt x="521" y="936"/>
                    <a:pt x="521" y="928"/>
                    <a:pt x="525" y="924"/>
                  </a:cubicBezTo>
                  <a:cubicBezTo>
                    <a:pt x="535" y="914"/>
                    <a:pt x="561" y="900"/>
                    <a:pt x="561" y="900"/>
                  </a:cubicBezTo>
                  <a:cubicBezTo>
                    <a:pt x="571" y="869"/>
                    <a:pt x="596" y="842"/>
                    <a:pt x="555" y="828"/>
                  </a:cubicBezTo>
                  <a:cubicBezTo>
                    <a:pt x="550" y="832"/>
                    <a:pt x="519" y="867"/>
                    <a:pt x="519" y="828"/>
                  </a:cubicBezTo>
                  <a:cubicBezTo>
                    <a:pt x="519" y="805"/>
                    <a:pt x="567" y="780"/>
                    <a:pt x="567" y="780"/>
                  </a:cubicBezTo>
                  <a:cubicBezTo>
                    <a:pt x="569" y="764"/>
                    <a:pt x="569" y="748"/>
                    <a:pt x="573" y="732"/>
                  </a:cubicBezTo>
                  <a:cubicBezTo>
                    <a:pt x="575" y="725"/>
                    <a:pt x="583" y="721"/>
                    <a:pt x="585" y="714"/>
                  </a:cubicBezTo>
                  <a:cubicBezTo>
                    <a:pt x="593" y="684"/>
                    <a:pt x="584" y="648"/>
                    <a:pt x="603" y="624"/>
                  </a:cubicBezTo>
                  <a:cubicBezTo>
                    <a:pt x="619" y="604"/>
                    <a:pt x="653" y="602"/>
                    <a:pt x="675" y="588"/>
                  </a:cubicBezTo>
                  <a:cubicBezTo>
                    <a:pt x="687" y="552"/>
                    <a:pt x="703" y="525"/>
                    <a:pt x="663" y="498"/>
                  </a:cubicBezTo>
                  <a:cubicBezTo>
                    <a:pt x="644" y="441"/>
                    <a:pt x="555" y="458"/>
                    <a:pt x="513" y="456"/>
                  </a:cubicBezTo>
                  <a:cubicBezTo>
                    <a:pt x="504" y="442"/>
                    <a:pt x="488" y="427"/>
                    <a:pt x="507" y="408"/>
                  </a:cubicBezTo>
                  <a:cubicBezTo>
                    <a:pt x="516" y="399"/>
                    <a:pt x="543" y="396"/>
                    <a:pt x="543" y="396"/>
                  </a:cubicBezTo>
                  <a:cubicBezTo>
                    <a:pt x="541" y="376"/>
                    <a:pt x="544" y="355"/>
                    <a:pt x="537" y="336"/>
                  </a:cubicBezTo>
                  <a:cubicBezTo>
                    <a:pt x="535" y="330"/>
                    <a:pt x="520" y="336"/>
                    <a:pt x="519" y="330"/>
                  </a:cubicBezTo>
                  <a:cubicBezTo>
                    <a:pt x="512" y="299"/>
                    <a:pt x="516" y="266"/>
                    <a:pt x="513" y="234"/>
                  </a:cubicBezTo>
                  <a:cubicBezTo>
                    <a:pt x="510" y="198"/>
                    <a:pt x="489" y="167"/>
                    <a:pt x="483" y="132"/>
                  </a:cubicBezTo>
                  <a:cubicBezTo>
                    <a:pt x="478" y="104"/>
                    <a:pt x="471" y="73"/>
                    <a:pt x="447" y="54"/>
                  </a:cubicBezTo>
                  <a:cubicBezTo>
                    <a:pt x="419" y="31"/>
                    <a:pt x="370" y="33"/>
                    <a:pt x="339" y="30"/>
                  </a:cubicBezTo>
                  <a:cubicBezTo>
                    <a:pt x="333" y="28"/>
                    <a:pt x="327" y="27"/>
                    <a:pt x="321" y="24"/>
                  </a:cubicBezTo>
                  <a:cubicBezTo>
                    <a:pt x="315" y="21"/>
                    <a:pt x="310" y="14"/>
                    <a:pt x="303" y="12"/>
                  </a:cubicBezTo>
                  <a:cubicBezTo>
                    <a:pt x="288" y="6"/>
                    <a:pt x="255" y="0"/>
                    <a:pt x="255" y="0"/>
                  </a:cubicBezTo>
                  <a:cubicBezTo>
                    <a:pt x="243" y="4"/>
                    <a:pt x="230" y="5"/>
                    <a:pt x="219" y="12"/>
                  </a:cubicBezTo>
                  <a:cubicBezTo>
                    <a:pt x="213" y="16"/>
                    <a:pt x="208" y="21"/>
                    <a:pt x="201" y="24"/>
                  </a:cubicBezTo>
                  <a:cubicBezTo>
                    <a:pt x="189" y="29"/>
                    <a:pt x="177" y="32"/>
                    <a:pt x="165" y="36"/>
                  </a:cubicBezTo>
                  <a:cubicBezTo>
                    <a:pt x="159" y="38"/>
                    <a:pt x="147" y="42"/>
                    <a:pt x="147" y="42"/>
                  </a:cubicBezTo>
                  <a:cubicBezTo>
                    <a:pt x="136" y="76"/>
                    <a:pt x="125" y="81"/>
                    <a:pt x="93" y="102"/>
                  </a:cubicBezTo>
                  <a:cubicBezTo>
                    <a:pt x="87" y="106"/>
                    <a:pt x="75" y="114"/>
                    <a:pt x="75" y="114"/>
                  </a:cubicBezTo>
                  <a:cubicBezTo>
                    <a:pt x="72" y="135"/>
                    <a:pt x="71" y="176"/>
                    <a:pt x="51" y="192"/>
                  </a:cubicBezTo>
                  <a:cubicBezTo>
                    <a:pt x="41" y="200"/>
                    <a:pt x="26" y="203"/>
                    <a:pt x="15" y="210"/>
                  </a:cubicBezTo>
                  <a:cubicBezTo>
                    <a:pt x="0" y="255"/>
                    <a:pt x="9" y="222"/>
                    <a:pt x="3" y="312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749680" y="5735520"/>
              <a:ext cx="900000" cy="1376280"/>
            </a:xfrm>
            <a:custGeom>
              <a:avLst/>
              <a:gdLst/>
              <a:ahLst/>
              <a:rect l="l" t="t" r="r" b="b"/>
              <a:pathLst>
                <a:path w="601" h="868">
                  <a:moveTo>
                    <a:pt x="223" y="10"/>
                  </a:moveTo>
                  <a:cubicBezTo>
                    <a:pt x="185" y="19"/>
                    <a:pt x="137" y="48"/>
                    <a:pt x="109" y="76"/>
                  </a:cubicBezTo>
                  <a:cubicBezTo>
                    <a:pt x="107" y="82"/>
                    <a:pt x="104" y="88"/>
                    <a:pt x="103" y="94"/>
                  </a:cubicBezTo>
                  <a:cubicBezTo>
                    <a:pt x="100" y="116"/>
                    <a:pt x="103" y="139"/>
                    <a:pt x="97" y="160"/>
                  </a:cubicBezTo>
                  <a:cubicBezTo>
                    <a:pt x="90" y="183"/>
                    <a:pt x="55" y="184"/>
                    <a:pt x="37" y="190"/>
                  </a:cubicBezTo>
                  <a:cubicBezTo>
                    <a:pt x="25" y="202"/>
                    <a:pt x="0" y="209"/>
                    <a:pt x="1" y="226"/>
                  </a:cubicBezTo>
                  <a:cubicBezTo>
                    <a:pt x="3" y="254"/>
                    <a:pt x="3" y="282"/>
                    <a:pt x="7" y="310"/>
                  </a:cubicBezTo>
                  <a:cubicBezTo>
                    <a:pt x="15" y="365"/>
                    <a:pt x="62" y="403"/>
                    <a:pt x="79" y="454"/>
                  </a:cubicBezTo>
                  <a:cubicBezTo>
                    <a:pt x="81" y="502"/>
                    <a:pt x="76" y="551"/>
                    <a:pt x="85" y="598"/>
                  </a:cubicBezTo>
                  <a:cubicBezTo>
                    <a:pt x="90" y="624"/>
                    <a:pt x="157" y="628"/>
                    <a:pt x="157" y="628"/>
                  </a:cubicBezTo>
                  <a:cubicBezTo>
                    <a:pt x="171" y="670"/>
                    <a:pt x="192" y="675"/>
                    <a:pt x="235" y="682"/>
                  </a:cubicBezTo>
                  <a:cubicBezTo>
                    <a:pt x="243" y="688"/>
                    <a:pt x="253" y="692"/>
                    <a:pt x="259" y="700"/>
                  </a:cubicBezTo>
                  <a:cubicBezTo>
                    <a:pt x="278" y="723"/>
                    <a:pt x="266" y="764"/>
                    <a:pt x="283" y="790"/>
                  </a:cubicBezTo>
                  <a:cubicBezTo>
                    <a:pt x="291" y="802"/>
                    <a:pt x="299" y="814"/>
                    <a:pt x="307" y="826"/>
                  </a:cubicBezTo>
                  <a:cubicBezTo>
                    <a:pt x="314" y="836"/>
                    <a:pt x="350" y="851"/>
                    <a:pt x="361" y="856"/>
                  </a:cubicBezTo>
                  <a:cubicBezTo>
                    <a:pt x="373" y="861"/>
                    <a:pt x="397" y="868"/>
                    <a:pt x="397" y="868"/>
                  </a:cubicBezTo>
                  <a:cubicBezTo>
                    <a:pt x="502" y="860"/>
                    <a:pt x="488" y="867"/>
                    <a:pt x="475" y="754"/>
                  </a:cubicBezTo>
                  <a:cubicBezTo>
                    <a:pt x="474" y="748"/>
                    <a:pt x="471" y="742"/>
                    <a:pt x="469" y="736"/>
                  </a:cubicBezTo>
                  <a:cubicBezTo>
                    <a:pt x="471" y="724"/>
                    <a:pt x="470" y="711"/>
                    <a:pt x="475" y="700"/>
                  </a:cubicBezTo>
                  <a:cubicBezTo>
                    <a:pt x="481" y="688"/>
                    <a:pt x="518" y="677"/>
                    <a:pt x="529" y="670"/>
                  </a:cubicBezTo>
                  <a:cubicBezTo>
                    <a:pt x="557" y="629"/>
                    <a:pt x="548" y="648"/>
                    <a:pt x="559" y="616"/>
                  </a:cubicBezTo>
                  <a:cubicBezTo>
                    <a:pt x="564" y="569"/>
                    <a:pt x="561" y="540"/>
                    <a:pt x="601" y="514"/>
                  </a:cubicBezTo>
                  <a:cubicBezTo>
                    <a:pt x="599" y="498"/>
                    <a:pt x="601" y="481"/>
                    <a:pt x="595" y="466"/>
                  </a:cubicBezTo>
                  <a:cubicBezTo>
                    <a:pt x="583" y="434"/>
                    <a:pt x="525" y="429"/>
                    <a:pt x="499" y="424"/>
                  </a:cubicBezTo>
                  <a:cubicBezTo>
                    <a:pt x="441" y="389"/>
                    <a:pt x="455" y="385"/>
                    <a:pt x="463" y="304"/>
                  </a:cubicBezTo>
                  <a:cubicBezTo>
                    <a:pt x="466" y="274"/>
                    <a:pt x="471" y="256"/>
                    <a:pt x="487" y="232"/>
                  </a:cubicBezTo>
                  <a:cubicBezTo>
                    <a:pt x="475" y="184"/>
                    <a:pt x="459" y="127"/>
                    <a:pt x="427" y="88"/>
                  </a:cubicBezTo>
                  <a:cubicBezTo>
                    <a:pt x="413" y="71"/>
                    <a:pt x="386" y="61"/>
                    <a:pt x="367" y="52"/>
                  </a:cubicBezTo>
                  <a:cubicBezTo>
                    <a:pt x="304" y="23"/>
                    <a:pt x="296" y="0"/>
                    <a:pt x="223" y="1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75040" y="7030800"/>
              <a:ext cx="201600" cy="247680"/>
            </a:xfrm>
            <a:custGeom>
              <a:avLst/>
              <a:gdLst/>
              <a:ahLst/>
              <a:rect l="l" t="t" r="r" b="b"/>
              <a:pathLst>
                <a:path w="135" h="157">
                  <a:moveTo>
                    <a:pt x="54" y="36"/>
                  </a:moveTo>
                  <a:cubicBezTo>
                    <a:pt x="20" y="25"/>
                    <a:pt x="10" y="41"/>
                    <a:pt x="0" y="72"/>
                  </a:cubicBezTo>
                  <a:cubicBezTo>
                    <a:pt x="14" y="77"/>
                    <a:pt x="30" y="76"/>
                    <a:pt x="42" y="84"/>
                  </a:cubicBezTo>
                  <a:cubicBezTo>
                    <a:pt x="75" y="106"/>
                    <a:pt x="36" y="96"/>
                    <a:pt x="60" y="120"/>
                  </a:cubicBezTo>
                  <a:cubicBezTo>
                    <a:pt x="74" y="134"/>
                    <a:pt x="100" y="129"/>
                    <a:pt x="120" y="132"/>
                  </a:cubicBezTo>
                  <a:cubicBezTo>
                    <a:pt x="124" y="138"/>
                    <a:pt x="131" y="157"/>
                    <a:pt x="132" y="150"/>
                  </a:cubicBezTo>
                  <a:cubicBezTo>
                    <a:pt x="135" y="126"/>
                    <a:pt x="135" y="100"/>
                    <a:pt x="126" y="78"/>
                  </a:cubicBezTo>
                  <a:cubicBezTo>
                    <a:pt x="125" y="75"/>
                    <a:pt x="86" y="63"/>
                    <a:pt x="78" y="60"/>
                  </a:cubicBezTo>
                  <a:cubicBezTo>
                    <a:pt x="76" y="48"/>
                    <a:pt x="78" y="35"/>
                    <a:pt x="72" y="24"/>
                  </a:cubicBezTo>
                  <a:cubicBezTo>
                    <a:pt x="58" y="0"/>
                    <a:pt x="36" y="36"/>
                    <a:pt x="54" y="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8840" y="7635600"/>
              <a:ext cx="155520" cy="2336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7" y="33"/>
                  </a:moveTo>
                  <a:cubicBezTo>
                    <a:pt x="9" y="39"/>
                    <a:pt x="12" y="45"/>
                    <a:pt x="13" y="51"/>
                  </a:cubicBezTo>
                  <a:cubicBezTo>
                    <a:pt x="16" y="69"/>
                    <a:pt x="15" y="87"/>
                    <a:pt x="19" y="105"/>
                  </a:cubicBezTo>
                  <a:cubicBezTo>
                    <a:pt x="24" y="126"/>
                    <a:pt x="67" y="147"/>
                    <a:pt x="67" y="147"/>
                  </a:cubicBezTo>
                  <a:cubicBezTo>
                    <a:pt x="75" y="145"/>
                    <a:pt x="86" y="147"/>
                    <a:pt x="91" y="141"/>
                  </a:cubicBezTo>
                  <a:cubicBezTo>
                    <a:pt x="99" y="131"/>
                    <a:pt x="103" y="105"/>
                    <a:pt x="103" y="105"/>
                  </a:cubicBezTo>
                  <a:cubicBezTo>
                    <a:pt x="92" y="60"/>
                    <a:pt x="74" y="84"/>
                    <a:pt x="61" y="45"/>
                  </a:cubicBezTo>
                  <a:cubicBezTo>
                    <a:pt x="75" y="3"/>
                    <a:pt x="85" y="13"/>
                    <a:pt x="55" y="3"/>
                  </a:cubicBezTo>
                  <a:cubicBezTo>
                    <a:pt x="41" y="5"/>
                    <a:pt x="24" y="0"/>
                    <a:pt x="13" y="9"/>
                  </a:cubicBezTo>
                  <a:cubicBezTo>
                    <a:pt x="3" y="17"/>
                    <a:pt x="5" y="33"/>
                    <a:pt x="1" y="45"/>
                  </a:cubicBezTo>
                  <a:cubicBezTo>
                    <a:pt x="0" y="49"/>
                    <a:pt x="5" y="37"/>
                    <a:pt x="7" y="3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66960" y="5510160"/>
              <a:ext cx="98640" cy="193680"/>
            </a:xfrm>
            <a:custGeom>
              <a:avLst/>
              <a:gdLst/>
              <a:ahLst/>
              <a:rect l="l" t="t" r="r" b="b"/>
              <a:pathLst>
                <a:path w="66" h="122">
                  <a:moveTo>
                    <a:pt x="0" y="46"/>
                  </a:moveTo>
                  <a:cubicBezTo>
                    <a:pt x="9" y="89"/>
                    <a:pt x="6" y="122"/>
                    <a:pt x="48" y="94"/>
                  </a:cubicBezTo>
                  <a:cubicBezTo>
                    <a:pt x="52" y="82"/>
                    <a:pt x="56" y="70"/>
                    <a:pt x="60" y="58"/>
                  </a:cubicBezTo>
                  <a:cubicBezTo>
                    <a:pt x="62" y="52"/>
                    <a:pt x="66" y="40"/>
                    <a:pt x="66" y="40"/>
                  </a:cubicBezTo>
                  <a:cubicBezTo>
                    <a:pt x="53" y="0"/>
                    <a:pt x="20" y="26"/>
                    <a:pt x="0" y="4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78040" y="7283160"/>
              <a:ext cx="130320" cy="128880"/>
            </a:xfrm>
            <a:custGeom>
              <a:avLst/>
              <a:gdLst/>
              <a:ahLst/>
              <a:rect l="l" t="t" r="r" b="b"/>
              <a:pathLst>
                <a:path w="88" h="81">
                  <a:moveTo>
                    <a:pt x="32" y="3"/>
                  </a:moveTo>
                  <a:cubicBezTo>
                    <a:pt x="0" y="51"/>
                    <a:pt x="31" y="62"/>
                    <a:pt x="68" y="81"/>
                  </a:cubicBezTo>
                  <a:cubicBezTo>
                    <a:pt x="85" y="56"/>
                    <a:pt x="88" y="32"/>
                    <a:pt x="56" y="21"/>
                  </a:cubicBezTo>
                  <a:cubicBezTo>
                    <a:pt x="52" y="15"/>
                    <a:pt x="51" y="5"/>
                    <a:pt x="44" y="3"/>
                  </a:cubicBezTo>
                  <a:cubicBezTo>
                    <a:pt x="35" y="0"/>
                    <a:pt x="2" y="18"/>
                    <a:pt x="32" y="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83000" y="5306760"/>
              <a:ext cx="171360" cy="20952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49" y="0"/>
                  </a:moveTo>
                  <a:cubicBezTo>
                    <a:pt x="28" y="14"/>
                    <a:pt x="21" y="24"/>
                    <a:pt x="13" y="48"/>
                  </a:cubicBezTo>
                  <a:cubicBezTo>
                    <a:pt x="23" y="90"/>
                    <a:pt x="0" y="120"/>
                    <a:pt x="49" y="132"/>
                  </a:cubicBezTo>
                  <a:cubicBezTo>
                    <a:pt x="114" y="119"/>
                    <a:pt x="73" y="83"/>
                    <a:pt x="109" y="30"/>
                  </a:cubicBezTo>
                  <a:cubicBezTo>
                    <a:pt x="103" y="28"/>
                    <a:pt x="95" y="28"/>
                    <a:pt x="91" y="24"/>
                  </a:cubicBezTo>
                  <a:cubicBezTo>
                    <a:pt x="87" y="20"/>
                    <a:pt x="90" y="9"/>
                    <a:pt x="85" y="6"/>
                  </a:cubicBezTo>
                  <a:cubicBezTo>
                    <a:pt x="74" y="0"/>
                    <a:pt x="61" y="2"/>
                    <a:pt x="49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43400" y="5763960"/>
              <a:ext cx="260280" cy="201600"/>
            </a:xfrm>
            <a:custGeom>
              <a:avLst/>
              <a:gdLst/>
              <a:ahLst/>
              <a:rect l="l" t="t" r="r" b="b"/>
              <a:pathLst>
                <a:path w="174" h="127">
                  <a:moveTo>
                    <a:pt x="0" y="36"/>
                  </a:moveTo>
                  <a:cubicBezTo>
                    <a:pt x="39" y="41"/>
                    <a:pt x="57" y="35"/>
                    <a:pt x="78" y="66"/>
                  </a:cubicBezTo>
                  <a:cubicBezTo>
                    <a:pt x="84" y="104"/>
                    <a:pt x="82" y="117"/>
                    <a:pt x="120" y="126"/>
                  </a:cubicBezTo>
                  <a:cubicBezTo>
                    <a:pt x="134" y="124"/>
                    <a:pt x="150" y="127"/>
                    <a:pt x="162" y="120"/>
                  </a:cubicBezTo>
                  <a:cubicBezTo>
                    <a:pt x="174" y="112"/>
                    <a:pt x="166" y="80"/>
                    <a:pt x="162" y="72"/>
                  </a:cubicBezTo>
                  <a:cubicBezTo>
                    <a:pt x="149" y="46"/>
                    <a:pt x="130" y="17"/>
                    <a:pt x="108" y="0"/>
                  </a:cubicBezTo>
                  <a:cubicBezTo>
                    <a:pt x="77" y="4"/>
                    <a:pt x="48" y="8"/>
                    <a:pt x="18" y="18"/>
                  </a:cubicBezTo>
                  <a:cubicBezTo>
                    <a:pt x="11" y="40"/>
                    <a:pt x="18" y="36"/>
                    <a:pt x="0" y="36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4720" y="5030640"/>
              <a:ext cx="166680" cy="19692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2" y="0"/>
                  </a:moveTo>
                  <a:cubicBezTo>
                    <a:pt x="4" y="16"/>
                    <a:pt x="1" y="33"/>
                    <a:pt x="8" y="48"/>
                  </a:cubicBezTo>
                  <a:cubicBezTo>
                    <a:pt x="11" y="54"/>
                    <a:pt x="24" y="48"/>
                    <a:pt x="26" y="54"/>
                  </a:cubicBezTo>
                  <a:cubicBezTo>
                    <a:pt x="33" y="75"/>
                    <a:pt x="30" y="98"/>
                    <a:pt x="32" y="120"/>
                  </a:cubicBezTo>
                  <a:cubicBezTo>
                    <a:pt x="56" y="118"/>
                    <a:pt x="82" y="124"/>
                    <a:pt x="104" y="114"/>
                  </a:cubicBezTo>
                  <a:cubicBezTo>
                    <a:pt x="112" y="111"/>
                    <a:pt x="90" y="103"/>
                    <a:pt x="86" y="96"/>
                  </a:cubicBezTo>
                  <a:cubicBezTo>
                    <a:pt x="80" y="85"/>
                    <a:pt x="74" y="60"/>
                    <a:pt x="74" y="60"/>
                  </a:cubicBezTo>
                  <a:cubicBezTo>
                    <a:pt x="76" y="50"/>
                    <a:pt x="76" y="40"/>
                    <a:pt x="80" y="30"/>
                  </a:cubicBezTo>
                  <a:cubicBezTo>
                    <a:pt x="83" y="23"/>
                    <a:pt x="97" y="18"/>
                    <a:pt x="92" y="12"/>
                  </a:cubicBezTo>
                  <a:cubicBezTo>
                    <a:pt x="84" y="2"/>
                    <a:pt x="56" y="0"/>
                    <a:pt x="56" y="0"/>
                  </a:cubicBezTo>
                  <a:cubicBezTo>
                    <a:pt x="0" y="6"/>
                    <a:pt x="2" y="24"/>
                    <a:pt x="2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72160" y="6792840"/>
              <a:ext cx="244440" cy="365040"/>
            </a:xfrm>
            <a:custGeom>
              <a:avLst/>
              <a:gdLst/>
              <a:ahLst/>
              <a:rect l="l" t="t" r="r" b="b"/>
              <a:pathLst>
                <a:path w="164" h="230">
                  <a:moveTo>
                    <a:pt x="38" y="24"/>
                  </a:moveTo>
                  <a:cubicBezTo>
                    <a:pt x="36" y="56"/>
                    <a:pt x="39" y="89"/>
                    <a:pt x="32" y="120"/>
                  </a:cubicBezTo>
                  <a:cubicBezTo>
                    <a:pt x="27" y="140"/>
                    <a:pt x="9" y="154"/>
                    <a:pt x="2" y="174"/>
                  </a:cubicBezTo>
                  <a:cubicBezTo>
                    <a:pt x="4" y="186"/>
                    <a:pt x="0" y="201"/>
                    <a:pt x="8" y="210"/>
                  </a:cubicBezTo>
                  <a:cubicBezTo>
                    <a:pt x="16" y="220"/>
                    <a:pt x="44" y="222"/>
                    <a:pt x="44" y="222"/>
                  </a:cubicBezTo>
                  <a:cubicBezTo>
                    <a:pt x="103" y="210"/>
                    <a:pt x="52" y="230"/>
                    <a:pt x="86" y="162"/>
                  </a:cubicBezTo>
                  <a:cubicBezTo>
                    <a:pt x="90" y="154"/>
                    <a:pt x="163" y="150"/>
                    <a:pt x="164" y="150"/>
                  </a:cubicBezTo>
                  <a:cubicBezTo>
                    <a:pt x="162" y="122"/>
                    <a:pt x="161" y="94"/>
                    <a:pt x="158" y="66"/>
                  </a:cubicBezTo>
                  <a:cubicBezTo>
                    <a:pt x="156" y="50"/>
                    <a:pt x="159" y="28"/>
                    <a:pt x="146" y="18"/>
                  </a:cubicBezTo>
                  <a:cubicBezTo>
                    <a:pt x="130" y="5"/>
                    <a:pt x="86" y="0"/>
                    <a:pt x="86" y="0"/>
                  </a:cubicBezTo>
                  <a:cubicBezTo>
                    <a:pt x="74" y="2"/>
                    <a:pt x="61" y="0"/>
                    <a:pt x="50" y="6"/>
                  </a:cubicBezTo>
                  <a:cubicBezTo>
                    <a:pt x="15" y="26"/>
                    <a:pt x="59" y="24"/>
                    <a:pt x="38" y="2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14720" y="5925960"/>
              <a:ext cx="174960" cy="255600"/>
            </a:xfrm>
            <a:custGeom>
              <a:avLst/>
              <a:gdLst/>
              <a:ahLst/>
              <a:rect l="l" t="t" r="r" b="b"/>
              <a:pathLst>
                <a:path w="118" h="161">
                  <a:moveTo>
                    <a:pt x="13" y="18"/>
                  </a:moveTo>
                  <a:cubicBezTo>
                    <a:pt x="0" y="57"/>
                    <a:pt x="16" y="118"/>
                    <a:pt x="19" y="156"/>
                  </a:cubicBezTo>
                  <a:cubicBezTo>
                    <a:pt x="37" y="154"/>
                    <a:pt x="59" y="161"/>
                    <a:pt x="73" y="150"/>
                  </a:cubicBezTo>
                  <a:cubicBezTo>
                    <a:pt x="86" y="140"/>
                    <a:pt x="77" y="116"/>
                    <a:pt x="85" y="102"/>
                  </a:cubicBezTo>
                  <a:cubicBezTo>
                    <a:pt x="90" y="94"/>
                    <a:pt x="101" y="94"/>
                    <a:pt x="109" y="90"/>
                  </a:cubicBezTo>
                  <a:cubicBezTo>
                    <a:pt x="118" y="64"/>
                    <a:pt x="114" y="57"/>
                    <a:pt x="91" y="42"/>
                  </a:cubicBezTo>
                  <a:cubicBezTo>
                    <a:pt x="83" y="18"/>
                    <a:pt x="73" y="8"/>
                    <a:pt x="49" y="0"/>
                  </a:cubicBezTo>
                  <a:cubicBezTo>
                    <a:pt x="43" y="2"/>
                    <a:pt x="37" y="3"/>
                    <a:pt x="31" y="6"/>
                  </a:cubicBezTo>
                  <a:cubicBezTo>
                    <a:pt x="25" y="9"/>
                    <a:pt x="13" y="18"/>
                    <a:pt x="13" y="1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6080" y="7202520"/>
              <a:ext cx="223920" cy="142560"/>
            </a:xfrm>
            <a:custGeom>
              <a:avLst/>
              <a:gdLst/>
              <a:ahLst/>
              <a:rect l="l" t="t" r="r" b="b"/>
              <a:pathLst>
                <a:path w="151" h="89">
                  <a:moveTo>
                    <a:pt x="84" y="5"/>
                  </a:moveTo>
                  <a:cubicBezTo>
                    <a:pt x="41" y="9"/>
                    <a:pt x="14" y="0"/>
                    <a:pt x="0" y="41"/>
                  </a:cubicBezTo>
                  <a:cubicBezTo>
                    <a:pt x="12" y="89"/>
                    <a:pt x="32" y="64"/>
                    <a:pt x="72" y="77"/>
                  </a:cubicBezTo>
                  <a:cubicBezTo>
                    <a:pt x="104" y="71"/>
                    <a:pt x="115" y="70"/>
                    <a:pt x="138" y="47"/>
                  </a:cubicBezTo>
                  <a:cubicBezTo>
                    <a:pt x="145" y="26"/>
                    <a:pt x="151" y="28"/>
                    <a:pt x="126" y="17"/>
                  </a:cubicBezTo>
                  <a:cubicBezTo>
                    <a:pt x="118" y="14"/>
                    <a:pt x="110" y="13"/>
                    <a:pt x="102" y="11"/>
                  </a:cubicBezTo>
                  <a:cubicBezTo>
                    <a:pt x="96" y="9"/>
                    <a:pt x="84" y="5"/>
                    <a:pt x="84" y="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54440" y="5868720"/>
              <a:ext cx="138240" cy="304920"/>
            </a:xfrm>
            <a:custGeom>
              <a:avLst/>
              <a:gdLst/>
              <a:ahLst/>
              <a:rect l="l" t="t" r="r" b="b"/>
              <a:pathLst>
                <a:path w="91" h="192">
                  <a:moveTo>
                    <a:pt x="39" y="18"/>
                  </a:moveTo>
                  <a:cubicBezTo>
                    <a:pt x="48" y="44"/>
                    <a:pt x="44" y="51"/>
                    <a:pt x="21" y="66"/>
                  </a:cubicBezTo>
                  <a:cubicBezTo>
                    <a:pt x="17" y="79"/>
                    <a:pt x="4" y="89"/>
                    <a:pt x="3" y="102"/>
                  </a:cubicBezTo>
                  <a:cubicBezTo>
                    <a:pt x="0" y="134"/>
                    <a:pt x="14" y="182"/>
                    <a:pt x="45" y="192"/>
                  </a:cubicBezTo>
                  <a:cubicBezTo>
                    <a:pt x="76" y="184"/>
                    <a:pt x="91" y="179"/>
                    <a:pt x="57" y="156"/>
                  </a:cubicBezTo>
                  <a:cubicBezTo>
                    <a:pt x="53" y="144"/>
                    <a:pt x="36" y="117"/>
                    <a:pt x="51" y="102"/>
                  </a:cubicBezTo>
                  <a:cubicBezTo>
                    <a:pt x="61" y="92"/>
                    <a:pt x="87" y="78"/>
                    <a:pt x="87" y="78"/>
                  </a:cubicBezTo>
                  <a:cubicBezTo>
                    <a:pt x="85" y="62"/>
                    <a:pt x="87" y="45"/>
                    <a:pt x="81" y="30"/>
                  </a:cubicBezTo>
                  <a:cubicBezTo>
                    <a:pt x="69" y="0"/>
                    <a:pt x="21" y="30"/>
                    <a:pt x="9" y="42"/>
                  </a:cubicBez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492800" y="6954840"/>
              <a:ext cx="799920" cy="6285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70680" y="764064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úcle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3000" y="7754760"/>
              <a:ext cx="861840" cy="800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322800" y="7183440"/>
              <a:ext cx="1353960" cy="12571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53000" y="7297560"/>
              <a:ext cx="1047600" cy="10288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14840" y="8440560"/>
              <a:ext cx="162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Tahoma"/>
                </a:rPr>
                <a:t>cromat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1720800" y="7926120"/>
              <a:ext cx="308160" cy="4003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81000" y="8269200"/>
              <a:ext cx="147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itoplas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16280" y="2771640"/>
            <a:ext cx="2736720" cy="2664000"/>
          </a:xfrm>
          <a:prstGeom prst="donut">
            <a:avLst>
              <a:gd name="adj" fmla="val 1637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3492360"/>
            <a:ext cx="32832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789360" y="3060720"/>
            <a:ext cx="28728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24280" y="28447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33720" y="471636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21000" y="4140360"/>
            <a:ext cx="6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276640" y="4716360"/>
            <a:ext cx="35064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24280" y="50036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60640" y="4211640"/>
            <a:ext cx="55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37000" y="6372360"/>
            <a:ext cx="863280" cy="14436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37000" y="6588000"/>
            <a:ext cx="863280" cy="14472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65360" y="1836720"/>
            <a:ext cx="503280" cy="712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65360" y="2124000"/>
            <a:ext cx="503280" cy="73080"/>
          </a:xfrm>
          <a:custGeom>
            <a:avLst/>
            <a:gdLst/>
            <a:ahLst/>
            <a:rect l="l" t="t" r="r" b="b"/>
            <a:pathLst>
              <a:path w="341" h="87">
                <a:moveTo>
                  <a:pt x="193" y="60"/>
                </a:moveTo>
                <a:cubicBezTo>
                  <a:pt x="139" y="24"/>
                  <a:pt x="24" y="0"/>
                  <a:pt x="1" y="68"/>
                </a:cubicBezTo>
                <a:cubicBezTo>
                  <a:pt x="2" y="73"/>
                  <a:pt x="0" y="82"/>
                  <a:pt x="5" y="84"/>
                </a:cubicBezTo>
                <a:cubicBezTo>
                  <a:pt x="17" y="87"/>
                  <a:pt x="29" y="82"/>
                  <a:pt x="41" y="80"/>
                </a:cubicBezTo>
                <a:cubicBezTo>
                  <a:pt x="104" y="69"/>
                  <a:pt x="97" y="68"/>
                  <a:pt x="181" y="64"/>
                </a:cubicBezTo>
                <a:cubicBezTo>
                  <a:pt x="227" y="49"/>
                  <a:pt x="197" y="56"/>
                  <a:pt x="273" y="52"/>
                </a:cubicBezTo>
                <a:cubicBezTo>
                  <a:pt x="291" y="48"/>
                  <a:pt x="315" y="42"/>
                  <a:pt x="333" y="52"/>
                </a:cubicBezTo>
                <a:cubicBezTo>
                  <a:pt x="340" y="56"/>
                  <a:pt x="341" y="76"/>
                  <a:pt x="341" y="76"/>
                </a:cubicBezTo>
                <a:cubicBezTo>
                  <a:pt x="308" y="87"/>
                  <a:pt x="274" y="72"/>
                  <a:pt x="241" y="68"/>
                </a:cubicBezTo>
                <a:cubicBezTo>
                  <a:pt x="192" y="62"/>
                  <a:pt x="193" y="80"/>
                  <a:pt x="193" y="60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65360" y="190800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0698800">
            <a:off x="2565360" y="2195280"/>
            <a:ext cx="530280" cy="1317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5772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157720" y="332820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61000" y="3419640"/>
            <a:ext cx="360360" cy="7272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661000" y="3347280"/>
            <a:ext cx="360360" cy="79560"/>
          </a:xfrm>
          <a:custGeom>
            <a:avLst/>
            <a:gdLst/>
            <a:ahLst/>
            <a:rect l="l" t="t" r="r" b="b"/>
            <a:pathLst>
              <a:path w="334" h="83">
                <a:moveTo>
                  <a:pt x="174" y="0"/>
                </a:moveTo>
                <a:cubicBezTo>
                  <a:pt x="126" y="3"/>
                  <a:pt x="64" y="12"/>
                  <a:pt x="22" y="40"/>
                </a:cubicBezTo>
                <a:cubicBezTo>
                  <a:pt x="0" y="73"/>
                  <a:pt x="28" y="67"/>
                  <a:pt x="58" y="64"/>
                </a:cubicBezTo>
                <a:cubicBezTo>
                  <a:pt x="106" y="32"/>
                  <a:pt x="106" y="23"/>
                  <a:pt x="166" y="16"/>
                </a:cubicBezTo>
                <a:cubicBezTo>
                  <a:pt x="186" y="17"/>
                  <a:pt x="206" y="17"/>
                  <a:pt x="226" y="20"/>
                </a:cubicBezTo>
                <a:cubicBezTo>
                  <a:pt x="235" y="21"/>
                  <a:pt x="260" y="50"/>
                  <a:pt x="270" y="56"/>
                </a:cubicBezTo>
                <a:cubicBezTo>
                  <a:pt x="278" y="61"/>
                  <a:pt x="286" y="67"/>
                  <a:pt x="294" y="72"/>
                </a:cubicBezTo>
                <a:cubicBezTo>
                  <a:pt x="298" y="75"/>
                  <a:pt x="306" y="80"/>
                  <a:pt x="306" y="80"/>
                </a:cubicBezTo>
                <a:cubicBezTo>
                  <a:pt x="314" y="79"/>
                  <a:pt x="326" y="83"/>
                  <a:pt x="330" y="76"/>
                </a:cubicBezTo>
                <a:cubicBezTo>
                  <a:pt x="334" y="69"/>
                  <a:pt x="330" y="55"/>
                  <a:pt x="322" y="52"/>
                </a:cubicBezTo>
                <a:cubicBezTo>
                  <a:pt x="272" y="35"/>
                  <a:pt x="225" y="13"/>
                  <a:pt x="174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rot="19492200">
            <a:off x="1496520" y="272160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5072400">
            <a:off x="2730240" y="122868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rot="10144200">
            <a:off x="3138120" y="2753280"/>
            <a:ext cx="2304720" cy="331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46200" y="3995640"/>
            <a:ext cx="16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iclo 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7400" y="1322280"/>
            <a:ext cx="457200" cy="3812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1627200"/>
            <a:ext cx="457200" cy="380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1246320"/>
            <a:ext cx="457200" cy="3808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322280"/>
            <a:ext cx="457200" cy="381240"/>
          </a:xfrm>
          <a:custGeom>
            <a:avLst/>
            <a:gdLst/>
            <a:ahLst/>
            <a:rect l="l" t="t" r="r" b="b"/>
            <a:pathLst>
              <a:path w="398" h="280">
                <a:moveTo>
                  <a:pt x="256" y="280"/>
                </a:moveTo>
                <a:cubicBezTo>
                  <a:pt x="272" y="275"/>
                  <a:pt x="288" y="269"/>
                  <a:pt x="304" y="264"/>
                </a:cubicBezTo>
                <a:cubicBezTo>
                  <a:pt x="322" y="258"/>
                  <a:pt x="352" y="232"/>
                  <a:pt x="352" y="232"/>
                </a:cubicBezTo>
                <a:cubicBezTo>
                  <a:pt x="377" y="194"/>
                  <a:pt x="365" y="217"/>
                  <a:pt x="384" y="160"/>
                </a:cubicBezTo>
                <a:cubicBezTo>
                  <a:pt x="387" y="152"/>
                  <a:pt x="392" y="136"/>
                  <a:pt x="392" y="136"/>
                </a:cubicBezTo>
                <a:cubicBezTo>
                  <a:pt x="389" y="107"/>
                  <a:pt x="398" y="74"/>
                  <a:pt x="384" y="48"/>
                </a:cubicBezTo>
                <a:cubicBezTo>
                  <a:pt x="376" y="33"/>
                  <a:pt x="352" y="37"/>
                  <a:pt x="336" y="32"/>
                </a:cubicBezTo>
                <a:cubicBezTo>
                  <a:pt x="307" y="22"/>
                  <a:pt x="291" y="9"/>
                  <a:pt x="256" y="0"/>
                </a:cubicBezTo>
                <a:cubicBezTo>
                  <a:pt x="187" y="3"/>
                  <a:pt x="117" y="1"/>
                  <a:pt x="48" y="8"/>
                </a:cubicBezTo>
                <a:cubicBezTo>
                  <a:pt x="17" y="11"/>
                  <a:pt x="14" y="54"/>
                  <a:pt x="8" y="72"/>
                </a:cubicBezTo>
                <a:cubicBezTo>
                  <a:pt x="5" y="80"/>
                  <a:pt x="0" y="96"/>
                  <a:pt x="0" y="96"/>
                </a:cubicBezTo>
                <a:cubicBezTo>
                  <a:pt x="3" y="133"/>
                  <a:pt x="1" y="171"/>
                  <a:pt x="8" y="208"/>
                </a:cubicBezTo>
                <a:cubicBezTo>
                  <a:pt x="18" y="267"/>
                  <a:pt x="147" y="272"/>
                  <a:pt x="184" y="272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5480" y="1600200"/>
            <a:ext cx="497160" cy="407880"/>
          </a:xfrm>
          <a:custGeom>
            <a:avLst/>
            <a:gdLst/>
            <a:ahLst/>
            <a:rect l="l" t="t" r="r" b="b"/>
            <a:pathLst>
              <a:path w="355" h="281">
                <a:moveTo>
                  <a:pt x="58" y="57"/>
                </a:moveTo>
                <a:cubicBezTo>
                  <a:pt x="60" y="57"/>
                  <a:pt x="114" y="48"/>
                  <a:pt x="122" y="41"/>
                </a:cubicBezTo>
                <a:cubicBezTo>
                  <a:pt x="174" y="0"/>
                  <a:pt x="102" y="29"/>
                  <a:pt x="162" y="9"/>
                </a:cubicBezTo>
                <a:cubicBezTo>
                  <a:pt x="216" y="14"/>
                  <a:pt x="263" y="16"/>
                  <a:pt x="314" y="33"/>
                </a:cubicBezTo>
                <a:cubicBezTo>
                  <a:pt x="351" y="88"/>
                  <a:pt x="340" y="63"/>
                  <a:pt x="354" y="105"/>
                </a:cubicBezTo>
                <a:cubicBezTo>
                  <a:pt x="351" y="145"/>
                  <a:pt x="355" y="186"/>
                  <a:pt x="346" y="225"/>
                </a:cubicBezTo>
                <a:cubicBezTo>
                  <a:pt x="344" y="234"/>
                  <a:pt x="282" y="261"/>
                  <a:pt x="274" y="265"/>
                </a:cubicBezTo>
                <a:cubicBezTo>
                  <a:pt x="259" y="272"/>
                  <a:pt x="226" y="281"/>
                  <a:pt x="226" y="281"/>
                </a:cubicBezTo>
                <a:cubicBezTo>
                  <a:pt x="136" y="275"/>
                  <a:pt x="100" y="277"/>
                  <a:pt x="34" y="233"/>
                </a:cubicBezTo>
                <a:cubicBezTo>
                  <a:pt x="0" y="181"/>
                  <a:pt x="1" y="194"/>
                  <a:pt x="26" y="89"/>
                </a:cubicBezTo>
                <a:cubicBezTo>
                  <a:pt x="29" y="74"/>
                  <a:pt x="51" y="70"/>
                  <a:pt x="58" y="57"/>
                </a:cubicBezTo>
                <a:close/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60680" y="1189080"/>
            <a:ext cx="882720" cy="561960"/>
          </a:xfrm>
          <a:custGeom>
            <a:avLst/>
            <a:gdLst/>
            <a:ahLst/>
            <a:rect l="l" t="t" r="r" b="b"/>
            <a:pathLst>
              <a:path w="556" h="354">
                <a:moveTo>
                  <a:pt x="36" y="100"/>
                </a:moveTo>
                <a:cubicBezTo>
                  <a:pt x="30" y="117"/>
                  <a:pt x="14" y="130"/>
                  <a:pt x="12" y="148"/>
                </a:cubicBezTo>
                <a:cubicBezTo>
                  <a:pt x="10" y="164"/>
                  <a:pt x="16" y="180"/>
                  <a:pt x="20" y="196"/>
                </a:cubicBezTo>
                <a:cubicBezTo>
                  <a:pt x="34" y="250"/>
                  <a:pt x="23" y="240"/>
                  <a:pt x="60" y="252"/>
                </a:cubicBezTo>
                <a:cubicBezTo>
                  <a:pt x="89" y="296"/>
                  <a:pt x="116" y="286"/>
                  <a:pt x="172" y="292"/>
                </a:cubicBezTo>
                <a:cubicBezTo>
                  <a:pt x="204" y="289"/>
                  <a:pt x="239" y="297"/>
                  <a:pt x="268" y="284"/>
                </a:cubicBezTo>
                <a:cubicBezTo>
                  <a:pt x="286" y="276"/>
                  <a:pt x="289" y="252"/>
                  <a:pt x="300" y="236"/>
                </a:cubicBezTo>
                <a:cubicBezTo>
                  <a:pt x="319" y="208"/>
                  <a:pt x="337" y="198"/>
                  <a:pt x="348" y="164"/>
                </a:cubicBezTo>
                <a:cubicBezTo>
                  <a:pt x="345" y="135"/>
                  <a:pt x="352" y="103"/>
                  <a:pt x="340" y="76"/>
                </a:cubicBezTo>
                <a:cubicBezTo>
                  <a:pt x="333" y="60"/>
                  <a:pt x="238" y="18"/>
                  <a:pt x="220" y="12"/>
                </a:cubicBezTo>
                <a:cubicBezTo>
                  <a:pt x="10" y="24"/>
                  <a:pt x="126" y="0"/>
                  <a:pt x="36" y="60"/>
                </a:cubicBezTo>
                <a:cubicBezTo>
                  <a:pt x="29" y="97"/>
                  <a:pt x="24" y="118"/>
                  <a:pt x="4" y="148"/>
                </a:cubicBezTo>
                <a:cubicBezTo>
                  <a:pt x="5" y="157"/>
                  <a:pt x="0" y="235"/>
                  <a:pt x="28" y="252"/>
                </a:cubicBezTo>
                <a:cubicBezTo>
                  <a:pt x="42" y="261"/>
                  <a:pt x="62" y="259"/>
                  <a:pt x="76" y="268"/>
                </a:cubicBezTo>
                <a:cubicBezTo>
                  <a:pt x="204" y="354"/>
                  <a:pt x="444" y="324"/>
                  <a:pt x="556" y="324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73400" y="1550880"/>
            <a:ext cx="850680" cy="16668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00400" y="1474920"/>
            <a:ext cx="851040" cy="16668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1627200"/>
            <a:ext cx="850680" cy="76320"/>
          </a:xfrm>
          <a:custGeom>
            <a:avLst/>
            <a:gdLst/>
            <a:ahLst/>
            <a:rect l="l" t="t" r="r" b="b"/>
            <a:pathLst>
              <a:path w="260" h="78">
                <a:moveTo>
                  <a:pt x="0" y="77"/>
                </a:moveTo>
                <a:cubicBezTo>
                  <a:pt x="84" y="73"/>
                  <a:pt x="149" y="78"/>
                  <a:pt x="224" y="53"/>
                </a:cubicBezTo>
                <a:cubicBezTo>
                  <a:pt x="260" y="0"/>
                  <a:pt x="235" y="50"/>
                  <a:pt x="224" y="61"/>
                </a:cubicBezTo>
              </a:path>
            </a:pathLst>
          </a:custGeom>
          <a:noFill/>
          <a:ln w="3816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304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2193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ucle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743200"/>
            <a:ext cx="30456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29000" y="2743200"/>
            <a:ext cx="30492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2819520"/>
            <a:ext cx="15228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2743200"/>
            <a:ext cx="304560" cy="30492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2819520"/>
            <a:ext cx="152640" cy="152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3048120"/>
            <a:ext cx="30456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312408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048120"/>
            <a:ext cx="30456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52680" y="3124080"/>
            <a:ext cx="15264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81280" y="3048120"/>
            <a:ext cx="304920" cy="304560"/>
          </a:xfrm>
          <a:prstGeom prst="donut">
            <a:avLst>
              <a:gd name="adj" fmla="val 25000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3124080"/>
            <a:ext cx="152280" cy="152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2971800"/>
            <a:ext cx="15264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97180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048120"/>
            <a:ext cx="15264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52680" y="3048120"/>
            <a:ext cx="15264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0" y="3048120"/>
            <a:ext cx="152280" cy="7596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3048120"/>
            <a:ext cx="228600" cy="15228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81280" y="2666880"/>
            <a:ext cx="228600" cy="2286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23623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bra de croma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47840" y="4019400"/>
            <a:ext cx="2819520" cy="870120"/>
          </a:xfrm>
          <a:custGeom>
            <a:avLst/>
            <a:gdLst/>
            <a:ahLst/>
            <a:rect l="l" t="t" r="r" b="b"/>
            <a:pathLst>
              <a:path w="1776" h="548">
                <a:moveTo>
                  <a:pt x="0" y="516"/>
                </a:moveTo>
                <a:cubicBezTo>
                  <a:pt x="44" y="527"/>
                  <a:pt x="81" y="526"/>
                  <a:pt x="120" y="500"/>
                </a:cubicBezTo>
                <a:cubicBezTo>
                  <a:pt x="125" y="484"/>
                  <a:pt x="131" y="468"/>
                  <a:pt x="136" y="452"/>
                </a:cubicBezTo>
                <a:cubicBezTo>
                  <a:pt x="139" y="444"/>
                  <a:pt x="144" y="428"/>
                  <a:pt x="144" y="428"/>
                </a:cubicBezTo>
                <a:cubicBezTo>
                  <a:pt x="141" y="385"/>
                  <a:pt x="140" y="343"/>
                  <a:pt x="136" y="300"/>
                </a:cubicBezTo>
                <a:cubicBezTo>
                  <a:pt x="133" y="272"/>
                  <a:pt x="112" y="220"/>
                  <a:pt x="112" y="220"/>
                </a:cubicBezTo>
                <a:cubicBezTo>
                  <a:pt x="116" y="166"/>
                  <a:pt x="93" y="88"/>
                  <a:pt x="152" y="68"/>
                </a:cubicBezTo>
                <a:cubicBezTo>
                  <a:pt x="167" y="23"/>
                  <a:pt x="181" y="35"/>
                  <a:pt x="224" y="44"/>
                </a:cubicBezTo>
                <a:cubicBezTo>
                  <a:pt x="270" y="112"/>
                  <a:pt x="252" y="148"/>
                  <a:pt x="240" y="252"/>
                </a:cubicBezTo>
                <a:cubicBezTo>
                  <a:pt x="240" y="252"/>
                  <a:pt x="220" y="312"/>
                  <a:pt x="216" y="324"/>
                </a:cubicBezTo>
                <a:cubicBezTo>
                  <a:pt x="213" y="332"/>
                  <a:pt x="208" y="348"/>
                  <a:pt x="208" y="348"/>
                </a:cubicBezTo>
                <a:cubicBezTo>
                  <a:pt x="217" y="523"/>
                  <a:pt x="181" y="523"/>
                  <a:pt x="320" y="508"/>
                </a:cubicBezTo>
                <a:cubicBezTo>
                  <a:pt x="342" y="443"/>
                  <a:pt x="298" y="366"/>
                  <a:pt x="360" y="324"/>
                </a:cubicBezTo>
                <a:cubicBezTo>
                  <a:pt x="430" y="371"/>
                  <a:pt x="334" y="481"/>
                  <a:pt x="416" y="508"/>
                </a:cubicBezTo>
                <a:cubicBezTo>
                  <a:pt x="429" y="505"/>
                  <a:pt x="445" y="508"/>
                  <a:pt x="456" y="500"/>
                </a:cubicBezTo>
                <a:cubicBezTo>
                  <a:pt x="463" y="495"/>
                  <a:pt x="464" y="484"/>
                  <a:pt x="464" y="476"/>
                </a:cubicBezTo>
                <a:cubicBezTo>
                  <a:pt x="464" y="441"/>
                  <a:pt x="460" y="407"/>
                  <a:pt x="456" y="372"/>
                </a:cubicBezTo>
                <a:cubicBezTo>
                  <a:pt x="450" y="321"/>
                  <a:pt x="416" y="284"/>
                  <a:pt x="400" y="236"/>
                </a:cubicBezTo>
                <a:cubicBezTo>
                  <a:pt x="409" y="38"/>
                  <a:pt x="370" y="48"/>
                  <a:pt x="544" y="60"/>
                </a:cubicBezTo>
                <a:cubicBezTo>
                  <a:pt x="549" y="76"/>
                  <a:pt x="555" y="92"/>
                  <a:pt x="560" y="108"/>
                </a:cubicBezTo>
                <a:cubicBezTo>
                  <a:pt x="563" y="116"/>
                  <a:pt x="568" y="132"/>
                  <a:pt x="568" y="132"/>
                </a:cubicBezTo>
                <a:cubicBezTo>
                  <a:pt x="562" y="188"/>
                  <a:pt x="559" y="230"/>
                  <a:pt x="528" y="276"/>
                </a:cubicBezTo>
                <a:cubicBezTo>
                  <a:pt x="512" y="358"/>
                  <a:pt x="474" y="472"/>
                  <a:pt x="552" y="524"/>
                </a:cubicBezTo>
                <a:cubicBezTo>
                  <a:pt x="600" y="517"/>
                  <a:pt x="625" y="522"/>
                  <a:pt x="640" y="476"/>
                </a:cubicBezTo>
                <a:cubicBezTo>
                  <a:pt x="643" y="420"/>
                  <a:pt x="632" y="362"/>
                  <a:pt x="648" y="308"/>
                </a:cubicBezTo>
                <a:cubicBezTo>
                  <a:pt x="668" y="240"/>
                  <a:pt x="694" y="334"/>
                  <a:pt x="696" y="340"/>
                </a:cubicBezTo>
                <a:cubicBezTo>
                  <a:pt x="699" y="399"/>
                  <a:pt x="694" y="458"/>
                  <a:pt x="704" y="516"/>
                </a:cubicBezTo>
                <a:cubicBezTo>
                  <a:pt x="706" y="525"/>
                  <a:pt x="719" y="534"/>
                  <a:pt x="728" y="532"/>
                </a:cubicBezTo>
                <a:cubicBezTo>
                  <a:pt x="737" y="530"/>
                  <a:pt x="739" y="516"/>
                  <a:pt x="744" y="508"/>
                </a:cubicBezTo>
                <a:cubicBezTo>
                  <a:pt x="741" y="393"/>
                  <a:pt x="736" y="279"/>
                  <a:pt x="736" y="164"/>
                </a:cubicBezTo>
                <a:cubicBezTo>
                  <a:pt x="736" y="127"/>
                  <a:pt x="741" y="133"/>
                  <a:pt x="768" y="124"/>
                </a:cubicBezTo>
                <a:cubicBezTo>
                  <a:pt x="788" y="154"/>
                  <a:pt x="793" y="175"/>
                  <a:pt x="800" y="212"/>
                </a:cubicBezTo>
                <a:cubicBezTo>
                  <a:pt x="806" y="418"/>
                  <a:pt x="724" y="531"/>
                  <a:pt x="888" y="508"/>
                </a:cubicBezTo>
                <a:cubicBezTo>
                  <a:pt x="923" y="402"/>
                  <a:pt x="901" y="478"/>
                  <a:pt x="888" y="220"/>
                </a:cubicBezTo>
                <a:cubicBezTo>
                  <a:pt x="885" y="167"/>
                  <a:pt x="875" y="158"/>
                  <a:pt x="856" y="116"/>
                </a:cubicBezTo>
                <a:cubicBezTo>
                  <a:pt x="849" y="101"/>
                  <a:pt x="840" y="68"/>
                  <a:pt x="840" y="68"/>
                </a:cubicBezTo>
                <a:cubicBezTo>
                  <a:pt x="848" y="63"/>
                  <a:pt x="855" y="56"/>
                  <a:pt x="864" y="52"/>
                </a:cubicBezTo>
                <a:cubicBezTo>
                  <a:pt x="879" y="45"/>
                  <a:pt x="912" y="36"/>
                  <a:pt x="912" y="36"/>
                </a:cubicBezTo>
                <a:cubicBezTo>
                  <a:pt x="925" y="39"/>
                  <a:pt x="941" y="36"/>
                  <a:pt x="952" y="44"/>
                </a:cubicBezTo>
                <a:cubicBezTo>
                  <a:pt x="967" y="56"/>
                  <a:pt x="984" y="92"/>
                  <a:pt x="984" y="92"/>
                </a:cubicBezTo>
                <a:cubicBezTo>
                  <a:pt x="977" y="240"/>
                  <a:pt x="974" y="248"/>
                  <a:pt x="952" y="356"/>
                </a:cubicBezTo>
                <a:cubicBezTo>
                  <a:pt x="955" y="404"/>
                  <a:pt x="944" y="455"/>
                  <a:pt x="960" y="500"/>
                </a:cubicBezTo>
                <a:cubicBezTo>
                  <a:pt x="966" y="516"/>
                  <a:pt x="1008" y="516"/>
                  <a:pt x="1008" y="516"/>
                </a:cubicBezTo>
                <a:cubicBezTo>
                  <a:pt x="1048" y="503"/>
                  <a:pt x="1029" y="516"/>
                  <a:pt x="1048" y="460"/>
                </a:cubicBezTo>
                <a:cubicBezTo>
                  <a:pt x="1051" y="452"/>
                  <a:pt x="1056" y="436"/>
                  <a:pt x="1056" y="436"/>
                </a:cubicBezTo>
                <a:cubicBezTo>
                  <a:pt x="1053" y="385"/>
                  <a:pt x="1054" y="334"/>
                  <a:pt x="1048" y="284"/>
                </a:cubicBezTo>
                <a:cubicBezTo>
                  <a:pt x="1046" y="267"/>
                  <a:pt x="1037" y="252"/>
                  <a:pt x="1032" y="236"/>
                </a:cubicBezTo>
                <a:cubicBezTo>
                  <a:pt x="1029" y="228"/>
                  <a:pt x="1024" y="212"/>
                  <a:pt x="1024" y="212"/>
                </a:cubicBezTo>
                <a:cubicBezTo>
                  <a:pt x="1027" y="193"/>
                  <a:pt x="1018" y="168"/>
                  <a:pt x="1032" y="156"/>
                </a:cubicBezTo>
                <a:cubicBezTo>
                  <a:pt x="1081" y="114"/>
                  <a:pt x="1092" y="204"/>
                  <a:pt x="1096" y="220"/>
                </a:cubicBezTo>
                <a:cubicBezTo>
                  <a:pt x="1099" y="308"/>
                  <a:pt x="1087" y="398"/>
                  <a:pt x="1104" y="484"/>
                </a:cubicBezTo>
                <a:cubicBezTo>
                  <a:pt x="1109" y="509"/>
                  <a:pt x="1176" y="508"/>
                  <a:pt x="1176" y="508"/>
                </a:cubicBezTo>
                <a:cubicBezTo>
                  <a:pt x="1200" y="505"/>
                  <a:pt x="1235" y="521"/>
                  <a:pt x="1248" y="500"/>
                </a:cubicBezTo>
                <a:cubicBezTo>
                  <a:pt x="1263" y="476"/>
                  <a:pt x="1223" y="332"/>
                  <a:pt x="1216" y="292"/>
                </a:cubicBezTo>
                <a:cubicBezTo>
                  <a:pt x="1210" y="218"/>
                  <a:pt x="1164" y="49"/>
                  <a:pt x="1232" y="4"/>
                </a:cubicBezTo>
                <a:cubicBezTo>
                  <a:pt x="1253" y="7"/>
                  <a:pt x="1278" y="0"/>
                  <a:pt x="1296" y="12"/>
                </a:cubicBezTo>
                <a:cubicBezTo>
                  <a:pt x="1310" y="22"/>
                  <a:pt x="1312" y="60"/>
                  <a:pt x="1312" y="60"/>
                </a:cubicBezTo>
                <a:cubicBezTo>
                  <a:pt x="1309" y="164"/>
                  <a:pt x="1296" y="268"/>
                  <a:pt x="1296" y="372"/>
                </a:cubicBezTo>
                <a:cubicBezTo>
                  <a:pt x="1296" y="409"/>
                  <a:pt x="1297" y="447"/>
                  <a:pt x="1304" y="484"/>
                </a:cubicBezTo>
                <a:cubicBezTo>
                  <a:pt x="1308" y="509"/>
                  <a:pt x="1368" y="524"/>
                  <a:pt x="1368" y="524"/>
                </a:cubicBezTo>
                <a:cubicBezTo>
                  <a:pt x="1421" y="515"/>
                  <a:pt x="1424" y="515"/>
                  <a:pt x="1440" y="468"/>
                </a:cubicBezTo>
                <a:cubicBezTo>
                  <a:pt x="1437" y="441"/>
                  <a:pt x="1438" y="414"/>
                  <a:pt x="1432" y="388"/>
                </a:cubicBezTo>
                <a:cubicBezTo>
                  <a:pt x="1430" y="379"/>
                  <a:pt x="1420" y="373"/>
                  <a:pt x="1416" y="364"/>
                </a:cubicBezTo>
                <a:cubicBezTo>
                  <a:pt x="1405" y="339"/>
                  <a:pt x="1399" y="311"/>
                  <a:pt x="1392" y="284"/>
                </a:cubicBezTo>
                <a:cubicBezTo>
                  <a:pt x="1400" y="177"/>
                  <a:pt x="1375" y="156"/>
                  <a:pt x="1472" y="172"/>
                </a:cubicBezTo>
                <a:cubicBezTo>
                  <a:pt x="1500" y="191"/>
                  <a:pt x="1509" y="204"/>
                  <a:pt x="1520" y="236"/>
                </a:cubicBezTo>
                <a:cubicBezTo>
                  <a:pt x="1517" y="286"/>
                  <a:pt x="1488" y="469"/>
                  <a:pt x="1512" y="524"/>
                </a:cubicBezTo>
                <a:cubicBezTo>
                  <a:pt x="1519" y="539"/>
                  <a:pt x="1560" y="540"/>
                  <a:pt x="1560" y="540"/>
                </a:cubicBezTo>
                <a:cubicBezTo>
                  <a:pt x="1652" y="522"/>
                  <a:pt x="1611" y="444"/>
                  <a:pt x="1616" y="340"/>
                </a:cubicBezTo>
                <a:cubicBezTo>
                  <a:pt x="1632" y="343"/>
                  <a:pt x="1650" y="340"/>
                  <a:pt x="1664" y="348"/>
                </a:cubicBezTo>
                <a:cubicBezTo>
                  <a:pt x="1671" y="352"/>
                  <a:pt x="1671" y="364"/>
                  <a:pt x="1672" y="372"/>
                </a:cubicBezTo>
                <a:cubicBezTo>
                  <a:pt x="1681" y="466"/>
                  <a:pt x="1645" y="520"/>
                  <a:pt x="1728" y="548"/>
                </a:cubicBezTo>
                <a:cubicBezTo>
                  <a:pt x="1744" y="545"/>
                  <a:pt x="1776" y="540"/>
                  <a:pt x="1776" y="54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3200" y="5562720"/>
            <a:ext cx="1752480" cy="339480"/>
          </a:xfrm>
          <a:custGeom>
            <a:avLst/>
            <a:gdLst/>
            <a:ahLst/>
            <a:rect l="l" t="t" r="r" b="b"/>
            <a:pathLst>
              <a:path w="1687" h="214">
                <a:moveTo>
                  <a:pt x="4" y="148"/>
                </a:moveTo>
                <a:cubicBezTo>
                  <a:pt x="7" y="129"/>
                  <a:pt x="0" y="107"/>
                  <a:pt x="12" y="92"/>
                </a:cubicBezTo>
                <a:cubicBezTo>
                  <a:pt x="22" y="79"/>
                  <a:pt x="60" y="76"/>
                  <a:pt x="60" y="76"/>
                </a:cubicBezTo>
                <a:cubicBezTo>
                  <a:pt x="71" y="79"/>
                  <a:pt x="88" y="74"/>
                  <a:pt x="92" y="84"/>
                </a:cubicBezTo>
                <a:cubicBezTo>
                  <a:pt x="99" y="102"/>
                  <a:pt x="92" y="123"/>
                  <a:pt x="84" y="140"/>
                </a:cubicBezTo>
                <a:cubicBezTo>
                  <a:pt x="80" y="148"/>
                  <a:pt x="79" y="124"/>
                  <a:pt x="76" y="116"/>
                </a:cubicBezTo>
                <a:cubicBezTo>
                  <a:pt x="87" y="84"/>
                  <a:pt x="101" y="78"/>
                  <a:pt x="132" y="68"/>
                </a:cubicBezTo>
                <a:cubicBezTo>
                  <a:pt x="137" y="84"/>
                  <a:pt x="153" y="100"/>
                  <a:pt x="148" y="116"/>
                </a:cubicBezTo>
                <a:cubicBezTo>
                  <a:pt x="145" y="124"/>
                  <a:pt x="140" y="148"/>
                  <a:pt x="140" y="140"/>
                </a:cubicBezTo>
                <a:cubicBezTo>
                  <a:pt x="140" y="95"/>
                  <a:pt x="141" y="102"/>
                  <a:pt x="172" y="92"/>
                </a:cubicBezTo>
                <a:cubicBezTo>
                  <a:pt x="211" y="150"/>
                  <a:pt x="175" y="101"/>
                  <a:pt x="180" y="92"/>
                </a:cubicBezTo>
                <a:cubicBezTo>
                  <a:pt x="184" y="84"/>
                  <a:pt x="196" y="87"/>
                  <a:pt x="204" y="84"/>
                </a:cubicBezTo>
                <a:cubicBezTo>
                  <a:pt x="222" y="86"/>
                  <a:pt x="383" y="78"/>
                  <a:pt x="276" y="132"/>
                </a:cubicBezTo>
                <a:cubicBezTo>
                  <a:pt x="236" y="52"/>
                  <a:pt x="264" y="68"/>
                  <a:pt x="340" y="76"/>
                </a:cubicBezTo>
                <a:cubicBezTo>
                  <a:pt x="343" y="87"/>
                  <a:pt x="348" y="97"/>
                  <a:pt x="348" y="108"/>
                </a:cubicBezTo>
                <a:cubicBezTo>
                  <a:pt x="348" y="116"/>
                  <a:pt x="336" y="92"/>
                  <a:pt x="340" y="84"/>
                </a:cubicBezTo>
                <a:cubicBezTo>
                  <a:pt x="344" y="76"/>
                  <a:pt x="356" y="79"/>
                  <a:pt x="364" y="76"/>
                </a:cubicBezTo>
                <a:cubicBezTo>
                  <a:pt x="372" y="79"/>
                  <a:pt x="386" y="76"/>
                  <a:pt x="388" y="84"/>
                </a:cubicBezTo>
                <a:cubicBezTo>
                  <a:pt x="393" y="102"/>
                  <a:pt x="388" y="123"/>
                  <a:pt x="380" y="140"/>
                </a:cubicBezTo>
                <a:cubicBezTo>
                  <a:pt x="376" y="148"/>
                  <a:pt x="375" y="124"/>
                  <a:pt x="372" y="116"/>
                </a:cubicBezTo>
                <a:cubicBezTo>
                  <a:pt x="372" y="116"/>
                  <a:pt x="380" y="7"/>
                  <a:pt x="428" y="84"/>
                </a:cubicBezTo>
                <a:cubicBezTo>
                  <a:pt x="438" y="100"/>
                  <a:pt x="401" y="140"/>
                  <a:pt x="420" y="140"/>
                </a:cubicBezTo>
                <a:cubicBezTo>
                  <a:pt x="439" y="140"/>
                  <a:pt x="431" y="103"/>
                  <a:pt x="436" y="84"/>
                </a:cubicBezTo>
                <a:cubicBezTo>
                  <a:pt x="501" y="89"/>
                  <a:pt x="592" y="68"/>
                  <a:pt x="548" y="156"/>
                </a:cubicBezTo>
                <a:cubicBezTo>
                  <a:pt x="544" y="140"/>
                  <a:pt x="528" y="104"/>
                  <a:pt x="556" y="92"/>
                </a:cubicBezTo>
                <a:cubicBezTo>
                  <a:pt x="568" y="87"/>
                  <a:pt x="583" y="97"/>
                  <a:pt x="596" y="100"/>
                </a:cubicBezTo>
                <a:cubicBezTo>
                  <a:pt x="593" y="116"/>
                  <a:pt x="603" y="141"/>
                  <a:pt x="588" y="148"/>
                </a:cubicBezTo>
                <a:cubicBezTo>
                  <a:pt x="524" y="177"/>
                  <a:pt x="514" y="149"/>
                  <a:pt x="492" y="116"/>
                </a:cubicBezTo>
                <a:cubicBezTo>
                  <a:pt x="510" y="63"/>
                  <a:pt x="576" y="86"/>
                  <a:pt x="620" y="92"/>
                </a:cubicBezTo>
                <a:cubicBezTo>
                  <a:pt x="625" y="100"/>
                  <a:pt x="635" y="106"/>
                  <a:pt x="636" y="116"/>
                </a:cubicBezTo>
                <a:cubicBezTo>
                  <a:pt x="638" y="127"/>
                  <a:pt x="620" y="156"/>
                  <a:pt x="628" y="148"/>
                </a:cubicBezTo>
                <a:cubicBezTo>
                  <a:pt x="690" y="86"/>
                  <a:pt x="585" y="118"/>
                  <a:pt x="692" y="100"/>
                </a:cubicBezTo>
                <a:cubicBezTo>
                  <a:pt x="716" y="103"/>
                  <a:pt x="751" y="88"/>
                  <a:pt x="764" y="108"/>
                </a:cubicBezTo>
                <a:cubicBezTo>
                  <a:pt x="779" y="131"/>
                  <a:pt x="772" y="175"/>
                  <a:pt x="748" y="188"/>
                </a:cubicBezTo>
                <a:cubicBezTo>
                  <a:pt x="717" y="205"/>
                  <a:pt x="679" y="177"/>
                  <a:pt x="644" y="172"/>
                </a:cubicBezTo>
                <a:cubicBezTo>
                  <a:pt x="647" y="148"/>
                  <a:pt x="631" y="112"/>
                  <a:pt x="652" y="100"/>
                </a:cubicBezTo>
                <a:cubicBezTo>
                  <a:pt x="682" y="83"/>
                  <a:pt x="721" y="112"/>
                  <a:pt x="756" y="108"/>
                </a:cubicBezTo>
                <a:cubicBezTo>
                  <a:pt x="769" y="106"/>
                  <a:pt x="777" y="92"/>
                  <a:pt x="788" y="84"/>
                </a:cubicBezTo>
                <a:cubicBezTo>
                  <a:pt x="805" y="90"/>
                  <a:pt x="850" y="96"/>
                  <a:pt x="796" y="132"/>
                </a:cubicBezTo>
                <a:cubicBezTo>
                  <a:pt x="787" y="138"/>
                  <a:pt x="775" y="127"/>
                  <a:pt x="764" y="124"/>
                </a:cubicBezTo>
                <a:cubicBezTo>
                  <a:pt x="769" y="97"/>
                  <a:pt x="763" y="65"/>
                  <a:pt x="780" y="44"/>
                </a:cubicBezTo>
                <a:cubicBezTo>
                  <a:pt x="788" y="33"/>
                  <a:pt x="811" y="42"/>
                  <a:pt x="820" y="52"/>
                </a:cubicBezTo>
                <a:cubicBezTo>
                  <a:pt x="835" y="69"/>
                  <a:pt x="836" y="95"/>
                  <a:pt x="844" y="116"/>
                </a:cubicBezTo>
                <a:cubicBezTo>
                  <a:pt x="841" y="129"/>
                  <a:pt x="847" y="148"/>
                  <a:pt x="836" y="156"/>
                </a:cubicBezTo>
                <a:cubicBezTo>
                  <a:pt x="827" y="163"/>
                  <a:pt x="807" y="159"/>
                  <a:pt x="804" y="148"/>
                </a:cubicBezTo>
                <a:cubicBezTo>
                  <a:pt x="797" y="122"/>
                  <a:pt x="795" y="89"/>
                  <a:pt x="812" y="68"/>
                </a:cubicBezTo>
                <a:cubicBezTo>
                  <a:pt x="826" y="51"/>
                  <a:pt x="855" y="63"/>
                  <a:pt x="876" y="60"/>
                </a:cubicBezTo>
                <a:cubicBezTo>
                  <a:pt x="970" y="69"/>
                  <a:pt x="974" y="52"/>
                  <a:pt x="956" y="140"/>
                </a:cubicBezTo>
                <a:cubicBezTo>
                  <a:pt x="932" y="137"/>
                  <a:pt x="898" y="152"/>
                  <a:pt x="884" y="132"/>
                </a:cubicBezTo>
                <a:cubicBezTo>
                  <a:pt x="788" y="0"/>
                  <a:pt x="933" y="66"/>
                  <a:pt x="940" y="68"/>
                </a:cubicBezTo>
                <a:cubicBezTo>
                  <a:pt x="935" y="87"/>
                  <a:pt x="936" y="108"/>
                  <a:pt x="924" y="124"/>
                </a:cubicBezTo>
                <a:cubicBezTo>
                  <a:pt x="919" y="131"/>
                  <a:pt x="910" y="106"/>
                  <a:pt x="916" y="100"/>
                </a:cubicBezTo>
                <a:cubicBezTo>
                  <a:pt x="928" y="88"/>
                  <a:pt x="948" y="89"/>
                  <a:pt x="964" y="84"/>
                </a:cubicBezTo>
                <a:cubicBezTo>
                  <a:pt x="1001" y="87"/>
                  <a:pt x="1048" y="67"/>
                  <a:pt x="1076" y="92"/>
                </a:cubicBezTo>
                <a:cubicBezTo>
                  <a:pt x="1098" y="112"/>
                  <a:pt x="1091" y="161"/>
                  <a:pt x="1068" y="180"/>
                </a:cubicBezTo>
                <a:cubicBezTo>
                  <a:pt x="1047" y="197"/>
                  <a:pt x="1015" y="169"/>
                  <a:pt x="988" y="164"/>
                </a:cubicBezTo>
                <a:cubicBezTo>
                  <a:pt x="970" y="91"/>
                  <a:pt x="986" y="99"/>
                  <a:pt x="1052" y="108"/>
                </a:cubicBezTo>
                <a:cubicBezTo>
                  <a:pt x="1069" y="158"/>
                  <a:pt x="1046" y="116"/>
                  <a:pt x="1116" y="116"/>
                </a:cubicBezTo>
                <a:cubicBezTo>
                  <a:pt x="1138" y="116"/>
                  <a:pt x="1159" y="127"/>
                  <a:pt x="1180" y="132"/>
                </a:cubicBezTo>
                <a:cubicBezTo>
                  <a:pt x="1175" y="150"/>
                  <a:pt x="1171" y="214"/>
                  <a:pt x="1124" y="148"/>
                </a:cubicBezTo>
                <a:cubicBezTo>
                  <a:pt x="1116" y="137"/>
                  <a:pt x="1129" y="121"/>
                  <a:pt x="1132" y="108"/>
                </a:cubicBezTo>
                <a:cubicBezTo>
                  <a:pt x="1140" y="111"/>
                  <a:pt x="1160" y="109"/>
                  <a:pt x="1156" y="116"/>
                </a:cubicBezTo>
                <a:cubicBezTo>
                  <a:pt x="1146" y="132"/>
                  <a:pt x="1127" y="145"/>
                  <a:pt x="1108" y="148"/>
                </a:cubicBezTo>
                <a:cubicBezTo>
                  <a:pt x="1100" y="149"/>
                  <a:pt x="1103" y="132"/>
                  <a:pt x="1100" y="124"/>
                </a:cubicBezTo>
                <a:cubicBezTo>
                  <a:pt x="1154" y="104"/>
                  <a:pt x="1194" y="70"/>
                  <a:pt x="1212" y="140"/>
                </a:cubicBezTo>
                <a:cubicBezTo>
                  <a:pt x="1237" y="119"/>
                  <a:pt x="1280" y="64"/>
                  <a:pt x="1324" y="108"/>
                </a:cubicBezTo>
                <a:cubicBezTo>
                  <a:pt x="1339" y="123"/>
                  <a:pt x="1329" y="151"/>
                  <a:pt x="1332" y="172"/>
                </a:cubicBezTo>
                <a:cubicBezTo>
                  <a:pt x="1324" y="177"/>
                  <a:pt x="1309" y="198"/>
                  <a:pt x="1308" y="188"/>
                </a:cubicBezTo>
                <a:cubicBezTo>
                  <a:pt x="1305" y="161"/>
                  <a:pt x="1313" y="133"/>
                  <a:pt x="1324" y="108"/>
                </a:cubicBezTo>
                <a:cubicBezTo>
                  <a:pt x="1327" y="100"/>
                  <a:pt x="1329" y="124"/>
                  <a:pt x="1332" y="132"/>
                </a:cubicBezTo>
                <a:cubicBezTo>
                  <a:pt x="1256" y="183"/>
                  <a:pt x="1296" y="88"/>
                  <a:pt x="1324" y="60"/>
                </a:cubicBezTo>
                <a:cubicBezTo>
                  <a:pt x="1356" y="65"/>
                  <a:pt x="1395" y="56"/>
                  <a:pt x="1420" y="76"/>
                </a:cubicBezTo>
                <a:cubicBezTo>
                  <a:pt x="1433" y="87"/>
                  <a:pt x="1418" y="114"/>
                  <a:pt x="1404" y="124"/>
                </a:cubicBezTo>
                <a:cubicBezTo>
                  <a:pt x="1386" y="136"/>
                  <a:pt x="1361" y="129"/>
                  <a:pt x="1340" y="132"/>
                </a:cubicBezTo>
                <a:cubicBezTo>
                  <a:pt x="1319" y="69"/>
                  <a:pt x="1355" y="82"/>
                  <a:pt x="1420" y="76"/>
                </a:cubicBezTo>
                <a:cubicBezTo>
                  <a:pt x="1425" y="87"/>
                  <a:pt x="1435" y="96"/>
                  <a:pt x="1436" y="108"/>
                </a:cubicBezTo>
                <a:cubicBezTo>
                  <a:pt x="1437" y="119"/>
                  <a:pt x="1438" y="135"/>
                  <a:pt x="1428" y="140"/>
                </a:cubicBezTo>
                <a:cubicBezTo>
                  <a:pt x="1420" y="144"/>
                  <a:pt x="1423" y="124"/>
                  <a:pt x="1420" y="116"/>
                </a:cubicBezTo>
                <a:cubicBezTo>
                  <a:pt x="1492" y="68"/>
                  <a:pt x="1459" y="166"/>
                  <a:pt x="1444" y="196"/>
                </a:cubicBezTo>
                <a:cubicBezTo>
                  <a:pt x="1375" y="179"/>
                  <a:pt x="1406" y="130"/>
                  <a:pt x="1420" y="76"/>
                </a:cubicBezTo>
                <a:cubicBezTo>
                  <a:pt x="1465" y="81"/>
                  <a:pt x="1556" y="92"/>
                  <a:pt x="1556" y="92"/>
                </a:cubicBezTo>
                <a:cubicBezTo>
                  <a:pt x="1572" y="89"/>
                  <a:pt x="1588" y="80"/>
                  <a:pt x="1604" y="84"/>
                </a:cubicBezTo>
                <a:cubicBezTo>
                  <a:pt x="1612" y="86"/>
                  <a:pt x="1618" y="102"/>
                  <a:pt x="1612" y="108"/>
                </a:cubicBezTo>
                <a:cubicBezTo>
                  <a:pt x="1598" y="122"/>
                  <a:pt x="1575" y="124"/>
                  <a:pt x="1556" y="132"/>
                </a:cubicBezTo>
                <a:cubicBezTo>
                  <a:pt x="1517" y="73"/>
                  <a:pt x="1573" y="140"/>
                  <a:pt x="1492" y="140"/>
                </a:cubicBezTo>
                <a:cubicBezTo>
                  <a:pt x="1481" y="140"/>
                  <a:pt x="1492" y="116"/>
                  <a:pt x="1500" y="108"/>
                </a:cubicBezTo>
                <a:cubicBezTo>
                  <a:pt x="1508" y="100"/>
                  <a:pt x="1521" y="103"/>
                  <a:pt x="1532" y="100"/>
                </a:cubicBezTo>
                <a:cubicBezTo>
                  <a:pt x="1540" y="105"/>
                  <a:pt x="1553" y="107"/>
                  <a:pt x="1556" y="116"/>
                </a:cubicBezTo>
                <a:cubicBezTo>
                  <a:pt x="1561" y="132"/>
                  <a:pt x="1527" y="209"/>
                  <a:pt x="1564" y="116"/>
                </a:cubicBezTo>
                <a:cubicBezTo>
                  <a:pt x="1583" y="121"/>
                  <a:pt x="1606" y="118"/>
                  <a:pt x="1620" y="132"/>
                </a:cubicBezTo>
                <a:cubicBezTo>
                  <a:pt x="1628" y="140"/>
                  <a:pt x="1620" y="172"/>
                  <a:pt x="1612" y="164"/>
                </a:cubicBezTo>
                <a:cubicBezTo>
                  <a:pt x="1601" y="153"/>
                  <a:pt x="1607" y="132"/>
                  <a:pt x="1604" y="116"/>
                </a:cubicBezTo>
                <a:cubicBezTo>
                  <a:pt x="1609" y="108"/>
                  <a:pt x="1611" y="96"/>
                  <a:pt x="1620" y="92"/>
                </a:cubicBezTo>
                <a:cubicBezTo>
                  <a:pt x="1628" y="89"/>
                  <a:pt x="1644" y="100"/>
                  <a:pt x="1644" y="100"/>
                </a:cubicBezTo>
                <a:cubicBezTo>
                  <a:pt x="1687" y="86"/>
                  <a:pt x="1676" y="104"/>
                  <a:pt x="1676" y="14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7400" y="1828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200040" y="19051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2286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83808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048120" y="838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195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11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34290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352680" y="3429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76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52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4952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657240" y="495288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05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876920"/>
            <a:ext cx="1905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ucromatina (lax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terocromatina (compac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" y="6553080"/>
            <a:ext cx="18288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6553080"/>
            <a:ext cx="304812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734400">
            <a:off x="609480" y="7086600"/>
            <a:ext cx="53352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21024000">
            <a:off x="609120" y="7315200"/>
            <a:ext cx="53352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7238880"/>
            <a:ext cx="228600" cy="1526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21118800">
            <a:off x="1219320" y="7086600"/>
            <a:ext cx="99036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833400">
            <a:off x="1219320" y="7391520"/>
            <a:ext cx="990360" cy="152280"/>
          </a:xfrm>
          <a:prstGeom prst="flowChartTerminator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7772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omosoma metafá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6705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romosoma en fase G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41911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omos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terfá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66960" y="298440"/>
            <a:ext cx="2362320" cy="291960"/>
          </a:xfrm>
          <a:custGeom>
            <a:avLst/>
            <a:gdLst/>
            <a:ahLst/>
            <a:rect l="l" t="t" r="r" b="b"/>
            <a:pathLst>
              <a:path w="1488" h="184">
                <a:moveTo>
                  <a:pt x="0" y="184"/>
                </a:moveTo>
                <a:cubicBezTo>
                  <a:pt x="24" y="176"/>
                  <a:pt x="48" y="168"/>
                  <a:pt x="72" y="160"/>
                </a:cubicBezTo>
                <a:cubicBezTo>
                  <a:pt x="84" y="156"/>
                  <a:pt x="78" y="135"/>
                  <a:pt x="84" y="124"/>
                </a:cubicBezTo>
                <a:cubicBezTo>
                  <a:pt x="90" y="111"/>
                  <a:pt x="97" y="97"/>
                  <a:pt x="108" y="88"/>
                </a:cubicBezTo>
                <a:cubicBezTo>
                  <a:pt x="130" y="69"/>
                  <a:pt x="180" y="40"/>
                  <a:pt x="180" y="40"/>
                </a:cubicBezTo>
                <a:cubicBezTo>
                  <a:pt x="208" y="44"/>
                  <a:pt x="238" y="41"/>
                  <a:pt x="264" y="52"/>
                </a:cubicBezTo>
                <a:cubicBezTo>
                  <a:pt x="303" y="69"/>
                  <a:pt x="278" y="122"/>
                  <a:pt x="336" y="148"/>
                </a:cubicBezTo>
                <a:cubicBezTo>
                  <a:pt x="359" y="158"/>
                  <a:pt x="384" y="164"/>
                  <a:pt x="408" y="172"/>
                </a:cubicBezTo>
                <a:cubicBezTo>
                  <a:pt x="420" y="176"/>
                  <a:pt x="444" y="184"/>
                  <a:pt x="444" y="184"/>
                </a:cubicBezTo>
                <a:cubicBezTo>
                  <a:pt x="447" y="183"/>
                  <a:pt x="520" y="166"/>
                  <a:pt x="528" y="160"/>
                </a:cubicBezTo>
                <a:cubicBezTo>
                  <a:pt x="539" y="151"/>
                  <a:pt x="542" y="134"/>
                  <a:pt x="552" y="124"/>
                </a:cubicBezTo>
                <a:cubicBezTo>
                  <a:pt x="562" y="114"/>
                  <a:pt x="576" y="108"/>
                  <a:pt x="588" y="100"/>
                </a:cubicBezTo>
                <a:cubicBezTo>
                  <a:pt x="617" y="13"/>
                  <a:pt x="665" y="43"/>
                  <a:pt x="756" y="52"/>
                </a:cubicBezTo>
                <a:cubicBezTo>
                  <a:pt x="792" y="76"/>
                  <a:pt x="796" y="72"/>
                  <a:pt x="816" y="112"/>
                </a:cubicBezTo>
                <a:cubicBezTo>
                  <a:pt x="822" y="123"/>
                  <a:pt x="818" y="141"/>
                  <a:pt x="828" y="148"/>
                </a:cubicBezTo>
                <a:cubicBezTo>
                  <a:pt x="849" y="163"/>
                  <a:pt x="900" y="172"/>
                  <a:pt x="900" y="172"/>
                </a:cubicBezTo>
                <a:cubicBezTo>
                  <a:pt x="952" y="167"/>
                  <a:pt x="1015" y="181"/>
                  <a:pt x="1056" y="148"/>
                </a:cubicBezTo>
                <a:cubicBezTo>
                  <a:pt x="1067" y="139"/>
                  <a:pt x="1069" y="121"/>
                  <a:pt x="1080" y="112"/>
                </a:cubicBezTo>
                <a:cubicBezTo>
                  <a:pt x="1102" y="93"/>
                  <a:pt x="1152" y="64"/>
                  <a:pt x="1152" y="64"/>
                </a:cubicBezTo>
                <a:cubicBezTo>
                  <a:pt x="1195" y="0"/>
                  <a:pt x="1179" y="0"/>
                  <a:pt x="1308" y="40"/>
                </a:cubicBezTo>
                <a:cubicBezTo>
                  <a:pt x="1322" y="44"/>
                  <a:pt x="1322" y="66"/>
                  <a:pt x="1332" y="76"/>
                </a:cubicBezTo>
                <a:cubicBezTo>
                  <a:pt x="1342" y="86"/>
                  <a:pt x="1356" y="92"/>
                  <a:pt x="1368" y="100"/>
                </a:cubicBezTo>
                <a:cubicBezTo>
                  <a:pt x="1405" y="156"/>
                  <a:pt x="1419" y="160"/>
                  <a:pt x="1488" y="16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57400" y="304920"/>
            <a:ext cx="2362320" cy="311040"/>
          </a:xfrm>
          <a:custGeom>
            <a:avLst/>
            <a:gdLst/>
            <a:ahLst/>
            <a:rect l="l" t="t" r="r" b="b"/>
            <a:pathLst>
              <a:path w="1488" h="184">
                <a:moveTo>
                  <a:pt x="0" y="184"/>
                </a:moveTo>
                <a:cubicBezTo>
                  <a:pt x="24" y="176"/>
                  <a:pt x="48" y="168"/>
                  <a:pt x="72" y="160"/>
                </a:cubicBezTo>
                <a:cubicBezTo>
                  <a:pt x="84" y="156"/>
                  <a:pt x="78" y="135"/>
                  <a:pt x="84" y="124"/>
                </a:cubicBezTo>
                <a:cubicBezTo>
                  <a:pt x="90" y="111"/>
                  <a:pt x="97" y="97"/>
                  <a:pt x="108" y="88"/>
                </a:cubicBezTo>
                <a:cubicBezTo>
                  <a:pt x="130" y="69"/>
                  <a:pt x="180" y="40"/>
                  <a:pt x="180" y="40"/>
                </a:cubicBezTo>
                <a:cubicBezTo>
                  <a:pt x="208" y="44"/>
                  <a:pt x="238" y="41"/>
                  <a:pt x="264" y="52"/>
                </a:cubicBezTo>
                <a:cubicBezTo>
                  <a:pt x="303" y="69"/>
                  <a:pt x="278" y="122"/>
                  <a:pt x="336" y="148"/>
                </a:cubicBezTo>
                <a:cubicBezTo>
                  <a:pt x="359" y="158"/>
                  <a:pt x="384" y="164"/>
                  <a:pt x="408" y="172"/>
                </a:cubicBezTo>
                <a:cubicBezTo>
                  <a:pt x="420" y="176"/>
                  <a:pt x="444" y="184"/>
                  <a:pt x="444" y="184"/>
                </a:cubicBezTo>
                <a:cubicBezTo>
                  <a:pt x="447" y="183"/>
                  <a:pt x="520" y="166"/>
                  <a:pt x="528" y="160"/>
                </a:cubicBezTo>
                <a:cubicBezTo>
                  <a:pt x="539" y="151"/>
                  <a:pt x="542" y="134"/>
                  <a:pt x="552" y="124"/>
                </a:cubicBezTo>
                <a:cubicBezTo>
                  <a:pt x="562" y="114"/>
                  <a:pt x="576" y="108"/>
                  <a:pt x="588" y="100"/>
                </a:cubicBezTo>
                <a:cubicBezTo>
                  <a:pt x="617" y="13"/>
                  <a:pt x="665" y="43"/>
                  <a:pt x="756" y="52"/>
                </a:cubicBezTo>
                <a:cubicBezTo>
                  <a:pt x="792" y="76"/>
                  <a:pt x="796" y="72"/>
                  <a:pt x="816" y="112"/>
                </a:cubicBezTo>
                <a:cubicBezTo>
                  <a:pt x="822" y="123"/>
                  <a:pt x="818" y="141"/>
                  <a:pt x="828" y="148"/>
                </a:cubicBezTo>
                <a:cubicBezTo>
                  <a:pt x="849" y="163"/>
                  <a:pt x="900" y="172"/>
                  <a:pt x="900" y="172"/>
                </a:cubicBezTo>
                <a:cubicBezTo>
                  <a:pt x="952" y="167"/>
                  <a:pt x="1015" y="181"/>
                  <a:pt x="1056" y="148"/>
                </a:cubicBezTo>
                <a:cubicBezTo>
                  <a:pt x="1067" y="139"/>
                  <a:pt x="1069" y="121"/>
                  <a:pt x="1080" y="112"/>
                </a:cubicBezTo>
                <a:cubicBezTo>
                  <a:pt x="1102" y="93"/>
                  <a:pt x="1152" y="64"/>
                  <a:pt x="1152" y="64"/>
                </a:cubicBezTo>
                <a:cubicBezTo>
                  <a:pt x="1195" y="0"/>
                  <a:pt x="1179" y="0"/>
                  <a:pt x="1308" y="40"/>
                </a:cubicBezTo>
                <a:cubicBezTo>
                  <a:pt x="1322" y="44"/>
                  <a:pt x="1322" y="66"/>
                  <a:pt x="1332" y="76"/>
                </a:cubicBezTo>
                <a:cubicBezTo>
                  <a:pt x="1342" y="86"/>
                  <a:pt x="1356" y="92"/>
                  <a:pt x="1368" y="100"/>
                </a:cubicBezTo>
                <a:cubicBezTo>
                  <a:pt x="1405" y="156"/>
                  <a:pt x="1419" y="160"/>
                  <a:pt x="1488" y="160"/>
                </a:cubicBezTo>
              </a:path>
            </a:pathLst>
          </a:custGeom>
          <a:noFill/>
          <a:ln w="572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2895480"/>
            <a:ext cx="152280" cy="76320"/>
          </a:xfrm>
          <a:prstGeom prst="line">
            <a:avLst/>
          </a:prstGeom>
          <a:ln w="7632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8195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0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1316160"/>
            <a:ext cx="1276200" cy="131760"/>
          </a:xfrm>
          <a:custGeom>
            <a:avLst/>
            <a:gdLst/>
            <a:ahLst/>
            <a:rect l="l" t="t" r="r" b="b"/>
            <a:pathLst>
              <a:path w="804" h="83">
                <a:moveTo>
                  <a:pt x="0" y="47"/>
                </a:moveTo>
                <a:cubicBezTo>
                  <a:pt x="85" y="26"/>
                  <a:pt x="91" y="17"/>
                  <a:pt x="180" y="47"/>
                </a:cubicBezTo>
                <a:cubicBezTo>
                  <a:pt x="196" y="43"/>
                  <a:pt x="213" y="41"/>
                  <a:pt x="228" y="35"/>
                </a:cubicBezTo>
                <a:cubicBezTo>
                  <a:pt x="289" y="9"/>
                  <a:pt x="238" y="2"/>
                  <a:pt x="300" y="23"/>
                </a:cubicBezTo>
                <a:cubicBezTo>
                  <a:pt x="370" y="0"/>
                  <a:pt x="459" y="24"/>
                  <a:pt x="528" y="47"/>
                </a:cubicBezTo>
                <a:cubicBezTo>
                  <a:pt x="596" y="30"/>
                  <a:pt x="581" y="28"/>
                  <a:pt x="672" y="47"/>
                </a:cubicBezTo>
                <a:cubicBezTo>
                  <a:pt x="716" y="56"/>
                  <a:pt x="758" y="83"/>
                  <a:pt x="804" y="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1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129528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1371600"/>
            <a:ext cx="7632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1320" y="1295280"/>
            <a:ext cx="7596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990720"/>
            <a:ext cx="13716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0" y="7086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209680" y="73911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43200" y="72388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romát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2520" y="6858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1676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 n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3280" y="6481800"/>
            <a:ext cx="1744560" cy="268200"/>
          </a:xfrm>
          <a:custGeom>
            <a:avLst/>
            <a:gdLst/>
            <a:ahLst/>
            <a:rect l="l" t="t" r="r" b="b"/>
            <a:pathLst>
              <a:path w="1099" h="169">
                <a:moveTo>
                  <a:pt x="3" y="85"/>
                </a:moveTo>
                <a:cubicBezTo>
                  <a:pt x="6" y="98"/>
                  <a:pt x="0" y="117"/>
                  <a:pt x="11" y="125"/>
                </a:cubicBezTo>
                <a:cubicBezTo>
                  <a:pt x="30" y="139"/>
                  <a:pt x="42" y="87"/>
                  <a:pt x="43" y="85"/>
                </a:cubicBezTo>
                <a:cubicBezTo>
                  <a:pt x="44" y="86"/>
                  <a:pt x="68" y="132"/>
                  <a:pt x="83" y="117"/>
                </a:cubicBezTo>
                <a:cubicBezTo>
                  <a:pt x="95" y="105"/>
                  <a:pt x="99" y="69"/>
                  <a:pt x="99" y="69"/>
                </a:cubicBezTo>
                <a:cubicBezTo>
                  <a:pt x="114" y="113"/>
                  <a:pt x="108" y="139"/>
                  <a:pt x="131" y="93"/>
                </a:cubicBezTo>
                <a:cubicBezTo>
                  <a:pt x="135" y="85"/>
                  <a:pt x="136" y="77"/>
                  <a:pt x="139" y="69"/>
                </a:cubicBezTo>
                <a:cubicBezTo>
                  <a:pt x="144" y="77"/>
                  <a:pt x="152" y="84"/>
                  <a:pt x="155" y="93"/>
                </a:cubicBezTo>
                <a:cubicBezTo>
                  <a:pt x="160" y="106"/>
                  <a:pt x="152" y="125"/>
                  <a:pt x="163" y="133"/>
                </a:cubicBezTo>
                <a:cubicBezTo>
                  <a:pt x="171" y="139"/>
                  <a:pt x="187" y="86"/>
                  <a:pt x="187" y="85"/>
                </a:cubicBezTo>
                <a:cubicBezTo>
                  <a:pt x="208" y="117"/>
                  <a:pt x="198" y="129"/>
                  <a:pt x="235" y="141"/>
                </a:cubicBezTo>
                <a:cubicBezTo>
                  <a:pt x="243" y="136"/>
                  <a:pt x="256" y="134"/>
                  <a:pt x="259" y="125"/>
                </a:cubicBezTo>
                <a:cubicBezTo>
                  <a:pt x="263" y="112"/>
                  <a:pt x="262" y="93"/>
                  <a:pt x="251" y="85"/>
                </a:cubicBezTo>
                <a:cubicBezTo>
                  <a:pt x="243" y="80"/>
                  <a:pt x="240" y="101"/>
                  <a:pt x="235" y="109"/>
                </a:cubicBezTo>
                <a:cubicBezTo>
                  <a:pt x="240" y="123"/>
                  <a:pt x="244" y="162"/>
                  <a:pt x="275" y="125"/>
                </a:cubicBezTo>
                <a:cubicBezTo>
                  <a:pt x="284" y="115"/>
                  <a:pt x="280" y="98"/>
                  <a:pt x="283" y="85"/>
                </a:cubicBezTo>
                <a:cubicBezTo>
                  <a:pt x="286" y="93"/>
                  <a:pt x="286" y="102"/>
                  <a:pt x="291" y="109"/>
                </a:cubicBezTo>
                <a:cubicBezTo>
                  <a:pt x="297" y="117"/>
                  <a:pt x="310" y="133"/>
                  <a:pt x="315" y="125"/>
                </a:cubicBezTo>
                <a:cubicBezTo>
                  <a:pt x="327" y="104"/>
                  <a:pt x="320" y="77"/>
                  <a:pt x="323" y="53"/>
                </a:cubicBezTo>
                <a:cubicBezTo>
                  <a:pt x="326" y="80"/>
                  <a:pt x="320" y="108"/>
                  <a:pt x="331" y="133"/>
                </a:cubicBezTo>
                <a:cubicBezTo>
                  <a:pt x="335" y="142"/>
                  <a:pt x="344" y="118"/>
                  <a:pt x="347" y="109"/>
                </a:cubicBezTo>
                <a:cubicBezTo>
                  <a:pt x="352" y="96"/>
                  <a:pt x="352" y="82"/>
                  <a:pt x="355" y="69"/>
                </a:cubicBezTo>
                <a:cubicBezTo>
                  <a:pt x="373" y="142"/>
                  <a:pt x="353" y="145"/>
                  <a:pt x="395" y="117"/>
                </a:cubicBezTo>
                <a:cubicBezTo>
                  <a:pt x="398" y="98"/>
                  <a:pt x="392" y="76"/>
                  <a:pt x="403" y="61"/>
                </a:cubicBezTo>
                <a:cubicBezTo>
                  <a:pt x="409" y="53"/>
                  <a:pt x="416" y="76"/>
                  <a:pt x="419" y="85"/>
                </a:cubicBezTo>
                <a:cubicBezTo>
                  <a:pt x="424" y="100"/>
                  <a:pt x="419" y="119"/>
                  <a:pt x="427" y="133"/>
                </a:cubicBezTo>
                <a:cubicBezTo>
                  <a:pt x="431" y="140"/>
                  <a:pt x="443" y="138"/>
                  <a:pt x="451" y="141"/>
                </a:cubicBezTo>
                <a:cubicBezTo>
                  <a:pt x="454" y="133"/>
                  <a:pt x="451" y="119"/>
                  <a:pt x="459" y="117"/>
                </a:cubicBezTo>
                <a:cubicBezTo>
                  <a:pt x="500" y="107"/>
                  <a:pt x="471" y="169"/>
                  <a:pt x="491" y="109"/>
                </a:cubicBezTo>
                <a:cubicBezTo>
                  <a:pt x="488" y="101"/>
                  <a:pt x="491" y="87"/>
                  <a:pt x="483" y="85"/>
                </a:cubicBezTo>
                <a:cubicBezTo>
                  <a:pt x="467" y="81"/>
                  <a:pt x="448" y="84"/>
                  <a:pt x="435" y="93"/>
                </a:cubicBezTo>
                <a:cubicBezTo>
                  <a:pt x="428" y="98"/>
                  <a:pt x="451" y="98"/>
                  <a:pt x="459" y="101"/>
                </a:cubicBezTo>
                <a:cubicBezTo>
                  <a:pt x="467" y="98"/>
                  <a:pt x="477" y="99"/>
                  <a:pt x="483" y="93"/>
                </a:cubicBezTo>
                <a:cubicBezTo>
                  <a:pt x="489" y="87"/>
                  <a:pt x="483" y="69"/>
                  <a:pt x="491" y="69"/>
                </a:cubicBezTo>
                <a:cubicBezTo>
                  <a:pt x="504" y="69"/>
                  <a:pt x="510" y="111"/>
                  <a:pt x="515" y="117"/>
                </a:cubicBezTo>
                <a:cubicBezTo>
                  <a:pt x="521" y="125"/>
                  <a:pt x="531" y="128"/>
                  <a:pt x="539" y="133"/>
                </a:cubicBezTo>
                <a:cubicBezTo>
                  <a:pt x="544" y="118"/>
                  <a:pt x="551" y="40"/>
                  <a:pt x="531" y="101"/>
                </a:cubicBezTo>
                <a:cubicBezTo>
                  <a:pt x="583" y="135"/>
                  <a:pt x="530" y="111"/>
                  <a:pt x="563" y="69"/>
                </a:cubicBezTo>
                <a:cubicBezTo>
                  <a:pt x="568" y="62"/>
                  <a:pt x="579" y="74"/>
                  <a:pt x="587" y="77"/>
                </a:cubicBezTo>
                <a:cubicBezTo>
                  <a:pt x="590" y="93"/>
                  <a:pt x="579" y="125"/>
                  <a:pt x="595" y="125"/>
                </a:cubicBezTo>
                <a:cubicBezTo>
                  <a:pt x="612" y="125"/>
                  <a:pt x="597" y="86"/>
                  <a:pt x="611" y="77"/>
                </a:cubicBezTo>
                <a:cubicBezTo>
                  <a:pt x="619" y="72"/>
                  <a:pt x="627" y="66"/>
                  <a:pt x="635" y="61"/>
                </a:cubicBezTo>
                <a:cubicBezTo>
                  <a:pt x="654" y="117"/>
                  <a:pt x="635" y="104"/>
                  <a:pt x="675" y="117"/>
                </a:cubicBezTo>
                <a:cubicBezTo>
                  <a:pt x="686" y="84"/>
                  <a:pt x="685" y="72"/>
                  <a:pt x="651" y="61"/>
                </a:cubicBezTo>
                <a:cubicBezTo>
                  <a:pt x="654" y="85"/>
                  <a:pt x="650" y="111"/>
                  <a:pt x="659" y="133"/>
                </a:cubicBezTo>
                <a:cubicBezTo>
                  <a:pt x="662" y="141"/>
                  <a:pt x="675" y="145"/>
                  <a:pt x="683" y="141"/>
                </a:cubicBezTo>
                <a:cubicBezTo>
                  <a:pt x="691" y="137"/>
                  <a:pt x="688" y="125"/>
                  <a:pt x="691" y="117"/>
                </a:cubicBezTo>
                <a:cubicBezTo>
                  <a:pt x="694" y="98"/>
                  <a:pt x="688" y="76"/>
                  <a:pt x="699" y="61"/>
                </a:cubicBezTo>
                <a:cubicBezTo>
                  <a:pt x="705" y="53"/>
                  <a:pt x="712" y="76"/>
                  <a:pt x="715" y="85"/>
                </a:cubicBezTo>
                <a:cubicBezTo>
                  <a:pt x="720" y="98"/>
                  <a:pt x="720" y="112"/>
                  <a:pt x="723" y="125"/>
                </a:cubicBezTo>
                <a:cubicBezTo>
                  <a:pt x="728" y="117"/>
                  <a:pt x="735" y="110"/>
                  <a:pt x="739" y="101"/>
                </a:cubicBezTo>
                <a:cubicBezTo>
                  <a:pt x="743" y="91"/>
                  <a:pt x="738" y="63"/>
                  <a:pt x="747" y="69"/>
                </a:cubicBezTo>
                <a:cubicBezTo>
                  <a:pt x="761" y="78"/>
                  <a:pt x="763" y="117"/>
                  <a:pt x="763" y="117"/>
                </a:cubicBezTo>
                <a:cubicBezTo>
                  <a:pt x="784" y="53"/>
                  <a:pt x="774" y="53"/>
                  <a:pt x="795" y="117"/>
                </a:cubicBezTo>
                <a:cubicBezTo>
                  <a:pt x="798" y="126"/>
                  <a:pt x="811" y="128"/>
                  <a:pt x="819" y="133"/>
                </a:cubicBezTo>
                <a:cubicBezTo>
                  <a:pt x="822" y="112"/>
                  <a:pt x="814" y="86"/>
                  <a:pt x="827" y="69"/>
                </a:cubicBezTo>
                <a:cubicBezTo>
                  <a:pt x="834" y="59"/>
                  <a:pt x="839" y="90"/>
                  <a:pt x="843" y="101"/>
                </a:cubicBezTo>
                <a:cubicBezTo>
                  <a:pt x="847" y="111"/>
                  <a:pt x="848" y="122"/>
                  <a:pt x="851" y="133"/>
                </a:cubicBezTo>
                <a:cubicBezTo>
                  <a:pt x="903" y="116"/>
                  <a:pt x="887" y="85"/>
                  <a:pt x="851" y="61"/>
                </a:cubicBezTo>
                <a:cubicBezTo>
                  <a:pt x="854" y="74"/>
                  <a:pt x="851" y="90"/>
                  <a:pt x="859" y="101"/>
                </a:cubicBezTo>
                <a:cubicBezTo>
                  <a:pt x="864" y="108"/>
                  <a:pt x="878" y="116"/>
                  <a:pt x="883" y="109"/>
                </a:cubicBezTo>
                <a:cubicBezTo>
                  <a:pt x="893" y="93"/>
                  <a:pt x="888" y="72"/>
                  <a:pt x="891" y="53"/>
                </a:cubicBezTo>
                <a:cubicBezTo>
                  <a:pt x="899" y="56"/>
                  <a:pt x="911" y="53"/>
                  <a:pt x="915" y="61"/>
                </a:cubicBezTo>
                <a:cubicBezTo>
                  <a:pt x="938" y="106"/>
                  <a:pt x="906" y="143"/>
                  <a:pt x="939" y="93"/>
                </a:cubicBezTo>
                <a:cubicBezTo>
                  <a:pt x="938" y="92"/>
                  <a:pt x="904" y="51"/>
                  <a:pt x="891" y="61"/>
                </a:cubicBezTo>
                <a:cubicBezTo>
                  <a:pt x="882" y="68"/>
                  <a:pt x="886" y="82"/>
                  <a:pt x="883" y="93"/>
                </a:cubicBezTo>
                <a:cubicBezTo>
                  <a:pt x="905" y="158"/>
                  <a:pt x="924" y="83"/>
                  <a:pt x="939" y="61"/>
                </a:cubicBezTo>
                <a:cubicBezTo>
                  <a:pt x="944" y="69"/>
                  <a:pt x="952" y="76"/>
                  <a:pt x="955" y="85"/>
                </a:cubicBezTo>
                <a:cubicBezTo>
                  <a:pt x="960" y="98"/>
                  <a:pt x="953" y="115"/>
                  <a:pt x="963" y="125"/>
                </a:cubicBezTo>
                <a:cubicBezTo>
                  <a:pt x="969" y="131"/>
                  <a:pt x="966" y="108"/>
                  <a:pt x="971" y="101"/>
                </a:cubicBezTo>
                <a:cubicBezTo>
                  <a:pt x="977" y="93"/>
                  <a:pt x="987" y="90"/>
                  <a:pt x="995" y="85"/>
                </a:cubicBezTo>
                <a:cubicBezTo>
                  <a:pt x="974" y="0"/>
                  <a:pt x="996" y="111"/>
                  <a:pt x="1003" y="133"/>
                </a:cubicBezTo>
                <a:cubicBezTo>
                  <a:pt x="1008" y="125"/>
                  <a:pt x="1015" y="118"/>
                  <a:pt x="1019" y="109"/>
                </a:cubicBezTo>
                <a:cubicBezTo>
                  <a:pt x="1026" y="94"/>
                  <a:pt x="1035" y="61"/>
                  <a:pt x="1035" y="61"/>
                </a:cubicBezTo>
                <a:cubicBezTo>
                  <a:pt x="1038" y="77"/>
                  <a:pt x="1032" y="98"/>
                  <a:pt x="1043" y="109"/>
                </a:cubicBezTo>
                <a:cubicBezTo>
                  <a:pt x="1050" y="116"/>
                  <a:pt x="1049" y="85"/>
                  <a:pt x="1059" y="85"/>
                </a:cubicBezTo>
                <a:cubicBezTo>
                  <a:pt x="1069" y="85"/>
                  <a:pt x="1070" y="101"/>
                  <a:pt x="1075" y="109"/>
                </a:cubicBezTo>
                <a:cubicBezTo>
                  <a:pt x="1094" y="80"/>
                  <a:pt x="1087" y="76"/>
                  <a:pt x="1099" y="10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6477120"/>
            <a:ext cx="739800" cy="236520"/>
          </a:xfrm>
          <a:custGeom>
            <a:avLst/>
            <a:gdLst/>
            <a:ahLst/>
            <a:rect l="l" t="t" r="r" b="b"/>
            <a:pathLst>
              <a:path w="466" h="149">
                <a:moveTo>
                  <a:pt x="0" y="85"/>
                </a:moveTo>
                <a:cubicBezTo>
                  <a:pt x="8" y="88"/>
                  <a:pt x="18" y="87"/>
                  <a:pt x="24" y="93"/>
                </a:cubicBezTo>
                <a:cubicBezTo>
                  <a:pt x="30" y="99"/>
                  <a:pt x="24" y="117"/>
                  <a:pt x="32" y="117"/>
                </a:cubicBezTo>
                <a:cubicBezTo>
                  <a:pt x="42" y="117"/>
                  <a:pt x="42" y="101"/>
                  <a:pt x="48" y="93"/>
                </a:cubicBezTo>
                <a:cubicBezTo>
                  <a:pt x="56" y="82"/>
                  <a:pt x="64" y="72"/>
                  <a:pt x="72" y="61"/>
                </a:cubicBezTo>
                <a:cubicBezTo>
                  <a:pt x="77" y="80"/>
                  <a:pt x="83" y="98"/>
                  <a:pt x="88" y="117"/>
                </a:cubicBezTo>
                <a:cubicBezTo>
                  <a:pt x="90" y="125"/>
                  <a:pt x="88" y="91"/>
                  <a:pt x="80" y="93"/>
                </a:cubicBezTo>
                <a:cubicBezTo>
                  <a:pt x="67" y="96"/>
                  <a:pt x="49" y="114"/>
                  <a:pt x="56" y="125"/>
                </a:cubicBezTo>
                <a:cubicBezTo>
                  <a:pt x="64" y="136"/>
                  <a:pt x="83" y="120"/>
                  <a:pt x="96" y="117"/>
                </a:cubicBezTo>
                <a:cubicBezTo>
                  <a:pt x="93" y="101"/>
                  <a:pt x="99" y="80"/>
                  <a:pt x="88" y="69"/>
                </a:cubicBezTo>
                <a:cubicBezTo>
                  <a:pt x="81" y="62"/>
                  <a:pt x="70" y="84"/>
                  <a:pt x="72" y="93"/>
                </a:cubicBezTo>
                <a:cubicBezTo>
                  <a:pt x="74" y="102"/>
                  <a:pt x="88" y="104"/>
                  <a:pt x="96" y="109"/>
                </a:cubicBezTo>
                <a:cubicBezTo>
                  <a:pt x="137" y="101"/>
                  <a:pt x="172" y="96"/>
                  <a:pt x="120" y="61"/>
                </a:cubicBezTo>
                <a:cubicBezTo>
                  <a:pt x="83" y="116"/>
                  <a:pt x="70" y="115"/>
                  <a:pt x="112" y="101"/>
                </a:cubicBezTo>
                <a:cubicBezTo>
                  <a:pt x="160" y="117"/>
                  <a:pt x="144" y="141"/>
                  <a:pt x="184" y="101"/>
                </a:cubicBezTo>
                <a:cubicBezTo>
                  <a:pt x="187" y="93"/>
                  <a:pt x="194" y="69"/>
                  <a:pt x="192" y="77"/>
                </a:cubicBezTo>
                <a:cubicBezTo>
                  <a:pt x="188" y="99"/>
                  <a:pt x="196" y="131"/>
                  <a:pt x="176" y="141"/>
                </a:cubicBezTo>
                <a:cubicBezTo>
                  <a:pt x="161" y="149"/>
                  <a:pt x="160" y="93"/>
                  <a:pt x="160" y="93"/>
                </a:cubicBezTo>
                <a:cubicBezTo>
                  <a:pt x="160" y="93"/>
                  <a:pt x="176" y="88"/>
                  <a:pt x="184" y="85"/>
                </a:cubicBezTo>
                <a:cubicBezTo>
                  <a:pt x="203" y="141"/>
                  <a:pt x="184" y="138"/>
                  <a:pt x="224" y="125"/>
                </a:cubicBezTo>
                <a:cubicBezTo>
                  <a:pt x="239" y="49"/>
                  <a:pt x="224" y="89"/>
                  <a:pt x="240" y="109"/>
                </a:cubicBezTo>
                <a:cubicBezTo>
                  <a:pt x="246" y="117"/>
                  <a:pt x="256" y="120"/>
                  <a:pt x="264" y="125"/>
                </a:cubicBezTo>
                <a:cubicBezTo>
                  <a:pt x="269" y="110"/>
                  <a:pt x="276" y="32"/>
                  <a:pt x="256" y="93"/>
                </a:cubicBezTo>
                <a:cubicBezTo>
                  <a:pt x="257" y="95"/>
                  <a:pt x="269" y="148"/>
                  <a:pt x="288" y="133"/>
                </a:cubicBezTo>
                <a:cubicBezTo>
                  <a:pt x="301" y="122"/>
                  <a:pt x="304" y="85"/>
                  <a:pt x="304" y="85"/>
                </a:cubicBezTo>
                <a:cubicBezTo>
                  <a:pt x="307" y="93"/>
                  <a:pt x="304" y="109"/>
                  <a:pt x="312" y="109"/>
                </a:cubicBezTo>
                <a:cubicBezTo>
                  <a:pt x="320" y="109"/>
                  <a:pt x="316" y="77"/>
                  <a:pt x="320" y="85"/>
                </a:cubicBezTo>
                <a:cubicBezTo>
                  <a:pt x="328" y="102"/>
                  <a:pt x="325" y="122"/>
                  <a:pt x="328" y="141"/>
                </a:cubicBezTo>
                <a:cubicBezTo>
                  <a:pt x="336" y="130"/>
                  <a:pt x="350" y="122"/>
                  <a:pt x="352" y="109"/>
                </a:cubicBezTo>
                <a:cubicBezTo>
                  <a:pt x="372" y="0"/>
                  <a:pt x="340" y="60"/>
                  <a:pt x="328" y="77"/>
                </a:cubicBezTo>
                <a:cubicBezTo>
                  <a:pt x="386" y="96"/>
                  <a:pt x="372" y="77"/>
                  <a:pt x="384" y="125"/>
                </a:cubicBezTo>
                <a:cubicBezTo>
                  <a:pt x="387" y="114"/>
                  <a:pt x="392" y="104"/>
                  <a:pt x="392" y="93"/>
                </a:cubicBezTo>
                <a:cubicBezTo>
                  <a:pt x="392" y="76"/>
                  <a:pt x="367" y="43"/>
                  <a:pt x="400" y="93"/>
                </a:cubicBezTo>
                <a:cubicBezTo>
                  <a:pt x="403" y="104"/>
                  <a:pt x="401" y="116"/>
                  <a:pt x="408" y="125"/>
                </a:cubicBezTo>
                <a:cubicBezTo>
                  <a:pt x="413" y="132"/>
                  <a:pt x="426" y="139"/>
                  <a:pt x="432" y="133"/>
                </a:cubicBezTo>
                <a:cubicBezTo>
                  <a:pt x="438" y="127"/>
                  <a:pt x="417" y="104"/>
                  <a:pt x="424" y="109"/>
                </a:cubicBezTo>
                <a:cubicBezTo>
                  <a:pt x="432" y="114"/>
                  <a:pt x="440" y="120"/>
                  <a:pt x="448" y="125"/>
                </a:cubicBezTo>
                <a:cubicBezTo>
                  <a:pt x="453" y="117"/>
                  <a:pt x="462" y="110"/>
                  <a:pt x="464" y="101"/>
                </a:cubicBezTo>
                <a:cubicBezTo>
                  <a:pt x="466" y="86"/>
                  <a:pt x="443" y="58"/>
                  <a:pt x="432" y="69"/>
                </a:cubicBezTo>
                <a:cubicBezTo>
                  <a:pt x="424" y="77"/>
                  <a:pt x="432" y="90"/>
                  <a:pt x="432" y="10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97080" y="6500880"/>
            <a:ext cx="228600" cy="204840"/>
          </a:xfrm>
          <a:custGeom>
            <a:avLst/>
            <a:gdLst/>
            <a:ahLst/>
            <a:rect l="l" t="t" r="r" b="b"/>
            <a:pathLst>
              <a:path w="144" h="129">
                <a:moveTo>
                  <a:pt x="1" y="89"/>
                </a:moveTo>
                <a:cubicBezTo>
                  <a:pt x="4" y="100"/>
                  <a:pt x="0" y="114"/>
                  <a:pt x="9" y="121"/>
                </a:cubicBezTo>
                <a:cubicBezTo>
                  <a:pt x="16" y="126"/>
                  <a:pt x="30" y="121"/>
                  <a:pt x="33" y="113"/>
                </a:cubicBezTo>
                <a:cubicBezTo>
                  <a:pt x="37" y="100"/>
                  <a:pt x="28" y="86"/>
                  <a:pt x="25" y="73"/>
                </a:cubicBezTo>
                <a:cubicBezTo>
                  <a:pt x="32" y="44"/>
                  <a:pt x="46" y="0"/>
                  <a:pt x="65" y="57"/>
                </a:cubicBezTo>
                <a:cubicBezTo>
                  <a:pt x="68" y="78"/>
                  <a:pt x="62" y="103"/>
                  <a:pt x="73" y="121"/>
                </a:cubicBezTo>
                <a:cubicBezTo>
                  <a:pt x="78" y="129"/>
                  <a:pt x="86" y="106"/>
                  <a:pt x="89" y="97"/>
                </a:cubicBezTo>
                <a:cubicBezTo>
                  <a:pt x="94" y="84"/>
                  <a:pt x="94" y="70"/>
                  <a:pt x="97" y="57"/>
                </a:cubicBezTo>
                <a:cubicBezTo>
                  <a:pt x="144" y="73"/>
                  <a:pt x="118" y="91"/>
                  <a:pt x="137" y="1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27480" y="6553080"/>
            <a:ext cx="279360" cy="171720"/>
          </a:xfrm>
          <a:custGeom>
            <a:avLst/>
            <a:gdLst/>
            <a:ahLst/>
            <a:rect l="l" t="t" r="r" b="b"/>
            <a:pathLst>
              <a:path w="176" h="108">
                <a:moveTo>
                  <a:pt x="0" y="40"/>
                </a:moveTo>
                <a:cubicBezTo>
                  <a:pt x="8" y="37"/>
                  <a:pt x="18" y="38"/>
                  <a:pt x="24" y="32"/>
                </a:cubicBezTo>
                <a:cubicBezTo>
                  <a:pt x="30" y="26"/>
                  <a:pt x="29" y="0"/>
                  <a:pt x="32" y="8"/>
                </a:cubicBezTo>
                <a:cubicBezTo>
                  <a:pt x="64" y="88"/>
                  <a:pt x="11" y="62"/>
                  <a:pt x="64" y="80"/>
                </a:cubicBezTo>
                <a:cubicBezTo>
                  <a:pt x="83" y="23"/>
                  <a:pt x="66" y="23"/>
                  <a:pt x="104" y="48"/>
                </a:cubicBezTo>
                <a:cubicBezTo>
                  <a:pt x="124" y="108"/>
                  <a:pt x="97" y="48"/>
                  <a:pt x="128" y="48"/>
                </a:cubicBezTo>
                <a:cubicBezTo>
                  <a:pt x="136" y="48"/>
                  <a:pt x="131" y="65"/>
                  <a:pt x="136" y="72"/>
                </a:cubicBezTo>
                <a:cubicBezTo>
                  <a:pt x="142" y="81"/>
                  <a:pt x="152" y="88"/>
                  <a:pt x="160" y="96"/>
                </a:cubicBezTo>
                <a:cubicBezTo>
                  <a:pt x="157" y="72"/>
                  <a:pt x="169" y="41"/>
                  <a:pt x="152" y="24"/>
                </a:cubicBezTo>
                <a:cubicBezTo>
                  <a:pt x="135" y="7"/>
                  <a:pt x="57" y="24"/>
                  <a:pt x="80" y="16"/>
                </a:cubicBezTo>
                <a:cubicBezTo>
                  <a:pt x="110" y="6"/>
                  <a:pt x="144" y="16"/>
                  <a:pt x="176" y="1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43480" y="6537240"/>
            <a:ext cx="612720" cy="168480"/>
          </a:xfrm>
          <a:custGeom>
            <a:avLst/>
            <a:gdLst/>
            <a:ahLst/>
            <a:rect l="l" t="t" r="r" b="b"/>
            <a:pathLst>
              <a:path w="386" h="106">
                <a:moveTo>
                  <a:pt x="0" y="50"/>
                </a:moveTo>
                <a:cubicBezTo>
                  <a:pt x="19" y="53"/>
                  <a:pt x="39" y="50"/>
                  <a:pt x="56" y="58"/>
                </a:cubicBezTo>
                <a:cubicBezTo>
                  <a:pt x="64" y="62"/>
                  <a:pt x="59" y="75"/>
                  <a:pt x="64" y="82"/>
                </a:cubicBezTo>
                <a:cubicBezTo>
                  <a:pt x="70" y="90"/>
                  <a:pt x="80" y="93"/>
                  <a:pt x="88" y="98"/>
                </a:cubicBezTo>
                <a:cubicBezTo>
                  <a:pt x="117" y="54"/>
                  <a:pt x="93" y="33"/>
                  <a:pt x="48" y="18"/>
                </a:cubicBezTo>
                <a:cubicBezTo>
                  <a:pt x="45" y="26"/>
                  <a:pt x="24" y="63"/>
                  <a:pt x="64" y="50"/>
                </a:cubicBezTo>
                <a:cubicBezTo>
                  <a:pt x="82" y="44"/>
                  <a:pt x="112" y="18"/>
                  <a:pt x="112" y="18"/>
                </a:cubicBezTo>
                <a:cubicBezTo>
                  <a:pt x="117" y="26"/>
                  <a:pt x="126" y="33"/>
                  <a:pt x="128" y="42"/>
                </a:cubicBezTo>
                <a:cubicBezTo>
                  <a:pt x="129" y="50"/>
                  <a:pt x="120" y="58"/>
                  <a:pt x="120" y="66"/>
                </a:cubicBezTo>
                <a:cubicBezTo>
                  <a:pt x="120" y="94"/>
                  <a:pt x="131" y="91"/>
                  <a:pt x="152" y="98"/>
                </a:cubicBezTo>
                <a:cubicBezTo>
                  <a:pt x="154" y="95"/>
                  <a:pt x="185" y="52"/>
                  <a:pt x="160" y="42"/>
                </a:cubicBezTo>
                <a:cubicBezTo>
                  <a:pt x="150" y="38"/>
                  <a:pt x="139" y="47"/>
                  <a:pt x="128" y="50"/>
                </a:cubicBezTo>
                <a:cubicBezTo>
                  <a:pt x="199" y="74"/>
                  <a:pt x="103" y="50"/>
                  <a:pt x="160" y="26"/>
                </a:cubicBezTo>
                <a:cubicBezTo>
                  <a:pt x="175" y="20"/>
                  <a:pt x="192" y="31"/>
                  <a:pt x="208" y="34"/>
                </a:cubicBezTo>
                <a:cubicBezTo>
                  <a:pt x="205" y="42"/>
                  <a:pt x="197" y="50"/>
                  <a:pt x="200" y="58"/>
                </a:cubicBezTo>
                <a:cubicBezTo>
                  <a:pt x="204" y="67"/>
                  <a:pt x="233" y="71"/>
                  <a:pt x="224" y="74"/>
                </a:cubicBezTo>
                <a:cubicBezTo>
                  <a:pt x="205" y="79"/>
                  <a:pt x="187" y="85"/>
                  <a:pt x="168" y="90"/>
                </a:cubicBezTo>
                <a:cubicBezTo>
                  <a:pt x="163" y="82"/>
                  <a:pt x="148" y="75"/>
                  <a:pt x="152" y="66"/>
                </a:cubicBezTo>
                <a:cubicBezTo>
                  <a:pt x="156" y="55"/>
                  <a:pt x="172" y="53"/>
                  <a:pt x="184" y="50"/>
                </a:cubicBezTo>
                <a:cubicBezTo>
                  <a:pt x="208" y="45"/>
                  <a:pt x="232" y="45"/>
                  <a:pt x="256" y="42"/>
                </a:cubicBezTo>
                <a:cubicBezTo>
                  <a:pt x="251" y="40"/>
                  <a:pt x="208" y="17"/>
                  <a:pt x="224" y="58"/>
                </a:cubicBezTo>
                <a:cubicBezTo>
                  <a:pt x="229" y="70"/>
                  <a:pt x="262" y="79"/>
                  <a:pt x="272" y="82"/>
                </a:cubicBezTo>
                <a:cubicBezTo>
                  <a:pt x="275" y="74"/>
                  <a:pt x="283" y="66"/>
                  <a:pt x="280" y="58"/>
                </a:cubicBezTo>
                <a:cubicBezTo>
                  <a:pt x="269" y="31"/>
                  <a:pt x="229" y="51"/>
                  <a:pt x="280" y="34"/>
                </a:cubicBezTo>
                <a:cubicBezTo>
                  <a:pt x="299" y="91"/>
                  <a:pt x="287" y="68"/>
                  <a:pt x="312" y="106"/>
                </a:cubicBezTo>
                <a:cubicBezTo>
                  <a:pt x="315" y="77"/>
                  <a:pt x="304" y="43"/>
                  <a:pt x="320" y="18"/>
                </a:cubicBezTo>
                <a:cubicBezTo>
                  <a:pt x="332" y="0"/>
                  <a:pt x="317" y="64"/>
                  <a:pt x="328" y="82"/>
                </a:cubicBezTo>
                <a:cubicBezTo>
                  <a:pt x="333" y="90"/>
                  <a:pt x="340" y="67"/>
                  <a:pt x="344" y="58"/>
                </a:cubicBezTo>
                <a:cubicBezTo>
                  <a:pt x="348" y="50"/>
                  <a:pt x="349" y="42"/>
                  <a:pt x="352" y="34"/>
                </a:cubicBezTo>
                <a:cubicBezTo>
                  <a:pt x="386" y="45"/>
                  <a:pt x="376" y="34"/>
                  <a:pt x="376" y="7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27400" y="6545160"/>
            <a:ext cx="1143000" cy="208080"/>
          </a:xfrm>
          <a:custGeom>
            <a:avLst/>
            <a:gdLst/>
            <a:ahLst/>
            <a:rect l="l" t="t" r="r" b="b"/>
            <a:pathLst>
              <a:path w="720" h="131">
                <a:moveTo>
                  <a:pt x="0" y="53"/>
                </a:moveTo>
                <a:cubicBezTo>
                  <a:pt x="3" y="62"/>
                  <a:pt x="8" y="97"/>
                  <a:pt x="32" y="85"/>
                </a:cubicBezTo>
                <a:cubicBezTo>
                  <a:pt x="40" y="81"/>
                  <a:pt x="37" y="69"/>
                  <a:pt x="40" y="61"/>
                </a:cubicBezTo>
                <a:cubicBezTo>
                  <a:pt x="37" y="53"/>
                  <a:pt x="24" y="37"/>
                  <a:pt x="32" y="37"/>
                </a:cubicBezTo>
                <a:cubicBezTo>
                  <a:pt x="42" y="37"/>
                  <a:pt x="42" y="54"/>
                  <a:pt x="48" y="61"/>
                </a:cubicBezTo>
                <a:cubicBezTo>
                  <a:pt x="67" y="84"/>
                  <a:pt x="72" y="85"/>
                  <a:pt x="96" y="101"/>
                </a:cubicBezTo>
                <a:cubicBezTo>
                  <a:pt x="93" y="82"/>
                  <a:pt x="96" y="62"/>
                  <a:pt x="88" y="45"/>
                </a:cubicBezTo>
                <a:cubicBezTo>
                  <a:pt x="84" y="36"/>
                  <a:pt x="73" y="25"/>
                  <a:pt x="64" y="29"/>
                </a:cubicBezTo>
                <a:cubicBezTo>
                  <a:pt x="56" y="33"/>
                  <a:pt x="69" y="45"/>
                  <a:pt x="72" y="53"/>
                </a:cubicBezTo>
                <a:cubicBezTo>
                  <a:pt x="80" y="50"/>
                  <a:pt x="90" y="51"/>
                  <a:pt x="96" y="45"/>
                </a:cubicBezTo>
                <a:cubicBezTo>
                  <a:pt x="102" y="39"/>
                  <a:pt x="96" y="21"/>
                  <a:pt x="104" y="21"/>
                </a:cubicBezTo>
                <a:cubicBezTo>
                  <a:pt x="112" y="21"/>
                  <a:pt x="110" y="37"/>
                  <a:pt x="112" y="45"/>
                </a:cubicBezTo>
                <a:cubicBezTo>
                  <a:pt x="124" y="94"/>
                  <a:pt x="105" y="80"/>
                  <a:pt x="144" y="93"/>
                </a:cubicBezTo>
                <a:cubicBezTo>
                  <a:pt x="155" y="60"/>
                  <a:pt x="154" y="48"/>
                  <a:pt x="120" y="37"/>
                </a:cubicBezTo>
                <a:cubicBezTo>
                  <a:pt x="121" y="39"/>
                  <a:pt x="134" y="105"/>
                  <a:pt x="160" y="53"/>
                </a:cubicBezTo>
                <a:cubicBezTo>
                  <a:pt x="166" y="41"/>
                  <a:pt x="160" y="24"/>
                  <a:pt x="152" y="13"/>
                </a:cubicBezTo>
                <a:cubicBezTo>
                  <a:pt x="147" y="6"/>
                  <a:pt x="120" y="5"/>
                  <a:pt x="128" y="5"/>
                </a:cubicBezTo>
                <a:cubicBezTo>
                  <a:pt x="144" y="5"/>
                  <a:pt x="160" y="10"/>
                  <a:pt x="176" y="13"/>
                </a:cubicBezTo>
                <a:cubicBezTo>
                  <a:pt x="182" y="65"/>
                  <a:pt x="171" y="105"/>
                  <a:pt x="232" y="85"/>
                </a:cubicBezTo>
                <a:cubicBezTo>
                  <a:pt x="230" y="78"/>
                  <a:pt x="207" y="29"/>
                  <a:pt x="248" y="37"/>
                </a:cubicBezTo>
                <a:cubicBezTo>
                  <a:pt x="257" y="39"/>
                  <a:pt x="257" y="54"/>
                  <a:pt x="264" y="61"/>
                </a:cubicBezTo>
                <a:cubicBezTo>
                  <a:pt x="271" y="68"/>
                  <a:pt x="280" y="72"/>
                  <a:pt x="288" y="77"/>
                </a:cubicBezTo>
                <a:cubicBezTo>
                  <a:pt x="299" y="74"/>
                  <a:pt x="314" y="78"/>
                  <a:pt x="320" y="69"/>
                </a:cubicBezTo>
                <a:cubicBezTo>
                  <a:pt x="338" y="38"/>
                  <a:pt x="301" y="33"/>
                  <a:pt x="288" y="29"/>
                </a:cubicBezTo>
                <a:cubicBezTo>
                  <a:pt x="259" y="32"/>
                  <a:pt x="226" y="24"/>
                  <a:pt x="200" y="37"/>
                </a:cubicBezTo>
                <a:cubicBezTo>
                  <a:pt x="158" y="58"/>
                  <a:pt x="222" y="74"/>
                  <a:pt x="232" y="77"/>
                </a:cubicBezTo>
                <a:cubicBezTo>
                  <a:pt x="328" y="61"/>
                  <a:pt x="247" y="90"/>
                  <a:pt x="288" y="29"/>
                </a:cubicBezTo>
                <a:cubicBezTo>
                  <a:pt x="299" y="13"/>
                  <a:pt x="325" y="18"/>
                  <a:pt x="344" y="13"/>
                </a:cubicBezTo>
                <a:cubicBezTo>
                  <a:pt x="358" y="18"/>
                  <a:pt x="397" y="22"/>
                  <a:pt x="360" y="53"/>
                </a:cubicBezTo>
                <a:cubicBezTo>
                  <a:pt x="347" y="64"/>
                  <a:pt x="312" y="69"/>
                  <a:pt x="312" y="69"/>
                </a:cubicBezTo>
                <a:cubicBezTo>
                  <a:pt x="321" y="95"/>
                  <a:pt x="324" y="131"/>
                  <a:pt x="376" y="85"/>
                </a:cubicBezTo>
                <a:cubicBezTo>
                  <a:pt x="388" y="74"/>
                  <a:pt x="381" y="53"/>
                  <a:pt x="384" y="37"/>
                </a:cubicBezTo>
                <a:cubicBezTo>
                  <a:pt x="387" y="47"/>
                  <a:pt x="394" y="83"/>
                  <a:pt x="416" y="77"/>
                </a:cubicBezTo>
                <a:cubicBezTo>
                  <a:pt x="424" y="75"/>
                  <a:pt x="421" y="61"/>
                  <a:pt x="424" y="53"/>
                </a:cubicBezTo>
                <a:cubicBezTo>
                  <a:pt x="421" y="45"/>
                  <a:pt x="422" y="35"/>
                  <a:pt x="416" y="29"/>
                </a:cubicBezTo>
                <a:cubicBezTo>
                  <a:pt x="410" y="23"/>
                  <a:pt x="384" y="21"/>
                  <a:pt x="392" y="21"/>
                </a:cubicBezTo>
                <a:cubicBezTo>
                  <a:pt x="411" y="21"/>
                  <a:pt x="429" y="26"/>
                  <a:pt x="448" y="29"/>
                </a:cubicBezTo>
                <a:cubicBezTo>
                  <a:pt x="445" y="45"/>
                  <a:pt x="451" y="66"/>
                  <a:pt x="440" y="77"/>
                </a:cubicBezTo>
                <a:cubicBezTo>
                  <a:pt x="429" y="88"/>
                  <a:pt x="376" y="85"/>
                  <a:pt x="392" y="85"/>
                </a:cubicBezTo>
                <a:cubicBezTo>
                  <a:pt x="416" y="85"/>
                  <a:pt x="440" y="80"/>
                  <a:pt x="464" y="77"/>
                </a:cubicBezTo>
                <a:cubicBezTo>
                  <a:pt x="467" y="69"/>
                  <a:pt x="472" y="61"/>
                  <a:pt x="472" y="53"/>
                </a:cubicBezTo>
                <a:cubicBezTo>
                  <a:pt x="472" y="19"/>
                  <a:pt x="436" y="23"/>
                  <a:pt x="504" y="37"/>
                </a:cubicBezTo>
                <a:cubicBezTo>
                  <a:pt x="482" y="103"/>
                  <a:pt x="507" y="85"/>
                  <a:pt x="568" y="77"/>
                </a:cubicBezTo>
                <a:cubicBezTo>
                  <a:pt x="551" y="26"/>
                  <a:pt x="559" y="26"/>
                  <a:pt x="504" y="37"/>
                </a:cubicBezTo>
                <a:cubicBezTo>
                  <a:pt x="542" y="94"/>
                  <a:pt x="489" y="30"/>
                  <a:pt x="568" y="53"/>
                </a:cubicBezTo>
                <a:cubicBezTo>
                  <a:pt x="576" y="55"/>
                  <a:pt x="571" y="70"/>
                  <a:pt x="576" y="77"/>
                </a:cubicBezTo>
                <a:cubicBezTo>
                  <a:pt x="587" y="91"/>
                  <a:pt x="608" y="96"/>
                  <a:pt x="624" y="101"/>
                </a:cubicBezTo>
                <a:cubicBezTo>
                  <a:pt x="638" y="59"/>
                  <a:pt x="620" y="65"/>
                  <a:pt x="584" y="53"/>
                </a:cubicBezTo>
                <a:cubicBezTo>
                  <a:pt x="601" y="28"/>
                  <a:pt x="609" y="0"/>
                  <a:pt x="656" y="37"/>
                </a:cubicBezTo>
                <a:cubicBezTo>
                  <a:pt x="664" y="43"/>
                  <a:pt x="645" y="53"/>
                  <a:pt x="640" y="61"/>
                </a:cubicBezTo>
                <a:cubicBezTo>
                  <a:pt x="666" y="70"/>
                  <a:pt x="662" y="74"/>
                  <a:pt x="688" y="61"/>
                </a:cubicBezTo>
                <a:cubicBezTo>
                  <a:pt x="697" y="57"/>
                  <a:pt x="702" y="45"/>
                  <a:pt x="712" y="45"/>
                </a:cubicBezTo>
                <a:cubicBezTo>
                  <a:pt x="718" y="45"/>
                  <a:pt x="717" y="56"/>
                  <a:pt x="720" y="61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144792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2057400"/>
            <a:ext cx="15242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cleoso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ctámero de histonas H2A, H2B, H3 y H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15:17:52Z</dcterms:created>
  <dc:creator>Cecilia Rojas</dc:creator>
  <dc:description/>
  <dc:language>en-US</dc:language>
  <cp:lastModifiedBy>mfernandez</cp:lastModifiedBy>
  <cp:lastPrinted>2002-08-30T12:58:14Z</cp:lastPrinted>
  <dcterms:modified xsi:type="dcterms:W3CDTF">2005-09-08T19:17:39Z</dcterms:modified>
  <cp:revision>98</cp:revision>
  <dc:subject/>
  <dc:title>No Slide Title</dc:title>
</cp:coreProperties>
</file>