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4E7BA-A601-4A28-BB94-0C586AA57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E2A1-F25E-48AB-A352-F56B2795E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5159E-058E-4288-AF4C-6371CA1B8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1C806-5481-452E-8E13-31B64538E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ECF7F-937F-4B27-B1FC-4DE2A903B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ABF4C-1418-4E03-8FB0-CA83ED7C6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AB8B5-6413-467A-B943-FB278BBB0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B6DC5-2E12-4F80-AAA8-0AA4BE9E6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9A671-C0D3-4AD6-84AB-F5E60B08D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05666-088A-40CF-BF52-B843A2DE0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98C42-B1B7-455D-99F3-B79CCD49D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09E3-6042-41B2-966B-6C1D385FC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290C9-2EE2-4897-8B12-8B57EC70A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2C05E-7E7A-41E9-9F30-45AF3FDAA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CD5C8-D236-4BA4-A0D9-040114CCB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E211B-1CE3-46EE-B05F-543DC907F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85469-0A55-46DA-9B9E-98FB2FA34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35C51-8774-4B16-BFE0-78584F85A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48774-4A82-4E23-AC5A-4C6954C1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51483-A61E-4847-9038-47B73582D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DF071-5ED7-44B2-9E64-3D0D0CB34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D83D9-2941-4B6A-A038-59C5A0064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AD8E2-4BBF-4057-ADEA-C2B10550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095B-F02F-4180-8BCD-F6B90F003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06C5-0A56-4C1F-9C9E-52B701A568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F13D-11CC-4CF4-B0A3-B7C5573FC7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 SOLARES: CHASIS</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existen varias alternativas a escoge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compuestos: son los más livianos pero resultan difíciles de optimizar en el diseño ya que sus propiedades físicas pueden no ser conocida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anio: es la opción metálica más liviana, pero resulta ser muy costoso y difícil de solda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inio: es ligeramente más pesado que el titanio, pero mucho más barato y fácil de soldar. Sin embargo, es un material frágil que tiende a quebrarse durante su utilización, especialmente en las zonas sometidas a soldadura.</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ro: más pesado que el aluminio, pero muy fácil de soldar y con alta resistencia a las fracturas. Ha sido la opción más utilizada en autos solares y al parecer mantendrá su liderazgo debido a su resistencia y flexi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álisis estructural: puede hacerse en forma simplificada o con la ayuda de metodologías de análisis computacional (elementos finitos).</a:t>
            </a:r>
            <a:endParaRPr b="0" lang="en-US" sz="2800" spc="-1" strike="noStrike">
              <a:solidFill>
                <a:srgbClr val="000000"/>
              </a:solidFill>
              <a:latin typeface="Arial"/>
            </a:endParaRPr>
          </a:p>
        </p:txBody>
      </p:sp>
      <p:pic>
        <p:nvPicPr>
          <p:cNvPr id="125" name="" descr=""/>
          <p:cNvPicPr/>
          <p:nvPr/>
        </p:nvPicPr>
        <p:blipFill>
          <a:blip r:embed="rId1"/>
          <a:stretch/>
        </p:blipFill>
        <p:spPr>
          <a:xfrm>
            <a:off x="1763640" y="3141720"/>
            <a:ext cx="6153120" cy="30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uridad: existen normas de análisis estructural que simulan cargas asociadas a impactos sobre el vehículo. Algunas de estas son:</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bump</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g corn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front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rear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rollov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side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angular impacts</a:t>
            </a:r>
            <a:endParaRPr b="0" lang="en-US" sz="2200" spc="-1" strike="noStrike">
              <a:solidFill>
                <a:srgbClr val="000000"/>
              </a:solidFill>
              <a:latin typeface="Arial"/>
            </a:endParaRPr>
          </a:p>
        </p:txBody>
      </p:sp>
      <p:sp>
        <p:nvSpPr>
          <p:cNvPr id="127"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eptos generales</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hasis o bastidor es un armazón metálico sobre el que se montan y relacionan todos los elementos del automóvil: la carrocería, el motor, transmisión, ballestas y accesorios. Generalmente, está formado por dos largueros unidos entre sí por varios travesaños. Durante la marcha, el chasis es sometido a violentos esfuerzos y su diseño debe proveer la máxima rigidez y resistencia posible mediante el uso de travesaños de unión entre los dos larguero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 una configuración de estructura base para automóviles distinta a la anterior, llamada carrocería de monocasco. En este tipo no existe un chasis formado por largueros y travesaños, sino la misma carrocería reforzada hace de estructura principal, a la cual se le anexan los componentes de suspensión, transmisión y motorizació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junto carrocería-chasis debe poseer características de seguridad que están definidas por ley, en donde se incluyen parachoques, barras transversales, jaula de protección para el conductor, deformación controlada, cinturones de seguridad, luces de señalización e iluminació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istema de suspensión</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del sistema de suspensión está muy ligado al concepto del chasis. La suspensión aísla al vehículo y al conductor de las irregularidades del camino.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so de autos solares, la suspensión disminuye el balanceo del vehículo cuando este topa con irregularidades, lo cual reduce las pérdidas aerodinámic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spensión ayuda a mantener las ruedas en el camino, mejorando la maniobrabilidad y control del vehículo, así como evitando que las ruedas patinen al hacer contacto bruscamente, lo cual reduce la resistencia por rodamiento y el desgaste de las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seleccionar una buena suspensión es necesario balancear correctamente el vehículo y seleccionar el resorte y constantes de suspensión delanteras y traseras, con lo cual se pueden determinar las constantes específicas de cada res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 (CG)</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determinar correctamente la suspensión es necesario determinar la distancia entre ejes, peso del vehículo, centro de gravedad y momento de inercia.</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G debe ubicarse entre el eje delantero y el eje trasero, de manera que el peso sobre cada rueda sea el mismo, para otorgar estabilidad al vehícul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eso en las ruedas delanteras debe ser entre 60-70% del peso total del vehículo (tres o cuatro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gura siguiente muestra un ejemplo de cálculo de CG, para un auto solar tipo stock-class de 2,5 metros de distancia entre ejes, 5 metros longitud total, peso total de 3700 N, 785 N para el conductor, 1500 N para las baterías, 535 N para el cuerpo y arreglo solar, más 880 N por accesorios varios. Se pide calcular la posición horizontal del C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6" name="" descr=""/>
          <p:cNvPicPr/>
          <p:nvPr/>
        </p:nvPicPr>
        <p:blipFill>
          <a:blip r:embed="rId1"/>
          <a:stretch/>
        </p:blipFill>
        <p:spPr>
          <a:xfrm>
            <a:off x="914400" y="1599840"/>
            <a:ext cx="7772400" cy="4530600"/>
          </a:xfrm>
          <a:prstGeom prst="rect">
            <a:avLst/>
          </a:prstGeom>
          <a:ln w="0">
            <a:noFill/>
          </a:ln>
        </p:spPr>
      </p:pic>
      <p:pic>
        <p:nvPicPr>
          <p:cNvPr id="107" name="" descr=""/>
          <p:cNvPicPr/>
          <p:nvPr/>
        </p:nvPicPr>
        <p:blipFill>
          <a:blip r:embed="rId2"/>
          <a:stretch/>
        </p:blipFill>
        <p:spPr>
          <a:xfrm>
            <a:off x="900000" y="1197000"/>
            <a:ext cx="7488360" cy="537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9" name="" descr=""/>
          <p:cNvPicPr/>
          <p:nvPr/>
        </p:nvPicPr>
        <p:blipFill>
          <a:blip r:embed="rId1"/>
          <a:stretch/>
        </p:blipFill>
        <p:spPr>
          <a:xfrm>
            <a:off x="914400" y="1599840"/>
            <a:ext cx="7772400" cy="4530600"/>
          </a:xfrm>
          <a:prstGeom prst="rect">
            <a:avLst/>
          </a:prstGeom>
          <a:ln w="0">
            <a:noFill/>
          </a:ln>
        </p:spPr>
      </p:pic>
      <p:pic>
        <p:nvPicPr>
          <p:cNvPr id="110" name="" descr=""/>
          <p:cNvPicPr/>
          <p:nvPr/>
        </p:nvPicPr>
        <p:blipFill>
          <a:blip r:embed="rId2"/>
          <a:stretch/>
        </p:blipFill>
        <p:spPr>
          <a:xfrm>
            <a:off x="826920" y="2997360"/>
            <a:ext cx="7871040" cy="3127320"/>
          </a:xfrm>
          <a:prstGeom prst="rect">
            <a:avLst/>
          </a:prstGeom>
          <a:ln w="0">
            <a:noFill/>
          </a:ln>
        </p:spPr>
      </p:pic>
      <p:pic>
        <p:nvPicPr>
          <p:cNvPr id="111" name="" descr=""/>
          <p:cNvPicPr/>
          <p:nvPr/>
        </p:nvPicPr>
        <p:blipFill>
          <a:blip r:embed="rId3"/>
          <a:stretch/>
        </p:blipFill>
        <p:spPr>
          <a:xfrm>
            <a:off x="5580000" y="333360"/>
            <a:ext cx="3256200" cy="23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mento de inercia</a:t>
            </a:r>
            <a:endParaRPr b="0" lang="en-US" sz="4200" spc="-1" strike="noStrike">
              <a:solidFill>
                <a:srgbClr val="330033"/>
              </a:solidFill>
              <a:latin typeface="Times New Roman"/>
            </a:endParaRPr>
          </a:p>
        </p:txBody>
      </p:sp>
      <p:pic>
        <p:nvPicPr>
          <p:cNvPr id="113" name="" descr=""/>
          <p:cNvPicPr/>
          <p:nvPr/>
        </p:nvPicPr>
        <p:blipFill>
          <a:blip r:embed="rId1"/>
          <a:stretch/>
        </p:blipFill>
        <p:spPr>
          <a:xfrm>
            <a:off x="914400" y="1599840"/>
            <a:ext cx="7772400" cy="4530600"/>
          </a:xfrm>
          <a:prstGeom prst="rect">
            <a:avLst/>
          </a:prstGeom>
          <a:ln w="0">
            <a:noFill/>
          </a:ln>
        </p:spPr>
      </p:pic>
      <p:pic>
        <p:nvPicPr>
          <p:cNvPr id="114" name="" descr=""/>
          <p:cNvPicPr/>
          <p:nvPr/>
        </p:nvPicPr>
        <p:blipFill>
          <a:blip r:embed="rId2"/>
          <a:stretch/>
        </p:blipFill>
        <p:spPr>
          <a:xfrm>
            <a:off x="900000" y="2421000"/>
            <a:ext cx="6121440" cy="4079880"/>
          </a:xfrm>
          <a:prstGeom prst="rect">
            <a:avLst/>
          </a:prstGeom>
          <a:ln w="0">
            <a:noFill/>
          </a:ln>
        </p:spPr>
      </p:pic>
      <p:pic>
        <p:nvPicPr>
          <p:cNvPr id="115" name="" descr=""/>
          <p:cNvPicPr/>
          <p:nvPr/>
        </p:nvPicPr>
        <p:blipFill>
          <a:blip r:embed="rId3"/>
          <a:stretch/>
        </p:blipFill>
        <p:spPr>
          <a:xfrm>
            <a:off x="5580000" y="260280"/>
            <a:ext cx="3256200" cy="2338560"/>
          </a:xfrm>
          <a:prstGeom prst="rect">
            <a:avLst/>
          </a:prstGeom>
          <a:ln w="0">
            <a:noFill/>
          </a:ln>
        </p:spPr>
      </p:pic>
      <p:sp>
        <p:nvSpPr>
          <p:cNvPr id="116" name=""/>
          <p:cNvSpPr/>
          <p:nvPr/>
        </p:nvSpPr>
        <p:spPr>
          <a:xfrm>
            <a:off x="1107000" y="164772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 md</a:t>
            </a:r>
            <a:r>
              <a:rPr b="0" lang="es-ES" sz="1800" spc="-1" strike="noStrike" baseline="30000">
                <a:solidFill>
                  <a:srgbClr val="000000"/>
                </a:solidFill>
                <a:latin typeface="Arial"/>
              </a:rPr>
              <a:t>2</a:t>
            </a:r>
            <a:r>
              <a:rPr b="0" lang="es-ES" sz="1800" spc="-1" strike="noStrike">
                <a:solidFill>
                  <a:srgbClr val="000000"/>
                </a:solidFill>
                <a:latin typeface="Arial"/>
              </a:rPr>
              <a:t> + mL</a:t>
            </a:r>
            <a:r>
              <a:rPr b="0" lang="es-ES" sz="1800" spc="-1" strike="noStrike" baseline="30000">
                <a:solidFill>
                  <a:srgbClr val="000000"/>
                </a:solidFill>
                <a:latin typeface="Arial"/>
              </a:rPr>
              <a:t>2</a:t>
            </a:r>
            <a:r>
              <a:rPr b="0" lang="es-E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gas: es necesario hacer un análisis de las cargas que están actuando sobre la estructura del vehículo. Estas pueden ser:</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rs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 y torsión combinada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 lateral</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s de aceleración y fren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Análisis de torsión carrocería Mercedes Benz Clase E</a:t>
            </a:r>
            <a:endParaRPr b="0" lang="en-US" sz="3800" spc="-1" strike="noStrike">
              <a:solidFill>
                <a:srgbClr val="330033"/>
              </a:solidFill>
              <a:latin typeface="Times New Roman"/>
            </a:endParaRPr>
          </a:p>
        </p:txBody>
      </p:sp>
      <p:pic>
        <p:nvPicPr>
          <p:cNvPr id="120" name="" descr=""/>
          <p:cNvPicPr/>
          <p:nvPr/>
        </p:nvPicPr>
        <p:blipFill>
          <a:blip r:embed="rId1"/>
          <a:stretch/>
        </p:blipFill>
        <p:spPr>
          <a:xfrm>
            <a:off x="1825560" y="1600200"/>
            <a:ext cx="59500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47:20Z</dcterms:created>
  <dc:creator>Mauricio Osses Alvarado</dc:creator>
  <dc:description/>
  <dc:language>en-US</dc:language>
  <cp:lastModifiedBy>Mauricio Osses Alvarado</cp:lastModifiedBy>
  <dcterms:modified xsi:type="dcterms:W3CDTF">2005-04-20T21:30:23Z</dcterms:modified>
  <cp:revision>5</cp:revision>
  <dc:subject/>
  <dc:title>AUTO SOLARES: CHASIS</dc:title>
</cp:coreProperties>
</file>