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01D-A1E6-45C5-B486-3C8E5B5D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4CF-0FBE-423C-B3C2-C99D7C7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433-022A-4EA1-AFAC-7BEB7400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595-EF2D-44EE-BC19-3A098C7F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3C91-1DDB-4D43-82EE-6288BE8F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8721-301A-4E53-A4BA-9CC5D29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4487-2C13-4FA8-B900-FC69CE1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607E-C7E1-4117-BEF3-D27FF29B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2ECD-9AE5-492D-AF89-418FF77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6520-DA25-42C7-9104-B5F158B8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E9B-1A7F-4B9B-9B74-D38F88E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F0E-28AA-464C-873C-AC89A54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83E4-D8EB-4EEE-B8D1-6421C61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700A-FA29-4826-9DCA-A80781F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AD41-8DFB-4010-BFE7-59C60D7F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1C21-0C68-498B-9868-AAB8258C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8ACE-5621-4BB8-BFAC-25A3DC12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2AD-1531-41BC-B88A-97CC6E30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024-8600-45BB-A2F8-62C515A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D4E-DAAB-425D-BC8F-EDB5F119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E5E-B41D-4E16-BBA5-22087687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204-58F7-41FA-BDEF-0BCACDC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CA1-C3FD-4391-80A4-265F401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FF9-9CCE-49D5-AEFD-722F69C7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6630-8D72-43DB-B99D-05B3054CFF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7A64-D1AD-482D-9FFD-88DF999351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D20A/9. CLASE 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 de diseño es la aplicación de los principios de gestión de proyectos en un proyecto de diseño de ingeni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s de diseño, sistemas de ingeniería y gestión de proyectos son tópicos estrechamente relacionados que permiten asegurar que el proyecto es realizado de acuerdo a las limitaciones de tiempo y dinero, haciendo el mejor uso de los recurs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1: Generación de ideas iniciales (prediseño y construcción), definiendo como será diseñado y que elementos incorpor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2: Diseño detallado del vehículo. Como será cada subsistema y su operación como conju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3: Construcción de los componentes. Al finalizar esta fase debe existir un prototipo listo para prue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4: Pruebas del vehículo hasta que opere satisfac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5: Preparación para la compe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altamente recomendable trabajar con una carta Gantt (esta existe para apoyar al proyecto, el proyecto no existe para satisfacer la carta Gant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entificar un jefe de proyecto que verifique que se cumplan los objetivos, plazos y restriccione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: (1) tiempo y dedicación de los miembros del equipo al proyecto; (2) subdivisión de tareas; (3) presupuesto asignado; (4) infraestructura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encias previas e innov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otros diseños exitosos y fracasados, entendiendo las causas en el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un proyecto con nuevas ideas, pero controlando el nivel de innovación. Debe existir un balance entre innovación y riesgo de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mente las innovaciones más prácticas son pequeños cambios sobre un diseño existente, o encontrar mejores procesos de fabricación (o más rápidos o más bara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r las ventajas asociadas a un proceso nuevo (si no hay beneficios importantes, el riesgo asociado podría ser contraprodu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o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sei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5480" y="265572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necesidades del producto y evaluar posibles s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263700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especificaciones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263700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leccion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iseño detallado (ingeniería de deta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strucción y pruebas d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997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9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3141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4720" y="47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7640" y="4724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7:36:15Z</dcterms:created>
  <dc:creator>Mauricio Osses Alvarado</dc:creator>
  <dc:description/>
  <dc:language>en-US</dc:language>
  <cp:lastModifiedBy>Mauricio Osses Alvarado</cp:lastModifiedBy>
  <dcterms:modified xsi:type="dcterms:W3CDTF">2005-04-06T18:13:19Z</dcterms:modified>
  <cp:revision>2</cp:revision>
  <dc:subject/>
  <dc:title>SD20A/9. CLASE 1</dc:title>
</cp:coreProperties>
</file>