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BF8-B4E9-4ABB-AC8D-3B5F110B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014-E0E8-464E-AB20-B4BA5CDE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567-FE0B-4A72-9A65-478F52FB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B1C-8D57-4C9F-8C9B-CDA1492F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7860-34BC-49AA-A0B0-8C6805CC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DEA-A121-43EA-A827-2926F7FF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7853-6598-4505-A51C-A6CD4BCB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AB0-1CBE-47F5-AC55-404313AA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297-799A-498B-9FDC-E4745DE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7562-88A4-4945-B1EA-337BB434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5765-BAFB-403D-A137-A437EE20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855-ADB0-4D84-9809-323A0E0C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BD5-226D-4813-8C33-1F57FF7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BEA-DD31-4D90-968C-A53F6F5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CE0D-B121-467B-8BDE-BB114B19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E387-BC34-41EB-A32C-6F54F90B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70D2-83C3-407E-892A-629C4FF8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CC0-FA92-45A3-9FAD-62E90FD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3A5-3BF6-40FD-B54E-B3E94F2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C64-609F-49E1-AB78-DBB72E6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BB0-7DB6-4AD0-8607-24EB4C7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596-301A-41AA-8152-8168BA67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F70-8ED4-4739-8176-1148684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0FF-8E8F-4CC7-8645-9404A190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EDBC-7142-4C0B-B89B-6A719601B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5EDF-0103-4304-B3DE-DD574A0897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D20A/9. CLASE 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 de diseño es la aplicación de los principios de gestión de proyectos en un proyecto de diseño de ingeni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s de diseño, sistemas de ingeniería y gestión de proyectos son tópicos estrechamente relacionados que permiten asegurar que el proyecto es realizado de acuerdo a las limitaciones de tiempo y dinero, haciendo el mejor uso de los recurs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1: Generación de ideas iniciales (prediseño y construcción), definiendo como será diseñado y que elementos incorpor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2: Diseño detallado del vehículo. Como será cada subsistema y su operación como conj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3: Construcción de los componentes. Al finalizar esta fase debe existir un prototipo listo para prue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4: Pruebas del vehículo hasta que opere satisfac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5: Preparación para la compe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altamente recomendable trabajar con una carta Gantt (esta existe para apoyar al proyecto, el proyecto no existe para satisfacer la carta Gant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un jefe de proyecto que verifique que se cumplan los objetivos, plazos y restriccione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: (1) tiempo y dedicación de los miembros del equipo al proyecto; (2) subdivisión de tareas; (3) presupuesto asignado; (4) infraestructura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encias previas e innov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otros diseños exitosos y fracasados, entendiendo las causas en el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 proyecto con nuevas ideas, pero controlando el nivel de innovación. Debe existir un balance entre innovación y riesgo de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mente las innovaciones más prácticas son pequeños cambios sobre un diseño existente, o encontrar mejores procesos de fabricación (o más rápidos o más bara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r las ventajas asociadas a un proceso nuevo (si no hay beneficios importantes, el riesgo asociado podría ser contraprodu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o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sei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265572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necesidades del producto y evaluar posibles s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263700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especificaciones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63700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leccion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seño detallado (ingeniería de deta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trucción y pruebas d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997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9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3141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4720" y="47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4724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36:15Z</dcterms:created>
  <dc:creator>Mauricio Osses Alvarado</dc:creator>
  <dc:description/>
  <dc:language>en-US</dc:language>
  <cp:lastModifiedBy>Mauricio Osses Alvarado</cp:lastModifiedBy>
  <dcterms:modified xsi:type="dcterms:W3CDTF">2005-04-06T18:13:19Z</dcterms:modified>
  <cp:revision>2</cp:revision>
  <dc:subject/>
  <dc:title>SD20A/9. CLASE 1</dc:title>
</cp:coreProperties>
</file>