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DFE2-EDE5-4201-8B65-CD4EAB3A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A0F8-F7FC-4469-9E7B-E56501DB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95E-1735-4C7F-B9CF-17447C70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2E5-8C0D-480C-A373-ECF8FCE9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6CF6-B8F3-4040-85F4-A10180B5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1641-273C-4C57-994B-67761417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0F48-A270-44E7-A3C4-0288B955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4564-D636-4B18-B539-7CC7D141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928C-1811-4063-9FD3-A50A9AE0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D7A3-F85D-4E5B-8850-402D0E16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7A48-C816-45EF-A729-996A2C80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62F-A3F2-4C15-B4DF-3B1B11BB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F0C9-BA82-4C04-AA56-8F69D7A4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A5E5-EE6D-4BA4-90C3-942E8102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6B13-BCFE-4115-A188-BC670A2A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CFED-5931-4B96-B113-1C842A36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6875-5CB9-4A5E-957B-3B8D4B6F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E07-117D-4421-AF25-BFCC1360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C722-6422-4B3E-A258-8D95C5C4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F4ED-D829-48B0-9A8E-01D70123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793-7D48-4679-A12F-ABCF8DB3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BC7-DA6E-4389-BEA0-2B4DA1B6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D6A-EA47-4487-9C12-A03EC640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6E8-E0EC-41EC-BECA-86CEBCD9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4F05-9C3E-4BE7-B840-3587C06D97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DE54-69B7-4C50-AFE9-3EE89451ED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D20A/9. CLASE 1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roduc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ología de diseño es la aplicación de los principios de gestión de proyectos en un proyecto de diseño de ingenier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ologías de diseño, sistemas de ingeniería y gestión de proyectos son tópicos estrechamente relacionados que permiten asegurar que el proyecto es realizado de acuerdo a las limitaciones de tiempo y dinero, haciendo el mejor uso de los recursos disponi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empo y Recurs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1: Generación de ideas iniciales (prediseño y construcción), definiendo como será diseñado y que elementos incorporar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2: Diseño detallado del vehículo. Como será cada subsistema y su operación como conju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3: Construcción de los componentes. Al finalizar esta fase debe existir un prototipo listo para prueb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4: Pruebas del vehículo hasta que opere satisfactori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5: Preparación para la compet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empo y recurs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altamente recomendable trabajar con una carta Gantt (esta existe para apoyar al proyecto, el proyecto no existe para satisfacer la carta Gant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dentificar un jefe de proyecto que verifique que se cumplan los objetivos, plazos y restricciones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ursos: (1) tiempo y dedicación de los miembros del equipo al proyecto; (2) subdivisión de tareas; (3) presupuesto asignado; (4) infraestructura dis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periencias previas e innova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otros diseños exitosos y fracasados, entendiendo las causas en el dis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ar un proyecto con nuevas ideas, pero controlando el nivel de innovación. Debe existir un balance entre innovación y riesgo de fa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mente las innovaciones más prácticas son pequeños cambios sobre un diseño existente, o encontrar mejores procesos de fabricación (o más rápidos o más barat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r las ventajas asociadas a un proceso nuevo (si no hay beneficios importantes, el riesgo asociado podría ser contraproduc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ceso de diseñ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 de seis 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95480" y="2655720"/>
            <a:ext cx="218124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finir las necesidades del producto y evaluar posibles sol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24360" y="2637000"/>
            <a:ext cx="218124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finir las especificaciones del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16720" y="2637000"/>
            <a:ext cx="21812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r conceptos de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4508640"/>
            <a:ext cx="21812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eleccionar conceptos de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4508640"/>
            <a:ext cx="21812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iseño detallado (ingeniería de detal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508640"/>
            <a:ext cx="21812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strucción y pruebas del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997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292428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314172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84720" y="472428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347640" y="472428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7:36:15Z</dcterms:created>
  <dc:creator>Mauricio Osses Alvarado</dc:creator>
  <dc:description/>
  <dc:language>en-US</dc:language>
  <cp:lastModifiedBy>Mauricio Osses Alvarado</cp:lastModifiedBy>
  <dcterms:modified xsi:type="dcterms:W3CDTF">2005-04-06T18:13:19Z</dcterms:modified>
  <cp:revision>2</cp:revision>
  <dc:subject/>
  <dc:title>SD20A/9. CLASE 1</dc:title>
</cp:coreProperties>
</file>