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6BE-0329-43FE-A0AF-302BA801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AF6-0CC3-47CE-861B-37E3C4A5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7F3-0A22-479D-8D79-9CB88562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E66-B989-433E-B53A-927B6E0B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D9F0-E996-4343-A0CA-31D3B72D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1552-D24D-4F8E-AD94-DC6C3225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E36E-DB66-4C40-B644-37FB246A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7D37-6EE4-4336-8D7D-D6719240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E2E1-03A7-4029-A5BD-D87C84F6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99AB-FB91-4C61-9EE9-8AE072A2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B7C5-65CC-4830-B198-D9CC5A18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9FB-DF4F-4FDB-A5B2-B823A03B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CCC8-E39A-406B-BAF8-95AC4FDB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EA73-F844-482F-9140-98C0C513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386E-748E-46B9-B360-B7BE610A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AE68-3910-49B3-AD70-359D3C89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DB5E-034B-487D-997B-75515905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C42-62D2-4778-BB96-C670A662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ABC-0D87-4106-A182-4C9C5F00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897-1354-4A8F-BEE6-E2268AC6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74B-F5DD-4FBD-A18C-0C8DF9AF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7DA-2043-44B1-A8BB-3B6A0562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C4B-3CC9-4DDF-BB7F-AD0E8FF4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111-4209-437B-84B8-85013C5E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E8DC-4E1D-43EA-99E3-3570A51425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96D9-9E75-4BC9-B1AF-1D62A267AD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D20A/9. CLASE 1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ología de diseño es la aplicación de los principios de gestión de proyectos en un proyecto de diseño de ingenier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ologías de diseño, sistemas de ingeniería y gestión de proyectos son tópicos estrechamente relacionados que permiten asegurar que el proyecto es realizado de acuerdo a las limitaciones de tiempo y dinero, haciendo el mejor uso de los recursos disponi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empo y Recurs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1: Generación de ideas iniciales (prediseño y construcción), definiendo como será diseñado y que elementos incorpora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2: Diseño detallado del vehículo. Como será cada subsistema y su operación como conju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3: Construcción de los componentes. Al finalizar esta fase debe existir un prototipo listo para prueb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4: Pruebas del vehículo hasta que opere satisfactor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5: Preparación para la compet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empo y recurs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altamente recomendable trabajar con una carta Gantt (esta existe para apoyar al proyecto, el proyecto no existe para satisfacer la carta Gant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dentificar un jefe de proyecto que verifique que se cumplan los objetivos, plazos y restriccione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ursos: (1) tiempo y dedicación de los miembros del equipo al proyecto; (2) subdivisión de tareas; (3) presupuesto asignado; (4) infraestructura 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periencias previas e innova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otros diseños exitosos y fracasados, entendiendo las causas en el dis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ar un proyecto con nuevas ideas, pero controlando el nivel de innovación. Debe existir un balance entre innovación y riesgo de fa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mente las innovaciones más prácticas son pequeños cambios sobre un diseño existente, o encontrar mejores procesos de fabricación (o más rápidos o más barat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r las ventajas asociadas a un proceso nuevo (si no hay beneficios importantes, el riesgo asociado podría ser contraproduc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ceso de diseñ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seis 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95480" y="2655720"/>
            <a:ext cx="218124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finir las necesidades del producto y evaluar posibles sol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2637000"/>
            <a:ext cx="218124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finir las especificaciones del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16720" y="263700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ear conceptos de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450864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eleccionar conceptos de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450864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iseño detallado (ingeniería de detal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508640"/>
            <a:ext cx="21812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strucción y pruebas del 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997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292428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314172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84720" y="472428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347640" y="472428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7:36:15Z</dcterms:created>
  <dc:creator>Mauricio Osses Alvarado</dc:creator>
  <dc:description/>
  <dc:language>en-US</dc:language>
  <cp:lastModifiedBy>Mauricio Osses Alvarado</cp:lastModifiedBy>
  <dcterms:modified xsi:type="dcterms:W3CDTF">2005-04-06T18:13:19Z</dcterms:modified>
  <cp:revision>2</cp:revision>
  <dc:subject/>
  <dc:title>SD20A/9. CLASE 1</dc:title>
</cp:coreProperties>
</file>