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2CF-0F99-462D-AB98-2D4CE35D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BDB-18B2-4971-9354-674615C1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3BD-4501-44AD-8339-31248C82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5A7-7F0F-42B3-A071-47411D0F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5A64-D833-411B-97D4-5A146D06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99DC-C6B2-4825-AA58-4B861432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4705-6D49-4749-BF58-C2F7962C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96CC-BC83-4118-80FE-728DAE38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E8B2-6A2F-4C9B-AA8C-3EC28A90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4CC9-6503-4EA2-B145-B7CE0553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058A-B57F-4C71-99FE-4D5155AE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029-DD2C-48A8-87E7-BCFDC50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C3F7-9A2A-477E-ABB3-FC69903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46C6-5346-4F24-94EF-EB7631D7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77C6-A356-4AEC-A07A-AE6F61F1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9E74-6756-4041-B0A8-6AAFF0FD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6267-B40F-4B06-9EDF-F4AEF6A2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01E-90D3-428E-869A-06F41828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39B-948B-477E-BB16-092CD2AD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9F9-99BC-4405-AA60-81DD77E3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47E-043D-4501-B096-39EAECA7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9A9-D04C-4E38-880F-AA19858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158-4960-4031-A79E-480E9673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CAF-EAC9-41EB-B973-1C78B2FB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A2A-3E7C-4962-A80C-BB30B8FE9C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98BC-2064-42C7-B855-4AE21C695A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D20A/9. CLASE 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 de diseño es la aplicación de los principios de gestión de proyectos en un proyecto de diseño de ingeni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s de diseño, sistemas de ingeniería y gestión de proyectos son tópicos estrechamente relacionados que permiten asegurar que el proyecto es realizado de acuerdo a las limitaciones de tiempo y dinero, haciendo el mejor uso de los recurs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1: Generación de ideas iniciales (prediseño y construcción), definiendo como será diseñado y que elementos incorpor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2: Diseño detallado del vehículo. Como será cada subsistema y su operación como conju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3: Construcción de los componentes. Al finalizar esta fase debe existir un prototipo listo para prue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4: Pruebas del vehículo hasta que opere satisfacto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5: Preparación para la compet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altamente recomendable trabajar con una carta Gantt (esta existe para apoyar al proyecto, el proyecto no existe para satisfacer la carta Gant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entificar un jefe de proyecto que verifique que se cumplan los objetivos, plazos y restriccione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: (1) tiempo y dedicación de los miembros del equipo al proyecto; (2) subdivisión de tareas; (3) presupuesto asignado; (4) infraestructura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encias previas e innov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otros diseños exitosos y fracasados, entendiendo las causas en el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ar un proyecto con nuevas ideas, pero controlando el nivel de innovación. Debe existir un balance entre innovación y riesgo de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mente las innovaciones más prácticas son pequeños cambios sobre un diseño existente, o encontrar mejores procesos de fabricación (o más rápidos o más bara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r las ventajas asociadas a un proceso nuevo (si no hay beneficios importantes, el riesgo asociado podría ser contraprodu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o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sei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5480" y="265572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necesidades del producto y evaluar posibles sol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263700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especificaciones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263700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leccion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iseño detallado (ingeniería de deta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strucción y pruebas del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997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29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3141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84720" y="47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47640" y="4724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7:36:15Z</dcterms:created>
  <dc:creator>Mauricio Osses Alvarado</dc:creator>
  <dc:description/>
  <dc:language>en-US</dc:language>
  <cp:lastModifiedBy>Mauricio Osses Alvarado</cp:lastModifiedBy>
  <dcterms:modified xsi:type="dcterms:W3CDTF">2005-04-06T18:13:19Z</dcterms:modified>
  <cp:revision>2</cp:revision>
  <dc:subject/>
  <dc:title>SD20A/9. CLASE 1</dc:title>
</cp:coreProperties>
</file>