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8272B-8C0B-4472-BD57-780647C4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AD78-FD0E-4E53-8F2F-EC7DFFA85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1DE32-89D2-427E-8E0B-F7D0BB724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80F57-C59A-4FB2-8183-F703339F3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B8CBD-16AA-40C3-B721-ED591C907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BDC9D-CFE7-43B1-9F80-536FC71E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9BAA4-9767-44F5-BB84-5D817F054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EF75F-1E57-454A-B1CD-5F362EB2B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F6B72-78BA-434E-9816-E81608A7B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62E45-4593-4C17-AC6A-E81FDCB43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86C32-88D8-436F-847A-9A51A9FF3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C5F7-2CE2-4E7F-BECE-3F1F58E4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F4AA8-4F32-4A9C-A3CD-FA6ECD9CC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69FE3-5A62-4469-A45A-5108F135C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69B7B-04A7-49EA-B7F1-E05DAD661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0E69C-0F5C-4D44-889F-44E5FFB19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7AB09-439D-4EA5-8450-637CA4C9B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A1F4-93F4-4E5A-8C16-3F9379357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BCDC-59F0-4126-8F8F-564A4F430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2338-E29F-4074-8E1A-1F2CA299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4DA95-DD5F-4247-964B-EE90395B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72623-5071-494A-BBB4-59AF3DA8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963D-35A8-4F9F-B057-9FF0FE5A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14A69-BE3D-4360-8923-51BE31F7F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31C2-7592-4C5D-BC07-079D39FD17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B905-DE2C-4D8C-A95D-299DC82822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4920" y="1052280"/>
            <a:ext cx="7057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MOVILES A ESCALA IMPULSADOS CON ENERGIA SOLAR</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186920" y="3860280"/>
            <a:ext cx="7272360" cy="1752840"/>
          </a:xfrm>
          <a:prstGeom prst="rect">
            <a:avLst/>
          </a:prstGeom>
          <a:noFill/>
          <a:ln w="0">
            <a:noFill/>
          </a:ln>
        </p:spPr>
        <p:txBody>
          <a:bodyPr lIns="90000" rIns="90000" tIns="46800" bIns="4680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a:t>
            </a:r>
            <a:endParaRPr b="0" lang="en-US" sz="4200" spc="-1" strike="noStrike">
              <a:solidFill>
                <a:srgbClr val="330033"/>
              </a:solidFill>
              <a:latin typeface="Times New Roman"/>
            </a:endParaRPr>
          </a:p>
        </p:txBody>
      </p:sp>
      <p:sp>
        <p:nvSpPr>
          <p:cNvPr id="100" name=""/>
          <p:cNvSpPr/>
          <p:nvPr/>
        </p:nvSpPr>
        <p:spPr>
          <a:xfrm>
            <a:off x="808200" y="1792440"/>
            <a:ext cx="779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ir 4 modelos a escala de vehículos impulsados con energía solar, con énfasis en el diseño mecánico y manejo de los principios básicos de la energía solar como fuente de energía.</a:t>
            </a:r>
            <a:endParaRPr b="0" lang="en-US" sz="1800" spc="-1" strike="noStrike">
              <a:solidFill>
                <a:srgbClr val="000000"/>
              </a:solidFill>
              <a:latin typeface="Arial"/>
            </a:endParaRPr>
          </a:p>
        </p:txBody>
      </p:sp>
      <p:pic>
        <p:nvPicPr>
          <p:cNvPr id="101" name="" descr=""/>
          <p:cNvPicPr/>
          <p:nvPr/>
        </p:nvPicPr>
        <p:blipFill>
          <a:blip r:embed="rId1"/>
          <a:stretch/>
        </p:blipFill>
        <p:spPr>
          <a:xfrm>
            <a:off x="2268360" y="3068640"/>
            <a:ext cx="460872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SCRIPCION DEL CURSO</a:t>
            </a:r>
            <a:endParaRPr b="0" lang="en-US" sz="4200" spc="-1" strike="noStrike">
              <a:solidFill>
                <a:srgbClr val="330033"/>
              </a:solidFill>
              <a:latin typeface="Times New Roman"/>
            </a:endParaRPr>
          </a:p>
        </p:txBody>
      </p:sp>
      <p:sp>
        <p:nvSpPr>
          <p:cNvPr id="103" name=""/>
          <p:cNvSpPr/>
          <p:nvPr/>
        </p:nvSpPr>
        <p:spPr>
          <a:xfrm>
            <a:off x="826920" y="1628640"/>
            <a:ext cx="8013960" cy="4903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urso se desarrollara en tres nivele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lases expositiva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siones de diseño y construc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áctica de laboratorio</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petencia Final</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iseño comenzará con la construcción de modelos comerciales a escala y entrenamiento teórico sobre principios mecánicos y energéticos</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utilizarán programas computacionales de apoyo al diseño tridimensional de mecanismos, en el Laboratorio de Mecánica Computacional del Departamento de Ingeniería 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efectuará una práctica en el Laboratorio de Electrotecnología del Departamento de Ingeniería Eléctr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lumnos deberán ser capaces de construir 4 modelos de vehículos a escala, con propiedades mecánicas tales como sistema de dirección y/o transmisión, asistido por componentes eléctricos tales como sistema de control y/o motor, y empleando conversión de energía solar-eléctrica-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ta Final = 0.3*asistencia + 0.4*competencia + 0.3*informe</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RONOGRAMA DE ACTIVIDADES</a:t>
            </a:r>
            <a:endParaRPr b="0" lang="en-US" sz="3800" spc="-1" strike="noStrike">
              <a:solidFill>
                <a:srgbClr val="330033"/>
              </a:solidFill>
              <a:latin typeface="Times New Roman"/>
            </a:endParaRPr>
          </a:p>
        </p:txBody>
      </p:sp>
      <p:graphicFrame>
        <p:nvGraphicFramePr>
          <p:cNvPr id="105" name=""/>
          <p:cNvGraphicFramePr/>
          <p:nvPr/>
        </p:nvGraphicFramePr>
        <p:xfrm>
          <a:off x="914400" y="1600200"/>
          <a:ext cx="7772400" cy="4505400"/>
        </p:xfrm>
        <a:graphic>
          <a:graphicData uri="http://schemas.openxmlformats.org/drawingml/2006/table">
            <a:tbl>
              <a:tblPr/>
              <a:tblGrid>
                <a:gridCol w="1136520"/>
                <a:gridCol w="1441440"/>
                <a:gridCol w="5194440"/>
              </a:tblGrid>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h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todas las clases a las 18:00 excepto competenc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eo a Cartagena, solo 4 alum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ción del curso, definición de equ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 (modelos comerci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dise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es sola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s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edas, ejes y rodamient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cacio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ión y motores eléctric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rpo y estructura del vehícul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general de los protot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 de los vehícul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 para la competenc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ia (12:00 horas en la canch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ción final y entrega de inform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ivo de la competencia es diseñar y construir un vehículo impulsado por un panel solar y completar un circuito de carrera en el menor tiempo posib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esentarán 4 equipos formados por 3 alumnos cada uno, con un presupuesto de $50,000 por grupo. Cada equipo debe incluir un panel solar y un motor (no se permiten baterías), más todos los elementos necesarios para construir el prototi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ehículo debe ser un diseño original, usando materiales libres y empleando exclusivamente un panel solar como fuente de energía (SIN BATERIAS) y un motor eléctrico.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no debe superar los 60 cm de largo, 30 cm de ancho y 30 cm de altur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debe ser autocontenido, sin perder componentes durante la prueba y debe ofrecer condiciones de seguridad para participantes y espect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petencia se desarrollará en la cancha abierta de la Facultad al mediodía (ver diagram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stalará un cable para guiar los vehículos en un tramo de 20 metros aproximadamen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ble guía estará a 1.5 cm sobre la superficie de la cancha. Los vehículos deben incluir un sistema de enganche con este cable en su diseño, el que permita un fácil deslizamiento sin que el vehículo se suelte durante la compet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AGRAMA DE LA PISTA</a:t>
            </a:r>
            <a:endParaRPr b="0" lang="en-US" sz="4200" spc="-1" strike="noStrike">
              <a:solidFill>
                <a:srgbClr val="330033"/>
              </a:solidFill>
              <a:latin typeface="Times New Roman"/>
            </a:endParaRPr>
          </a:p>
        </p:txBody>
      </p:sp>
      <p:sp>
        <p:nvSpPr>
          <p:cNvPr id="113" name=""/>
          <p:cNvSpPr/>
          <p:nvPr/>
        </p:nvSpPr>
        <p:spPr>
          <a:xfrm>
            <a:off x="1763640" y="1989000"/>
            <a:ext cx="5688000" cy="28083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0072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674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763280" y="2852280"/>
            <a:ext cx="5667840" cy="1018080"/>
            <a:chOff x="1763280" y="2852280"/>
            <a:chExt cx="5667840" cy="1018080"/>
          </a:xfrm>
        </p:grpSpPr>
        <p:grpSp>
          <p:nvGrpSpPr>
            <p:cNvPr id="118" name=""/>
            <p:cNvGrpSpPr/>
            <p:nvPr/>
          </p:nvGrpSpPr>
          <p:grpSpPr>
            <a:xfrm>
              <a:off x="1763280" y="2852280"/>
              <a:ext cx="863640" cy="1018080"/>
              <a:chOff x="1763280" y="2852280"/>
              <a:chExt cx="863640" cy="1018080"/>
            </a:xfrm>
          </p:grpSpPr>
          <p:sp>
            <p:nvSpPr>
              <p:cNvPr id="119" name=""/>
              <p:cNvSpPr/>
              <p:nvPr/>
            </p:nvSpPr>
            <p:spPr>
              <a:xfrm flipH="1" flipV="1">
                <a:off x="17632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7632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6567480" y="2852280"/>
              <a:ext cx="863640" cy="1018080"/>
              <a:chOff x="6567480" y="2852280"/>
              <a:chExt cx="863640" cy="1018080"/>
            </a:xfrm>
          </p:grpSpPr>
          <p:sp>
            <p:nvSpPr>
              <p:cNvPr id="122" name=""/>
              <p:cNvSpPr/>
              <p:nvPr/>
            </p:nvSpPr>
            <p:spPr>
              <a:xfrm flipV="1">
                <a:off x="65674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5674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627280" y="3357720"/>
              <a:ext cx="39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62332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partida</a:t>
            </a:r>
            <a:endParaRPr b="0" lang="en-US" sz="1400" spc="-1" strike="noStrike">
              <a:solidFill>
                <a:srgbClr val="000000"/>
              </a:solidFill>
              <a:latin typeface="Arial"/>
            </a:endParaRPr>
          </a:p>
        </p:txBody>
      </p:sp>
      <p:sp>
        <p:nvSpPr>
          <p:cNvPr id="126" name=""/>
          <p:cNvSpPr/>
          <p:nvPr/>
        </p:nvSpPr>
        <p:spPr>
          <a:xfrm>
            <a:off x="5000400" y="227664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llegada</a:t>
            </a:r>
            <a:endParaRPr b="0" lang="en-US" sz="1400" spc="-1" strike="noStrike">
              <a:solidFill>
                <a:srgbClr val="000000"/>
              </a:solidFill>
              <a:latin typeface="Arial"/>
            </a:endParaRPr>
          </a:p>
        </p:txBody>
      </p:sp>
      <p:sp>
        <p:nvSpPr>
          <p:cNvPr id="127" name=""/>
          <p:cNvSpPr/>
          <p:nvPr/>
        </p:nvSpPr>
        <p:spPr>
          <a:xfrm>
            <a:off x="2842560" y="34290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Cable-guía</a:t>
            </a:r>
            <a:endParaRPr b="0" lang="en-US" sz="1400" spc="-1" strike="noStrike">
              <a:solidFill>
                <a:srgbClr val="000000"/>
              </a:solidFill>
              <a:latin typeface="Arial"/>
            </a:endParaRPr>
          </a:p>
        </p:txBody>
      </p:sp>
      <p:sp>
        <p:nvSpPr>
          <p:cNvPr id="128" name=""/>
          <p:cNvSpPr/>
          <p:nvPr/>
        </p:nvSpPr>
        <p:spPr>
          <a:xfrm flipH="1">
            <a:off x="2627280" y="2565360"/>
            <a:ext cx="50472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84720" y="2637000"/>
            <a:ext cx="50328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924360" y="33573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63640" y="5950080"/>
            <a:ext cx="5688000" cy="71280"/>
          </a:xfrm>
          <a:prstGeom prst="rect">
            <a:avLst/>
          </a:prstGeom>
          <a:solidFill>
            <a:srgbClr val="cc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1763640" y="5734080"/>
            <a:ext cx="568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6272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800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5300640"/>
            <a:ext cx="39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20040" y="501336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20 metros aprox.</a:t>
            </a:r>
            <a:endParaRPr b="0" lang="en-US" sz="1400" spc="-1" strike="noStrike">
              <a:solidFill>
                <a:srgbClr val="000000"/>
              </a:solidFill>
              <a:latin typeface="Arial"/>
            </a:endParaRPr>
          </a:p>
        </p:txBody>
      </p:sp>
      <p:sp>
        <p:nvSpPr>
          <p:cNvPr id="137" name=""/>
          <p:cNvSpPr/>
          <p:nvPr/>
        </p:nvSpPr>
        <p:spPr>
          <a:xfrm>
            <a:off x="1979640" y="522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979640" y="5950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8200" y="56833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1,5 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vehículos serán inspeccionados por un jurado antes de iniciar la competenci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omento de la carrera, cada vehículo se conectará al cable guía en la línea de partida (uno por uno), con todas sus ruedas tocando la superficie y una cubierta opaca protectora para el panel solar (esta no debe tocar el vehícu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 señal de partida la persona que porta la cubierta protectora debe retirarla, para permitir al vehículo recibir energía solar y comenzar a moverse por la pista. Un miembro del jurado comenzará a medir el tiempo hasta completar el tramo de competencia (no se permite empujar el vehículo a menos que el jurado lo ind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21:12:40Z</dcterms:created>
  <dc:creator>Mauricio Osses Alvarado</dc:creator>
  <dc:description/>
  <dc:language>en-US</dc:language>
  <cp:lastModifiedBy>Mauricio Osses Alvarado</cp:lastModifiedBy>
  <dcterms:modified xsi:type="dcterms:W3CDTF">2005-04-06T17:35:46Z</dcterms:modified>
  <cp:revision>5</cp:revision>
  <dc:subject/>
  <dc:title>Diapositiva 1</dc:title>
</cp:coreProperties>
</file>