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9F4-979F-432E-BEF3-BFBD00C9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123-52D4-43EA-8079-ACCBEA1A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30D-0942-4FA9-A270-3D266F09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032-87D4-493D-B905-0425ACAE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7F7-2DA3-49D6-A150-269030C0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5A3B-4726-4C0C-95DE-F11A41D5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4AEC-CDD2-4A9D-BB40-C0B4BC97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6602-8A93-4FDA-BCBB-520BEC92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C67A-0A15-48E4-96C8-53499EF2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C4B3-4476-4D6E-889D-585462FE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E000-5595-449E-9068-94DD39F6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56B-2FB3-4C12-BC5D-C27108EE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B64E-E933-4DC6-871B-720EAD59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10C5-716D-4976-8D6B-7C12B436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9708-1A4A-41C5-AAE0-451876DE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E870-8C0B-46A9-AE79-F21DF5B0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FFBA-DCF2-41A8-B663-04BFC692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AB8-0341-4986-AD79-0E610DF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3FE-BFD1-4C93-B9E1-2CF4411E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5FD-A41D-4E65-B39A-CE6C2E8B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CD2-8A45-4BF5-B7E6-D1E481DD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A56-9E31-49AF-A159-D125BE45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E27-AA3D-4F54-A32D-F0929F9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5AD-AE33-4C44-A125-9E655B2B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68D3-6BD8-4BDC-B34A-A1C6216CB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E48C-350F-4E34-A934-EDBB41B0B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631280" cy="27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Diseño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de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Minas a Cielo Abiert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55897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D20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mavera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20639" t="30902" r="19439" b="38877"/>
          <a:stretch/>
        </p:blipFill>
        <p:spPr>
          <a:xfrm>
            <a:off x="250920" y="1700280"/>
            <a:ext cx="8642160" cy="313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Ángulos de Talu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11516" t="0" r="24786" b="5205"/>
          <a:stretch/>
        </p:blipFill>
        <p:spPr>
          <a:xfrm>
            <a:off x="684360" y="0"/>
            <a:ext cx="3308040" cy="3933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3313" t="0" r="0" b="0"/>
          <a:stretch/>
        </p:blipFill>
        <p:spPr>
          <a:xfrm>
            <a:off x="4643280" y="189000"/>
            <a:ext cx="4284720" cy="3268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826" t="8937" r="5282" b="0"/>
          <a:stretch/>
        </p:blipFill>
        <p:spPr>
          <a:xfrm>
            <a:off x="539640" y="3860640"/>
            <a:ext cx="3600720" cy="2765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40000" y="0"/>
            <a:ext cx="165564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erforad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2781360"/>
            <a:ext cx="1800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Camión Reg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6093000"/>
            <a:ext cx="151128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Bulldoz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rcRect l="0" t="0" r="0" b="18937"/>
          <a:stretch/>
        </p:blipFill>
        <p:spPr>
          <a:xfrm>
            <a:off x="4643280" y="3716280"/>
            <a:ext cx="4248360" cy="294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20000" y="3716280"/>
            <a:ext cx="1800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Cargador Fro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El A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295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4392720" cy="307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4256280" cy="331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645000"/>
            <a:ext cx="4249800" cy="3133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2852640"/>
            <a:ext cx="129528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R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Bro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189000"/>
            <a:ext cx="158436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R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6093000"/>
            <a:ext cx="14400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Tronad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Mantover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6093000"/>
            <a:ext cx="158436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R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349092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97040" cy="5859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620640"/>
            <a:ext cx="223200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ala Eléctrica (53 yd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Bro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6093000"/>
            <a:ext cx="309708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ala Eléctrica y Camión (250 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Bro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60280"/>
            <a:ext cx="15112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Camión 300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El A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8560" cy="5877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538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27640" y="3319560"/>
            <a:ext cx="4716360" cy="3538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4000" y="260280"/>
            <a:ext cx="3816360" cy="765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Garamond"/>
              </a:rPr>
              <a:t>Deslizamiento mayor del talu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Garamond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1020747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6612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1020762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661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1020795" descr=""/>
          <p:cNvPicPr/>
          <p:nvPr/>
        </p:nvPicPr>
        <p:blipFill>
          <a:blip r:embed="rId1"/>
          <a:stretch/>
        </p:blipFill>
        <p:spPr>
          <a:xfrm>
            <a:off x="1349280" y="1011240"/>
            <a:ext cx="64468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76720" y="30481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1148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Elección del Método de Explotació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isión netamente económica: Costos, beneficios, flujos de caja, inversion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enden 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b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opografía superfi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fundidad del cuerpo mi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po de mi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lejidad y distribución de la mineral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racterísticas del macizo roco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lidad de la información de reser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ersiones asoci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2205000"/>
            <a:ext cx="3671640" cy="115092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ambién resulta mu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ortante la proye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l precio del me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5300640"/>
            <a:ext cx="3671640" cy="115092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oda esta información prov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campañas de explo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Procesos Productiv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peración Minera: 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Costo M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rfo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onad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rguío y 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stema de manejo de materi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rvicios de apo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Beneficio de Minerales: 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Costo Planta + Costo Fundición y Refi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físico-químico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minución,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lotación, fundición, aglomeración, lixiviación, electro obtención, et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enta del producto (transporte a puerto, seguros, impuestos, etc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uno de estos ítems aporta con sus correspondientes costos, que se restarán a los ingresos que se obtengan de la venta del produ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¿Estéril o Mineral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costos anteriores serán los que definirán si un bloque co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ey mayor que cer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rá considerado com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iner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ineral de baja le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o simplement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Estér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ya que obtener el fino asociado a ese bloque significará un costo y por ende un beneficio económico para 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í, en función de los costos estimados para la extracción de un bloque del yacimiento, definiremos un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le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permit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discrimin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 un bloque es mineral o estéri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EY DE CORTE CRÍTIC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Ley de Corte Crític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eneficios = Ingresos – Costos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CC = (CM + CP) / (RM x (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Cu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- CFyR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M    = Costo de Mina [US$/ton material movido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P     = Costo Planta [US$/ton mineral tratado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FyR = Costo de Fundición y Refinación ( o Venta) [US$/lb Cu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versión lb a ton: 2204,6 [lb/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M    = Recuperación metalúrgica [%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Cu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= Precio del Cobre [US$/lb Cu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 esto se obtendrá el límite final del rajo, es decir, el llamado Límite Económ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ecuencia de Explotació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5694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 fin de obtener los mayores beneficios de la explotación del rajo se definen FASES o EXPANS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secuencia de extracción de las distintas fases tiene una estrecha relación con la distribución de las variables geológicas, geomecánicas, metalúrgicas y económicas del yacimiento y del mer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todologí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ariar Precio de Venta: Precios más bajos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ajos más chicos (altas le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ecios más altos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Rajos más grandes (bajas le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ariar Ley de Corte: Mayor ley de corte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ajos más chicos (altas le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enor ley de corte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Rajos más grandes (bajas le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lguna de las anteriores y considerar la razón E/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ptimizar el Valor Presente (VPN) y adelantar las ganancias (disminuir el riesgo para el inversionis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xtraer las altas leyes 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1650" t="36351" r="16146" b="30032"/>
          <a:stretch/>
        </p:blipFill>
        <p:spPr>
          <a:xfrm>
            <a:off x="826920" y="1052640"/>
            <a:ext cx="7634520" cy="2698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20261" t="49342" r="16297" b="20097"/>
          <a:stretch/>
        </p:blipFill>
        <p:spPr>
          <a:xfrm>
            <a:off x="826920" y="3933720"/>
            <a:ext cx="7634520" cy="26863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¿Qué secuencia elegi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30088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Ángulos de Talud</a:t>
            </a:r>
            <a:br>
              <a:rPr sz="4000"/>
            </a:br>
            <a:br>
              <a:rPr sz="4000"/>
            </a:br>
            <a:r>
              <a:rPr b="0" i="1" lang="es-ES_tradnl" sz="3200" spc="-1" strike="noStrike">
                <a:solidFill>
                  <a:srgbClr val="ffcc66"/>
                </a:solidFill>
                <a:latin typeface="Arial"/>
              </a:rPr>
              <a:t>Costos</a:t>
            </a:r>
            <a:br>
              <a:rPr sz="3200"/>
            </a:br>
            <a:r>
              <a:rPr b="0" i="1" lang="es-ES_tradnl" sz="3200" spc="-1" strike="noStrike">
                <a:solidFill>
                  <a:srgbClr val="ffcc66"/>
                </a:solidFill>
                <a:latin typeface="Arial"/>
              </a:rPr>
              <a:t>vs.</a:t>
            </a:r>
            <a:br>
              <a:rPr sz="3200"/>
            </a:br>
            <a:r>
              <a:rPr b="0" i="1" lang="es-ES_tradnl" sz="3200" spc="-1" strike="noStrike">
                <a:solidFill>
                  <a:srgbClr val="ffcc66"/>
                </a:solidFill>
                <a:latin typeface="Arial"/>
              </a:rPr>
              <a:t>Estabilidad y Segurid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6926" t="38462" r="14568" b="16374"/>
          <a:stretch/>
        </p:blipFill>
        <p:spPr>
          <a:xfrm>
            <a:off x="3564000" y="3141720"/>
            <a:ext cx="5333760" cy="347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14568" t="37409" r="16926" b="15347"/>
          <a:stretch/>
        </p:blipFill>
        <p:spPr>
          <a:xfrm>
            <a:off x="250920" y="189000"/>
            <a:ext cx="518472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 flipV="1">
            <a:off x="3708360" y="2349360"/>
            <a:ext cx="432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451280" y="5444640"/>
            <a:ext cx="50508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278136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278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Ángul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Talud Es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580536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Ángul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Talud Es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64000" y="259920"/>
            <a:ext cx="37800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cc66"/>
                </a:solidFill>
                <a:uFillTx/>
                <a:latin typeface="Arial"/>
              </a:rPr>
              <a:t>Ángulos de Talu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197000"/>
            <a:ext cx="33890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 MAYOR ángulo de talud (más vertica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Menor E/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Menor cantidad de estéril a remo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3860640"/>
            <a:ext cx="3313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 MAYOR ángulo de talud (más vertica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Menor estabil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Menos condiciones de segurida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22:49:13Z</dcterms:created>
  <dc:creator>Familia Troncoso Bórquez</dc:creator>
  <dc:description/>
  <dc:language>en-US</dc:language>
  <cp:lastModifiedBy>Familia Troncoso Bórquez</cp:lastModifiedBy>
  <dcterms:modified xsi:type="dcterms:W3CDTF">2005-04-24T14:19:43Z</dcterms:modified>
  <cp:revision>6</cp:revision>
  <dc:subject/>
  <dc:title>Diseño de Minas a Cielo Abierto</dc:title>
</cp:coreProperties>
</file>