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D78-9B99-449C-9A78-6D097C1B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55AD-40B6-46C4-8B6D-68FB2CD4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46AF-1BB8-4552-BAF9-35130FAB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74F-A99C-465F-A882-CC67FA77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B9B4-EA92-47ED-94FA-AFAEA4C6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05DF-E1B0-46E5-9B45-C54731B1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7325-C6F7-4858-AF99-6A3796E7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7DC2-97D6-462C-A831-6CEA1EA5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30A2-CE19-4B22-AD67-1F9D8AA3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9EFC-C0D4-4487-AAC9-9ACD8710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05FD-1ED0-496D-AFB9-A5CBE03D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175-48B3-4750-9849-E01F2121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CBB3-D1BD-4377-8B15-25CEF713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C3F6-D978-4A7E-A086-B94EDC97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72CC-F36A-414A-B560-E7051068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4669-424C-4303-95B3-68C26CE2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BA06-4A7C-4F91-8676-F4E30252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6A9-396F-4B70-93BA-043DBA92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6E1-9E84-46F0-8310-2E9C417A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7AC-3FDF-4D1E-9EA8-E758C331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CB4-87C6-4AB8-8BC3-05E4DC73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0D9-D1D5-4279-9695-7799501F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F58-34BC-4758-9769-FE970C37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1FB2-947F-4A8F-B25A-0F4F3111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D9CC-CD2C-4877-9870-81A924512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16A8-CAE3-4ABC-B913-D7750451F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1268280"/>
            <a:ext cx="7631280" cy="27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Diseño</a:t>
            </a:r>
            <a:br>
              <a:rPr sz="4000"/>
            </a:b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de</a:t>
            </a:r>
            <a:br>
              <a:rPr sz="4000"/>
            </a:b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Minas a Cielo Abiert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5589720"/>
            <a:ext cx="640080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D20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imavera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20639" t="30902" r="19439" b="38877"/>
          <a:stretch/>
        </p:blipFill>
        <p:spPr>
          <a:xfrm>
            <a:off x="250920" y="1700280"/>
            <a:ext cx="8642160" cy="3132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Ángulos de Talud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11516" t="0" r="24786" b="5205"/>
          <a:stretch/>
        </p:blipFill>
        <p:spPr>
          <a:xfrm>
            <a:off x="684360" y="0"/>
            <a:ext cx="3308040" cy="3933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3313" t="0" r="0" b="0"/>
          <a:stretch/>
        </p:blipFill>
        <p:spPr>
          <a:xfrm>
            <a:off x="4643280" y="189000"/>
            <a:ext cx="4284720" cy="3268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5826" t="8937" r="5282" b="0"/>
          <a:stretch/>
        </p:blipFill>
        <p:spPr>
          <a:xfrm>
            <a:off x="539640" y="3860640"/>
            <a:ext cx="3600720" cy="2765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40000" y="0"/>
            <a:ext cx="165564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Perforad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Los Pelam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20000" y="2781360"/>
            <a:ext cx="180000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Camión Rega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Los Pelam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6093000"/>
            <a:ext cx="151128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Bulldoz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Los Pelam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rcRect l="0" t="0" r="0" b="18937"/>
          <a:stretch/>
        </p:blipFill>
        <p:spPr>
          <a:xfrm>
            <a:off x="4643280" y="3716280"/>
            <a:ext cx="4248360" cy="2943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020000" y="3716280"/>
            <a:ext cx="180000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Cargador Fro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El Ab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3295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4392720" cy="3079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643280" y="189000"/>
            <a:ext cx="4256280" cy="3311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643280" y="3645000"/>
            <a:ext cx="4249800" cy="3133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2852640"/>
            <a:ext cx="1295280" cy="576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R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Los Bro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3280" y="189000"/>
            <a:ext cx="158436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R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Los Pelam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51640" y="6093000"/>
            <a:ext cx="1440000" cy="576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Tronad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Mantover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6093000"/>
            <a:ext cx="158436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R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Los Pelam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349092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00720" y="549360"/>
            <a:ext cx="4397040" cy="5859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620640"/>
            <a:ext cx="223200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Pala Eléctrica (53 yd</a:t>
            </a:r>
            <a:r>
              <a:rPr b="1" lang="es-ES_tradnl" sz="18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Los Bro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6093000"/>
            <a:ext cx="309708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Pala Eléctrica y Camión (250 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Los Bro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60280"/>
            <a:ext cx="15112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Camión 300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El Ab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408560" cy="5877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538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427640" y="3319560"/>
            <a:ext cx="4716360" cy="3538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24000" y="260280"/>
            <a:ext cx="3816360" cy="765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Garamond"/>
              </a:rPr>
              <a:t>Deslizamiento mayor del talu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Garamond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1020747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56612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1020762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6612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1020795" descr=""/>
          <p:cNvPicPr/>
          <p:nvPr/>
        </p:nvPicPr>
        <p:blipFill>
          <a:blip r:embed="rId1"/>
          <a:stretch/>
        </p:blipFill>
        <p:spPr>
          <a:xfrm>
            <a:off x="1349280" y="1011240"/>
            <a:ext cx="644688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76720" y="30481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¿Pregunt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1148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F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Elección del Método de Explotació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isión netamente económica: Costos, beneficios, flujos de caja, inversione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enden 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Ubic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am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opografía superfi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fundidad del cuerpo mi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po de mi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plejidad y distribución de la mineral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aracterísticas del macizo roco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alidad de la información de reser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ersiones asoci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edio Amb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48360" y="2205000"/>
            <a:ext cx="3671640" cy="115092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ambién resulta mu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mportante la proye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l precio del me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48360" y="5300640"/>
            <a:ext cx="3671640" cy="115092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oda esta información prov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campañas de explo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Procesos Productivo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peración Minera: </a:t>
            </a:r>
            <a:r>
              <a:rPr b="1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Costo M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rfo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onad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arguío y 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istema de manejo de materi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rvicios de apoy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Beneficio de Minerales: </a:t>
            </a:r>
            <a:r>
              <a:rPr b="1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Costo Planta + Costo Fundición y Refi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ceso físico-químico (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minución,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lotación, fundición, aglomeración, lixiviación, electro obtención, etc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Venta del producto (transporte a puerto, seguros, impuestos, etc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uno de estos ítems aporta con sus correspondientes costos, que se restarán a los ingresos que se obtengan de la venta del produ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¿Estéril o Mineral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costos anteriores serán los que definirán si un bloque con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ey mayor que cer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erá considerado como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iner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ineral de baja ley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o simplemente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Estéri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ya que obtener el fino asociado a ese bloque significará un costo y por ende un beneficio económico para el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í, en función de los costos estimados para la extracción de un bloque del yacimiento, definiremos una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ley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que permita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discrimina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 un bloque es mineral o estéri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EY DE CORTE CRÍTIC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Ley de Corte Crític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eneficios = Ingresos – Costos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CC = (CM + CP) / (RM x (P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Cu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- CFyR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M    = Costo de Mina [US$/ton material movido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P     = Costo Planta [US$/ton mineral tratado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FyR = Costo de Fundición y Refinación ( o Venta) [US$/lb Cu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versión lb a ton: 2204,6 [lb/t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M    = Recuperación metalúrgica [%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Cu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= Precio del Cobre [US$/lb Cu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 esto se obtendrá el límite final del rajo, es decir, el llamado Límite Económ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Secuencia de Explotació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56944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 el fin de obtener los mayores beneficios de la explotación del rajo se definen FASES o EXPANS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secuencia de extracción de las distintas fases tiene una estrecha relación con la distribución de las variables geológicas, geomecánicas, metalúrgicas y económicas del yacimiento y del merc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todologí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Variar Precio de Venta: Precios más bajos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Rajos más chicos (altas ley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ecios más altos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Rajos más grandes (bajas ley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Variar Ley de Corte: Mayor ley de corte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Rajos más chicos (altas ley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enor ley de corte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Rajos más grandes (bajas ley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lguna de las anteriores y considerar la razón E/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Optimizar el Valor Presente (VPN) y adelantar las ganancias (disminuir el riesgo para el inversionist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xtraer las altas leyes prim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21650" t="36351" r="16146" b="30032"/>
          <a:stretch/>
        </p:blipFill>
        <p:spPr>
          <a:xfrm>
            <a:off x="826920" y="1052640"/>
            <a:ext cx="7634520" cy="26985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20261" t="49342" r="16297" b="20097"/>
          <a:stretch/>
        </p:blipFill>
        <p:spPr>
          <a:xfrm>
            <a:off x="826920" y="3933720"/>
            <a:ext cx="7634520" cy="26863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¿Qué secuencia elegi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30088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Arial"/>
              </a:rPr>
              <a:t>Ángulos de Talud</a:t>
            </a:r>
            <a:br>
              <a:rPr sz="4000"/>
            </a:br>
            <a:br>
              <a:rPr sz="4000"/>
            </a:br>
            <a:r>
              <a:rPr b="0" i="1" lang="es-ES_tradnl" sz="3200" spc="-1" strike="noStrike">
                <a:solidFill>
                  <a:srgbClr val="ffcc66"/>
                </a:solidFill>
                <a:latin typeface="Arial"/>
              </a:rPr>
              <a:t>Costos</a:t>
            </a:r>
            <a:br>
              <a:rPr sz="3200"/>
            </a:br>
            <a:r>
              <a:rPr b="0" i="1" lang="es-ES_tradnl" sz="3200" spc="-1" strike="noStrike">
                <a:solidFill>
                  <a:srgbClr val="ffcc66"/>
                </a:solidFill>
                <a:latin typeface="Arial"/>
              </a:rPr>
              <a:t>vs.</a:t>
            </a:r>
            <a:br>
              <a:rPr sz="3200"/>
            </a:br>
            <a:r>
              <a:rPr b="0" i="1" lang="es-ES_tradnl" sz="3200" spc="-1" strike="noStrike">
                <a:solidFill>
                  <a:srgbClr val="ffcc66"/>
                </a:solidFill>
                <a:latin typeface="Arial"/>
              </a:rPr>
              <a:t>Estabilidad y Segurida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16926" t="38462" r="14568" b="16374"/>
          <a:stretch/>
        </p:blipFill>
        <p:spPr>
          <a:xfrm>
            <a:off x="3564000" y="3141720"/>
            <a:ext cx="5333760" cy="347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rcRect l="14568" t="37409" r="16926" b="15347"/>
          <a:stretch/>
        </p:blipFill>
        <p:spPr>
          <a:xfrm>
            <a:off x="250920" y="189000"/>
            <a:ext cx="5184720" cy="33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 flipV="1">
            <a:off x="3708360" y="2349360"/>
            <a:ext cx="43200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7451280" y="5444640"/>
            <a:ext cx="50508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2781360"/>
            <a:ext cx="16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278136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Garamond"/>
              </a:rPr>
              <a:t>Ángul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Garamond"/>
              </a:rPr>
              <a:t>Talud Es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80360" y="580536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Garamond"/>
              </a:rPr>
              <a:t>Ángul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Garamond"/>
              </a:rPr>
              <a:t>Talud Es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64000" y="259920"/>
            <a:ext cx="37800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cc66"/>
                </a:solidFill>
                <a:uFillTx/>
                <a:latin typeface="Arial"/>
              </a:rPr>
              <a:t>Ángulos de Talu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197000"/>
            <a:ext cx="33890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 MAYOR ángulo de talud (más vertica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Menor E/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Menor cantidad de estéril a remov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3860640"/>
            <a:ext cx="33130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A MAYOR ángulo de talud (más vertica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Menor estabilid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Menos condiciones de segurida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3T22:49:13Z</dcterms:created>
  <dc:creator>Familia Troncoso Bórquez</dc:creator>
  <dc:description/>
  <dc:language>en-US</dc:language>
  <cp:lastModifiedBy>Familia Troncoso Bórquez</cp:lastModifiedBy>
  <dcterms:modified xsi:type="dcterms:W3CDTF">2005-04-24T14:19:43Z</dcterms:modified>
  <cp:revision>6</cp:revision>
  <dc:subject/>
  <dc:title>Diseño de Minas a Cielo Abierto</dc:title>
</cp:coreProperties>
</file>