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326-EE12-4884-97CD-7B9866ED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83C-37B6-412D-AAD9-7BECE798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2942-7BFD-438F-B388-D0C1CC9E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10C-D191-45E9-AC48-46B8ED7D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CE5-7881-43A8-8374-70C07AA1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7C9-29F7-4319-B298-788D698B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3CE-EA84-4799-B184-4E560807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A27-326A-4150-A6A1-873946F7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976-D276-419C-91F3-FEDBFA57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824C-36AE-4AD9-90B2-CB2E05C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BAB-8343-4BF3-AB41-9C186759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C8B-90DD-4C24-8A8C-24C1A4F8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B0F9-7272-4C50-A977-BB06B2A4F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11160"/>
            <a:ext cx="7162560" cy="6832440"/>
            <a:chOff x="990720" y="11160"/>
            <a:chExt cx="7162560" cy="6832440"/>
          </a:xfrm>
        </p:grpSpPr>
        <p:pic>
          <p:nvPicPr>
            <p:cNvPr id="42" name="Zonas%20y%20red%20vial" descr=""/>
            <p:cNvPicPr/>
            <p:nvPr/>
          </p:nvPicPr>
          <p:blipFill>
            <a:blip r:embed="rId1"/>
            <a:stretch/>
          </p:blipFill>
          <p:spPr>
            <a:xfrm>
              <a:off x="990720" y="11160"/>
              <a:ext cx="7162560" cy="683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038480" y="28036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305240" y="276876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495680" y="2870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31784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89240" y="30481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18120" y="22860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95920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92560" y="42926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35360" y="4749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11760" y="464832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54280" y="3797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22640" y="303516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67160" y="17654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68960" y="1955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84600" y="317484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35640" y="238752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40560" y="30988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43680" y="514368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57880" y="51944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38480" y="51814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32120" y="42418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08440" y="3137040"/>
              <a:ext cx="533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54480" y="1511280"/>
              <a:ext cx="533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20:31:06Z</dcterms:created>
  <dc:creator>SECTRA</dc:creator>
  <dc:description/>
  <dc:language>en-US</dc:language>
  <cp:lastModifiedBy>SECTRA</cp:lastModifiedBy>
  <dcterms:modified xsi:type="dcterms:W3CDTF">2003-04-09T20:54:34Z</dcterms:modified>
  <cp:revision>3</cp:revision>
  <dc:subject/>
  <dc:title>Presentación de PowerPoint</dc:title>
</cp:coreProperties>
</file>