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D157-816D-4AFD-B079-4E96EA9FE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63D4-516B-44B6-842C-6398F5E7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29F1-48B0-443C-A6FD-CCE2A6EC4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6BEE-336C-460E-87D7-930FE5BC0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6DA5-CF56-4AF1-AC5F-59FB7431B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CB81-14F1-4576-AB1E-C00A5290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40B7-E3E7-4730-8A30-4E092D38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1CF0A-0D37-4762-84E8-0D65DDB7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2946-96B5-45AF-B35F-EB592577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8C587-5D80-4556-A37C-05033687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6F1C-720C-42D1-AA70-DE57A9BB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B2AE-2288-4EC1-B5AA-0E1A5FE0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8BAE-8800-41E8-8E12-36F34039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51F2-C964-4BB6-BA6C-7CC4AF11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9B595-A721-4C3D-BD80-B943EC59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62A8-0C63-4FD2-B26E-C124F761A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A9DA-D508-458E-B2F6-00B815DC0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AC86-1FAD-4A2A-B010-D958D2D5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6446-82E6-4370-B7C1-B65DBBAC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323F-89E7-465E-84E9-1344E8F4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F8E0-46BA-4EF5-9F9A-38A196C3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AA6B-A0D6-4F75-81C1-139F30B9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AE32-C9B1-43D6-9CE6-073D59BB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FD7B-B1BD-4059-A196-D396BBF3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A224-03CD-4B79-9046-B146842CE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497D-2687-4B7F-9BFD-7A91C19A4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3.org/" TargetMode="External"/><Relationship Id="rId2" Type="http://schemas.openxmlformats.org/officeDocument/2006/relationships/hyperlink" Target="http://www.w3.org/" TargetMode="External"/><Relationship Id="rId3" Type="http://schemas.openxmlformats.org/officeDocument/2006/relationships/hyperlink" Target="http://www.w3.org/" TargetMode="External"/><Relationship Id="rId4" Type="http://schemas.openxmlformats.org/officeDocument/2006/relationships/hyperlink" Target="http://www.w3.org/" TargetMode="External"/><Relationship Id="rId5" Type="http://schemas.openxmlformats.org/officeDocument/2006/relationships/hyperlink" Target="http://www.w3.org/" TargetMode="External"/><Relationship Id="rId6" Type="http://schemas.openxmlformats.org/officeDocument/2006/relationships/hyperlink" Target="http://www.php.net/" TargetMode="External"/><Relationship Id="rId7" Type="http://schemas.openxmlformats.org/officeDocument/2006/relationships/hyperlink" Target="http://www.php.net/" TargetMode="External"/><Relationship Id="rId8" Type="http://schemas.openxmlformats.org/officeDocument/2006/relationships/hyperlink" Target="http://www.php.net/" TargetMode="External"/><Relationship Id="rId9" Type="http://schemas.openxmlformats.org/officeDocument/2006/relationships/hyperlink" Target="http://www.php.net/" TargetMode="External"/><Relationship Id="rId10" Type="http://schemas.openxmlformats.org/officeDocument/2006/relationships/hyperlink" Target="http://www.php.net/" TargetMode="External"/><Relationship Id="rId11" Type="http://schemas.openxmlformats.org/officeDocument/2006/relationships/hyperlink" Target="http://www.php.net/" TargetMode="External"/><Relationship Id="rId12" Type="http://schemas.openxmlformats.org/officeDocument/2006/relationships/hyperlink" Target="http://www.php.net/" TargetMode="External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Interne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429000" y="2819520"/>
            <a:ext cx="502920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99"/>
                </a:solidFill>
                <a:latin typeface="Arial"/>
              </a:rPr>
              <a:t>Aplicaciones web y m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hicago"/>
              </a:rPr>
              <a:t>Jaime Hernández 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hicago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Chicago"/>
              </a:rPr>
              <a:t>jaiherna@ing.uchil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Bibliografí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ernet, guía practica para el  usuario Editorial Universita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ccionario de Internet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hristian Crumlish, Ed MacGraw-H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1"/>
              </a:rPr>
              <a:t>http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2"/>
              </a:rPr>
              <a:t>://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3"/>
              </a:rPr>
              <a:t>www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4"/>
              </a:rPr>
              <a:t>.w3.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5"/>
              </a:rPr>
              <a:t>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6"/>
              </a:rPr>
              <a:t>http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7"/>
              </a:rPr>
              <a:t>://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8"/>
              </a:rPr>
              <a:t>www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9"/>
              </a:rPr>
              <a:t>.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10"/>
              </a:rPr>
              <a:t>php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11"/>
              </a:rPr>
              <a:t>.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12"/>
              </a:rPr>
              <a:t>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Red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d: Grupo de computadores u otros  dispositivos, conectados por un canal  de comunicación, que hace posible el  uso compartido de archivos y  recursos entre los usuar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s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ernet, Intranet, LAN,  W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Cliente/Servidor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plicaciones que se ejecutan bajo el  soporte físico y lógico de una red.  Constan de dos part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liente: Aplicación Residente en el  computador “usuario”, que ocupa  servicios del Servid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rvidor: Aplicación que “Ofrece”  servicios a la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Ejemplos C/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vidor Web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: Internet Explorer, Netscape, Opera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: Apache, Jackarta, I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vidor de Correo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: Outlook Express, Eudora, Pine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: Sendmail, Exi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Más ejemplo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vidor de Noticias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: tin, p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vidor de FTP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: ftp, WSFTP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: wuftpd, ProFTP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vidor de IRC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: irc, Mirc, Bitch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vidor de Impre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Servicios Web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eb (www) != Intern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rvidor: permite alojar en su disco  duro las paginas web del Usuario.  Luego ofrece mediante un nombre  (www.foo.bar) la pagina web a los  clien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liente: Típico navegador que  mediante un nombre identifica a una  pagina en particul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Paginas web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nguaje HTML para construir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áginas Universitarias, Estatales,  Empresas Privadas, Pers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áginas Web =&gt; Mucha info “Gratis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áginas Web == Panacea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Problemas del HTML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áginas Estátic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co intercambio de información del  Cliente al Servi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ecesidad de Dinamismo para crear  aplicac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Nuevas Solucion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nguajes de Programación que  modifican el contenido de una pagina  web (html) dinámicamente,  dependiendo de parámetros  específicos del cl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l, CGI, ASP, PHP, Servlets, J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sotros aprenderemos 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5:51:01Z</dcterms:created>
  <dc:creator>Victor Ramiro</dc:creator>
  <dc:description/>
  <dc:language>en-US</dc:language>
  <cp:lastModifiedBy>Jaime Hernández Gómez</cp:lastModifiedBy>
  <cp:lastPrinted>1904-01-01T00:00:00Z</cp:lastPrinted>
  <dcterms:modified xsi:type="dcterms:W3CDTF">2005-03-28T01:53:13Z</dcterms:modified>
  <cp:revision>27</cp:revision>
  <dc:subject/>
  <dc:title>Servicios de Internet</dc:title>
</cp:coreProperties>
</file>