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46B-1060-453F-8397-E2879E22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36B-D68F-4537-9326-50E637A8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602-9280-4A4D-A114-1456E836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1CC-8142-462F-B4CF-8E3F39C0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E21-1188-423D-8E23-51665F0F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AF41-46AA-4833-B7FD-4B747FA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786-2D1A-4195-950A-160D2AD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022-AAFC-4B9A-8748-B9AAC982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9B4F-B418-406F-BC50-D88AA2C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D3B-593A-494F-96E1-764F8721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B5B-CD9E-4100-9553-8B01771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4C3-4DA3-4AD6-833F-11D34054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1836-1B75-4785-B3ED-045F1B5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C273-930F-4B5A-B6E3-DFE29D9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BCBE-9472-413C-97B7-7DD569AE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D24C-097E-4F48-94BE-BDC06B00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C2B7-B577-4B29-A462-BB125E7E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A0D-8CE3-4F86-B0B9-CAEA255F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170-6E38-438E-8763-969B06D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B2B-776B-4B8F-B77F-49BB2EC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DBC-3811-4863-836C-4038A7B1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C28-8ABA-471C-A868-C710F40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F0B-A157-4EBE-B5F3-CC1478DF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547-1228-4042-9E5D-2F49B742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0C03-C31D-4A48-8D5E-7AE0F6D1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E1E7-B430-49F3-AB5C-876CF2E55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me Hernández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herna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Jaime Hernández Gómez</cp:lastModifiedBy>
  <cp:lastPrinted>1904-01-01T00:00:00Z</cp:lastPrinted>
  <dcterms:modified xsi:type="dcterms:W3CDTF">2005-03-28T01:53:13Z</dcterms:modified>
  <cp:revision>27</cp:revision>
  <dc:subject/>
  <dc:title>Servicios de Internet</dc:title>
</cp:coreProperties>
</file>