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E16-25D8-4597-AE86-94626D3E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7B4-D333-4E8E-8318-0A93215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C0D-7B94-4D6D-86B9-EC6C751E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6AE-A86F-4058-AEEB-B3BD986F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639D-3449-457A-B774-AFAA8517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B483-55F6-4BF6-9AC6-4404D2E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4D7-D078-43B8-9AEF-4656F99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A87-973E-4EB8-B335-0285C62B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E089-0C45-46E9-B7BC-98E1A11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7A2-B46B-493A-AE13-24494DF9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5098-3223-45B5-AC10-A7743A6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228-A1BD-4821-9104-F20F5FC7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B55-A788-499A-B84C-345AA26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139E-2DEE-499C-BC39-2CB1783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D8C-5BE6-424A-93AB-47703FC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0E7-3AC8-4348-9E3E-69F62F9F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7FE3-083F-4010-B88C-006F01D4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D0E-FC62-4314-9CDF-19BF4C5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B31-C9B4-479D-9C5C-1FB2856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2FC-5F5E-4A46-8197-C44C481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04D-A9E0-4D55-93D1-3122E1A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1A9-B0E7-46FD-A888-626D821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B99-7162-4D5E-957D-757D8AC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668-9152-4719-AC3A-A883C2B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C4E-609C-4FDC-B7FE-058A873C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178-C368-4CF5-9505-635A29C7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me Hernández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herna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Jaime Hernández Gómez</cp:lastModifiedBy>
  <cp:lastPrinted>1904-01-01T00:00:00Z</cp:lastPrinted>
  <dcterms:modified xsi:type="dcterms:W3CDTF">2005-03-28T01:53:13Z</dcterms:modified>
  <cp:revision>27</cp:revision>
  <dc:subject/>
  <dc:title>Servicios de Internet</dc:title>
</cp:coreProperties>
</file>