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781-8933-481A-A500-6C642340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6EB-5DF4-46B1-B72E-7A8524FE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396-EBC9-402E-A653-3C2936EA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521-8B0A-41C8-A29C-550F73B6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CC4C-CAED-457E-ACEF-09DC92F4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DD6-0CFF-49D3-851B-A39F782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46D-B44D-4679-8193-24BE8FD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FD6B-A9A2-476A-BDEA-7AAF1A3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22F0-E6F5-45AD-A14F-94971239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7EB7-5F0F-48A5-B2CA-CEEFFA65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6E8C-807D-439B-ABB1-EC80243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B09-860C-4AC7-86A1-559BBF8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AC34-F0D6-4F2C-9A24-7DE958D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FC0-2055-47F5-A41F-C0D383C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6C2-0A34-47AE-B14A-4FD50587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379-DF85-4D32-B31E-271E2306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258-AC39-4C84-B20F-8C403ECB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C00-3123-492B-AA9F-45BFDCE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575-DCE8-42A9-B92B-D8C4B0A9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452-8936-432C-AA21-479280F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63F-6021-48AF-8AB4-43CF3A31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805-A955-4B8A-B5C3-1912CC8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0C3-92ED-4319-893E-744097D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097-15B7-426F-B451-A2395D9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2AC-7449-4BD9-9171-CC323FF7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8D2-7B5F-4358-9B7C-FABB8FC0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me Hernández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herna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Jaime Hernández Gómez</cp:lastModifiedBy>
  <cp:lastPrinted>1904-01-01T00:00:00Z</cp:lastPrinted>
  <dcterms:modified xsi:type="dcterms:W3CDTF">2005-03-28T01:53:13Z</dcterms:modified>
  <cp:revision>27</cp:revision>
  <dc:subject/>
  <dc:title>Servicios de Internet</dc:title>
</cp:coreProperties>
</file>