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7F81-D6A3-4914-997E-8D9B917A1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8C5E-3FFF-4496-9593-83FAA1B6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5115-FE1E-4F31-B3A5-59222AD86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0F93-F25A-4124-8078-76B7CDFCE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A5BF-5A51-4045-8129-7FEC55EC3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064A-D5A2-45A5-B943-A51E0D5D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64A9-34A6-4711-8A01-AB1C73AC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6896-4C68-46A4-A04C-FA361606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2E98-87E5-4099-B1E3-06E7D4C3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4A55-8A9A-4DB3-8EBB-5C505B96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9A09-52AD-4492-B0AC-2BDB880B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4CEF-DF31-4B16-80BF-820B5418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D1CA-47B6-4654-AAEE-7653D002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4BFD-B91C-43A5-AF36-A20562D3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93C9-4077-44F3-9997-2CD8628A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8537-B373-45E5-8FBA-30C92CF32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69D1-16DC-41CE-A502-F61DE44E5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6A7D-E76E-49C8-8A2B-8B50AEA4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53F8-44EF-4085-9106-F3429FE6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64B7-56AD-42B0-AB2F-AC01235A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9B2C-EF81-4648-BFF9-AACF4619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4082-A7D6-4F82-B497-7DC9A1D1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C66D-3DE3-4B36-ACC8-2EF531BF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EC44-3B9A-4652-9B6D-3131C366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C8C1-F2FB-415A-96EF-9240D09C0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9349-BFD7-4D25-BBD0-2D7B32E2C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3.org/" TargetMode="External"/><Relationship Id="rId2" Type="http://schemas.openxmlformats.org/officeDocument/2006/relationships/hyperlink" Target="http://www.w3.org/" TargetMode="External"/><Relationship Id="rId3" Type="http://schemas.openxmlformats.org/officeDocument/2006/relationships/hyperlink" Target="http://www.w3.org/" TargetMode="External"/><Relationship Id="rId4" Type="http://schemas.openxmlformats.org/officeDocument/2006/relationships/hyperlink" Target="http://www.w3.org/" TargetMode="External"/><Relationship Id="rId5" Type="http://schemas.openxmlformats.org/officeDocument/2006/relationships/hyperlink" Target="http://www.w3.org/" TargetMode="External"/><Relationship Id="rId6" Type="http://schemas.openxmlformats.org/officeDocument/2006/relationships/hyperlink" Target="http://www.php.net/" TargetMode="External"/><Relationship Id="rId7" Type="http://schemas.openxmlformats.org/officeDocument/2006/relationships/hyperlink" Target="http://www.php.net/" TargetMode="External"/><Relationship Id="rId8" Type="http://schemas.openxmlformats.org/officeDocument/2006/relationships/hyperlink" Target="http://www.php.net/" TargetMode="External"/><Relationship Id="rId9" Type="http://schemas.openxmlformats.org/officeDocument/2006/relationships/hyperlink" Target="http://www.php.net/" TargetMode="External"/><Relationship Id="rId10" Type="http://schemas.openxmlformats.org/officeDocument/2006/relationships/hyperlink" Target="http://www.php.net/" TargetMode="External"/><Relationship Id="rId11" Type="http://schemas.openxmlformats.org/officeDocument/2006/relationships/hyperlink" Target="http://www.php.net/" TargetMode="External"/><Relationship Id="rId12" Type="http://schemas.openxmlformats.org/officeDocument/2006/relationships/hyperlink" Target="http://www.php.net/" TargetMode="External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429000" y="2819520"/>
            <a:ext cx="50292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Aplicaciones web y m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hicago"/>
              </a:rPr>
              <a:t>Jaime Hernández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hicago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hicago"/>
              </a:rPr>
              <a:t>jaiherna@ing.uchil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net, guía practica para el  usuario Editorial Universita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ccionario de Internet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ristian Crumlish, Ed MacGraw-H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2"/>
              </a:rPr>
              <a:t>://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3"/>
              </a:rPr>
              <a:t>www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4"/>
              </a:rPr>
              <a:t>.w3.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5"/>
              </a:rPr>
              <a:t>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6"/>
              </a:rPr>
              <a:t>http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7"/>
              </a:rPr>
              <a:t>://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8"/>
              </a:rPr>
              <a:t>www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9"/>
              </a:rPr>
              <a:t>.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10"/>
              </a:rPr>
              <a:t>php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11"/>
              </a:rPr>
              <a:t>.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12"/>
              </a:rPr>
              <a:t>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Red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d: Grupo de computadores u otros  dispositivos, conectados por un canal  de comunicación, que hace posible el  uso compartido de archivos y  recursos entre los usu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net, Intranet, LAN,  W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Cliente/Servidor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licaciones que se ejecutan bajo el  soporte físico y lógico de una red.  Constan de dos part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iente: Aplicación Residente en el  computador “usuario”, que ocupa  servicios del Servid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vidor: Aplicación que “Ofrece”  servicios a la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Ejemplos C/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Web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Internet Explorer, Netscape, Opera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: Apache, Jackarta, I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Correo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Outlook Express, Eudora, Pine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: Sendmail, Exi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Más ejemplo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Noticia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tin, 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FTP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ftp, WSFTP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: wuftpd, ProFTP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IRC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irc, Mirc, Bitch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Impre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Servicios Web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eb (www) != Intern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vidor: permite alojar en su disco  duro las paginas web del Usuario.  Luego ofrece mediante un nombre  (www.foo.bar) la pagina web a los  cli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iente: Típico navegador que  mediante un nombre identifica a una  pagina en particu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Paginas web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nguaje HTML para construir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áginas Universitarias, Estatales,  Empresas Privadas, Pers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áginas Web =&gt; Mucha info “Grati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áginas Web == Panacea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Problemas del HTML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áginas Estátic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co intercambio de información del  Cliente al Servi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ecesidad de Dinamismo para crear  aplic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Nuevas Solucion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nguajes de Programación que  modifican el contenido de una pagina  web (html) dinámicamente,  dependiendo de parámetros  específicos del cl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l, CGI, ASP, PHP, Servlets, J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sotros aprenderemos 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5:51:01Z</dcterms:created>
  <dc:creator>Victor Ramiro</dc:creator>
  <dc:description/>
  <dc:language>en-US</dc:language>
  <cp:lastModifiedBy>Jaime Hernández Gómez</cp:lastModifiedBy>
  <cp:lastPrinted>1904-01-01T00:00:00Z</cp:lastPrinted>
  <dcterms:modified xsi:type="dcterms:W3CDTF">2005-03-28T01:53:13Z</dcterms:modified>
  <cp:revision>27</cp:revision>
  <dc:subject/>
  <dc:title>Servicios de Internet</dc:title>
</cp:coreProperties>
</file>