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906-404D-46A3-89DD-C4424EE1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CEE-41F1-4065-8AD0-AEE2D749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E9A-4C36-4A17-978F-C6BBBDF0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035-BC6D-4FF7-BA6F-FE71B3E1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5BA2-C804-4DF5-AA45-F29B40C4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49B9-6D0F-41B4-82C9-A0CA1134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FD5F-B84C-4DB5-9490-2F476BF5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750-BB76-4CD8-AE5B-1E089B0C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243D-B4E2-44C6-9261-B3BF1617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BBA9-BCCF-4C0C-9B74-F4C80F76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4D83-9D7C-4F24-B331-D7C3A173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9A6-171C-444C-A0C6-2062BD33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5FBE-D4E6-4B98-ABBC-AD8E9A1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D36-F719-46F2-AD76-85ECF66F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4297-71E7-4C28-8F68-3AE59B9C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D347-71CF-43F5-9B17-C1D83A90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FAF7-3F54-4CA3-BDD6-E9BD2847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511-FBBC-432A-9F15-8DED69D5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3F0-88C2-42DE-B565-19092FEE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7EC-FE02-4E58-9AB8-CC520856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D12-6AA2-4B7B-AAFA-B387BFA1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024-A8A6-4604-A87F-A802DD3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9B9-262C-48C8-B907-BC1B1AD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E51-7522-4962-98F3-8C92F7C5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0725-009C-4B26-B6A6-67045B16DF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134D-411D-4ECA-B013-341A0950077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0574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EMINARIO DE IN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L CURSO SD20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TERMINACION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990720"/>
            <a:ext cx="7848360" cy="57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0.-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quipo, Tareas,  Coordinación,  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1.-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Definición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uál es el proyecto o desafí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uál es su nombre?  ; Título – Descrip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pósi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qué?  ;  Con que  Objeto?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stablecer un objetivo claro y preciso, alineado con el desafí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(Establecer y definir: Partícipes,Cliente Final,Entorno,Sistem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-  Resultados Esperados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los partícipes en el pro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cliente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os resultados deben ser:Posibles,Medibles y no contamin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Exentos o de bajo riesgo obje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Directos de la materializ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7772400" cy="70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.-  Modelo de la “ Idea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lantear, Bosquejar,Diagram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tidades y Rel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ductos y servic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.-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alidación de la Propuest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probar en el “mercado” los méritos de la Oferta, mediant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cue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.-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tudio de Fact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valuació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 impacto  en el amb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7467480" cy="57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 .-  Diseño  de la Solu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ntidades, Relaciones, 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tegración sistémica, Funcion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ductos / serv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gregación de v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.-  Constru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9.-  Entrega  de la Solu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esentación de productos / servicios, funcionamiento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novación.  Agregación de val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*  Beneficios  *  Costos  *  Margen / R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124080"/>
            <a:ext cx="556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iesgos 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EÑO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447920"/>
            <a:ext cx="1905120" cy="121896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447920"/>
            <a:ext cx="1904760" cy="12189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4724280"/>
            <a:ext cx="1904760" cy="12193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3200400"/>
            <a:ext cx="2133360" cy="121932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3716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438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438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2940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363996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ci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lu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05740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2895480"/>
            <a:ext cx="457200" cy="457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25527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4876920"/>
            <a:ext cx="457200" cy="457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6576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86400" y="236232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6668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4419720"/>
            <a:ext cx="0" cy="38088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1676520"/>
            <a:ext cx="1143000" cy="838080"/>
          </a:xfrm>
          <a:prstGeom prst="flowChartPunchedTape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tractu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81120" y="5315040"/>
            <a:ext cx="7562880" cy="838080"/>
          </a:xfrm>
          <a:prstGeom prst="rightArrow">
            <a:avLst>
              <a:gd name="adj1" fmla="val 50000"/>
              <a:gd name="adj2" fmla="val 157420"/>
            </a:avLst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iempo y Produ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568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TROL DEL PROGRESO DEL ESAF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457200"/>
            <a:ext cx="914400" cy="5486400"/>
          </a:xfrm>
          <a:prstGeom prst="upArrow">
            <a:avLst>
              <a:gd name="adj1" fmla="val 50000"/>
              <a:gd name="adj2" fmla="val 150000"/>
            </a:avLst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00200" y="1523520"/>
            <a:ext cx="6172200" cy="4038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949400"/>
            <a:ext cx="990360" cy="914400"/>
          </a:xfrm>
          <a:prstGeom prst="ellipse">
            <a:avLst/>
          </a:prstGeom>
          <a:solidFill>
            <a:srgbClr val="ff45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58128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8638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733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601992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48769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191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2666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400680" y="338112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gregación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3434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4040" y="387360"/>
            <a:ext cx="46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GRAMA Y CONTROL DE AV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37040" y="463680"/>
            <a:ext cx="58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FASES - DESARROLLO DEL EMPREND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019160"/>
            <a:ext cx="85341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28600"/>
            <a:ext cx="79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MINARIO DE INDUCCIÓN -  SD20A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33520"/>
            <a:ext cx="8153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990720"/>
            <a:ext cx="809316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ABAJO DE GRU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Qué es la Ingeniería y cuál es la misión del Ingenie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se sueñan en el año 202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3.-Qué es el Diseño? ...Diseñamos??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4.- Qué es Innovar? ....Innovamo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14400"/>
            <a:ext cx="73152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-  Diseño - “Defini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bujo realizado con líneas para representar algo esquemát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fuerzo que intenta armonizar cualquier aspecto relacionado con el entorno humano, desde la concepción a la reformulación  de objetos de uso hasta el urbanismo y el habitat.  (Es la base del desarrollo del homb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914400"/>
            <a:ext cx="73152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.-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–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oria Re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estética industrial destinada a paliar la fealdad de los objetos (rivaliza con los métodos artesanales (Arts &amp; Grafts) 188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técnica para consumidores condicionados. (Aproxima a los artistas con el industrial (Deutscher Werkbund  1907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 método global de aprehensión del espacio. (El objeto en el entorno; diseño de la forma hacia la estructura – Bauhaus – Noción de Bellez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.- 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Entendimiento del Rol del Diseño en el Mundo Real.-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590920"/>
            <a:ext cx="5029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cer frente a   la competencia - Sty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ón Producto  - Tecnología  - Ingenier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ón Servicio  -   Cliente - Mark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3276720"/>
            <a:ext cx="1981440" cy="642600"/>
          </a:xfrm>
          <a:prstGeom prst="rect">
            <a:avLst/>
          </a:prstGeom>
          <a:solidFill>
            <a:srgbClr val="ff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ducto /Usuario Servicio  / 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041520" y="2347920"/>
            <a:ext cx="1044720" cy="2466360"/>
            <a:chOff x="6041520" y="2347920"/>
            <a:chExt cx="1044720" cy="2466360"/>
          </a:xfrm>
        </p:grpSpPr>
        <p:sp>
          <p:nvSpPr>
            <p:cNvPr id="104" name=""/>
            <p:cNvSpPr/>
            <p:nvPr/>
          </p:nvSpPr>
          <p:spPr>
            <a:xfrm>
              <a:off x="6400440" y="2362320"/>
              <a:ext cx="685800" cy="243828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953600">
              <a:off x="6095520" y="2361600"/>
              <a:ext cx="685800" cy="243828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04920" y="27432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505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3434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eterminant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52280" y="1730520"/>
            <a:ext cx="54864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ctores cultu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iterios esté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ables psic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tos técnico-econó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36920" y="1803240"/>
            <a:ext cx="1834920" cy="3783960"/>
            <a:chOff x="4336920" y="1803240"/>
            <a:chExt cx="1834920" cy="3783960"/>
          </a:xfrm>
        </p:grpSpPr>
        <p:sp>
          <p:nvSpPr>
            <p:cNvPr id="113" name=""/>
            <p:cNvSpPr/>
            <p:nvPr/>
          </p:nvSpPr>
          <p:spPr>
            <a:xfrm>
              <a:off x="4958640" y="1828800"/>
              <a:ext cx="1213200" cy="373356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953600">
              <a:off x="4419720" y="1828080"/>
              <a:ext cx="1213200" cy="373356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5880" y="2133720"/>
            <a:ext cx="3048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iseño, una respuesta (síntesis) entre imperativos industriales (tecnológicos) y necesidades soci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, Reformula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676520"/>
            <a:ext cx="6095880" cy="380880"/>
          </a:xfrm>
          <a:prstGeom prst="rect">
            <a:avLst/>
          </a:prstGeom>
          <a:solidFill>
            <a:srgbClr val="ff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e del Desarrollo de las sociedades domin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743200"/>
            <a:ext cx="6400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mas                   Le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vilidad              Técnic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e                       Invest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ánica               Está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 e Informát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129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bjet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conjunto de mensajes, según su forma, su manejo y sus funciones, basados en códigos o convenciones, donde el sistema de comunicación en que se inserta, es el punto de partida de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formul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obje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01004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oy esta REFORMULACION es tan relevante que la llamada era cibernética caracteriza el nivel de producción de bienes, servicios y la velocidad de crecimiento y expansión del cono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685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Modelo General para Resolv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562720"/>
            <a:ext cx="2666880" cy="97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ar / Val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crí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646280"/>
            <a:ext cx="1660320" cy="100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2468520"/>
            <a:ext cx="2650680" cy="1798560"/>
            <a:chOff x="549360" y="2468520"/>
            <a:chExt cx="2650680" cy="1798560"/>
          </a:xfrm>
        </p:grpSpPr>
        <p:sp>
          <p:nvSpPr>
            <p:cNvPr id="129" name=""/>
            <p:cNvSpPr/>
            <p:nvPr/>
          </p:nvSpPr>
          <p:spPr>
            <a:xfrm>
              <a:off x="549360" y="3475080"/>
              <a:ext cx="1355760" cy="79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645920" y="2468520"/>
              <a:ext cx="1554120" cy="100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39920" y="4419720"/>
            <a:ext cx="1555560" cy="13716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121360" y="4343400"/>
            <a:ext cx="1736640" cy="1325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4967280"/>
            <a:ext cx="14479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enefici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rega Val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tractivida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ntaja respecto      de lo anteri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828800"/>
            <a:ext cx="2269800" cy="1531080"/>
            <a:chOff x="228600" y="1828800"/>
            <a:chExt cx="2269800" cy="1531080"/>
          </a:xfrm>
        </p:grpSpPr>
        <p:sp>
          <p:nvSpPr>
            <p:cNvPr id="135" name=""/>
            <p:cNvSpPr/>
            <p:nvPr/>
          </p:nvSpPr>
          <p:spPr>
            <a:xfrm>
              <a:off x="228600" y="1828800"/>
              <a:ext cx="2269800" cy="10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Tecn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Económ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usten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iesgos Control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tractiv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969120" y="3017160"/>
              <a:ext cx="330120" cy="342720"/>
              <a:chOff x="969120" y="3017160"/>
              <a:chExt cx="330120" cy="342720"/>
            </a:xfrm>
          </p:grpSpPr>
          <p:sp>
            <p:nvSpPr>
              <p:cNvPr id="137" name=""/>
              <p:cNvSpPr/>
              <p:nvPr/>
            </p:nvSpPr>
            <p:spPr>
              <a:xfrm>
                <a:off x="1109160" y="3017160"/>
                <a:ext cx="0" cy="2077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92320" y="3017160"/>
                <a:ext cx="0" cy="2077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69120" y="3213720"/>
                <a:ext cx="189000" cy="13824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144800" y="3183480"/>
                <a:ext cx="154440" cy="17640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473040" y="4491720"/>
            <a:ext cx="1736640" cy="2061360"/>
            <a:chOff x="473040" y="4491720"/>
            <a:chExt cx="1736640" cy="2061360"/>
          </a:xfrm>
        </p:grpSpPr>
        <p:sp>
          <p:nvSpPr>
            <p:cNvPr id="142" name=""/>
            <p:cNvSpPr/>
            <p:nvPr/>
          </p:nvSpPr>
          <p:spPr>
            <a:xfrm>
              <a:off x="473040" y="5181480"/>
              <a:ext cx="1736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nsibilidad con el me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no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agin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s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027080" y="4491720"/>
              <a:ext cx="252000" cy="446760"/>
              <a:chOff x="1027080" y="4491720"/>
              <a:chExt cx="252000" cy="44676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1206360" y="4664160"/>
                <a:ext cx="0" cy="27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127160" y="4663800"/>
                <a:ext cx="0" cy="2746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1142640" y="4493880"/>
                <a:ext cx="136440" cy="1681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1027080" y="4491720"/>
                <a:ext cx="13788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4800600" y="4191120"/>
            <a:ext cx="1295280" cy="380880"/>
          </a:xfrm>
          <a:prstGeom prst="ellipse">
            <a:avLst/>
          </a:prstGeom>
          <a:solidFill>
            <a:srgbClr val="ff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olunt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2666880"/>
            <a:ext cx="3031920" cy="1600200"/>
            <a:chOff x="1905120" y="2666880"/>
            <a:chExt cx="3031920" cy="1600200"/>
          </a:xfrm>
        </p:grpSpPr>
        <p:grpSp>
          <p:nvGrpSpPr>
            <p:cNvPr id="150" name=""/>
            <p:cNvGrpSpPr/>
            <p:nvPr/>
          </p:nvGrpSpPr>
          <p:grpSpPr>
            <a:xfrm>
              <a:off x="3505320" y="2666880"/>
              <a:ext cx="1431720" cy="1600200"/>
              <a:chOff x="3505320" y="2666880"/>
              <a:chExt cx="1431720" cy="1600200"/>
            </a:xfrm>
          </p:grpSpPr>
          <p:sp>
            <p:nvSpPr>
              <p:cNvPr id="151" name=""/>
              <p:cNvSpPr/>
              <p:nvPr/>
            </p:nvSpPr>
            <p:spPr>
              <a:xfrm>
                <a:off x="3505320" y="3352680"/>
                <a:ext cx="1431720" cy="9144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rs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nc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14800" y="2666880"/>
                <a:ext cx="0" cy="73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905120" y="380988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2438280"/>
            <a:ext cx="2743200" cy="1798560"/>
            <a:chOff x="4952880" y="2438280"/>
            <a:chExt cx="2743200" cy="1798560"/>
          </a:xfrm>
        </p:grpSpPr>
        <p:grpSp>
          <p:nvGrpSpPr>
            <p:cNvPr id="155" name=""/>
            <p:cNvGrpSpPr/>
            <p:nvPr/>
          </p:nvGrpSpPr>
          <p:grpSpPr>
            <a:xfrm>
              <a:off x="5029200" y="2438280"/>
              <a:ext cx="2666880" cy="1798560"/>
              <a:chOff x="5029200" y="2438280"/>
              <a:chExt cx="2666880" cy="1798560"/>
            </a:xfrm>
          </p:grpSpPr>
          <p:sp>
            <p:nvSpPr>
              <p:cNvPr id="156" name=""/>
              <p:cNvSpPr/>
              <p:nvPr/>
            </p:nvSpPr>
            <p:spPr>
              <a:xfrm>
                <a:off x="6095880" y="3444840"/>
                <a:ext cx="1600200" cy="7920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e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Materi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29200" y="2438280"/>
                <a:ext cx="146376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952880" y="3779640"/>
              <a:ext cx="1067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4267080"/>
            <a:ext cx="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4800600"/>
            <a:ext cx="1066680" cy="380880"/>
          </a:xfrm>
          <a:prstGeom prst="ellipse">
            <a:avLst/>
          </a:prstGeom>
          <a:solidFill>
            <a:srgbClr val="ff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467480" y="3200400"/>
            <a:ext cx="1676520" cy="1676520"/>
            <a:chOff x="7467480" y="3200400"/>
            <a:chExt cx="1676520" cy="1676520"/>
          </a:xfrm>
        </p:grpSpPr>
        <p:sp>
          <p:nvSpPr>
            <p:cNvPr id="162" name=""/>
            <p:cNvSpPr/>
            <p:nvPr/>
          </p:nvSpPr>
          <p:spPr>
            <a:xfrm>
              <a:off x="8381880" y="45720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742160" y="3200400"/>
              <a:ext cx="1303560" cy="1333440"/>
              <a:chOff x="7742160" y="3200400"/>
              <a:chExt cx="1303560" cy="1333440"/>
            </a:xfrm>
          </p:grpSpPr>
          <p:sp>
            <p:nvSpPr>
              <p:cNvPr id="164" name=""/>
              <p:cNvSpPr/>
              <p:nvPr/>
            </p:nvSpPr>
            <p:spPr>
              <a:xfrm>
                <a:off x="7742160" y="3886200"/>
                <a:ext cx="731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65" name=""/>
              <p:cNvGraphicFramePr/>
              <p:nvPr/>
            </p:nvGraphicFramePr>
            <p:xfrm>
              <a:off x="8474040" y="3200400"/>
              <a:ext cx="57168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474040" y="3200400"/>
                        <a:ext cx="5716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7" name=""/>
            <p:cNvSpPr/>
            <p:nvPr/>
          </p:nvSpPr>
          <p:spPr>
            <a:xfrm flipH="1">
              <a:off x="7467480" y="4114800"/>
              <a:ext cx="89856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133720" y="4191120"/>
            <a:ext cx="1600200" cy="380880"/>
          </a:xfrm>
          <a:prstGeom prst="ellipse">
            <a:avLst/>
          </a:prstGeom>
          <a:solidFill>
            <a:srgbClr val="ff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formul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21:26:23Z</dcterms:created>
  <dc:creator>Nivia Contreras</dc:creator>
  <dc:description/>
  <dc:language>en-US</dc:language>
  <cp:lastModifiedBy>Jaime Hernández Gómez</cp:lastModifiedBy>
  <dcterms:modified xsi:type="dcterms:W3CDTF">2005-03-22T22:19:53Z</dcterms:modified>
  <cp:revision>71</cp:revision>
  <dc:subject/>
  <dc:title>Sin título de diapositiva</dc:title>
</cp:coreProperties>
</file>