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FAC9-8392-4301-B23F-61FE8893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48AD-C24F-4897-8166-1E94CFA6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0F70-2701-4991-BE44-03282CD8B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F90A-4DD5-4EA5-BF6A-1093E5C5B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784E-0A18-49B0-B409-1382CB84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6E70-9A62-48FB-A4B3-95AC0CDE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7DE3-B868-402C-BEC1-332AC37B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F77B-AB85-498A-B207-2ECFB28C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5C5-D9CB-4DCD-B32B-308EF202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344-77EF-449C-8FF1-ADDA3600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09E6-AECB-417A-BC20-9C942AA7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FB7-E31F-445A-B01C-B9F41A39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7C65-22FB-48CF-8F78-785B72107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27080" y="1898640"/>
            <a:ext cx="53805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00"/>
                </a:solidFill>
                <a:latin typeface="Times New Roman"/>
              </a:rPr>
              <a:t>El equilibrio en las</a:t>
            </a:r>
            <a:br>
              <a:rPr sz="4800"/>
            </a:br>
            <a:r>
              <a:rPr b="1" lang="es-ES_tradnl" sz="4800" spc="-1" strike="noStrike">
                <a:solidFill>
                  <a:srgbClr val="ffff00"/>
                </a:solidFill>
                <a:latin typeface="Times New Roman"/>
              </a:rPr>
              <a:t>reacciones quími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682280" y="304920"/>
            <a:ext cx="57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00"/>
                </a:solidFill>
                <a:latin typeface="Times New Roman"/>
              </a:rPr>
              <a:t>¿Hacia dónde evoluciona la reac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62120" y="1371600"/>
                <a:ext cx="25844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Gº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1" name=""/>
          <p:cNvGrpSpPr/>
          <p:nvPr/>
        </p:nvGrpSpPr>
        <p:grpSpPr>
          <a:xfrm>
            <a:off x="1523880" y="1752480"/>
            <a:ext cx="2238480" cy="990720"/>
            <a:chOff x="1523880" y="1752480"/>
            <a:chExt cx="2238480" cy="990720"/>
          </a:xfrm>
        </p:grpSpPr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1523880" y="2212920"/>
                  <a:ext cx="2238480" cy="53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Gº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43" name=""/>
            <p:cNvSpPr/>
            <p:nvPr/>
          </p:nvSpPr>
          <p:spPr>
            <a:xfrm flipV="1">
              <a:off x="1828800" y="1752480"/>
              <a:ext cx="0" cy="457200"/>
            </a:xfrm>
            <a:prstGeom prst="line">
              <a:avLst/>
            </a:prstGeom>
            <a:ln w="3168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3855960" y="1143000"/>
                <a:ext cx="49831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1233360" y="3460680"/>
            <a:ext cx="667872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 Q &lt;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   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 &lt; 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  espontáne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 Q &gt;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   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 &gt; 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  no espontáne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p </a:t>
            </a:r>
            <a:r>
              <a:rPr b="0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r  espontáne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Q =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   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 = 0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276720"/>
            <a:ext cx="7619760" cy="2895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25000" y="228600"/>
            <a:ext cx="68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Otras expresiones de la constante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130400" y="990720"/>
                <a:ext cx="6870600" cy="20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C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c</m:t>
                                    </m:r>
                                  </m:sup>
                                </m:sSup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D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d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A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a</m:t>
                                    </m:r>
                                  </m:sup>
                                </m:sSup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B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b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c</m:t>
                                    </m:r>
                                  </m:sup>
                                </m:sSup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D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d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A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a</m:t>
                                    </m:r>
                                  </m:sup>
                                </m:sSup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t xml:space="preserve">B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b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9" name=""/>
          <p:cNvGrpSpPr/>
          <p:nvPr/>
        </p:nvGrpSpPr>
        <p:grpSpPr>
          <a:xfrm>
            <a:off x="4343400" y="2529000"/>
            <a:ext cx="1906920" cy="1326240"/>
            <a:chOff x="4343400" y="2529000"/>
            <a:chExt cx="1906920" cy="1326240"/>
          </a:xfrm>
        </p:grpSpPr>
        <p:sp>
          <p:nvSpPr>
            <p:cNvPr id="150" name=""/>
            <p:cNvSpPr/>
            <p:nvPr/>
          </p:nvSpPr>
          <p:spPr>
            <a:xfrm rot="5400000">
              <a:off x="5105520" y="1766880"/>
              <a:ext cx="380880" cy="19051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371840" y="2909880"/>
              <a:ext cx="1878480" cy="9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00"/>
                  </a:solidFill>
                  <a:latin typeface="Times New Roman"/>
                </a:rPr>
                <a:t>K</a:t>
              </a:r>
              <a:r>
                <a:rPr b="0" lang="es-ES_tradnl" sz="2800" spc="-1" strike="noStrike" baseline="-25000">
                  <a:solidFill>
                    <a:srgbClr val="ffff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(dimensiona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324120" y="2833560"/>
            <a:ext cx="1600200" cy="977760"/>
            <a:chOff x="6324120" y="2833560"/>
            <a:chExt cx="1600200" cy="977760"/>
          </a:xfrm>
        </p:grpSpPr>
        <p:sp>
          <p:nvSpPr>
            <p:cNvPr id="153" name=""/>
            <p:cNvSpPr/>
            <p:nvPr/>
          </p:nvSpPr>
          <p:spPr>
            <a:xfrm rot="5400000">
              <a:off x="6933600" y="2223720"/>
              <a:ext cx="380880" cy="16002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1400 h 1600200"/>
                <a:gd name="textAreaBottom" fmla="*/ 15588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9760" y="3290760"/>
              <a:ext cx="102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(Pº)</a:t>
              </a:r>
              <a:r>
                <a:rPr b="0" lang="es-ES_tradnl" sz="2800" spc="-1" strike="noStrike" baseline="30000">
                  <a:solidFill>
                    <a:srgbClr val="ffffff"/>
                  </a:solidFill>
                  <a:latin typeface="Times New Roman"/>
                </a:rPr>
                <a:t>-</a:t>
              </a:r>
              <a:r>
                <a:rPr b="0" lang="es-ES_tradnl" sz="28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s-ES_tradnl" sz="2800" spc="-1" strike="noStrike" baseline="30000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56480" y="4052880"/>
            <a:ext cx="51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función de las concentr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828800" y="4800600"/>
            <a:ext cx="5518800" cy="1030320"/>
            <a:chOff x="1828800" y="4800600"/>
            <a:chExt cx="5518800" cy="1030320"/>
          </a:xfrm>
        </p:grpSpPr>
        <p:sp>
          <p:nvSpPr>
            <p:cNvPr id="157" name=""/>
            <p:cNvSpPr/>
            <p:nvPr/>
          </p:nvSpPr>
          <p:spPr>
            <a:xfrm>
              <a:off x="5110920" y="5056200"/>
              <a:ext cx="223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00"/>
                  </a:solidFill>
                  <a:latin typeface="Times New Roman"/>
                </a:rPr>
                <a:t>K</a:t>
              </a:r>
              <a:r>
                <a:rPr b="0" lang="es-ES_tradnl" sz="2800" spc="-1" strike="noStrike" baseline="-25000">
                  <a:solidFill>
                    <a:srgbClr val="ffff00"/>
                  </a:solidFill>
                  <a:latin typeface="Times New Roman"/>
                </a:rPr>
                <a:t>p</a:t>
              </a:r>
              <a:r>
                <a:rPr b="0" lang="es-ES_tradnl" sz="2800" spc="-1" strike="noStrike">
                  <a:solidFill>
                    <a:srgbClr val="ffff00"/>
                  </a:solidFill>
                  <a:latin typeface="Times New Roman"/>
                </a:rPr>
                <a:t> = K</a:t>
              </a:r>
              <a:r>
                <a:rPr b="0" lang="es-ES_tradnl" sz="2800" spc="-1" strike="noStrike" baseline="-25000">
                  <a:solidFill>
                    <a:srgbClr val="ffff00"/>
                  </a:solidFill>
                  <a:latin typeface="Times New Roman"/>
                </a:rPr>
                <a:t>c </a:t>
              </a:r>
              <a:r>
                <a:rPr b="0" lang="es-ES_tradnl" sz="2800" spc="-1" strike="noStrike">
                  <a:solidFill>
                    <a:srgbClr val="ffff00"/>
                  </a:solidFill>
                  <a:latin typeface="Times New Roman"/>
                </a:rPr>
                <a:t>(RT)</a:t>
              </a:r>
              <a:r>
                <a:rPr b="0" lang="es-ES_tradnl" sz="2800" spc="-1" strike="noStrike" baseline="30000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2800" spc="-1" strike="noStrike" baseline="30000">
                  <a:solidFill>
                    <a:srgbClr val="ffff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8" name=""/>
                <p:cNvSpPr txBox="1"/>
                <p:nvPr/>
              </p:nvSpPr>
              <p:spPr>
                <a:xfrm>
                  <a:off x="1828800" y="4800600"/>
                  <a:ext cx="1981080" cy="103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C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c</m:t>
                              </m:r>
                            </m:sup>
                          </m:sSup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D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d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a</m:t>
                              </m:r>
                            </m:sup>
                          </m:sSup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B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b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" name=""/>
          <p:cNvSpPr/>
          <p:nvPr/>
        </p:nvSpPr>
        <p:spPr>
          <a:xfrm>
            <a:off x="2545200" y="6080040"/>
            <a:ext cx="3977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 = 0     K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º = K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= K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58800" y="395280"/>
            <a:ext cx="573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EQUILIBRIOS HETEROGÉNE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53240" y="1309680"/>
            <a:ext cx="8325000" cy="1257840"/>
            <a:chOff x="453240" y="1309680"/>
            <a:chExt cx="8325000" cy="1257840"/>
          </a:xfrm>
        </p:grpSpPr>
        <p:sp>
          <p:nvSpPr>
            <p:cNvPr id="162" name=""/>
            <p:cNvSpPr/>
            <p:nvPr/>
          </p:nvSpPr>
          <p:spPr>
            <a:xfrm>
              <a:off x="453240" y="1309680"/>
              <a:ext cx="832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Aquéllos en los que las sustancias están en fases distint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11480" y="2057400"/>
              <a:ext cx="4803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.ej.: CaCO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(s)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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CaO (s) + CO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(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47120" y="2895480"/>
            <a:ext cx="8382960" cy="2667240"/>
            <a:chOff x="447120" y="2895480"/>
            <a:chExt cx="8382960" cy="2667240"/>
          </a:xfrm>
        </p:grpSpPr>
        <p:sp>
          <p:nvSpPr>
            <p:cNvPr id="165" name=""/>
            <p:cNvSpPr/>
            <p:nvPr/>
          </p:nvSpPr>
          <p:spPr>
            <a:xfrm>
              <a:off x="447120" y="2895480"/>
              <a:ext cx="8382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La situación de equilibrio no se ve afectada por la cantidad de</a:t>
              </a:r>
              <a:br>
                <a:rPr sz="2400"/>
              </a:b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sólido o líquido, siempre y cuando estas sustancias estén presen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14800" y="3886200"/>
              <a:ext cx="914400" cy="6858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52880" y="4676760"/>
              <a:ext cx="82382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600" spc="-1" strike="noStrike">
                  <a:solidFill>
                    <a:srgbClr val="ffff00"/>
                  </a:solidFill>
                  <a:latin typeface="Times New Roman"/>
                </a:rPr>
                <a:t>La constante de equilibrio es independiente de las cantidades</a:t>
              </a:r>
              <a:br>
                <a:rPr sz="2600"/>
              </a:br>
              <a:r>
                <a:rPr b="0" lang="es-ES_tradnl" sz="2600" spc="-1" strike="noStrike">
                  <a:solidFill>
                    <a:srgbClr val="ffff00"/>
                  </a:solidFill>
                  <a:latin typeface="Times New Roman"/>
                </a:rPr>
                <a:t>de sólidos y líquidos en el equilibrio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314720" y="5799240"/>
            <a:ext cx="6539040" cy="579600"/>
            <a:chOff x="1314720" y="5799240"/>
            <a:chExt cx="6539040" cy="579600"/>
          </a:xfrm>
        </p:grpSpPr>
        <p:sp>
          <p:nvSpPr>
            <p:cNvPr id="169" name=""/>
            <p:cNvSpPr/>
            <p:nvPr/>
          </p:nvSpPr>
          <p:spPr>
            <a:xfrm>
              <a:off x="1314720" y="5829480"/>
              <a:ext cx="4115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CaCO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(s)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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CaO (s) + CO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(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15680" y="5799240"/>
              <a:ext cx="17380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0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= [CO</a:t>
              </a:r>
              <a:r>
                <a:rPr b="0" lang="es-ES_tradnl" sz="28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562400" y="228600"/>
            <a:ext cx="677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VARIACIÓN DE LA CONSTANTE DE</a:t>
            </a:r>
            <a:br>
              <a:rPr sz="2800"/>
            </a:b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EQUILIBRIO CON LA TEMPERAT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83280" y="1614600"/>
            <a:ext cx="6150240" cy="1654920"/>
            <a:chOff x="683280" y="1614600"/>
            <a:chExt cx="6150240" cy="1654920"/>
          </a:xfrm>
        </p:grpSpPr>
        <p:sp>
          <p:nvSpPr>
            <p:cNvPr id="173" name=""/>
            <p:cNvSpPr/>
            <p:nvPr/>
          </p:nvSpPr>
          <p:spPr>
            <a:xfrm>
              <a:off x="683280" y="1614600"/>
              <a:ext cx="615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800" spc="-1" strike="noStrike">
                  <a:solidFill>
                    <a:srgbClr val="ffffff"/>
                  </a:solidFill>
                  <a:latin typeface="Times New Roman"/>
                </a:rPr>
                <a:t>¿Cómo podemos </a:t>
              </a:r>
              <a:r>
                <a:rPr b="0" i="1" lang="es-ES_tradnl" sz="2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modificar</a:t>
              </a:r>
              <a:r>
                <a:rPr b="0" i="1" lang="es-ES_tradnl" sz="2800" spc="-1" strike="noStrike">
                  <a:solidFill>
                    <a:srgbClr val="ffffff"/>
                  </a:solidFill>
                  <a:latin typeface="Times New Roman"/>
                </a:rPr>
                <a:t> un equilibrio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17080" y="2620800"/>
              <a:ext cx="1549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32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es-ES_tradnl" sz="3200" spc="-1" strike="noStrike">
                  <a:solidFill>
                    <a:srgbClr val="ffffff"/>
                  </a:solidFill>
                  <a:latin typeface="Times New Roman"/>
                </a:rPr>
                <a:t> = K</a:t>
              </a:r>
              <a:r>
                <a:rPr b="0" lang="es-ES_tradnl" sz="3200" spc="-1" strike="noStrike" baseline="-25000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s-ES_tradnl" sz="3200" spc="-1" strike="noStrike">
                  <a:solidFill>
                    <a:srgbClr val="ffffff"/>
                  </a:solidFill>
                  <a:latin typeface="Times New Roman"/>
                </a:rPr>
                <a:t>º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61240" y="3886200"/>
            <a:ext cx="7898040" cy="1448640"/>
            <a:chOff x="561240" y="3886200"/>
            <a:chExt cx="7898040" cy="1448640"/>
          </a:xfrm>
        </p:grpSpPr>
        <p:sp>
          <p:nvSpPr>
            <p:cNvPr id="176" name=""/>
            <p:cNvSpPr/>
            <p:nvPr/>
          </p:nvSpPr>
          <p:spPr>
            <a:xfrm>
              <a:off x="561240" y="4844880"/>
              <a:ext cx="512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600" spc="-1" strike="noStrike">
                  <a:solidFill>
                    <a:srgbClr val="ffff00"/>
                  </a:solidFill>
                  <a:latin typeface="Times New Roman"/>
                </a:rPr>
                <a:t>Cambiando la constante de equilibri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08200" y="3886200"/>
              <a:ext cx="838440" cy="838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40520" y="3886200"/>
              <a:ext cx="838080" cy="838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29960" y="4844880"/>
              <a:ext cx="2029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600" spc="-1" strike="noStrike">
                  <a:solidFill>
                    <a:srgbClr val="ffff00"/>
                  </a:solidFill>
                  <a:latin typeface="Times New Roman"/>
                </a:rPr>
                <a:t>Cambiando </a:t>
              </a:r>
              <a:r>
                <a:rPr b="0" i="1" lang="es-ES_tradnl" sz="2600" spc="-1" strike="noStrike">
                  <a:solidFill>
                    <a:srgbClr val="ffff00"/>
                  </a:solidFill>
                  <a:latin typeface="Times New Roman"/>
                </a:rPr>
                <a:t>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33520" y="2057400"/>
                <a:ext cx="800100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º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t xml:space="preserve">ΔGº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f>
                          <m:num>
                            <m:r>
                              <m:t xml:space="preserve">dΔGº</m:t>
                            </m:r>
                          </m:num>
                          <m:den>
                            <m:r>
                              <m:t xml:space="preserve">dT</m:t>
                            </m:r>
                          </m:den>
                        </m:f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ΔGº</m:t>
                        </m:r>
                      </m:num>
                      <m:den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28600" y="4191120"/>
                <a:ext cx="386244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º</m:t>
                    </m:r>
                    <m:r>
                      <m:t xml:space="preserve">=</m:t>
                    </m:r>
                    <m:r>
                      <m:t xml:space="preserve">ΔHº</m:t>
                    </m:r>
                    <m:r>
                      <m:t xml:space="preserve">−</m:t>
                    </m:r>
                    <m:r>
                      <m:t xml:space="preserve">TΔSº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dΔGº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ΔSº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343400" y="4114800"/>
                <a:ext cx="4648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f>
                      <m:num>
                        <m:r>
                          <m:t xml:space="preserve">−</m:t>
                        </m:r>
                        <m:r>
                          <m:t xml:space="preserve">TΔ</m:t>
                        </m:r>
                        <m:r>
                          <m:rPr>
                            <m:lit/>
                            <m:nor/>
                          </m:rPr>
                          <m:t xml:space="preserve">Sº</m:t>
                        </m:r>
                        <m:r>
                          <m:t xml:space="preserve">−</m:t>
                        </m:r>
                        <m:r>
                          <m:t xml:space="preserve">ΔGº</m:t>
                        </m:r>
                      </m:num>
                      <m:den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Gº</m:t>
                        </m:r>
                        <m:r>
                          <m:t xml:space="preserve">+</m:t>
                        </m:r>
                        <m:r>
                          <m:t xml:space="preserve">TΔSº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752480" y="5629320"/>
                <a:ext cx="17082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</m:num>
                      <m:den>
                        <m: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Hº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3888720" y="570564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cuación de van’t H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5562720"/>
            <a:ext cx="6477120" cy="990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71960" y="882720"/>
            <a:ext cx="368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Cambiando la tempera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425520"/>
            <a:ext cx="685800" cy="828720"/>
          </a:xfrm>
          <a:custGeom>
            <a:avLst/>
            <a:gdLst>
              <a:gd name="textAreaLeft" fmla="*/ 91800 w 685800"/>
              <a:gd name="textAreaRight" fmla="*/ 594000 w 685800"/>
              <a:gd name="textAreaTop" fmla="*/ 145080 h 828720"/>
              <a:gd name="textAreaBottom" fmla="*/ 600840 h 8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85800" y="272880"/>
            <a:ext cx="6185880" cy="914400"/>
            <a:chOff x="685800" y="272880"/>
            <a:chExt cx="6185880" cy="914400"/>
          </a:xfrm>
        </p:grpSpPr>
        <p:sp>
          <p:nvSpPr>
            <p:cNvPr id="189" name=""/>
            <p:cNvSpPr/>
            <p:nvPr/>
          </p:nvSpPr>
          <p:spPr>
            <a:xfrm>
              <a:off x="1750320" y="272880"/>
              <a:ext cx="5121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600" spc="-1" strike="noStrike">
                  <a:solidFill>
                    <a:srgbClr val="ffff00"/>
                  </a:solidFill>
                  <a:latin typeface="Times New Roman"/>
                </a:rPr>
                <a:t>Cambiando la constante de equilibri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5800" y="349200"/>
              <a:ext cx="838080" cy="838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1371600" y="4343400"/>
            <a:ext cx="5943600" cy="895320"/>
            <a:chOff x="1371600" y="4343400"/>
            <a:chExt cx="5943600" cy="895320"/>
          </a:xfrm>
        </p:grpSpPr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1371600" y="4343400"/>
                  <a:ext cx="198108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</m:t>
                          </m:r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</m:num>
                        <m:den>
                          <m: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ΔHº</m:t>
                          </m:r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3854520" y="4419720"/>
                  <a:ext cx="3460680" cy="815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r>
                            <m:t xml:space="preserve">d</m:t>
                          </m:r>
                          <m:r>
                            <m:rPr>
                              <m:lit/>
                              <m:nor/>
                            </m:rPr>
                            <m:t xml:space="preserve">ln</m:t>
                          </m:r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r>
                            <m:t xml:space="preserve"> </m:t>
                          </m:r>
                          <m:f>
                            <m:num>
                              <m:r>
                                <m:t xml:space="preserve">ΔHº</m:t>
                              </m:r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T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dT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4" name=""/>
          <p:cNvSpPr/>
          <p:nvPr/>
        </p:nvSpPr>
        <p:spPr>
          <a:xfrm>
            <a:off x="317520" y="3886200"/>
            <a:ext cx="501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http:/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/nobelprize.org</a:t>
            </a: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/chemistry/laureates/1901/index.html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997440" y="189000"/>
            <a:ext cx="4537800" cy="3858120"/>
            <a:chOff x="3997440" y="189000"/>
            <a:chExt cx="4537800" cy="38581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6546600" y="189000"/>
              <a:ext cx="19396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3997440" y="3160800"/>
              <a:ext cx="45378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00"/>
                  </a:solidFill>
                  <a:latin typeface="Times New Roman"/>
                </a:rPr>
                <a:t>Jacobus Henricus van’t Hoff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(1852-1911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09960" y="333360"/>
            <a:ext cx="6206760" cy="2608920"/>
            <a:chOff x="309960" y="333360"/>
            <a:chExt cx="6206760" cy="2608920"/>
          </a:xfrm>
        </p:grpSpPr>
        <p:sp>
          <p:nvSpPr>
            <p:cNvPr id="199" name=""/>
            <p:cNvSpPr/>
            <p:nvPr/>
          </p:nvSpPr>
          <p:spPr>
            <a:xfrm>
              <a:off x="309960" y="1933560"/>
              <a:ext cx="6206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0" i="1" lang="es-ES_tradnl" sz="2000" spc="-1" strike="noStrike">
                  <a:solidFill>
                    <a:srgbClr val="ffffff"/>
                  </a:solidFill>
                  <a:latin typeface="Times New Roman"/>
                </a:rPr>
                <a:t>En reconocimiento a los extraodinarios servicios que ha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ffffff"/>
                  </a:solidFill>
                  <a:latin typeface="Times New Roman"/>
                </a:rPr>
                <a:t>prestado con el descubrimiento de las leyes de la dinámica</a:t>
              </a:r>
              <a:br>
                <a:rPr sz="2000"/>
              </a:br>
              <a:r>
                <a:rPr b="0" i="1" lang="es-ES_tradnl" sz="2000" spc="-1" strike="noStrike">
                  <a:solidFill>
                    <a:srgbClr val="ffffff"/>
                  </a:solidFill>
                  <a:latin typeface="Times New Roman"/>
                </a:rPr>
                <a:t>química y la presión osmótica en disoluciones”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484200" y="333360"/>
              <a:ext cx="5717160" cy="1373760"/>
              <a:chOff x="484200" y="333360"/>
              <a:chExt cx="5717160" cy="1373760"/>
            </a:xfrm>
          </p:grpSpPr>
          <p:sp>
            <p:nvSpPr>
              <p:cNvPr id="201" name=""/>
              <p:cNvSpPr/>
              <p:nvPr/>
            </p:nvSpPr>
            <p:spPr>
              <a:xfrm>
                <a:off x="3000240" y="333360"/>
                <a:ext cx="320112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ffff00"/>
                    </a:solidFill>
                    <a:latin typeface="Times New Roman"/>
                  </a:rPr>
                  <a:t>190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800" spc="-1" strike="noStrike">
                    <a:solidFill>
                      <a:srgbClr val="ffff00"/>
                    </a:solidFill>
                    <a:latin typeface="Times New Roman"/>
                  </a:rPr>
                  <a:t>Primer premio Nobel</a:t>
                </a:r>
                <a:br>
                  <a:rPr sz="2800"/>
                </a:br>
                <a:r>
                  <a:rPr b="0" lang="es-ES_tradnl" sz="2800" spc="-1" strike="noStrike">
                    <a:solidFill>
                      <a:srgbClr val="ffff00"/>
                    </a:solidFill>
                    <a:latin typeface="Times New Roman"/>
                  </a:rPr>
                  <a:t>de Químic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4200" y="403200"/>
                <a:ext cx="2239560" cy="123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657600" y="5553000"/>
                <a:ext cx="35402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Hº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04" name=""/>
          <p:cNvGrpSpPr/>
          <p:nvPr/>
        </p:nvGrpSpPr>
        <p:grpSpPr>
          <a:xfrm>
            <a:off x="7467480" y="4724280"/>
            <a:ext cx="1597320" cy="1371600"/>
            <a:chOff x="7467480" y="4724280"/>
            <a:chExt cx="1597320" cy="1371600"/>
          </a:xfrm>
        </p:grpSpPr>
        <p:sp>
          <p:nvSpPr>
            <p:cNvPr id="205" name=""/>
            <p:cNvSpPr/>
            <p:nvPr/>
          </p:nvSpPr>
          <p:spPr>
            <a:xfrm>
              <a:off x="7467480" y="4724280"/>
              <a:ext cx="381240" cy="1371600"/>
            </a:xfrm>
            <a:custGeom>
              <a:avLst/>
              <a:gdLst>
                <a:gd name="textAreaLeft" fmla="*/ 51120 w 381240"/>
                <a:gd name="textAreaRight" fmla="*/ 330120 w 381240"/>
                <a:gd name="textAreaTop" fmla="*/ 239760 h 1371600"/>
                <a:gd name="textAreaBottom" fmla="*/ 9943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03720" y="5029200"/>
              <a:ext cx="126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ffffff"/>
                  </a:solidFill>
                  <a:latin typeface="Times New Roman"/>
                </a:rPr>
                <a:t>Si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s-ES_tradnl" sz="2200" spc="-1" strike="noStrike">
                  <a:solidFill>
                    <a:srgbClr val="ffffff"/>
                  </a:solidFill>
                  <a:latin typeface="Times New Roman"/>
                </a:rPr>
                <a:t>Hº = c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06000" y="5562720"/>
            <a:ext cx="31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cuación integrada</a:t>
            </a:r>
            <a:br>
              <a:rPr sz="2800"/>
            </a:b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van’t H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5486400"/>
            <a:ext cx="7239240" cy="1143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85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71760" y="371520"/>
            <a:ext cx="25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ecuencias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5334120" y="219240"/>
                <a:ext cx="35398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Hº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689040" y="1066680"/>
            <a:ext cx="4341240" cy="1434960"/>
            <a:chOff x="689040" y="1066680"/>
            <a:chExt cx="4341240" cy="1434960"/>
          </a:xfrm>
        </p:grpSpPr>
        <p:sp>
          <p:nvSpPr>
            <p:cNvPr id="212" name=""/>
            <p:cNvSpPr/>
            <p:nvPr/>
          </p:nvSpPr>
          <p:spPr>
            <a:xfrm>
              <a:off x="689040" y="1981080"/>
              <a:ext cx="434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00"/>
                  </a:solidFill>
                  <a:latin typeface="Times New Roman"/>
                </a:rPr>
                <a:t>a) Si </a:t>
              </a:r>
              <a:r>
                <a:rPr b="1" lang="es-ES_tradnl" sz="2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2800" spc="-1" strike="noStrike">
                  <a:solidFill>
                    <a:srgbClr val="ffff00"/>
                  </a:solidFill>
                  <a:latin typeface="Times New Roman"/>
                </a:rPr>
                <a:t>Hº &gt; 0 (endotérmic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74720" y="1066680"/>
              <a:ext cx="23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omemos T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&gt; T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523880" y="2841480"/>
            <a:ext cx="1822680" cy="1959120"/>
            <a:chOff x="1523880" y="2841480"/>
            <a:chExt cx="1822680" cy="1959120"/>
          </a:xfrm>
        </p:grpSpPr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1600200" y="2841480"/>
                  <a:ext cx="116352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Hº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1523880" y="3800520"/>
                  <a:ext cx="182268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7" name=""/>
          <p:cNvGrpSpPr/>
          <p:nvPr/>
        </p:nvGrpSpPr>
        <p:grpSpPr>
          <a:xfrm>
            <a:off x="3352680" y="2743200"/>
            <a:ext cx="5334120" cy="2286000"/>
            <a:chOff x="3352680" y="2743200"/>
            <a:chExt cx="5334120" cy="2286000"/>
          </a:xfrm>
        </p:grpSpPr>
        <p:sp>
          <p:nvSpPr>
            <p:cNvPr id="218" name=""/>
            <p:cNvSpPr/>
            <p:nvPr/>
          </p:nvSpPr>
          <p:spPr>
            <a:xfrm>
              <a:off x="3352680" y="274320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9" name=""/>
                <p:cNvSpPr txBox="1"/>
                <p:nvPr/>
              </p:nvSpPr>
              <p:spPr>
                <a:xfrm>
                  <a:off x="4086000" y="3419640"/>
                  <a:ext cx="460080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&gt;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&gt;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0" name=""/>
          <p:cNvSpPr/>
          <p:nvPr/>
        </p:nvSpPr>
        <p:spPr>
          <a:xfrm>
            <a:off x="4491000" y="4738680"/>
            <a:ext cx="168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º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01680" y="563868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 aumentar T se favorece la formación de productos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splaza hacia la der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9040" y="1981080"/>
            <a:ext cx="41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b) Si </a:t>
            </a:r>
            <a:r>
              <a:rPr b="1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Hº &lt; 0 (exotérm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71760" y="219240"/>
            <a:ext cx="8202240" cy="1357560"/>
            <a:chOff x="671760" y="219240"/>
            <a:chExt cx="8202240" cy="1357560"/>
          </a:xfrm>
        </p:grpSpPr>
        <p:sp>
          <p:nvSpPr>
            <p:cNvPr id="224" name=""/>
            <p:cNvSpPr/>
            <p:nvPr/>
          </p:nvSpPr>
          <p:spPr>
            <a:xfrm>
              <a:off x="671760" y="371520"/>
              <a:ext cx="251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Consecuencias</a:t>
              </a:r>
              <a:r>
                <a:rPr b="1" lang="es-ES_tradnl" sz="28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5334120" y="219240"/>
                  <a:ext cx="353988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ΔHº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26" name=""/>
            <p:cNvSpPr/>
            <p:nvPr/>
          </p:nvSpPr>
          <p:spPr>
            <a:xfrm>
              <a:off x="1674720" y="1066680"/>
              <a:ext cx="23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omemos T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&gt; T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1523880" y="2841480"/>
            <a:ext cx="1822680" cy="1959120"/>
            <a:chOff x="1523880" y="2841480"/>
            <a:chExt cx="1822680" cy="1959120"/>
          </a:xfrm>
        </p:grpSpPr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1600200" y="2841480"/>
                  <a:ext cx="1163520" cy="81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ΔHº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1523880" y="3800520"/>
                  <a:ext cx="182268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0" name=""/>
          <p:cNvGrpSpPr/>
          <p:nvPr/>
        </p:nvGrpSpPr>
        <p:grpSpPr>
          <a:xfrm>
            <a:off x="3352680" y="2743200"/>
            <a:ext cx="5321520" cy="2286000"/>
            <a:chOff x="3352680" y="2743200"/>
            <a:chExt cx="5321520" cy="2286000"/>
          </a:xfrm>
        </p:grpSpPr>
        <p:sp>
          <p:nvSpPr>
            <p:cNvPr id="231" name=""/>
            <p:cNvSpPr/>
            <p:nvPr/>
          </p:nvSpPr>
          <p:spPr>
            <a:xfrm>
              <a:off x="3352680" y="2743200"/>
              <a:ext cx="457200" cy="22860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4098960" y="3419640"/>
                  <a:ext cx="457524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&lt;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3" name=""/>
          <p:cNvSpPr/>
          <p:nvPr/>
        </p:nvSpPr>
        <p:spPr>
          <a:xfrm>
            <a:off x="4491720" y="4738680"/>
            <a:ext cx="168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º </a:t>
            </a:r>
            <a:r>
              <a:rPr b="0" lang="es-ES" sz="28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56400" y="5638680"/>
            <a:ext cx="666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 aumentar T se favorece la formación de reactivos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splaza hacia la izquier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8320" y="198108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) Si </a:t>
            </a:r>
            <a:r>
              <a:rPr b="1" lang="es-ES_tradnl" sz="2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Hº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71760" y="219240"/>
            <a:ext cx="8202240" cy="1357560"/>
            <a:chOff x="671760" y="219240"/>
            <a:chExt cx="8202240" cy="1357560"/>
          </a:xfrm>
        </p:grpSpPr>
        <p:sp>
          <p:nvSpPr>
            <p:cNvPr id="237" name=""/>
            <p:cNvSpPr/>
            <p:nvPr/>
          </p:nvSpPr>
          <p:spPr>
            <a:xfrm>
              <a:off x="671760" y="371520"/>
              <a:ext cx="251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Consecuencias</a:t>
              </a:r>
              <a:r>
                <a:rPr b="1" lang="es-ES_tradnl" sz="28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5334120" y="219240"/>
                  <a:ext cx="353988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ΔHº</m:t>
                          </m:r>
                        </m:num>
                        <m:den>
                          <m:r>
                            <m:t xml:space="preserve">R</m:t>
                          </m:r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39" name=""/>
            <p:cNvSpPr/>
            <p:nvPr/>
          </p:nvSpPr>
          <p:spPr>
            <a:xfrm>
              <a:off x="1674720" y="1066680"/>
              <a:ext cx="2351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Tomemos T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&gt; T</a:t>
              </a:r>
              <a:r>
                <a:rPr b="0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842480" y="2971800"/>
            <a:ext cx="5479560" cy="1831320"/>
            <a:chOff x="1842480" y="2971800"/>
            <a:chExt cx="5479560" cy="1831320"/>
          </a:xfrm>
        </p:grpSpPr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2281320" y="2971800"/>
                  <a:ext cx="4602240" cy="100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  <m:sup>
                              <m:r>
                                <m:t xml:space="preserve">o</m:t>
                              </m:r>
                            </m:sup>
                          </m:sSubSup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 </m:t>
                      </m:r>
                      <m:r>
                        <m:t xml:space="preserve">;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(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2" name=""/>
            <p:cNvSpPr/>
            <p:nvPr/>
          </p:nvSpPr>
          <p:spPr>
            <a:xfrm>
              <a:off x="1842480" y="4343400"/>
              <a:ext cx="547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La constante de equilibrio no cambia con 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562040" y="228600"/>
            <a:ext cx="630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RESPUESTA DEL EQUILIBRIO A UN</a:t>
            </a:r>
            <a:br>
              <a:rPr sz="2800"/>
            </a:b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CAMBIO DE CONDICIONES.</a:t>
            </a:r>
            <a:br>
              <a:rPr sz="2800"/>
            </a:b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PRINCIPIO DE LE CHÂTELI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76840" y="4600440"/>
            <a:ext cx="5411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Cambiando el resto de f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moles de reactivos, productos, P, V,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43800" y="4086360"/>
            <a:ext cx="685800" cy="1276200"/>
          </a:xfrm>
          <a:custGeom>
            <a:avLst/>
            <a:gdLst>
              <a:gd name="textAreaLeft" fmla="*/ 91800 w 685800"/>
              <a:gd name="textAreaRight" fmla="*/ 594000 w 685800"/>
              <a:gd name="textAreaTop" fmla="*/ 223200 h 1276200"/>
              <a:gd name="textAreaBottom" fmla="*/ 925200 h 127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900000" y="3068640"/>
            <a:ext cx="3285000" cy="838080"/>
            <a:chOff x="900000" y="3068640"/>
            <a:chExt cx="3285000" cy="838080"/>
          </a:xfrm>
        </p:grpSpPr>
        <p:sp>
          <p:nvSpPr>
            <p:cNvPr id="247" name=""/>
            <p:cNvSpPr/>
            <p:nvPr/>
          </p:nvSpPr>
          <p:spPr>
            <a:xfrm>
              <a:off x="1661760" y="3255840"/>
              <a:ext cx="25232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600" spc="-1" strike="noStrike">
                  <a:solidFill>
                    <a:srgbClr val="ffff00"/>
                  </a:solidFill>
                  <a:latin typeface="Times New Roman"/>
                </a:rPr>
                <a:t>      </a:t>
              </a:r>
              <a:r>
                <a:rPr b="0" lang="es-ES_tradnl" sz="2600" spc="-1" strike="noStrike">
                  <a:solidFill>
                    <a:srgbClr val="ffff00"/>
                  </a:solidFill>
                  <a:latin typeface="Times New Roman"/>
                </a:rPr>
                <a:t>Cambiando Q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00000" y="3068640"/>
              <a:ext cx="838440" cy="8380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08760" y="1989000"/>
            <a:ext cx="61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¿Cómo podemos </a:t>
            </a: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modificar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un equilibr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8280" y="574560"/>
            <a:ext cx="9092160" cy="6283440"/>
            <a:chOff x="8280" y="574560"/>
            <a:chExt cx="9092160" cy="6283440"/>
          </a:xfrm>
        </p:grpSpPr>
        <p:sp>
          <p:nvSpPr>
            <p:cNvPr id="43" name=""/>
            <p:cNvSpPr/>
            <p:nvPr/>
          </p:nvSpPr>
          <p:spPr>
            <a:xfrm>
              <a:off x="2847960" y="2895480"/>
              <a:ext cx="3657600" cy="9907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Reacciones químic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558720" y="574560"/>
              <a:ext cx="8313840" cy="1789560"/>
              <a:chOff x="558720" y="574560"/>
              <a:chExt cx="8313840" cy="1789560"/>
            </a:xfrm>
          </p:grpSpPr>
          <p:sp>
            <p:nvSpPr>
              <p:cNvPr id="45" name=""/>
              <p:cNvSpPr/>
              <p:nvPr/>
            </p:nvSpPr>
            <p:spPr>
              <a:xfrm>
                <a:off x="558720" y="1660320"/>
                <a:ext cx="23050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¿Cuánto se produce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¿Cuánto reacciona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057840" y="1660320"/>
                <a:ext cx="312048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¿Desprende o absorbe calor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¿Cuánto calor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49080" y="574560"/>
                <a:ext cx="2174760" cy="603720"/>
              </a:xfrm>
              <a:prstGeom prst="rect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00"/>
                    </a:solidFill>
                    <a:latin typeface="Times New Roman"/>
                  </a:rPr>
                  <a:t>Estequiometrí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575520" y="574560"/>
                <a:ext cx="2122920" cy="603720"/>
              </a:xfrm>
              <a:prstGeom prst="rect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00"/>
                    </a:solidFill>
                    <a:latin typeface="Times New Roman"/>
                  </a:rPr>
                  <a:t>Termoquímic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650640" y="574560"/>
                <a:ext cx="2121480" cy="603720"/>
              </a:xfrm>
              <a:prstGeom prst="rect">
                <a:avLst/>
              </a:prstGeom>
              <a:noFill/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00"/>
                    </a:solidFill>
                    <a:latin typeface="Times New Roman"/>
                  </a:rPr>
                  <a:t>Espontaneid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515640" y="1660320"/>
                <a:ext cx="23569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¿Por qué se produce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ffffff"/>
                    </a:solidFill>
                    <a:latin typeface="Times New Roman"/>
                  </a:rPr>
                  <a:t>¿En qué dirección?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649080" y="2666880"/>
              <a:ext cx="1563840" cy="60372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118800" bIns="118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Equilib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600" y="3752640"/>
              <a:ext cx="2302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imes New Roman"/>
                </a:rPr>
                <a:t>¿Cuándo se alcanza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imes New Roman"/>
                </a:rPr>
                <a:t>¿Cómo modificarlo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65880" y="2666880"/>
              <a:ext cx="1342800" cy="603720"/>
            </a:xfrm>
            <a:prstGeom prst="rect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118800" bIns="118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Cinét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44960" y="3752640"/>
              <a:ext cx="2355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imes New Roman"/>
                </a:rPr>
                <a:t>¿Cómo de rápido va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Times New Roman"/>
                </a:rPr>
                <a:t>¿Cómo acelerarla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8280" y="4495680"/>
              <a:ext cx="8936280" cy="2362320"/>
              <a:chOff x="8280" y="4495680"/>
              <a:chExt cx="8936280" cy="2362320"/>
            </a:xfrm>
          </p:grpSpPr>
          <p:sp>
            <p:nvSpPr>
              <p:cNvPr id="56" name=""/>
              <p:cNvSpPr/>
              <p:nvPr/>
            </p:nvSpPr>
            <p:spPr>
              <a:xfrm>
                <a:off x="2314440" y="4495680"/>
                <a:ext cx="1524240" cy="6094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Tipo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280" y="5638680"/>
                <a:ext cx="2615400" cy="603720"/>
              </a:xfrm>
              <a:prstGeom prst="re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9900"/>
                    </a:solidFill>
                    <a:latin typeface="Times New Roman"/>
                  </a:rPr>
                  <a:t>Equilibrio de fas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588360" y="5486400"/>
                <a:ext cx="1733040" cy="603720"/>
              </a:xfrm>
              <a:prstGeom prst="re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9900"/>
                    </a:solidFill>
                    <a:latin typeface="Times New Roman"/>
                  </a:rPr>
                  <a:t>Solubilida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922360" y="4724280"/>
                <a:ext cx="3022200" cy="603720"/>
              </a:xfrm>
              <a:prstGeom prst="re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9900"/>
                    </a:solidFill>
                    <a:latin typeface="Times New Roman"/>
                  </a:rPr>
                  <a:t> </a:t>
                </a:r>
                <a:r>
                  <a:rPr b="0" lang="es-ES_tradnl" sz="2400" spc="-1" strike="noStrike">
                    <a:solidFill>
                      <a:srgbClr val="ff9900"/>
                    </a:solidFill>
                    <a:latin typeface="Times New Roman"/>
                  </a:rPr>
                  <a:t>Equilibrio ácido-ba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999760" y="6229080"/>
                <a:ext cx="2411280" cy="603720"/>
              </a:xfrm>
              <a:prstGeom prst="rect">
                <a:avLst/>
              </a:pr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9900"/>
                    </a:solidFill>
                    <a:latin typeface="Times New Roman"/>
                  </a:rPr>
                  <a:t> </a:t>
                </a:r>
                <a:r>
                  <a:rPr b="0" lang="es-ES_tradnl" sz="2400" spc="-1" strike="noStrike">
                    <a:solidFill>
                      <a:srgbClr val="ff9900"/>
                    </a:solidFill>
                    <a:latin typeface="Times New Roman"/>
                  </a:rPr>
                  <a:t>Equilibrio redo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5400000">
                <a:off x="1704960" y="4495680"/>
                <a:ext cx="457200" cy="457200"/>
              </a:xfrm>
              <a:custGeom>
                <a:avLst/>
                <a:gdLst>
                  <a:gd name="textAreaLeft" fmla="*/ 152280 w 457200"/>
                  <a:gd name="textAreaRight" fmla="*/ 391680 w 457200"/>
                  <a:gd name="textAreaTop" fmla="*/ 263520 h 457200"/>
                  <a:gd name="textAreaBottom" fmla="*/ 39168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5540"/>
                    </a:moveTo>
                    <a:lnTo>
                      <a:pt x="12440" y="15540"/>
                    </a:lnTo>
                    <a:lnTo>
                      <a:pt x="12440" y="7200"/>
                    </a:lnTo>
                    <a:lnTo>
                      <a:pt x="9340" y="7200"/>
                    </a:lnTo>
                    <a:lnTo>
                      <a:pt x="15470" y="0"/>
                    </a:lnTo>
                    <a:lnTo>
                      <a:pt x="21600" y="7200"/>
                    </a:lnTo>
                    <a:lnTo>
                      <a:pt x="18500" y="7200"/>
                    </a:lnTo>
                    <a:lnTo>
                      <a:pt x="185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362560" y="4647960"/>
                <a:ext cx="304920" cy="221004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57600 h 2210040"/>
                  <a:gd name="textAreaBottom" fmla="*/ 2152440 h 221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>
                <a:off x="1704600" y="5029200"/>
                <a:ext cx="1066680" cy="4572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305160" y="5029200"/>
                <a:ext cx="1828800" cy="609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5280" y="5181480"/>
              <a:ext cx="349200" cy="1235160"/>
              <a:chOff x="3635280" y="5181480"/>
              <a:chExt cx="349200" cy="1235160"/>
            </a:xfrm>
          </p:grpSpPr>
          <p:sp>
            <p:nvSpPr>
              <p:cNvPr id="66" name=""/>
              <p:cNvSpPr/>
              <p:nvPr/>
            </p:nvSpPr>
            <p:spPr>
              <a:xfrm>
                <a:off x="3635280" y="5788080"/>
                <a:ext cx="349200" cy="628560"/>
              </a:xfrm>
              <a:prstGeom prst="rect">
                <a:avLst/>
              </a:prstGeom>
              <a:noFill/>
              <a:ln w="25560">
                <a:solidFill>
                  <a:srgbClr val="66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118800" bIns="118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3762360" y="5181480"/>
                <a:ext cx="0" cy="533520"/>
              </a:xfrm>
              <a:prstGeom prst="line">
                <a:avLst/>
              </a:prstGeom>
              <a:ln w="25560">
                <a:solidFill>
                  <a:srgbClr val="66ff66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533320" y="395280"/>
            <a:ext cx="40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ncipio de Le Châtel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03480" y="1706400"/>
            <a:ext cx="8685360" cy="3705840"/>
            <a:chOff x="303480" y="1706400"/>
            <a:chExt cx="8685360" cy="3705840"/>
          </a:xfrm>
        </p:grpSpPr>
        <p:sp>
          <p:nvSpPr>
            <p:cNvPr id="252" name=""/>
            <p:cNvSpPr/>
            <p:nvPr/>
          </p:nvSpPr>
          <p:spPr>
            <a:xfrm>
              <a:off x="303480" y="1717560"/>
              <a:ext cx="5891040" cy="24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600" spc="-1" strike="noStrike">
                  <a:solidFill>
                    <a:srgbClr val="ffffff"/>
                  </a:solidFill>
                  <a:latin typeface="Times New Roman"/>
                </a:rPr>
                <a:t>“</a:t>
              </a:r>
              <a:r>
                <a:rPr b="0" i="1" lang="es-ES_tradnl" sz="2600" spc="-1" strike="noStrike">
                  <a:solidFill>
                    <a:srgbClr val="ffffff"/>
                  </a:solidFill>
                  <a:latin typeface="Times New Roman"/>
                </a:rPr>
                <a:t>Si un sistema químico que está en</a:t>
              </a:r>
              <a:br>
                <a:rPr sz="2600"/>
              </a:br>
              <a:r>
                <a:rPr b="0" i="1" lang="es-ES_tradnl" sz="2600" spc="-1" strike="noStrike">
                  <a:solidFill>
                    <a:srgbClr val="ffffff"/>
                  </a:solidFill>
                  <a:latin typeface="Times New Roman"/>
                </a:rPr>
                <a:t>equilibrio se somete a una perturbación</a:t>
              </a:r>
              <a:br>
                <a:rPr sz="2600"/>
              </a:br>
              <a:r>
                <a:rPr b="0" i="1" lang="es-ES_tradnl" sz="2600" spc="-1" strike="noStrike">
                  <a:solidFill>
                    <a:srgbClr val="ffffff"/>
                  </a:solidFill>
                  <a:latin typeface="Times New Roman"/>
                </a:rPr>
                <a:t>que cambie cualquiera de las variables</a:t>
              </a:r>
              <a:br>
                <a:rPr sz="2600"/>
              </a:br>
              <a:r>
                <a:rPr b="0" i="1" lang="es-ES_tradnl" sz="2600" spc="-1" strike="noStrike">
                  <a:solidFill>
                    <a:srgbClr val="ffffff"/>
                  </a:solidFill>
                  <a:latin typeface="Times New Roman"/>
                </a:rPr>
                <a:t>que determina el estado de equilibrio,</a:t>
              </a:r>
              <a:br>
                <a:rPr sz="2600"/>
              </a:br>
              <a:r>
                <a:rPr b="0" i="1" lang="es-ES_tradnl" sz="2600" spc="-1" strike="noStrike">
                  <a:solidFill>
                    <a:srgbClr val="ffffff"/>
                  </a:solidFill>
                  <a:latin typeface="Times New Roman"/>
                </a:rPr>
                <a:t>el sistema evolucionará para contrarrestar</a:t>
              </a:r>
              <a:br>
                <a:rPr sz="2600"/>
              </a:br>
              <a:r>
                <a:rPr b="0" i="1" lang="es-ES_tradnl" sz="2600" spc="-1" strike="noStrike">
                  <a:solidFill>
                    <a:srgbClr val="ffffff"/>
                  </a:solidFill>
                  <a:latin typeface="Times New Roman"/>
                </a:rPr>
                <a:t>el efecto de la perturbación”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92120" y="4525920"/>
              <a:ext cx="399672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00"/>
                  </a:solidFill>
                  <a:latin typeface="Times New Roman"/>
                </a:rPr>
                <a:t>Henri Louis Le Châteli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(1850-1936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4" name="chatelier3" descr=""/>
            <p:cNvPicPr/>
            <p:nvPr/>
          </p:nvPicPr>
          <p:blipFill>
            <a:blip r:embed="rId1"/>
            <a:stretch/>
          </p:blipFill>
          <p:spPr>
            <a:xfrm>
              <a:off x="6435720" y="1706400"/>
              <a:ext cx="2479680" cy="2743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765000" y="395280"/>
            <a:ext cx="66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Efecto de un cambio de temperatura (a P c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81760" y="1193760"/>
            <a:ext cx="8282160" cy="942480"/>
            <a:chOff x="581760" y="1193760"/>
            <a:chExt cx="8282160" cy="942480"/>
          </a:xfrm>
        </p:grpSpPr>
        <p:sp>
          <p:nvSpPr>
            <p:cNvPr id="257" name=""/>
            <p:cNvSpPr/>
            <p:nvPr/>
          </p:nvSpPr>
          <p:spPr>
            <a:xfrm>
              <a:off x="582840" y="1193760"/>
              <a:ext cx="809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Si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Hº &gt; 0 (endotérmica):  T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se desplazará a la derech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1760" y="1676520"/>
              <a:ext cx="828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Si 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Hº &lt; 0 (exotérmica):    T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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se desplazará a la izquier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763920" y="2708280"/>
            <a:ext cx="72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Efecto de la adición/sustracción de moles de</a:t>
            </a:r>
            <a:br>
              <a:rPr sz="2800"/>
            </a:b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       reactivos o productos gaseosos (a T y V c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646360" y="3959280"/>
                <a:ext cx="38307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  <m:sSub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eac</m:t>
                        </m:r>
                        <m:sSub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eac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706680" y="5197320"/>
            <a:ext cx="783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agrego productos: Q &gt; Kc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splazará a la izquier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i agrego reactivos: Q &lt; Kc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splazará a la der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64640" y="471600"/>
            <a:ext cx="62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Efecto de un cambio de volumen (a T c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920" y="3738600"/>
            <a:ext cx="50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Efecto de la presión total (a T c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9640" y="1266840"/>
            <a:ext cx="8385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 disminución de V hace que la concentración total de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oléculas aumente. El sistema tenderá a reducir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splaza hacia donde haya un menor número de moles gase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960" y="4527720"/>
            <a:ext cx="838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 aumento de P tiene el mismo efecto que una disminución de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desplaza hacia donde haya un menor número de moles gase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764280" y="471600"/>
            <a:ext cx="56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Adición de un gas inerte (a T y V c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2819520"/>
            <a:ext cx="384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Adición de un cataliz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642320" y="1262160"/>
            <a:ext cx="5749200" cy="947520"/>
            <a:chOff x="1642320" y="1262160"/>
            <a:chExt cx="5749200" cy="947520"/>
          </a:xfrm>
        </p:grpSpPr>
        <p:sp>
          <p:nvSpPr>
            <p:cNvPr id="269" name=""/>
            <p:cNvSpPr/>
            <p:nvPr/>
          </p:nvSpPr>
          <p:spPr>
            <a:xfrm>
              <a:off x="1642320" y="1506600"/>
              <a:ext cx="26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¿altera el equilibrio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"/>
                <p:cNvSpPr txBox="1"/>
                <p:nvPr/>
              </p:nvSpPr>
              <p:spPr>
                <a:xfrm>
                  <a:off x="5119560" y="1262160"/>
                  <a:ext cx="2271960" cy="94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prod</m:t>
                          </m:r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reac</m:t>
                          </m:r>
                          <m:r>
                            <m:t xml:space="preserve">]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rod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V</m:t>
                              </m:r>
                            </m:den>
                          </m:f>
                        </m:num>
                        <m:den>
                          <m:f>
                            <m:fPr>
                              <m:type m:val="lin"/>
                            </m:fPr>
                            <m:num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eac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V</m:t>
                              </m:r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1" name=""/>
          <p:cNvSpPr/>
          <p:nvPr/>
        </p:nvSpPr>
        <p:spPr>
          <a:xfrm>
            <a:off x="1499400" y="350532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afecta al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7800" y="4876920"/>
            <a:ext cx="71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Adición de un reactivo/producto sólido o líqu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4600" y="55627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No altera el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52680" y="2590920"/>
            <a:ext cx="2514600" cy="914400"/>
          </a:xfrm>
          <a:prstGeom prst="rect">
            <a:avLst/>
          </a:prstGeom>
          <a:solidFill>
            <a:srgbClr val="ffcc99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quilib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629400" y="4191120"/>
            <a:ext cx="2363760" cy="1295280"/>
            <a:chOff x="6629400" y="4191120"/>
            <a:chExt cx="2363760" cy="1295280"/>
          </a:xfrm>
        </p:grpSpPr>
        <p:sp>
          <p:nvSpPr>
            <p:cNvPr id="70" name=""/>
            <p:cNvSpPr/>
            <p:nvPr/>
          </p:nvSpPr>
          <p:spPr>
            <a:xfrm>
              <a:off x="6915240" y="4222800"/>
              <a:ext cx="2077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G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Sólid/líqui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ffff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En disolu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29400" y="4191120"/>
              <a:ext cx="380880" cy="12952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85800" y="533520"/>
            <a:ext cx="7772400" cy="2203920"/>
            <a:chOff x="685800" y="533520"/>
            <a:chExt cx="7772400" cy="2203920"/>
          </a:xfrm>
        </p:grpSpPr>
        <p:sp>
          <p:nvSpPr>
            <p:cNvPr id="73" name=""/>
            <p:cNvSpPr/>
            <p:nvPr/>
          </p:nvSpPr>
          <p:spPr>
            <a:xfrm>
              <a:off x="685800" y="533520"/>
              <a:ext cx="2286000" cy="1218960"/>
            </a:xfrm>
            <a:prstGeom prst="ellipse">
              <a:avLst/>
            </a:prstGeom>
            <a:solidFill>
              <a:srgbClr val="ccffcc"/>
            </a:solidFill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Mecáni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72200" y="533520"/>
              <a:ext cx="2286000" cy="1218960"/>
            </a:xfrm>
            <a:prstGeom prst="ellipse">
              <a:avLst/>
            </a:prstGeom>
            <a:solidFill>
              <a:srgbClr val="ccffcc"/>
            </a:solidFill>
            <a:ln w="31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Térmi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9200000">
              <a:off x="2514240" y="1752120"/>
              <a:ext cx="762120" cy="838440"/>
            </a:xfrm>
            <a:prstGeom prst="upArrow">
              <a:avLst>
                <a:gd name="adj1" fmla="val 50000"/>
                <a:gd name="adj2" fmla="val 27504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2400000">
              <a:off x="6019560" y="1752120"/>
              <a:ext cx="761760" cy="838440"/>
            </a:xfrm>
            <a:prstGeom prst="upArrow">
              <a:avLst>
                <a:gd name="adj1" fmla="val 50000"/>
                <a:gd name="adj2" fmla="val 2751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09480" y="3511080"/>
            <a:ext cx="2923200" cy="2432520"/>
            <a:chOff x="609480" y="3511080"/>
            <a:chExt cx="2923200" cy="2432520"/>
          </a:xfrm>
        </p:grpSpPr>
        <p:sp>
          <p:nvSpPr>
            <p:cNvPr id="78" name=""/>
            <p:cNvSpPr/>
            <p:nvPr/>
          </p:nvSpPr>
          <p:spPr>
            <a:xfrm>
              <a:off x="609480" y="4724280"/>
              <a:ext cx="2286000" cy="1219320"/>
            </a:xfrm>
            <a:prstGeom prst="ellipse">
              <a:avLst/>
            </a:prstGeom>
            <a:solidFill>
              <a:srgbClr val="ff99cc"/>
            </a:solidFill>
            <a:ln w="316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Mater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3200000">
              <a:off x="2590560" y="3657600"/>
              <a:ext cx="761760" cy="838080"/>
            </a:xfrm>
            <a:prstGeom prst="upArrow">
              <a:avLst>
                <a:gd name="adj1" fmla="val 50000"/>
                <a:gd name="adj2" fmla="val 2750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819520" y="4495680"/>
            <a:ext cx="3657600" cy="1828800"/>
            <a:chOff x="2819520" y="4495680"/>
            <a:chExt cx="3657600" cy="1828800"/>
          </a:xfrm>
        </p:grpSpPr>
        <p:sp>
          <p:nvSpPr>
            <p:cNvPr id="81" name=""/>
            <p:cNvSpPr/>
            <p:nvPr/>
          </p:nvSpPr>
          <p:spPr>
            <a:xfrm>
              <a:off x="3429000" y="5715000"/>
              <a:ext cx="3048120" cy="609480"/>
            </a:xfrm>
            <a:prstGeom prst="rect">
              <a:avLst/>
            </a:prstGeom>
            <a:noFill/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9900"/>
                  </a:solidFill>
                  <a:latin typeface="Times New Roman"/>
                </a:rPr>
                <a:t>Equilibrio de fa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29000" y="4495680"/>
              <a:ext cx="3048120" cy="609840"/>
            </a:xfrm>
            <a:prstGeom prst="rect">
              <a:avLst/>
            </a:prstGeom>
            <a:noFill/>
            <a:ln w="316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9900"/>
                  </a:solidFill>
                  <a:latin typeface="Times New Roman"/>
                </a:rPr>
                <a:t>Equilibrio quími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2819520" y="4800240"/>
              <a:ext cx="457200" cy="1522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819520" y="5867280"/>
              <a:ext cx="457200" cy="1526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362040" y="471600"/>
            <a:ext cx="23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99"/>
                </a:solidFill>
                <a:latin typeface="Times New Roman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90000" y="1371600"/>
            <a:ext cx="9270000" cy="38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1.- Aspectos básicos del equilibrio químic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2.- Condición general del equilibrio químic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3.- Equilibrio químico en sistemas gaseosos ide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4.- Equilibrios heterogéne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5.- Variación de la constante de equilibrio con la temperatu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6.- Respuesta del equilibrio a un cambio de condicio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Principio de Le Châteli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06120" y="260280"/>
            <a:ext cx="37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ASPECTOS BÁSIC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38960" y="1052640"/>
            <a:ext cx="6994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Estado de equilibrio: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estado en que la composición </a:t>
            </a:r>
            <a:br>
              <a:rPr sz="2600"/>
            </a:b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del sistema permanece fij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31400" y="2637000"/>
            <a:ext cx="765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quilibrio diná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os sistemas evolucionan espontáneamente hacia un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estado de equilib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as propiedades del estado de equilibrio son las mismas,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independientemente de la dirección desde la que se alcan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56360" y="2133720"/>
            <a:ext cx="3408480" cy="3125160"/>
            <a:chOff x="756360" y="2133720"/>
            <a:chExt cx="3408480" cy="3125160"/>
          </a:xfrm>
        </p:grpSpPr>
        <p:sp>
          <p:nvSpPr>
            <p:cNvPr id="91" name=""/>
            <p:cNvSpPr/>
            <p:nvPr/>
          </p:nvSpPr>
          <p:spPr>
            <a:xfrm>
              <a:off x="756720" y="2133720"/>
              <a:ext cx="32425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600" spc="-1" strike="noStrike">
                  <a:solidFill>
                    <a:srgbClr val="ff7c80"/>
                  </a:solidFill>
                  <a:latin typeface="Times New Roman"/>
                </a:rPr>
                <a:t>Perspectiva cualitativ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6360" y="4768920"/>
              <a:ext cx="3408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600" spc="-1" strike="noStrike">
                  <a:solidFill>
                    <a:srgbClr val="ff7c80"/>
                  </a:solidFill>
                  <a:latin typeface="Times New Roman"/>
                </a:rPr>
                <a:t>Perspectiva cuantitativa.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1186200" y="5373720"/>
            <a:ext cx="7011360" cy="1044000"/>
            <a:chOff x="1186200" y="5373720"/>
            <a:chExt cx="7011360" cy="1044000"/>
          </a:xfrm>
        </p:grpSpPr>
        <p:sp>
          <p:nvSpPr>
            <p:cNvPr id="94" name=""/>
            <p:cNvSpPr/>
            <p:nvPr/>
          </p:nvSpPr>
          <p:spPr>
            <a:xfrm>
              <a:off x="1186200" y="5373720"/>
              <a:ext cx="3469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600" spc="-1" strike="noStrike">
                  <a:solidFill>
                    <a:srgbClr val="ffff00"/>
                  </a:solidFill>
                  <a:latin typeface="Times New Roman"/>
                </a:rPr>
                <a:t>Ley de acción de masa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19200" y="5958000"/>
              <a:ext cx="28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A + </a:t>
              </a:r>
              <a:r>
                <a:rPr b="0" i="1" lang="es-ES_tradnl" sz="24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B </a:t>
              </a:r>
              <a:r>
                <a:rPr b="0" lang="es-E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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i="1" lang="es-ES_tradnl" sz="24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C + </a:t>
              </a:r>
              <a:r>
                <a:rPr b="0" i="1" lang="es-ES_tradnl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5606640" y="5400720"/>
                  <a:ext cx="2590920" cy="93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C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c</m:t>
                              </m:r>
                            </m:sup>
                          </m:sSup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D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d</m:t>
                              </m:r>
                            </m:sup>
                          </m:sSup>
                        </m:num>
                        <m:den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a</m:t>
                              </m:r>
                            </m:sup>
                          </m:sSup>
                          <m:sSup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r>
                                    <m:t xml:space="preserve">B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b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nstante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4360" y="228600"/>
            <a:ext cx="77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CONDICIÓN GENERAL DEL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6280" y="1052640"/>
            <a:ext cx="8277840" cy="1374120"/>
            <a:chOff x="386280" y="1052640"/>
            <a:chExt cx="8277840" cy="1374120"/>
          </a:xfrm>
        </p:grpSpPr>
        <p:sp>
          <p:nvSpPr>
            <p:cNvPr id="99" name=""/>
            <p:cNvSpPr/>
            <p:nvPr/>
          </p:nvSpPr>
          <p:spPr>
            <a:xfrm>
              <a:off x="386280" y="1052640"/>
              <a:ext cx="827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A P y T constantes, el sentido del cambio espontáneo es el sentido</a:t>
              </a:r>
              <a:br>
                <a:rPr sz="2400"/>
              </a:b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de la 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imes New Roman"/>
                </a:rPr>
                <a:t>disminución de G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0080" y="204336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48080" y="1967040"/>
              <a:ext cx="38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Proceso espontáneo: 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G &lt;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80880" y="2708280"/>
            <a:ext cx="8686800" cy="3997080"/>
            <a:chOff x="380880" y="2708280"/>
            <a:chExt cx="8686800" cy="399708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380880" y="2708280"/>
              <a:ext cx="2921040" cy="3997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"/>
            <p:cNvGrpSpPr/>
            <p:nvPr/>
          </p:nvGrpSpPr>
          <p:grpSpPr>
            <a:xfrm>
              <a:off x="3777840" y="2854080"/>
              <a:ext cx="5289840" cy="1767960"/>
              <a:chOff x="3777840" y="2854080"/>
              <a:chExt cx="5289840" cy="1767960"/>
            </a:xfrm>
          </p:grpSpPr>
          <mc:AlternateContent>
            <mc:Choice xmlns:a14="http://schemas.microsoft.com/office/drawing/2010/main" Requires="a14">
              <p:sp>
                <p:nvSpPr>
                  <p:cNvPr id="105" name=""/>
                  <p:cNvSpPr txBox="1"/>
                  <p:nvPr/>
                </p:nvSpPr>
                <p:spPr>
                  <a:xfrm>
                    <a:off x="4114800" y="2854080"/>
                    <a:ext cx="3809880" cy="718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G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d</m:t>
                            </m:r>
                          </m:sub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od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ac</m:t>
                            </m:r>
                          </m:sub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ac</m:t>
                            </m:r>
                            <m:r>
                              <m:t xml:space="preserve">)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06" name=""/>
              <p:cNvSpPr/>
              <p:nvPr/>
            </p:nvSpPr>
            <p:spPr>
              <a:xfrm>
                <a:off x="3777840" y="3902760"/>
                <a:ext cx="201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Inicio:  </a:t>
                </a:r>
                <a:r>
                  <a:rPr b="0" lang="es-ES_tradnl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0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G &lt; 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7" name=""/>
                  <p:cNvSpPr txBox="1"/>
                  <p:nvPr/>
                </p:nvSpPr>
                <p:spPr>
                  <a:xfrm>
                    <a:off x="5977080" y="3902760"/>
                    <a:ext cx="3090600" cy="719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d</m:t>
                            </m:r>
                          </m:sub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rod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&lt;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ac</m:t>
                            </m:r>
                          </m:sub>
                          <m:sup/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ac</m:t>
                            </m:r>
                            <m:r>
                              <m:t xml:space="preserve">)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08" name=""/>
          <p:cNvGrpSpPr/>
          <p:nvPr/>
        </p:nvGrpSpPr>
        <p:grpSpPr>
          <a:xfrm>
            <a:off x="4356000" y="4869000"/>
            <a:ext cx="3686040" cy="1669680"/>
            <a:chOff x="4356000" y="4869000"/>
            <a:chExt cx="3686040" cy="1669680"/>
          </a:xfrm>
        </p:grpSpPr>
        <p:sp>
          <p:nvSpPr>
            <p:cNvPr id="109" name=""/>
            <p:cNvSpPr/>
            <p:nvPr/>
          </p:nvSpPr>
          <p:spPr>
            <a:xfrm>
              <a:off x="4590360" y="4869000"/>
              <a:ext cx="267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Times New Roman"/>
                </a:rPr>
                <a:t>Equilibrio:  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es-ES_tradnl" sz="2400" spc="-1" strike="noStrike">
                  <a:solidFill>
                    <a:srgbClr val="ffff00"/>
                  </a:solidFill>
                  <a:latin typeface="Times New Roman"/>
                </a:rPr>
                <a:t>G 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4356000" y="5671800"/>
                  <a:ext cx="3489120" cy="86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prod</m:t>
                          </m:r>
                        </m:sub>
                        <m:sup/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prod</m:t>
                          </m:r>
                          <m:r>
                            <m:t xml:space="preserve">)</m:t>
                          </m:r>
                        </m:e>
                      </m:nary>
                      <m:r>
                        <m:t xml:space="preserve">=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reac</m:t>
                          </m:r>
                        </m:sub>
                        <m:sup/>
                        <m:e>
                          <m:r>
                            <m:t xml:space="preserve">G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reac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7857720" y="4926600"/>
              <a:ext cx="18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89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EQUILIBRIO QUÍMICO EN SISTEMAS</a:t>
            </a:r>
            <a:br>
              <a:rPr sz="2800"/>
            </a:br>
            <a:r>
              <a:rPr b="1" lang="es-ES_tradnl" sz="2800" spc="-1" strike="noStrike">
                <a:solidFill>
                  <a:srgbClr val="ff7c80"/>
                </a:solidFill>
                <a:latin typeface="Times New Roman"/>
              </a:rPr>
              <a:t>GASEOSOS IDE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914400" y="1976400"/>
                <a:ext cx="72468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reac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ac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c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d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b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2419560" y="1295280"/>
            <a:ext cx="4292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ffff00"/>
                </a:solidFill>
                <a:uFillTx/>
                <a:latin typeface="Times New Roman"/>
              </a:rPr>
              <a:t>EQUILIBRIO HOMOGÉNE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6880" y="2590920"/>
            <a:ext cx="7185960" cy="823680"/>
            <a:chOff x="146880" y="2590920"/>
            <a:chExt cx="7185960" cy="823680"/>
          </a:xfrm>
        </p:grpSpPr>
        <p:sp>
          <p:nvSpPr>
            <p:cNvPr id="116" name=""/>
            <p:cNvSpPr/>
            <p:nvPr/>
          </p:nvSpPr>
          <p:spPr>
            <a:xfrm>
              <a:off x="146880" y="2743200"/>
              <a:ext cx="429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Para una mezcla de gases ideal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4572000" y="2590920"/>
                  <a:ext cx="2532240" cy="8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G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G</m:t>
                              </m:r>
                            </m:e>
                          </m:acc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Pº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8" name=""/>
            <p:cNvSpPr/>
            <p:nvPr/>
          </p:nvSpPr>
          <p:spPr>
            <a:xfrm>
              <a:off x="7148520" y="281952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360" y="3505320"/>
                <a:ext cx="88473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r>
                      <m:t xml:space="preserve">c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d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a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b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º</m:t>
                        </m:r>
                      </m:den>
                    </m:f>
                    <m:r>
                      <m:t xml:space="preserve">+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º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º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º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28600" y="4260960"/>
                <a:ext cx="4075200" cy="19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Gº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D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º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037680" y="6172200"/>
            <a:ext cx="3135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Times New Roman"/>
              </a:rPr>
              <a:t>Isoterma de reac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254920" y="4495680"/>
            <a:ext cx="3350880" cy="1371600"/>
            <a:chOff x="5254920" y="4495680"/>
            <a:chExt cx="3350880" cy="1371600"/>
          </a:xfrm>
        </p:grpSpPr>
        <p:sp>
          <p:nvSpPr>
            <p:cNvPr id="123" name=""/>
            <p:cNvSpPr/>
            <p:nvPr/>
          </p:nvSpPr>
          <p:spPr>
            <a:xfrm>
              <a:off x="5486400" y="5105520"/>
              <a:ext cx="2895480" cy="7617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" name=""/>
                <p:cNvSpPr txBox="1"/>
                <p:nvPr/>
              </p:nvSpPr>
              <p:spPr>
                <a:xfrm>
                  <a:off x="5645160" y="5315040"/>
                  <a:ext cx="258444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G</m:t>
                      </m:r>
                      <m:r>
                        <m:t xml:space="preserve">=</m:t>
                      </m:r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Gº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RT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5" name=""/>
            <p:cNvSpPr/>
            <p:nvPr/>
          </p:nvSpPr>
          <p:spPr>
            <a:xfrm>
              <a:off x="5254920" y="4495680"/>
              <a:ext cx="33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 : Cuociente de rea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025720" y="1066680"/>
                <a:ext cx="5060880" cy="20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G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Gº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 </m:t>
                    </m:r>
                    <m:sSub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C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c</m:t>
                                    </m:r>
                                  </m:sup>
                                </m:sSup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D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d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A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a</m:t>
                                    </m:r>
                                  </m:sup>
                                </m:sSup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sSub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B</m:t>
                                                </m:r>
                                              </m:sub>
                                            </m:sSub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Pº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b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597680" y="228600"/>
            <a:ext cx="587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uando lleguemos al equilibrio: </a:t>
            </a:r>
            <a:r>
              <a:rPr b="0" lang="es-ES_tradnl" sz="2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G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5219640" y="209520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30360" y="3557520"/>
            <a:ext cx="65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s-ES_tradnl" sz="2800" spc="-1" strike="noStrike" baseline="-25000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64480" y="3321000"/>
            <a:ext cx="303048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Constante de equilibrio</a:t>
            </a:r>
            <a:br>
              <a:rPr sz="24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termodinámica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a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981080" y="4803840"/>
                <a:ext cx="5248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Gº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ΔGº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429000" y="5715000"/>
                <a:ext cx="23623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ΔG</m:t>
                        </m:r>
                        <m:r>
                          <m:rPr>
                            <m:lit/>
                            <m:nor/>
                          </m:rPr>
                          <m:t xml:space="preserve">º/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429000" y="304920"/>
                <a:ext cx="23623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o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ΔG</m:t>
                        </m:r>
                        <m:r>
                          <m:rPr>
                            <m:lit/>
                            <m:nor/>
                          </m:rPr>
                          <m:t xml:space="preserve">º/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382680" y="1157400"/>
            <a:ext cx="25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secuenc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6440" y="1717560"/>
            <a:ext cx="7070400" cy="27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º &gt;&gt; 0  ;  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&lt;&lt; 1  :  poca tendencia r </a:t>
            </a:r>
            <a:r>
              <a:rPr b="0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º &lt;&lt; 0  ;  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&gt;&gt; 1  :  mucha tendencia r </a:t>
            </a:r>
            <a:r>
              <a:rPr b="0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&gt; 0 y depende de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Gº sólo depende de T; 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tambié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Disponemos de dos formas de determinar K</a:t>
            </a:r>
            <a:r>
              <a:rPr b="0" lang="es-ES_tradnl" sz="2600" spc="-1" strike="noStrike" baseline="-25000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º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436760" y="4459320"/>
            <a:ext cx="6107040" cy="2017800"/>
            <a:chOff x="1436760" y="4459320"/>
            <a:chExt cx="6107040" cy="2017800"/>
          </a:xfrm>
        </p:grpSpPr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5715000" y="5191200"/>
                  <a:ext cx="1828800" cy="55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ΔG</m:t>
                          </m:r>
                          <m:r>
                            <m:rPr>
                              <m:lit/>
                              <m:nor/>
                            </m:rPr>
                            <m:t xml:space="preserve">º/</m:t>
                          </m:r>
                          <m:r>
                            <m:rPr>
                              <m:lit/>
                              <m:nor/>
                            </m:rPr>
                            <m:t xml:space="preserve">R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1436760" y="4459320"/>
                  <a:ext cx="2982960" cy="201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K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  <m:sup>
                          <m:r>
                            <m:t xml:space="preserve">o</m:t>
                          </m:r>
                        </m:sup>
                      </m:sSubSup>
                      <m:r>
                        <m:t xml:space="preserve">=</m:t>
                      </m:r>
                      <m:sSub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f>
                                            <m:num>
                                              <m:sSub>
                                                <m:e>
                                                  <m:r>
                                                    <m:t xml:space="preserve">P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C</m:t>
                                                  </m:r>
                                                </m:sub>
                                              </m:sSub>
                                            </m:num>
                                            <m:den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Pº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c</m:t>
                                      </m:r>
                                    </m:sup>
                                  </m:sSup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f>
                                            <m:num>
                                              <m:sSub>
                                                <m:e>
                                                  <m:r>
                                                    <m:t xml:space="preserve">P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D</m:t>
                                                  </m:r>
                                                </m:sub>
                                              </m:sSub>
                                            </m:num>
                                            <m:den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Pº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d</m:t>
                                      </m:r>
                                    </m:sup>
                                  </m:sSup>
                                </m:num>
                                <m:den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f>
                                            <m:num>
                                              <m:sSub>
                                                <m:e>
                                                  <m:r>
                                                    <m:t xml:space="preserve">P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A</m:t>
                                                  </m:r>
                                                </m:sub>
                                              </m:sSub>
                                            </m:num>
                                            <m:den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Pº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a</m:t>
                                      </m:r>
                                    </m:sup>
                                  </m:sSup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f>
                                            <m:num>
                                              <m:sSub>
                                                <m:e>
                                                  <m:r>
                                                    <m:t xml:space="preserve">P</m:t>
                                                  </m:r>
                                                </m:e>
                                                <m:sub>
                                                  <m:r>
                                                    <m:t xml:space="preserve">B</m:t>
                                                  </m:r>
                                                </m:sub>
                                              </m:sSub>
                                            </m:num>
                                            <m:den>
                                              <m:r>
                                                <m:rPr>
                                                  <m:lit/>
                                                  <m:nor/>
                                                </m:rPr>
                                                <m:t xml:space="preserve">Pº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b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08:16:59Z</dcterms:created>
  <dc:creator>Rosendo Pou Amerigo</dc:creator>
  <dc:description/>
  <dc:language>en-US</dc:language>
  <cp:lastModifiedBy>RICARDO LETELIER</cp:lastModifiedBy>
  <dcterms:modified xsi:type="dcterms:W3CDTF">2005-06-10T19:55:48Z</dcterms:modified>
  <cp:revision>460</cp:revision>
  <dc:subject>Entropía y energía libre</dc:subject>
  <dc:title>La dirección del cambio químico</dc:title>
</cp:coreProperties>
</file>