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B0A-41E6-4BD5-8DE7-E0B20BDF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6AE-27B0-402F-A0CB-46888BB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C78-F4F4-4DED-90CD-0D317C66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A62-7841-47D3-A1D9-E405D543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B2A-EC83-4609-87B5-32FC2BA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B24-BB55-423B-A939-EE8F7378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B03-890C-4272-9041-867F8DD4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FAB-0FD3-4973-8752-63BE887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998-8C56-4BFC-A700-BFDC9A26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602-BF12-400F-A903-1B41DAB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B73-CEE2-4CE3-9DE7-363EC85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A99-5E2B-40CB-8B3E-E27B233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1FB-DB98-432A-9ED5-4FEA71394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27080" y="1898640"/>
            <a:ext cx="5380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El equilibrio en las</a:t>
            </a:r>
            <a:br>
              <a:rPr sz="4800"/>
            </a:b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reacciones quím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82280" y="30492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¿Hacia dónde evoluciona la reac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1371600"/>
                <a:ext cx="2584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1523880" y="1752480"/>
            <a:ext cx="2238480" cy="990720"/>
            <a:chOff x="1523880" y="1752480"/>
            <a:chExt cx="2238480" cy="99072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523880" y="2212920"/>
                  <a:ext cx="2238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º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V="1">
              <a:off x="1828800" y="1752480"/>
              <a:ext cx="0" cy="4572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55960" y="1143000"/>
                <a:ext cx="4983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233360" y="3460680"/>
            <a:ext cx="667872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l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g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no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p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 espontán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 =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=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276720"/>
            <a:ext cx="7619760" cy="289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228600"/>
            <a:ext cx="68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Otras expresiones de la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30400" y="990720"/>
                <a:ext cx="687060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343400" y="2529000"/>
            <a:ext cx="1906920" cy="1326240"/>
            <a:chOff x="4343400" y="2529000"/>
            <a:chExt cx="1906920" cy="1326240"/>
          </a:xfrm>
        </p:grpSpPr>
        <p:sp>
          <p:nvSpPr>
            <p:cNvPr id="150" name=""/>
            <p:cNvSpPr/>
            <p:nvPr/>
          </p:nvSpPr>
          <p:spPr>
            <a:xfrm rot="5400000">
              <a:off x="5105520" y="1766880"/>
              <a:ext cx="380880" cy="1905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71840" y="2909880"/>
              <a:ext cx="187848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(dimension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120" y="2833560"/>
            <a:ext cx="1600200" cy="977760"/>
            <a:chOff x="6324120" y="2833560"/>
            <a:chExt cx="1600200" cy="977760"/>
          </a:xfrm>
        </p:grpSpPr>
        <p:sp>
          <p:nvSpPr>
            <p:cNvPr id="153" name=""/>
            <p:cNvSpPr/>
            <p:nvPr/>
          </p:nvSpPr>
          <p:spPr>
            <a:xfrm rot="5400000">
              <a:off x="6933600" y="222372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9760" y="3290760"/>
              <a:ext cx="102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(Pº)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6480" y="40528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unción de las concentr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28800" y="4800600"/>
            <a:ext cx="5518800" cy="1030320"/>
            <a:chOff x="1828800" y="4800600"/>
            <a:chExt cx="5518800" cy="1030320"/>
          </a:xfrm>
        </p:grpSpPr>
        <p:sp>
          <p:nvSpPr>
            <p:cNvPr id="157" name=""/>
            <p:cNvSpPr/>
            <p:nvPr/>
          </p:nvSpPr>
          <p:spPr>
            <a:xfrm>
              <a:off x="5110920" y="5056200"/>
              <a:ext cx="22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= 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(RT)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828800" y="4800600"/>
                  <a:ext cx="198108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2545200" y="6080040"/>
            <a:ext cx="39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 = 0    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58800" y="395280"/>
            <a:ext cx="57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S HETEROGÉNE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3240" y="1309680"/>
            <a:ext cx="8325000" cy="1257840"/>
            <a:chOff x="453240" y="1309680"/>
            <a:chExt cx="8325000" cy="1257840"/>
          </a:xfrm>
        </p:grpSpPr>
        <p:sp>
          <p:nvSpPr>
            <p:cNvPr id="162" name=""/>
            <p:cNvSpPr/>
            <p:nvPr/>
          </p:nvSpPr>
          <p:spPr>
            <a:xfrm>
              <a:off x="453240" y="1309680"/>
              <a:ext cx="832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quéllos en los que las sustancias están en fases disti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11480" y="2057400"/>
              <a:ext cx="480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.ej.: 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7120" y="2895480"/>
            <a:ext cx="8382960" cy="2667240"/>
            <a:chOff x="447120" y="2895480"/>
            <a:chExt cx="8382960" cy="2667240"/>
          </a:xfrm>
        </p:grpSpPr>
        <p:sp>
          <p:nvSpPr>
            <p:cNvPr id="165" name=""/>
            <p:cNvSpPr/>
            <p:nvPr/>
          </p:nvSpPr>
          <p:spPr>
            <a:xfrm>
              <a:off x="447120" y="2895480"/>
              <a:ext cx="838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situación de equilibrio no se ve afectada por la cantidad de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ólido o líquido, siempre y cuando estas sustancias estén presen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3886200"/>
              <a:ext cx="914400" cy="685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2880" y="4676760"/>
              <a:ext cx="8238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La constante de equilibrio es independiente de las cantidades</a:t>
              </a:r>
              <a:br>
                <a:rPr sz="2600"/>
              </a:b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de sólidos y líquidos en el equilibri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14720" y="5799240"/>
            <a:ext cx="6539040" cy="579600"/>
            <a:chOff x="1314720" y="5799240"/>
            <a:chExt cx="6539040" cy="579600"/>
          </a:xfrm>
        </p:grpSpPr>
        <p:sp>
          <p:nvSpPr>
            <p:cNvPr id="169" name=""/>
            <p:cNvSpPr/>
            <p:nvPr/>
          </p:nvSpPr>
          <p:spPr>
            <a:xfrm>
              <a:off x="1314720" y="5829480"/>
              <a:ext cx="41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15680" y="5799240"/>
              <a:ext cx="17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[CO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62400" y="228600"/>
            <a:ext cx="677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VARIACIÓN DE LA CONSTANTE DE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CON LA TEMPERA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3280" y="1614600"/>
            <a:ext cx="6150240" cy="1654920"/>
            <a:chOff x="683280" y="1614600"/>
            <a:chExt cx="6150240" cy="1654920"/>
          </a:xfrm>
        </p:grpSpPr>
        <p:sp>
          <p:nvSpPr>
            <p:cNvPr id="173" name=""/>
            <p:cNvSpPr/>
            <p:nvPr/>
          </p:nvSpPr>
          <p:spPr>
            <a:xfrm>
              <a:off x="683280" y="1614600"/>
              <a:ext cx="61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¿Cómo podemos </a:t>
              </a:r>
              <a:r>
                <a:rPr b="0" i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odificar</a:t>
              </a: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 un equilibri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080" y="2620800"/>
              <a:ext cx="1549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 = K</a:t>
              </a:r>
              <a:r>
                <a:rPr b="0" lang="es-ES_tradnl" sz="32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º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61240" y="3886200"/>
            <a:ext cx="7898040" cy="1448640"/>
            <a:chOff x="561240" y="3886200"/>
            <a:chExt cx="7898040" cy="1448640"/>
          </a:xfrm>
        </p:grpSpPr>
        <p:sp>
          <p:nvSpPr>
            <p:cNvPr id="176" name=""/>
            <p:cNvSpPr/>
            <p:nvPr/>
          </p:nvSpPr>
          <p:spPr>
            <a:xfrm>
              <a:off x="561240" y="4844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8200" y="388620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40520" y="3886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9960" y="4844880"/>
              <a:ext cx="202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</a:t>
              </a:r>
              <a:r>
                <a:rPr b="0" i="1" lang="es-ES_tradnl" sz="26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3520" y="2057400"/>
                <a:ext cx="80010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ΔGº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f>
                          <m:num>
                            <m:r>
                              <m:t xml:space="preserve">dΔGº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4191120"/>
                <a:ext cx="3862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ΔHº</m:t>
                    </m:r>
                    <m:r>
                      <m:t xml:space="preserve">−</m:t>
                    </m:r>
                    <m:r>
                      <m:t xml:space="preserve">TΔSº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ΔGº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S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343400" y="4114800"/>
                <a:ext cx="4648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TΔ</m:t>
                        </m:r>
                        <m:r>
                          <m:rPr>
                            <m:lit/>
                            <m:nor/>
                          </m:rPr>
                          <m:t xml:space="preserve">Sº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Gº</m:t>
                        </m:r>
                        <m:r>
                          <m:t xml:space="preserve">+</m:t>
                        </m:r>
                        <m:r>
                          <m:t xml:space="preserve">TΔS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52480" y="5629320"/>
                <a:ext cx="170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888720" y="57056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5562720"/>
            <a:ext cx="6477120" cy="99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71960" y="882720"/>
            <a:ext cx="368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25520"/>
            <a:ext cx="685800" cy="828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45080 h 828720"/>
              <a:gd name="textAreaBottom" fmla="*/ 6008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72880"/>
            <a:ext cx="6185880" cy="914400"/>
            <a:chOff x="685800" y="272880"/>
            <a:chExt cx="6185880" cy="914400"/>
          </a:xfrm>
        </p:grpSpPr>
        <p:sp>
          <p:nvSpPr>
            <p:cNvPr id="189" name=""/>
            <p:cNvSpPr/>
            <p:nvPr/>
          </p:nvSpPr>
          <p:spPr>
            <a:xfrm>
              <a:off x="1750320" y="272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349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371600" y="4343400"/>
            <a:ext cx="5943600" cy="895320"/>
            <a:chOff x="1371600" y="4343400"/>
            <a:chExt cx="5943600" cy="89532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71600" y="4343400"/>
                  <a:ext cx="19810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854520" y="4419720"/>
                  <a:ext cx="346068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ΔHº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" name=""/>
          <p:cNvSpPr/>
          <p:nvPr/>
        </p:nvSpPr>
        <p:spPr>
          <a:xfrm>
            <a:off x="317520" y="3886200"/>
            <a:ext cx="501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ttp:/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/nobelprize.org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/chemistry/laureates/1901/index.htm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997440" y="189000"/>
            <a:ext cx="4537800" cy="3858120"/>
            <a:chOff x="3997440" y="189000"/>
            <a:chExt cx="4537800" cy="38581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6546600" y="189000"/>
              <a:ext cx="1939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97440" y="3160800"/>
              <a:ext cx="4537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Jacobus Henricus van’t H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2-191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9960" y="333360"/>
            <a:ext cx="6206760" cy="2608920"/>
            <a:chOff x="309960" y="333360"/>
            <a:chExt cx="6206760" cy="2608920"/>
          </a:xfrm>
        </p:grpSpPr>
        <p:sp>
          <p:nvSpPr>
            <p:cNvPr id="199" name=""/>
            <p:cNvSpPr/>
            <p:nvPr/>
          </p:nvSpPr>
          <p:spPr>
            <a:xfrm>
              <a:off x="309960" y="1933560"/>
              <a:ext cx="620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En reconocimiento a los extraodinarios servicios que h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prestado con el descubrimiento de las leyes de la dinám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química y la presión osmótica en disoluciones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84200" y="333360"/>
              <a:ext cx="5717160" cy="1373760"/>
              <a:chOff x="484200" y="333360"/>
              <a:chExt cx="5717160" cy="1373760"/>
            </a:xfrm>
          </p:grpSpPr>
          <p:sp>
            <p:nvSpPr>
              <p:cNvPr id="201" name=""/>
              <p:cNvSpPr/>
              <p:nvPr/>
            </p:nvSpPr>
            <p:spPr>
              <a:xfrm>
                <a:off x="3000240" y="333360"/>
                <a:ext cx="3201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19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Primer premio Nobel</a:t>
                </a:r>
                <a:br>
                  <a:rPr sz="2800"/>
                </a:b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de Quími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4200" y="403200"/>
                <a:ext cx="2239560" cy="123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57600" y="5553000"/>
                <a:ext cx="3540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7467480" y="4724280"/>
            <a:ext cx="1597320" cy="1371600"/>
            <a:chOff x="7467480" y="4724280"/>
            <a:chExt cx="1597320" cy="1371600"/>
          </a:xfrm>
        </p:grpSpPr>
        <p:sp>
          <p:nvSpPr>
            <p:cNvPr id="205" name=""/>
            <p:cNvSpPr/>
            <p:nvPr/>
          </p:nvSpPr>
          <p:spPr>
            <a:xfrm>
              <a:off x="7467480" y="4724280"/>
              <a:ext cx="381240" cy="137160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03720" y="5029200"/>
              <a:ext cx="126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S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Hº = c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06000" y="5562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integrada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486400"/>
            <a:ext cx="72392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71760" y="371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ecuencias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334120" y="219240"/>
                <a:ext cx="3539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689040" y="1066680"/>
            <a:ext cx="4341240" cy="1434960"/>
            <a:chOff x="689040" y="1066680"/>
            <a:chExt cx="4341240" cy="1434960"/>
          </a:xfrm>
        </p:grpSpPr>
        <p:sp>
          <p:nvSpPr>
            <p:cNvPr id="212" name=""/>
            <p:cNvSpPr/>
            <p:nvPr/>
          </p:nvSpPr>
          <p:spPr>
            <a:xfrm>
              <a:off x="689040" y="1981080"/>
              <a:ext cx="434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a) Si 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º &gt; 0 (endotérmic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3352680" y="2743200"/>
            <a:ext cx="5334120" cy="2286000"/>
            <a:chOff x="3352680" y="2743200"/>
            <a:chExt cx="5334120" cy="2286000"/>
          </a:xfrm>
        </p:grpSpPr>
        <p:sp>
          <p:nvSpPr>
            <p:cNvPr id="218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4086000" y="3419640"/>
                  <a:ext cx="460080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"/>
          <p:cNvSpPr/>
          <p:nvPr/>
        </p:nvSpPr>
        <p:spPr>
          <a:xfrm>
            <a:off x="4491000" y="4738680"/>
            <a:ext cx="168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01680" y="56386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product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9040" y="1981080"/>
            <a:ext cx="41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b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&lt; 0 (exotérm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24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3352680" y="2743200"/>
            <a:ext cx="5321520" cy="2286000"/>
            <a:chOff x="3352680" y="2743200"/>
            <a:chExt cx="5321520" cy="2286000"/>
          </a:xfrm>
        </p:grpSpPr>
        <p:sp>
          <p:nvSpPr>
            <p:cNvPr id="231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098960" y="3419640"/>
                  <a:ext cx="4575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4491720" y="4738680"/>
            <a:ext cx="168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6400" y="5638680"/>
            <a:ext cx="66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reactiv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izqui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8320" y="19810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37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42480" y="2971800"/>
            <a:ext cx="5479560" cy="1831320"/>
            <a:chOff x="1842480" y="2971800"/>
            <a:chExt cx="5479560" cy="1831320"/>
          </a:xfrm>
        </p:grpSpPr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281320" y="2971800"/>
                  <a:ext cx="4602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1842480" y="4343400"/>
              <a:ext cx="547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constante de equilibrio no cambia con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62040" y="228600"/>
            <a:ext cx="63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RESPUESTA DEL EQUILIBRIO A UN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AMBIO DE CONDICIONES.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PRINCIPIO DE LE CHÂTEL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840" y="4600440"/>
            <a:ext cx="541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el resto de f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moles de reactivos, productos, P, V,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4086360"/>
            <a:ext cx="685800" cy="1276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23200 h 1276200"/>
              <a:gd name="textAreaBottom" fmla="*/ 925200 h 12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3068640"/>
            <a:ext cx="3285000" cy="838080"/>
            <a:chOff x="900000" y="3068640"/>
            <a:chExt cx="3285000" cy="838080"/>
          </a:xfrm>
        </p:grpSpPr>
        <p:sp>
          <p:nvSpPr>
            <p:cNvPr id="247" name=""/>
            <p:cNvSpPr/>
            <p:nvPr/>
          </p:nvSpPr>
          <p:spPr>
            <a:xfrm>
              <a:off x="1661760" y="3255840"/>
              <a:ext cx="252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0000" y="306864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08760" y="198900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¿Cómo podemos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ificar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un equilibr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280" y="574560"/>
            <a:ext cx="9092160" cy="6283440"/>
            <a:chOff x="8280" y="574560"/>
            <a:chExt cx="9092160" cy="6283440"/>
          </a:xfrm>
        </p:grpSpPr>
        <p:sp>
          <p:nvSpPr>
            <p:cNvPr id="43" name=""/>
            <p:cNvSpPr/>
            <p:nvPr/>
          </p:nvSpPr>
          <p:spPr>
            <a:xfrm>
              <a:off x="2847960" y="2895480"/>
              <a:ext cx="3657600" cy="990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58720" y="574560"/>
              <a:ext cx="8313840" cy="1789560"/>
              <a:chOff x="558720" y="574560"/>
              <a:chExt cx="8313840" cy="1789560"/>
            </a:xfrm>
          </p:grpSpPr>
          <p:sp>
            <p:nvSpPr>
              <p:cNvPr id="45" name=""/>
              <p:cNvSpPr/>
              <p:nvPr/>
            </p:nvSpPr>
            <p:spPr>
              <a:xfrm>
                <a:off x="558720" y="1660320"/>
                <a:ext cx="2305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reacciona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57840" y="1660320"/>
                <a:ext cx="312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Desprende o absorbe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9080" y="574560"/>
                <a:ext cx="217476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tequiometrí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75520" y="574560"/>
                <a:ext cx="212292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Termoquími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650640" y="574560"/>
                <a:ext cx="212148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pontane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515640" y="1660320"/>
                <a:ext cx="235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Por qué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En qué dirección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49080" y="2666880"/>
              <a:ext cx="156384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" y="3752640"/>
              <a:ext cx="230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uándo se alcanz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modificarl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65880" y="2666880"/>
              <a:ext cx="134280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iné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4960" y="3752640"/>
              <a:ext cx="235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de rápido v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acelerarl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280" y="4495680"/>
              <a:ext cx="8936280" cy="2362320"/>
              <a:chOff x="8280" y="4495680"/>
              <a:chExt cx="8936280" cy="2362320"/>
            </a:xfrm>
          </p:grpSpPr>
          <p:sp>
            <p:nvSpPr>
              <p:cNvPr id="56" name=""/>
              <p:cNvSpPr/>
              <p:nvPr/>
            </p:nvSpPr>
            <p:spPr>
              <a:xfrm>
                <a:off x="2314440" y="4495680"/>
                <a:ext cx="1524240" cy="6094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ip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80" y="5638680"/>
                <a:ext cx="26154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de fas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360" y="5486400"/>
                <a:ext cx="173304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Solubil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22360" y="4724280"/>
                <a:ext cx="30222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ácido-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99760" y="6229080"/>
                <a:ext cx="241128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red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1704960" y="4495680"/>
                <a:ext cx="457200" cy="457200"/>
              </a:xfrm>
              <a:custGeom>
                <a:avLst/>
                <a:gdLst>
                  <a:gd name="textAreaLeft" fmla="*/ 152280 w 457200"/>
                  <a:gd name="textAreaRight" fmla="*/ 391680 w 457200"/>
                  <a:gd name="textAreaTop" fmla="*/ 263520 h 457200"/>
                  <a:gd name="textAreaBottom" fmla="*/ 3916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62560" y="4647960"/>
                <a:ext cx="304920" cy="221004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57600 h 2210040"/>
                  <a:gd name="textAreaBottom" fmla="*/ 2152440 h 221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704600" y="5029200"/>
                <a:ext cx="1066680" cy="4572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305160" y="5029200"/>
                <a:ext cx="1828800" cy="609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5280" y="5181480"/>
              <a:ext cx="349200" cy="1235160"/>
              <a:chOff x="3635280" y="5181480"/>
              <a:chExt cx="349200" cy="1235160"/>
            </a:xfrm>
          </p:grpSpPr>
          <p:sp>
            <p:nvSpPr>
              <p:cNvPr id="66" name=""/>
              <p:cNvSpPr/>
              <p:nvPr/>
            </p:nvSpPr>
            <p:spPr>
              <a:xfrm>
                <a:off x="3635280" y="5788080"/>
                <a:ext cx="349200" cy="628560"/>
              </a:xfrm>
              <a:prstGeom prst="rect">
                <a:avLst/>
              </a:prstGeom>
              <a:noFill/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762360" y="5181480"/>
                <a:ext cx="0" cy="5335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33320" y="39528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e Châte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3480" y="1706400"/>
            <a:ext cx="8685360" cy="3705840"/>
            <a:chOff x="303480" y="1706400"/>
            <a:chExt cx="8685360" cy="3705840"/>
          </a:xfrm>
        </p:grpSpPr>
        <p:sp>
          <p:nvSpPr>
            <p:cNvPr id="252" name=""/>
            <p:cNvSpPr/>
            <p:nvPr/>
          </p:nvSpPr>
          <p:spPr>
            <a:xfrm>
              <a:off x="303480" y="1717560"/>
              <a:ext cx="58910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Si un sistema químico que está e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quilibrio se somete a una perturbació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cambie cualquiera de las variables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determina el estado de equilibrio,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sistema evolucionará para contrarrestar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efecto de la perturbación”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92120" y="4525920"/>
              <a:ext cx="3996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enri Louis Le Châteli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0-193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chatelier3" descr=""/>
            <p:cNvPicPr/>
            <p:nvPr/>
          </p:nvPicPr>
          <p:blipFill>
            <a:blip r:embed="rId1"/>
            <a:stretch/>
          </p:blipFill>
          <p:spPr>
            <a:xfrm>
              <a:off x="6435720" y="1706400"/>
              <a:ext cx="247968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65000" y="395280"/>
            <a:ext cx="66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temperatura (a P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81760" y="1193760"/>
            <a:ext cx="8282160" cy="942480"/>
            <a:chOff x="581760" y="1193760"/>
            <a:chExt cx="8282160" cy="942480"/>
          </a:xfrm>
        </p:grpSpPr>
        <p:sp>
          <p:nvSpPr>
            <p:cNvPr id="257" name=""/>
            <p:cNvSpPr/>
            <p:nvPr/>
          </p:nvSpPr>
          <p:spPr>
            <a:xfrm>
              <a:off x="582840" y="1193760"/>
              <a:ext cx="80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gt; 0 (endotérmica):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de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760" y="1676520"/>
              <a:ext cx="82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lt; 0 (exotérmica):  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izquier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3920" y="2708280"/>
            <a:ext cx="72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adición/sustracción de moles de</a:t>
            </a:r>
            <a:br>
              <a:rPr sz="2800"/>
            </a:b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      reactivos o productos gaseosos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646360" y="3959280"/>
                <a:ext cx="38307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706680" y="5197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productos: Q &g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izqui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reactivos: Q &l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der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4640" y="471600"/>
            <a:ext cx="62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volumen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920" y="3738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presión total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640" y="1266840"/>
            <a:ext cx="83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minución de V hace que la concentración total de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léculas aumente. El sistema tenderá a reducir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960" y="4527720"/>
            <a:ext cx="83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umento de P tiene el mismo efecto que una disminución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4280" y="47160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gas inerte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281952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cataliz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42320" y="1262160"/>
            <a:ext cx="5749200" cy="947520"/>
            <a:chOff x="1642320" y="1262160"/>
            <a:chExt cx="5749200" cy="947520"/>
          </a:xfrm>
        </p:grpSpPr>
        <p:sp>
          <p:nvSpPr>
            <p:cNvPr id="269" name=""/>
            <p:cNvSpPr/>
            <p:nvPr/>
          </p:nvSpPr>
          <p:spPr>
            <a:xfrm>
              <a:off x="1642320" y="150660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¿altera el equilibri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5119560" y="1262160"/>
                  <a:ext cx="227196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rod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ac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1499400" y="3505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fecta a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7800" y="487692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reactivo/producto sólido o lí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4600" y="55627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ltera e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590920"/>
            <a:ext cx="2514600" cy="914400"/>
          </a:xfrm>
          <a:prstGeom prst="rect">
            <a:avLst/>
          </a:prstGeom>
          <a:solidFill>
            <a:srgbClr val="ffcc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quilib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629400" y="4191120"/>
            <a:ext cx="2363760" cy="1295280"/>
            <a:chOff x="6629400" y="4191120"/>
            <a:chExt cx="2363760" cy="1295280"/>
          </a:xfrm>
        </p:grpSpPr>
        <p:sp>
          <p:nvSpPr>
            <p:cNvPr id="70" name=""/>
            <p:cNvSpPr/>
            <p:nvPr/>
          </p:nvSpPr>
          <p:spPr>
            <a:xfrm>
              <a:off x="6915240" y="4222800"/>
              <a:ext cx="207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Sólid/líqu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n diso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191120"/>
              <a:ext cx="380880" cy="1295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533520"/>
            <a:ext cx="7772400" cy="2203920"/>
            <a:chOff x="685800" y="533520"/>
            <a:chExt cx="7772400" cy="2203920"/>
          </a:xfrm>
        </p:grpSpPr>
        <p:sp>
          <p:nvSpPr>
            <p:cNvPr id="73" name=""/>
            <p:cNvSpPr/>
            <p:nvPr/>
          </p:nvSpPr>
          <p:spPr>
            <a:xfrm>
              <a:off x="6858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ecán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ér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200000">
              <a:off x="2514240" y="1752120"/>
              <a:ext cx="762120" cy="838440"/>
            </a:xfrm>
            <a:prstGeom prst="upArrow">
              <a:avLst>
                <a:gd name="adj1" fmla="val 50000"/>
                <a:gd name="adj2" fmla="val 2750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400000">
              <a:off x="6019560" y="1752120"/>
              <a:ext cx="761760" cy="838440"/>
            </a:xfrm>
            <a:prstGeom prst="upArrow">
              <a:avLst>
                <a:gd name="adj1" fmla="val 50000"/>
                <a:gd name="adj2" fmla="val 2751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3511080"/>
            <a:ext cx="2923200" cy="2432520"/>
            <a:chOff x="609480" y="3511080"/>
            <a:chExt cx="2923200" cy="2432520"/>
          </a:xfrm>
        </p:grpSpPr>
        <p:sp>
          <p:nvSpPr>
            <p:cNvPr id="78" name=""/>
            <p:cNvSpPr/>
            <p:nvPr/>
          </p:nvSpPr>
          <p:spPr>
            <a:xfrm>
              <a:off x="609480" y="4724280"/>
              <a:ext cx="2286000" cy="1219320"/>
            </a:xfrm>
            <a:prstGeom prst="ellipse">
              <a:avLst/>
            </a:prstGeom>
            <a:solidFill>
              <a:srgbClr val="ff99cc"/>
            </a:solidFill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3200000">
              <a:off x="2590560" y="3657600"/>
              <a:ext cx="761760" cy="838080"/>
            </a:xfrm>
            <a:prstGeom prst="upArrow">
              <a:avLst>
                <a:gd name="adj1" fmla="val 50000"/>
                <a:gd name="adj2" fmla="val 2750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819520" y="4495680"/>
            <a:ext cx="3657600" cy="1828800"/>
            <a:chOff x="2819520" y="4495680"/>
            <a:chExt cx="3657600" cy="1828800"/>
          </a:xfrm>
        </p:grpSpPr>
        <p:sp>
          <p:nvSpPr>
            <p:cNvPr id="81" name=""/>
            <p:cNvSpPr/>
            <p:nvPr/>
          </p:nvSpPr>
          <p:spPr>
            <a:xfrm>
              <a:off x="3429000" y="5715000"/>
              <a:ext cx="3048120" cy="60948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de f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29000" y="4495680"/>
              <a:ext cx="3048120" cy="60984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19520" y="4800240"/>
              <a:ext cx="457200" cy="1522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9520" y="5867280"/>
              <a:ext cx="457200" cy="15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62040" y="471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99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90000" y="1371600"/>
            <a:ext cx="92700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1.- Aspectos básicos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2.- Condición general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3.- Equilibrio químico en sistemas gaseosos id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4.- Equilibrios heterogéne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5.- Variación de la constante de equilibrio con la temperatu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6.- Respuesta del equilibrio a un cambio de condi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Principio de Le Châteli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6120" y="26028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ASPECTOS BÁS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38960" y="1052640"/>
            <a:ext cx="699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Estado de equilibrio: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estado en que la composición 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el sistema permanece fij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31400" y="2637000"/>
            <a:ext cx="765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diná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sistemas evolucionan espontáneamente hacia u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tado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ropiedades del estado de equilibrio son las mismas,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independientemente de la dirección desde la que se alc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6360" y="2133720"/>
            <a:ext cx="3408480" cy="3125160"/>
            <a:chOff x="756360" y="2133720"/>
            <a:chExt cx="3408480" cy="3125160"/>
          </a:xfrm>
        </p:grpSpPr>
        <p:sp>
          <p:nvSpPr>
            <p:cNvPr id="91" name=""/>
            <p:cNvSpPr/>
            <p:nvPr/>
          </p:nvSpPr>
          <p:spPr>
            <a:xfrm>
              <a:off x="756720" y="2133720"/>
              <a:ext cx="324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l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360" y="4768920"/>
              <a:ext cx="3408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nt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6200" y="5373720"/>
            <a:ext cx="7011360" cy="1044000"/>
            <a:chOff x="1186200" y="5373720"/>
            <a:chExt cx="7011360" cy="1044000"/>
          </a:xfrm>
        </p:grpSpPr>
        <p:sp>
          <p:nvSpPr>
            <p:cNvPr id="94" name=""/>
            <p:cNvSpPr/>
            <p:nvPr/>
          </p:nvSpPr>
          <p:spPr>
            <a:xfrm>
              <a:off x="1186200" y="5373720"/>
              <a:ext cx="346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00"/>
                  </a:solidFill>
                  <a:latin typeface="Times New Roman"/>
                </a:rPr>
                <a:t>Ley de acción de masa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0" y="5958000"/>
              <a:ext cx="28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06640" y="5400720"/>
                  <a:ext cx="259092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ant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2860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ONDICIÓN GENERAL DEL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6280" y="1052640"/>
            <a:ext cx="8277840" cy="1374120"/>
            <a:chOff x="386280" y="1052640"/>
            <a:chExt cx="8277840" cy="1374120"/>
          </a:xfrm>
        </p:grpSpPr>
        <p:sp>
          <p:nvSpPr>
            <p:cNvPr id="99" name=""/>
            <p:cNvSpPr/>
            <p:nvPr/>
          </p:nvSpPr>
          <p:spPr>
            <a:xfrm>
              <a:off x="386280" y="1052640"/>
              <a:ext cx="827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P y T constantes, el sentido del cambio espontáneo es el sentido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e la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disminución de G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0080" y="2043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8080" y="1967040"/>
              <a:ext cx="38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roceso espontáneo: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G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708280"/>
            <a:ext cx="8686800" cy="3997080"/>
            <a:chOff x="380880" y="2708280"/>
            <a:chExt cx="8686800" cy="3997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80880" y="2708280"/>
              <a:ext cx="2921040" cy="39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3777840" y="2854080"/>
              <a:ext cx="5289840" cy="1767960"/>
              <a:chOff x="3777840" y="2854080"/>
              <a:chExt cx="5289840" cy="1767960"/>
            </a:xfrm>
          </p:grpSpPr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4114800" y="2854080"/>
                    <a:ext cx="3809880" cy="71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G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" name=""/>
              <p:cNvSpPr/>
              <p:nvPr/>
            </p:nvSpPr>
            <p:spPr>
              <a:xfrm>
                <a:off x="3777840" y="3902760"/>
                <a:ext cx="201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Inicio:  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G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5977080" y="3902760"/>
                    <a:ext cx="3090600" cy="71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lt;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8" name=""/>
          <p:cNvGrpSpPr/>
          <p:nvPr/>
        </p:nvGrpSpPr>
        <p:grpSpPr>
          <a:xfrm>
            <a:off x="4356000" y="4869000"/>
            <a:ext cx="3686040" cy="1669680"/>
            <a:chOff x="4356000" y="4869000"/>
            <a:chExt cx="3686040" cy="1669680"/>
          </a:xfrm>
        </p:grpSpPr>
        <p:sp>
          <p:nvSpPr>
            <p:cNvPr id="109" name=""/>
            <p:cNvSpPr/>
            <p:nvPr/>
          </p:nvSpPr>
          <p:spPr>
            <a:xfrm>
              <a:off x="4590360" y="4869000"/>
              <a:ext cx="26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: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G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356000" y="5671800"/>
                  <a:ext cx="34891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7857720" y="4926600"/>
              <a:ext cx="1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QUÍMICO EN SISTEMAS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GASEOSOS ID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14400" y="1976400"/>
                <a:ext cx="72468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419560" y="1295280"/>
            <a:ext cx="429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00"/>
                </a:solidFill>
                <a:uFillTx/>
                <a:latin typeface="Times New Roman"/>
              </a:rPr>
              <a:t>EQUILIBRIO HOMOGÉN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880" y="2590920"/>
            <a:ext cx="7185960" cy="823680"/>
            <a:chOff x="146880" y="2590920"/>
            <a:chExt cx="7185960" cy="823680"/>
          </a:xfrm>
        </p:grpSpPr>
        <p:sp>
          <p:nvSpPr>
            <p:cNvPr id="116" name=""/>
            <p:cNvSpPr/>
            <p:nvPr/>
          </p:nvSpPr>
          <p:spPr>
            <a:xfrm>
              <a:off x="146880" y="2743200"/>
              <a:ext cx="42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ara una mezcla de gases idea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572000" y="2590920"/>
                  <a:ext cx="253224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7148520" y="2819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360" y="3505320"/>
                <a:ext cx="8847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c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a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b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" y="4260960"/>
                <a:ext cx="407520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37680" y="6172200"/>
            <a:ext cx="31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Isoterma de rea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4920" y="4495680"/>
            <a:ext cx="3350880" cy="1371600"/>
            <a:chOff x="5254920" y="4495680"/>
            <a:chExt cx="3350880" cy="1371600"/>
          </a:xfrm>
        </p:grpSpPr>
        <p:sp>
          <p:nvSpPr>
            <p:cNvPr id="123" name=""/>
            <p:cNvSpPr/>
            <p:nvPr/>
          </p:nvSpPr>
          <p:spPr>
            <a:xfrm>
              <a:off x="5486400" y="5105520"/>
              <a:ext cx="2895480" cy="76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5645160" y="5315040"/>
                  <a:ext cx="25844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</m:t>
                      </m:r>
                      <m:r>
                        <m:t xml:space="preserve">=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Gº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"/>
            <p:cNvSpPr/>
            <p:nvPr/>
          </p:nvSpPr>
          <p:spPr>
            <a:xfrm>
              <a:off x="5254920" y="449568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: Cuociente de re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25720" y="1066680"/>
                <a:ext cx="50608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97680" y="22860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ndo lleguemos al equilibrio: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5219640" y="209520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30360" y="3557520"/>
            <a:ext cx="6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4480" y="3321000"/>
            <a:ext cx="3030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stante de equilibrio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ermodinámic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81080" y="4803840"/>
                <a:ext cx="5248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29000" y="571500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29000" y="30492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82680" y="11574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6440" y="1717560"/>
            <a:ext cx="707040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gt;&g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lt;&lt; 1  :  poc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lt;&l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&gt; 1  :  much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 0 y depende de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sólo depende de T;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tambié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sponemos de dos formas de determinar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36760" y="4459320"/>
            <a:ext cx="6107040" cy="2017800"/>
            <a:chOff x="1436760" y="4459320"/>
            <a:chExt cx="6107040" cy="201780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5715000" y="5191200"/>
                  <a:ext cx="18288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ΔG</m:t>
                          </m:r>
                          <m:r>
                            <m:rPr>
                              <m:lit/>
                              <m:nor/>
                            </m:rPr>
                            <m:t xml:space="preserve">º/</m:t>
                          </m:r>
                          <m:r>
                            <m:rPr>
                              <m:lit/>
                              <m:nor/>
                            </m:rPr>
                            <m:t xml:space="preserve">R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1436760" y="4459320"/>
                  <a:ext cx="2982960" cy="20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C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c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D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d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A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a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B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b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08:16:59Z</dcterms:created>
  <dc:creator>Rosendo Pou Amerigo</dc:creator>
  <dc:description/>
  <dc:language>en-US</dc:language>
  <cp:lastModifiedBy>RICARDO LETELIER</cp:lastModifiedBy>
  <dcterms:modified xsi:type="dcterms:W3CDTF">2005-06-10T19:55:48Z</dcterms:modified>
  <cp:revision>460</cp:revision>
  <dc:subject>Entropía y energía libre</dc:subject>
  <dc:title>La dirección del cambio químico</dc:title>
</cp:coreProperties>
</file>