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DD7-A583-493F-8FE8-C4E28303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B3B-E0F8-471B-A7C5-E591CA53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E21-A945-4306-9FE0-6112AC3F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C47-9225-4F6B-A155-4E6306A6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B65-4AEB-412F-A5FD-C338831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6ED-85F5-4861-B31B-BA0CC75E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A83-140D-44B7-8482-81636A28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1D5-65E9-4661-9D9C-E5409F7E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637-523C-4F62-8D5A-9AB82F70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909-F34B-4729-A956-06AF1CFD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C04-93A6-4CE9-B098-F3E731EA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472-528D-4C9B-A254-EDC2DB21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0E0C-5F36-492C-9C4C-0B984DBCB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27080" y="1898640"/>
            <a:ext cx="53805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Times New Roman"/>
              </a:rPr>
              <a:t>El equilibrio en las</a:t>
            </a:r>
            <a:br>
              <a:rPr sz="4800"/>
            </a:br>
            <a:r>
              <a:rPr b="1" lang="es-ES_tradnl" sz="4800" spc="-1" strike="noStrike">
                <a:solidFill>
                  <a:srgbClr val="ffff00"/>
                </a:solidFill>
                <a:latin typeface="Times New Roman"/>
              </a:rPr>
              <a:t>reacciones quím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82280" y="304920"/>
            <a:ext cx="57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¿Hacia dónde evoluciona la reac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1371600"/>
                <a:ext cx="2584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G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1523880" y="1752480"/>
            <a:ext cx="2238480" cy="990720"/>
            <a:chOff x="1523880" y="1752480"/>
            <a:chExt cx="2238480" cy="990720"/>
          </a:xfrm>
        </p:grpSpPr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1523880" y="2212920"/>
                  <a:ext cx="2238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Gº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V="1">
              <a:off x="1828800" y="1752480"/>
              <a:ext cx="0" cy="4572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855960" y="1143000"/>
                <a:ext cx="49831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1233360" y="3460680"/>
            <a:ext cx="667872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 Q &lt;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   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  espontán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 Q &gt;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   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 &gt; 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  no espontán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p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  espontáne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 =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   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 = 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276720"/>
            <a:ext cx="7619760" cy="289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25000" y="228600"/>
            <a:ext cx="68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Otras expresiones de la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130400" y="990720"/>
                <a:ext cx="687060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C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D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d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A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a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B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b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D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d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a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b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4343400" y="2529000"/>
            <a:ext cx="1906920" cy="1326240"/>
            <a:chOff x="4343400" y="2529000"/>
            <a:chExt cx="1906920" cy="1326240"/>
          </a:xfrm>
        </p:grpSpPr>
        <p:sp>
          <p:nvSpPr>
            <p:cNvPr id="150" name=""/>
            <p:cNvSpPr/>
            <p:nvPr/>
          </p:nvSpPr>
          <p:spPr>
            <a:xfrm rot="5400000">
              <a:off x="5105520" y="1766880"/>
              <a:ext cx="380880" cy="19051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71840" y="2909880"/>
              <a:ext cx="187848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0" lang="es-ES_tradnl" sz="2800" spc="-1" strike="noStrike" baseline="-25000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(dimension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324120" y="2833560"/>
            <a:ext cx="1600200" cy="977760"/>
            <a:chOff x="6324120" y="2833560"/>
            <a:chExt cx="1600200" cy="977760"/>
          </a:xfrm>
        </p:grpSpPr>
        <p:sp>
          <p:nvSpPr>
            <p:cNvPr id="153" name=""/>
            <p:cNvSpPr/>
            <p:nvPr/>
          </p:nvSpPr>
          <p:spPr>
            <a:xfrm rot="5400000">
              <a:off x="6933600" y="2223720"/>
              <a:ext cx="380880" cy="16002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9760" y="3290760"/>
              <a:ext cx="102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(Pº)</a:t>
              </a:r>
              <a:r>
                <a:rPr b="0" lang="es-ES_tradnl" sz="28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s-ES_tradnl" sz="2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_tradnl" sz="2800" spc="-1" strike="noStrike" baseline="30000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6480" y="4052880"/>
            <a:ext cx="51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función de las concentr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828800" y="4800600"/>
            <a:ext cx="5518800" cy="1030320"/>
            <a:chOff x="1828800" y="4800600"/>
            <a:chExt cx="5518800" cy="1030320"/>
          </a:xfrm>
        </p:grpSpPr>
        <p:sp>
          <p:nvSpPr>
            <p:cNvPr id="157" name=""/>
            <p:cNvSpPr/>
            <p:nvPr/>
          </p:nvSpPr>
          <p:spPr>
            <a:xfrm>
              <a:off x="5110920" y="5056200"/>
              <a:ext cx="22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0" lang="es-ES_tradnl" sz="2800" spc="-1" strike="noStrike" baseline="-25000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 = K</a:t>
              </a:r>
              <a:r>
                <a:rPr b="0" lang="es-ES_tradnl" sz="2800" spc="-1" strike="noStrike" baseline="-25000">
                  <a:solidFill>
                    <a:srgbClr val="ffff00"/>
                  </a:solidFill>
                  <a:latin typeface="Times New Roman"/>
                </a:rPr>
                <a:t>c </a:t>
              </a: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(RT)</a:t>
              </a:r>
              <a:r>
                <a:rPr b="0" lang="es-ES_tradnl" sz="2800" spc="-1" strike="noStrike" baseline="30000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800" spc="-1" strike="noStrike" baseline="30000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828800" y="4800600"/>
                  <a:ext cx="1981080" cy="103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C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c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d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a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"/>
          <p:cNvSpPr/>
          <p:nvPr/>
        </p:nvSpPr>
        <p:spPr>
          <a:xfrm>
            <a:off x="2545200" y="6080040"/>
            <a:ext cx="39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 = 0     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º = 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58800" y="395280"/>
            <a:ext cx="57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EQUILIBRIOS HETEROGÉNE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53240" y="1309680"/>
            <a:ext cx="8325000" cy="1257840"/>
            <a:chOff x="453240" y="1309680"/>
            <a:chExt cx="8325000" cy="1257840"/>
          </a:xfrm>
        </p:grpSpPr>
        <p:sp>
          <p:nvSpPr>
            <p:cNvPr id="162" name=""/>
            <p:cNvSpPr/>
            <p:nvPr/>
          </p:nvSpPr>
          <p:spPr>
            <a:xfrm>
              <a:off x="453240" y="1309680"/>
              <a:ext cx="832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Aquéllos en los que las sustancias están en fases distin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11480" y="2057400"/>
              <a:ext cx="480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.ej.: CaC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(s)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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CaO (s) + C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(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47120" y="2895480"/>
            <a:ext cx="8382960" cy="2667240"/>
            <a:chOff x="447120" y="2895480"/>
            <a:chExt cx="8382960" cy="2667240"/>
          </a:xfrm>
        </p:grpSpPr>
        <p:sp>
          <p:nvSpPr>
            <p:cNvPr id="165" name=""/>
            <p:cNvSpPr/>
            <p:nvPr/>
          </p:nvSpPr>
          <p:spPr>
            <a:xfrm>
              <a:off x="447120" y="2895480"/>
              <a:ext cx="838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La situación de equilibrio no se ve afectada por la cantidad de</a:t>
              </a:r>
              <a:br>
                <a:rPr sz="2400"/>
              </a:b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ólido o líquido, siempre y cuando estas sustancias estén presen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14800" y="3886200"/>
              <a:ext cx="914400" cy="6858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2880" y="4676760"/>
              <a:ext cx="82382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La constante de equilibrio es independiente de las cantidades</a:t>
              </a:r>
              <a:br>
                <a:rPr sz="2600"/>
              </a:b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de sólidos y líquidos en el equilibrio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314720" y="5799240"/>
            <a:ext cx="6539040" cy="579600"/>
            <a:chOff x="1314720" y="5799240"/>
            <a:chExt cx="6539040" cy="579600"/>
          </a:xfrm>
        </p:grpSpPr>
        <p:sp>
          <p:nvSpPr>
            <p:cNvPr id="169" name=""/>
            <p:cNvSpPr/>
            <p:nvPr/>
          </p:nvSpPr>
          <p:spPr>
            <a:xfrm>
              <a:off x="1314720" y="5829480"/>
              <a:ext cx="41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CaC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(s)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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CaO (s) + C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(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15680" y="5799240"/>
              <a:ext cx="17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[CO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62400" y="228600"/>
            <a:ext cx="677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VARIACIÓN DE LA CONSTANTE DE</a:t>
            </a:r>
            <a:br>
              <a:rPr sz="2800"/>
            </a:b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EQUILIBRIO CON LA TEMPERA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83280" y="1614600"/>
            <a:ext cx="6150240" cy="1654920"/>
            <a:chOff x="683280" y="1614600"/>
            <a:chExt cx="6150240" cy="1654920"/>
          </a:xfrm>
        </p:grpSpPr>
        <p:sp>
          <p:nvSpPr>
            <p:cNvPr id="173" name=""/>
            <p:cNvSpPr/>
            <p:nvPr/>
          </p:nvSpPr>
          <p:spPr>
            <a:xfrm>
              <a:off x="683280" y="1614600"/>
              <a:ext cx="615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ff"/>
                  </a:solidFill>
                  <a:latin typeface="Times New Roman"/>
                </a:rPr>
                <a:t>¿Cómo podemos </a:t>
              </a:r>
              <a:r>
                <a:rPr b="0" i="1" lang="es-ES_tradnl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modificar</a:t>
              </a:r>
              <a:r>
                <a:rPr b="0" i="1" lang="es-ES_tradnl" sz="2800" spc="-1" strike="noStrike">
                  <a:solidFill>
                    <a:srgbClr val="ffffff"/>
                  </a:solidFill>
                  <a:latin typeface="Times New Roman"/>
                </a:rPr>
                <a:t> un equilibrio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7080" y="2620800"/>
              <a:ext cx="1549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32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s-ES_tradnl" sz="3200" spc="-1" strike="noStrike">
                  <a:solidFill>
                    <a:srgbClr val="ffffff"/>
                  </a:solidFill>
                  <a:latin typeface="Times New Roman"/>
                </a:rPr>
                <a:t> = K</a:t>
              </a:r>
              <a:r>
                <a:rPr b="0" lang="es-ES_tradnl" sz="3200" spc="-1" strike="noStrike" baseline="-25000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s-ES_tradnl" sz="3200" spc="-1" strike="noStrike">
                  <a:solidFill>
                    <a:srgbClr val="ffffff"/>
                  </a:solidFill>
                  <a:latin typeface="Times New Roman"/>
                </a:rPr>
                <a:t>º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61240" y="3886200"/>
            <a:ext cx="7898040" cy="1448640"/>
            <a:chOff x="561240" y="3886200"/>
            <a:chExt cx="7898040" cy="1448640"/>
          </a:xfrm>
        </p:grpSpPr>
        <p:sp>
          <p:nvSpPr>
            <p:cNvPr id="176" name=""/>
            <p:cNvSpPr/>
            <p:nvPr/>
          </p:nvSpPr>
          <p:spPr>
            <a:xfrm>
              <a:off x="561240" y="4844880"/>
              <a:ext cx="512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Cambiando la constante de equilibri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8200" y="3886200"/>
              <a:ext cx="83844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40520" y="3886200"/>
              <a:ext cx="83808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9960" y="4844880"/>
              <a:ext cx="2029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Cambiando </a:t>
              </a:r>
              <a:r>
                <a:rPr b="0" i="1" lang="es-ES_tradnl" sz="2600" spc="-1" strike="noStrike">
                  <a:solidFill>
                    <a:srgbClr val="ffff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3520" y="2057400"/>
                <a:ext cx="800100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º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ΔGº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f>
                          <m:num>
                            <m:r>
                              <m:t xml:space="preserve">dΔGº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ΔGº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28600" y="4191120"/>
                <a:ext cx="3862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º</m:t>
                    </m:r>
                    <m:r>
                      <m:t xml:space="preserve">=</m:t>
                    </m:r>
                    <m:r>
                      <m:t xml:space="preserve">ΔHº</m:t>
                    </m:r>
                    <m:r>
                      <m:t xml:space="preserve">−</m:t>
                    </m:r>
                    <m:r>
                      <m:t xml:space="preserve">TΔSº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ΔGº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S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343400" y="4114800"/>
                <a:ext cx="4648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t xml:space="preserve">TΔ</m:t>
                        </m:r>
                        <m:r>
                          <m:rPr>
                            <m:lit/>
                            <m:nor/>
                          </m:rPr>
                          <m:t xml:space="preserve">Sº</m:t>
                        </m:r>
                        <m:r>
                          <m:t xml:space="preserve">−</m:t>
                        </m:r>
                        <m:r>
                          <m:t xml:space="preserve">ΔGº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Gº</m:t>
                        </m:r>
                        <m:r>
                          <m:t xml:space="preserve">+</m:t>
                        </m:r>
                        <m:r>
                          <m:t xml:space="preserve">TΔSº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752480" y="5629320"/>
                <a:ext cx="17082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Hº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3888720" y="570564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cuación de van’t H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5562720"/>
            <a:ext cx="6477120" cy="99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71960" y="882720"/>
            <a:ext cx="368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ambiando la tempera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425520"/>
            <a:ext cx="685800" cy="828720"/>
          </a:xfrm>
          <a:custGeom>
            <a:avLst/>
            <a:gdLst>
              <a:gd name="textAreaLeft" fmla="*/ 91800 w 685800"/>
              <a:gd name="textAreaRight" fmla="*/ 594000 w 685800"/>
              <a:gd name="textAreaTop" fmla="*/ 145080 h 828720"/>
              <a:gd name="textAreaBottom" fmla="*/ 60084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85800" y="272880"/>
            <a:ext cx="6185880" cy="914400"/>
            <a:chOff x="685800" y="272880"/>
            <a:chExt cx="6185880" cy="914400"/>
          </a:xfrm>
        </p:grpSpPr>
        <p:sp>
          <p:nvSpPr>
            <p:cNvPr id="189" name=""/>
            <p:cNvSpPr/>
            <p:nvPr/>
          </p:nvSpPr>
          <p:spPr>
            <a:xfrm>
              <a:off x="1750320" y="272880"/>
              <a:ext cx="512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Cambiando la constante de equilibri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" y="349200"/>
              <a:ext cx="83808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1371600" y="4343400"/>
            <a:ext cx="5943600" cy="895320"/>
            <a:chOff x="1371600" y="4343400"/>
            <a:chExt cx="5943600" cy="895320"/>
          </a:xfrm>
        </p:grpSpPr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1371600" y="4343400"/>
                  <a:ext cx="198108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3854520" y="4419720"/>
                  <a:ext cx="3460680" cy="81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d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ΔHº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" name=""/>
          <p:cNvSpPr/>
          <p:nvPr/>
        </p:nvSpPr>
        <p:spPr>
          <a:xfrm>
            <a:off x="317520" y="3886200"/>
            <a:ext cx="501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ttp:/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/nobelprize.org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/chemistry/laureates/1901/index.htm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997440" y="189000"/>
            <a:ext cx="4537800" cy="3858120"/>
            <a:chOff x="3997440" y="189000"/>
            <a:chExt cx="4537800" cy="38581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6546600" y="189000"/>
              <a:ext cx="19396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997440" y="3160800"/>
              <a:ext cx="4537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Times New Roman"/>
                </a:rPr>
                <a:t>Jacobus Henricus van’t Hof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(1852-191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9960" y="333360"/>
            <a:ext cx="6206760" cy="2608920"/>
            <a:chOff x="309960" y="333360"/>
            <a:chExt cx="6206760" cy="2608920"/>
          </a:xfrm>
        </p:grpSpPr>
        <p:sp>
          <p:nvSpPr>
            <p:cNvPr id="199" name=""/>
            <p:cNvSpPr/>
            <p:nvPr/>
          </p:nvSpPr>
          <p:spPr>
            <a:xfrm>
              <a:off x="309960" y="1933560"/>
              <a:ext cx="6206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i="1" lang="es-ES_tradnl" sz="2000" spc="-1" strike="noStrike">
                  <a:solidFill>
                    <a:srgbClr val="ffffff"/>
                  </a:solidFill>
                  <a:latin typeface="Times New Roman"/>
                </a:rPr>
                <a:t>En reconocimiento a los extraodinarios servicios que h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ffffff"/>
                  </a:solidFill>
                  <a:latin typeface="Times New Roman"/>
                </a:rPr>
                <a:t>prestado con el descubrimiento de las leyes de la dinámic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ffffff"/>
                  </a:solidFill>
                  <a:latin typeface="Times New Roman"/>
                </a:rPr>
                <a:t>química y la presión osmótica en disoluciones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84200" y="333360"/>
              <a:ext cx="5717160" cy="1373760"/>
              <a:chOff x="484200" y="333360"/>
              <a:chExt cx="5717160" cy="1373760"/>
            </a:xfrm>
          </p:grpSpPr>
          <p:sp>
            <p:nvSpPr>
              <p:cNvPr id="201" name=""/>
              <p:cNvSpPr/>
              <p:nvPr/>
            </p:nvSpPr>
            <p:spPr>
              <a:xfrm>
                <a:off x="3000240" y="333360"/>
                <a:ext cx="32011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ff00"/>
                    </a:solidFill>
                    <a:latin typeface="Times New Roman"/>
                  </a:rPr>
                  <a:t>19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ff00"/>
                    </a:solidFill>
                    <a:latin typeface="Times New Roman"/>
                  </a:rPr>
                  <a:t>Primer premio Nobel</a:t>
                </a:r>
                <a:br>
                  <a:rPr sz="2800"/>
                </a:br>
                <a:r>
                  <a:rPr b="0" lang="es-ES_tradnl" sz="2800" spc="-1" strike="noStrike">
                    <a:solidFill>
                      <a:srgbClr val="ffff00"/>
                    </a:solidFill>
                    <a:latin typeface="Times New Roman"/>
                  </a:rPr>
                  <a:t>de Químic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4200" y="403200"/>
                <a:ext cx="2239560" cy="123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657600" y="5553000"/>
                <a:ext cx="3540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Hº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4" name=""/>
          <p:cNvGrpSpPr/>
          <p:nvPr/>
        </p:nvGrpSpPr>
        <p:grpSpPr>
          <a:xfrm>
            <a:off x="7467480" y="4724280"/>
            <a:ext cx="1597320" cy="1371600"/>
            <a:chOff x="7467480" y="4724280"/>
            <a:chExt cx="1597320" cy="1371600"/>
          </a:xfrm>
        </p:grpSpPr>
        <p:sp>
          <p:nvSpPr>
            <p:cNvPr id="205" name=""/>
            <p:cNvSpPr/>
            <p:nvPr/>
          </p:nvSpPr>
          <p:spPr>
            <a:xfrm>
              <a:off x="7467480" y="4724280"/>
              <a:ext cx="381240" cy="1371600"/>
            </a:xfrm>
            <a:custGeom>
              <a:avLst/>
              <a:gdLst>
                <a:gd name="textAreaLeft" fmla="*/ 51120 w 381240"/>
                <a:gd name="textAreaRight" fmla="*/ 330120 w 381240"/>
                <a:gd name="textAreaTop" fmla="*/ 239760 h 1371600"/>
                <a:gd name="textAreaBottom" fmla="*/ 9943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03720" y="5029200"/>
              <a:ext cx="126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</a:rPr>
                <a:t>S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</a:rPr>
                <a:t>Hº = c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06000" y="5562720"/>
            <a:ext cx="31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cuación integrada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van’t H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5486400"/>
            <a:ext cx="723924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71760" y="37152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ecuencias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334120" y="219240"/>
                <a:ext cx="35398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Hº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689040" y="1066680"/>
            <a:ext cx="4341240" cy="1434960"/>
            <a:chOff x="689040" y="1066680"/>
            <a:chExt cx="4341240" cy="1434960"/>
          </a:xfrm>
        </p:grpSpPr>
        <p:sp>
          <p:nvSpPr>
            <p:cNvPr id="212" name=""/>
            <p:cNvSpPr/>
            <p:nvPr/>
          </p:nvSpPr>
          <p:spPr>
            <a:xfrm>
              <a:off x="689040" y="1981080"/>
              <a:ext cx="434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Times New Roman"/>
                </a:rPr>
                <a:t>a) Si </a:t>
              </a:r>
              <a:r>
                <a:rPr b="1" lang="es-ES_tradnl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2800" spc="-1" strike="noStrike">
                  <a:solidFill>
                    <a:srgbClr val="ffff00"/>
                  </a:solidFill>
                  <a:latin typeface="Times New Roman"/>
                </a:rPr>
                <a:t>Hº &gt; 0 (endotérmic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4720" y="1066680"/>
              <a:ext cx="23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memos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&gt;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523880" y="2841480"/>
            <a:ext cx="1822680" cy="1959120"/>
            <a:chOff x="1523880" y="2841480"/>
            <a:chExt cx="1822680" cy="1959120"/>
          </a:xfrm>
        </p:grpSpPr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1600200" y="2841480"/>
                  <a:ext cx="116352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523880" y="3800520"/>
                  <a:ext cx="18226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"/>
          <p:cNvGrpSpPr/>
          <p:nvPr/>
        </p:nvGrpSpPr>
        <p:grpSpPr>
          <a:xfrm>
            <a:off x="3352680" y="2743200"/>
            <a:ext cx="5334120" cy="2286000"/>
            <a:chOff x="3352680" y="2743200"/>
            <a:chExt cx="5334120" cy="2286000"/>
          </a:xfrm>
        </p:grpSpPr>
        <p:sp>
          <p:nvSpPr>
            <p:cNvPr id="218" name=""/>
            <p:cNvSpPr/>
            <p:nvPr/>
          </p:nvSpPr>
          <p:spPr>
            <a:xfrm>
              <a:off x="335268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4086000" y="3419640"/>
                  <a:ext cx="460080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&gt;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"/>
          <p:cNvSpPr/>
          <p:nvPr/>
        </p:nvSpPr>
        <p:spPr>
          <a:xfrm>
            <a:off x="4491000" y="4738680"/>
            <a:ext cx="168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º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01680" y="56386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 aumentar T se favorece la formación de productos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 hacia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9040" y="1981080"/>
            <a:ext cx="41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b) Si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Hº &lt; 0 (exotérm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71760" y="219240"/>
            <a:ext cx="8202240" cy="1357560"/>
            <a:chOff x="671760" y="219240"/>
            <a:chExt cx="8202240" cy="1357560"/>
          </a:xfrm>
        </p:grpSpPr>
        <p:sp>
          <p:nvSpPr>
            <p:cNvPr id="224" name=""/>
            <p:cNvSpPr/>
            <p:nvPr/>
          </p:nvSpPr>
          <p:spPr>
            <a:xfrm>
              <a:off x="671760" y="371520"/>
              <a:ext cx="251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onsecuencias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334120" y="219240"/>
                  <a:ext cx="35398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1674720" y="1066680"/>
              <a:ext cx="23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memos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&gt;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523880" y="2841480"/>
            <a:ext cx="1822680" cy="1959120"/>
            <a:chOff x="1523880" y="2841480"/>
            <a:chExt cx="1822680" cy="195912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1600200" y="2841480"/>
                  <a:ext cx="116352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523880" y="3800520"/>
                  <a:ext cx="18226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"/>
          <p:cNvGrpSpPr/>
          <p:nvPr/>
        </p:nvGrpSpPr>
        <p:grpSpPr>
          <a:xfrm>
            <a:off x="3352680" y="2743200"/>
            <a:ext cx="5321520" cy="2286000"/>
            <a:chOff x="3352680" y="2743200"/>
            <a:chExt cx="5321520" cy="2286000"/>
          </a:xfrm>
        </p:grpSpPr>
        <p:sp>
          <p:nvSpPr>
            <p:cNvPr id="231" name=""/>
            <p:cNvSpPr/>
            <p:nvPr/>
          </p:nvSpPr>
          <p:spPr>
            <a:xfrm>
              <a:off x="335268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4098960" y="3419640"/>
                  <a:ext cx="457524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&lt;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3" name=""/>
          <p:cNvSpPr/>
          <p:nvPr/>
        </p:nvSpPr>
        <p:spPr>
          <a:xfrm>
            <a:off x="4491720" y="4738680"/>
            <a:ext cx="168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º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6400" y="5638680"/>
            <a:ext cx="66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 aumentar T se favorece la formación de reactivos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 hacia la izquier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8320" y="19810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) Si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Hº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71760" y="219240"/>
            <a:ext cx="8202240" cy="1357560"/>
            <a:chOff x="671760" y="219240"/>
            <a:chExt cx="8202240" cy="1357560"/>
          </a:xfrm>
        </p:grpSpPr>
        <p:sp>
          <p:nvSpPr>
            <p:cNvPr id="237" name=""/>
            <p:cNvSpPr/>
            <p:nvPr/>
          </p:nvSpPr>
          <p:spPr>
            <a:xfrm>
              <a:off x="671760" y="371520"/>
              <a:ext cx="251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onsecuencias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5334120" y="219240"/>
                  <a:ext cx="35398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9" name=""/>
            <p:cNvSpPr/>
            <p:nvPr/>
          </p:nvSpPr>
          <p:spPr>
            <a:xfrm>
              <a:off x="1674720" y="1066680"/>
              <a:ext cx="23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memos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&gt;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842480" y="2971800"/>
            <a:ext cx="5479560" cy="1831320"/>
            <a:chOff x="1842480" y="2971800"/>
            <a:chExt cx="5479560" cy="1831320"/>
          </a:xfrm>
        </p:grpSpPr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2281320" y="2971800"/>
                  <a:ext cx="460224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2" name=""/>
            <p:cNvSpPr/>
            <p:nvPr/>
          </p:nvSpPr>
          <p:spPr>
            <a:xfrm>
              <a:off x="1842480" y="4343400"/>
              <a:ext cx="547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La constante de equilibrio no cambia con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62040" y="228600"/>
            <a:ext cx="630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RESPUESTA DEL EQUILIBRIO A UN</a:t>
            </a:r>
            <a:br>
              <a:rPr sz="2800"/>
            </a:b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CAMBIO DE CONDICIONES.</a:t>
            </a:r>
            <a:br>
              <a:rPr sz="2800"/>
            </a:b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PRINCIPIO DE LE CHÂTEL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76840" y="4600440"/>
            <a:ext cx="5411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ambiando el resto de f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moles de reactivos, productos, P, V,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4086360"/>
            <a:ext cx="685800" cy="1276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23200 h 1276200"/>
              <a:gd name="textAreaBottom" fmla="*/ 925200 h 12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00000" y="3068640"/>
            <a:ext cx="3285000" cy="838080"/>
            <a:chOff x="900000" y="3068640"/>
            <a:chExt cx="3285000" cy="838080"/>
          </a:xfrm>
        </p:grpSpPr>
        <p:sp>
          <p:nvSpPr>
            <p:cNvPr id="247" name=""/>
            <p:cNvSpPr/>
            <p:nvPr/>
          </p:nvSpPr>
          <p:spPr>
            <a:xfrm>
              <a:off x="1661760" y="3255840"/>
              <a:ext cx="2523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Cambiando 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00000" y="3068640"/>
              <a:ext cx="83844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08760" y="1989000"/>
            <a:ext cx="61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¿Cómo podemos </a:t>
            </a: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ificar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un equilibr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8280" y="574560"/>
            <a:ext cx="9092160" cy="6283440"/>
            <a:chOff x="8280" y="574560"/>
            <a:chExt cx="9092160" cy="6283440"/>
          </a:xfrm>
        </p:grpSpPr>
        <p:sp>
          <p:nvSpPr>
            <p:cNvPr id="43" name=""/>
            <p:cNvSpPr/>
            <p:nvPr/>
          </p:nvSpPr>
          <p:spPr>
            <a:xfrm>
              <a:off x="2847960" y="2895480"/>
              <a:ext cx="3657600" cy="990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58720" y="574560"/>
              <a:ext cx="8313840" cy="1789560"/>
              <a:chOff x="558720" y="574560"/>
              <a:chExt cx="8313840" cy="1789560"/>
            </a:xfrm>
          </p:grpSpPr>
          <p:sp>
            <p:nvSpPr>
              <p:cNvPr id="45" name=""/>
              <p:cNvSpPr/>
              <p:nvPr/>
            </p:nvSpPr>
            <p:spPr>
              <a:xfrm>
                <a:off x="558720" y="1660320"/>
                <a:ext cx="2305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Cuánto se produce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Cuánto reacciona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057840" y="1660320"/>
                <a:ext cx="3120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Desprende o absorbe calor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Cuánto calor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49080" y="574560"/>
                <a:ext cx="2174760" cy="60372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00"/>
                    </a:solidFill>
                    <a:latin typeface="Times New Roman"/>
                  </a:rPr>
                  <a:t>Estequiometrí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575520" y="574560"/>
                <a:ext cx="2122920" cy="60372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00"/>
                    </a:solidFill>
                    <a:latin typeface="Times New Roman"/>
                  </a:rPr>
                  <a:t>Termoquími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650640" y="574560"/>
                <a:ext cx="2121480" cy="60372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00"/>
                    </a:solidFill>
                    <a:latin typeface="Times New Roman"/>
                  </a:rPr>
                  <a:t>Espontaneid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515640" y="1660320"/>
                <a:ext cx="2356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Por qué se produce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En qué dirección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49080" y="2666880"/>
              <a:ext cx="1563840" cy="60372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118800" bIns="118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600" y="3752640"/>
              <a:ext cx="2302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¿Cuándo se alcanza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¿Cómo modificarlo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65880" y="2666880"/>
              <a:ext cx="1342800" cy="60372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118800" bIns="118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Ciné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44960" y="3752640"/>
              <a:ext cx="235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¿Cómo de rápido va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¿Cómo acelerarla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280" y="4495680"/>
              <a:ext cx="8936280" cy="2362320"/>
              <a:chOff x="8280" y="4495680"/>
              <a:chExt cx="8936280" cy="2362320"/>
            </a:xfrm>
          </p:grpSpPr>
          <p:sp>
            <p:nvSpPr>
              <p:cNvPr id="56" name=""/>
              <p:cNvSpPr/>
              <p:nvPr/>
            </p:nvSpPr>
            <p:spPr>
              <a:xfrm>
                <a:off x="2314440" y="4495680"/>
                <a:ext cx="1524240" cy="6094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Tip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80" y="5638680"/>
                <a:ext cx="2615400" cy="60372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Equilibrio de fas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88360" y="5486400"/>
                <a:ext cx="1733040" cy="60372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Solubilid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922360" y="4724280"/>
                <a:ext cx="3022200" cy="60372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Equilibrio ácido-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99760" y="6229080"/>
                <a:ext cx="2411280" cy="60372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Equilibrio redo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400000">
                <a:off x="1704960" y="4495680"/>
                <a:ext cx="457200" cy="457200"/>
              </a:xfrm>
              <a:custGeom>
                <a:avLst/>
                <a:gdLst>
                  <a:gd name="textAreaLeft" fmla="*/ 152280 w 457200"/>
                  <a:gd name="textAreaRight" fmla="*/ 391680 w 457200"/>
                  <a:gd name="textAreaTop" fmla="*/ 263520 h 457200"/>
                  <a:gd name="textAreaBottom" fmla="*/ 3916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362560" y="4647960"/>
                <a:ext cx="304920" cy="221004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57600 h 2210040"/>
                  <a:gd name="textAreaBottom" fmla="*/ 2152440 h 221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1704600" y="5029200"/>
                <a:ext cx="1066680" cy="4572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305160" y="5029200"/>
                <a:ext cx="1828800" cy="609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5280" y="5181480"/>
              <a:ext cx="349200" cy="1235160"/>
              <a:chOff x="3635280" y="5181480"/>
              <a:chExt cx="349200" cy="1235160"/>
            </a:xfrm>
          </p:grpSpPr>
          <p:sp>
            <p:nvSpPr>
              <p:cNvPr id="66" name=""/>
              <p:cNvSpPr/>
              <p:nvPr/>
            </p:nvSpPr>
            <p:spPr>
              <a:xfrm>
                <a:off x="3635280" y="5788080"/>
                <a:ext cx="349200" cy="628560"/>
              </a:xfrm>
              <a:prstGeom prst="rect">
                <a:avLst/>
              </a:prstGeom>
              <a:noFill/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3762360" y="5181480"/>
                <a:ext cx="0" cy="53352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533320" y="395280"/>
            <a:ext cx="40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ncipio de Le Châte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3480" y="1706400"/>
            <a:ext cx="8685360" cy="3705840"/>
            <a:chOff x="303480" y="1706400"/>
            <a:chExt cx="8685360" cy="3705840"/>
          </a:xfrm>
        </p:grpSpPr>
        <p:sp>
          <p:nvSpPr>
            <p:cNvPr id="252" name=""/>
            <p:cNvSpPr/>
            <p:nvPr/>
          </p:nvSpPr>
          <p:spPr>
            <a:xfrm>
              <a:off x="303480" y="1717560"/>
              <a:ext cx="589104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Si un sistema químico que está en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equilibrio se somete a una perturbación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que cambie cualquiera de las variables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que determina el estado de equilibrio,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el sistema evolucionará para contrarrestar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el efecto de la perturbación”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92120" y="4525920"/>
              <a:ext cx="3996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Times New Roman"/>
                </a:rPr>
                <a:t>Henri Louis Le Châteli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(1850-193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chatelier3" descr=""/>
            <p:cNvPicPr/>
            <p:nvPr/>
          </p:nvPicPr>
          <p:blipFill>
            <a:blip r:embed="rId1"/>
            <a:stretch/>
          </p:blipFill>
          <p:spPr>
            <a:xfrm>
              <a:off x="6435720" y="1706400"/>
              <a:ext cx="2479680" cy="274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65000" y="395280"/>
            <a:ext cx="66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Efecto de un cambio de temperatura (a P c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81760" y="1193760"/>
            <a:ext cx="8282160" cy="942480"/>
            <a:chOff x="581760" y="1193760"/>
            <a:chExt cx="8282160" cy="942480"/>
          </a:xfrm>
        </p:grpSpPr>
        <p:sp>
          <p:nvSpPr>
            <p:cNvPr id="257" name=""/>
            <p:cNvSpPr/>
            <p:nvPr/>
          </p:nvSpPr>
          <p:spPr>
            <a:xfrm>
              <a:off x="582840" y="1193760"/>
              <a:ext cx="809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i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Hº &gt; 0 (endotérmica):  T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e desplazará a la de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1760" y="1676520"/>
              <a:ext cx="828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i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Hº &lt; 0 (exotérmica):    T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e desplazará a la izquier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763920" y="2708280"/>
            <a:ext cx="72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Efecto de la adición/sustracción de moles de</a:t>
            </a:r>
            <a:br>
              <a:rPr sz="2800"/>
            </a:b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       reactivos o productos gaseosos (a T y V c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646360" y="3959280"/>
                <a:ext cx="38307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eac</m:t>
                        </m:r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eac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706680" y="5197320"/>
            <a:ext cx="78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agrego productos: Q &gt; Kc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rá a la izquie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agrego reactivos: Q &lt; Kc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rá a la der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4640" y="471600"/>
            <a:ext cx="62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Efecto de un cambio de volumen (a T c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920" y="373860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Efecto de la presión total (a T c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640" y="1266840"/>
            <a:ext cx="838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minución de V hace que la concentración total de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léculas aumente. El sistema tenderá a reducir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 hacia donde haya un menor número de moles gase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960" y="4527720"/>
            <a:ext cx="83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aumento de P tiene el mismo efecto que una disminución de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 hacia donde haya un menor número de moles gase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64280" y="471600"/>
            <a:ext cx="56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Adición de un gas inerte (a T y V c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2819520"/>
            <a:ext cx="38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Adición de un cataliz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642320" y="1262160"/>
            <a:ext cx="5749200" cy="947520"/>
            <a:chOff x="1642320" y="1262160"/>
            <a:chExt cx="5749200" cy="947520"/>
          </a:xfrm>
        </p:grpSpPr>
        <p:sp>
          <p:nvSpPr>
            <p:cNvPr id="269" name=""/>
            <p:cNvSpPr/>
            <p:nvPr/>
          </p:nvSpPr>
          <p:spPr>
            <a:xfrm>
              <a:off x="1642320" y="1506600"/>
              <a:ext cx="26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¿altera el equilibrio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5119560" y="1262160"/>
                  <a:ext cx="2271960" cy="94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prod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reac</m:t>
                          </m:r>
                          <m:r>
                            <m:t xml:space="preserve">]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rod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V</m:t>
                              </m:r>
                            </m:den>
                          </m:f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eac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V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"/>
          <p:cNvSpPr/>
          <p:nvPr/>
        </p:nvSpPr>
        <p:spPr>
          <a:xfrm>
            <a:off x="1499400" y="35053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afecta al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7800" y="4876920"/>
            <a:ext cx="71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Adición de un reactivo/producto sólido o líq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4600" y="55627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altera el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52680" y="2590920"/>
            <a:ext cx="2514600" cy="914400"/>
          </a:xfrm>
          <a:prstGeom prst="rect">
            <a:avLst/>
          </a:prstGeom>
          <a:solidFill>
            <a:srgbClr val="ffcc9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quilib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629400" y="4191120"/>
            <a:ext cx="2363760" cy="1295280"/>
            <a:chOff x="6629400" y="4191120"/>
            <a:chExt cx="2363760" cy="1295280"/>
          </a:xfrm>
        </p:grpSpPr>
        <p:sp>
          <p:nvSpPr>
            <p:cNvPr id="70" name=""/>
            <p:cNvSpPr/>
            <p:nvPr/>
          </p:nvSpPr>
          <p:spPr>
            <a:xfrm>
              <a:off x="6915240" y="4222800"/>
              <a:ext cx="207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G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Sólid/líqu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En disolu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4191120"/>
              <a:ext cx="380880" cy="12952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85800" y="533520"/>
            <a:ext cx="7772400" cy="2203920"/>
            <a:chOff x="685800" y="533520"/>
            <a:chExt cx="7772400" cy="2203920"/>
          </a:xfrm>
        </p:grpSpPr>
        <p:sp>
          <p:nvSpPr>
            <p:cNvPr id="73" name=""/>
            <p:cNvSpPr/>
            <p:nvPr/>
          </p:nvSpPr>
          <p:spPr>
            <a:xfrm>
              <a:off x="685800" y="533520"/>
              <a:ext cx="2286000" cy="1218960"/>
            </a:xfrm>
            <a:prstGeom prst="ellipse">
              <a:avLst/>
            </a:prstGeom>
            <a:solidFill>
              <a:srgbClr val="ccffcc"/>
            </a:solidFill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Mecán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533520"/>
              <a:ext cx="2286000" cy="1218960"/>
            </a:xfrm>
            <a:prstGeom prst="ellipse">
              <a:avLst/>
            </a:prstGeom>
            <a:solidFill>
              <a:srgbClr val="ccffcc"/>
            </a:solidFill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Tér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200000">
              <a:off x="2514240" y="1752120"/>
              <a:ext cx="762120" cy="838440"/>
            </a:xfrm>
            <a:prstGeom prst="upArrow">
              <a:avLst>
                <a:gd name="adj1" fmla="val 50000"/>
                <a:gd name="adj2" fmla="val 2750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400000">
              <a:off x="6019560" y="1752120"/>
              <a:ext cx="761760" cy="838440"/>
            </a:xfrm>
            <a:prstGeom prst="upArrow">
              <a:avLst>
                <a:gd name="adj1" fmla="val 50000"/>
                <a:gd name="adj2" fmla="val 2751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480" y="3511080"/>
            <a:ext cx="2923200" cy="2432520"/>
            <a:chOff x="609480" y="3511080"/>
            <a:chExt cx="2923200" cy="2432520"/>
          </a:xfrm>
        </p:grpSpPr>
        <p:sp>
          <p:nvSpPr>
            <p:cNvPr id="78" name=""/>
            <p:cNvSpPr/>
            <p:nvPr/>
          </p:nvSpPr>
          <p:spPr>
            <a:xfrm>
              <a:off x="609480" y="4724280"/>
              <a:ext cx="2286000" cy="1219320"/>
            </a:xfrm>
            <a:prstGeom prst="ellipse">
              <a:avLst/>
            </a:prstGeom>
            <a:solidFill>
              <a:srgbClr val="ff99cc"/>
            </a:solidFill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Mater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3200000">
              <a:off x="2590560" y="3657600"/>
              <a:ext cx="761760" cy="838080"/>
            </a:xfrm>
            <a:prstGeom prst="upArrow">
              <a:avLst>
                <a:gd name="adj1" fmla="val 50000"/>
                <a:gd name="adj2" fmla="val 2750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819520" y="4495680"/>
            <a:ext cx="3657600" cy="1828800"/>
            <a:chOff x="2819520" y="4495680"/>
            <a:chExt cx="3657600" cy="1828800"/>
          </a:xfrm>
        </p:grpSpPr>
        <p:sp>
          <p:nvSpPr>
            <p:cNvPr id="81" name=""/>
            <p:cNvSpPr/>
            <p:nvPr/>
          </p:nvSpPr>
          <p:spPr>
            <a:xfrm>
              <a:off x="3429000" y="5715000"/>
              <a:ext cx="3048120" cy="609480"/>
            </a:xfrm>
            <a:prstGeom prst="rect">
              <a:avLst/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9900"/>
                  </a:solidFill>
                  <a:latin typeface="Times New Roman"/>
                </a:rPr>
                <a:t>Equilibrio de fa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29000" y="4495680"/>
              <a:ext cx="3048120" cy="609840"/>
            </a:xfrm>
            <a:prstGeom prst="rect">
              <a:avLst/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9900"/>
                  </a:solidFill>
                  <a:latin typeface="Times New Roman"/>
                </a:rPr>
                <a:t>Equilibrio quí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819520" y="4800240"/>
              <a:ext cx="457200" cy="1522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9520" y="5867280"/>
              <a:ext cx="457200" cy="1526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62040" y="4716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99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90000" y="1371600"/>
            <a:ext cx="927000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1.- Aspectos básicos del equilibrio quím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2.- Condición general del equilibrio quím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3.- Equilibrio químico en sistemas gaseosos ide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4.- Equilibrios heterogéne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5.- Variación de la constante de equilibrio con la temperatu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6.- Respuesta del equilibrio a un cambio de condic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Principio de Le Châteli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6120" y="26028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ASPECTOS BÁSI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38960" y="1052640"/>
            <a:ext cx="699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Estado de equilibrio: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estado en que la composición 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el sistema permanece fij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31400" y="2637000"/>
            <a:ext cx="765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quilibrio diná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sistemas evolucionan espontáneamente hacia un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stado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propiedades del estado de equilibrio son las mismas,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independientemente de la dirección desde la que se alca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56360" y="2133720"/>
            <a:ext cx="3408480" cy="3125160"/>
            <a:chOff x="756360" y="2133720"/>
            <a:chExt cx="3408480" cy="3125160"/>
          </a:xfrm>
        </p:grpSpPr>
        <p:sp>
          <p:nvSpPr>
            <p:cNvPr id="91" name=""/>
            <p:cNvSpPr/>
            <p:nvPr/>
          </p:nvSpPr>
          <p:spPr>
            <a:xfrm>
              <a:off x="756720" y="2133720"/>
              <a:ext cx="324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7c80"/>
                  </a:solidFill>
                  <a:latin typeface="Times New Roman"/>
                </a:rPr>
                <a:t>Perspectiva cualitativ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6360" y="4768920"/>
              <a:ext cx="3408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7c80"/>
                  </a:solidFill>
                  <a:latin typeface="Times New Roman"/>
                </a:rPr>
                <a:t>Perspectiva cuantitativ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186200" y="5373720"/>
            <a:ext cx="7011360" cy="1044000"/>
            <a:chOff x="1186200" y="5373720"/>
            <a:chExt cx="7011360" cy="1044000"/>
          </a:xfrm>
        </p:grpSpPr>
        <p:sp>
          <p:nvSpPr>
            <p:cNvPr id="94" name=""/>
            <p:cNvSpPr/>
            <p:nvPr/>
          </p:nvSpPr>
          <p:spPr>
            <a:xfrm>
              <a:off x="1186200" y="5373720"/>
              <a:ext cx="3469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00"/>
                  </a:solidFill>
                  <a:latin typeface="Times New Roman"/>
                </a:rPr>
                <a:t>Ley de acción de masa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19200" y="5958000"/>
              <a:ext cx="28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A + </a:t>
              </a: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B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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C + </a:t>
              </a: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06640" y="5400720"/>
                  <a:ext cx="2590920" cy="93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C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c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d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a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ante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22860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CONDICIÓN GENERAL DEL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6280" y="1052640"/>
            <a:ext cx="8277840" cy="1374120"/>
            <a:chOff x="386280" y="1052640"/>
            <a:chExt cx="8277840" cy="1374120"/>
          </a:xfrm>
        </p:grpSpPr>
        <p:sp>
          <p:nvSpPr>
            <p:cNvPr id="99" name=""/>
            <p:cNvSpPr/>
            <p:nvPr/>
          </p:nvSpPr>
          <p:spPr>
            <a:xfrm>
              <a:off x="386280" y="1052640"/>
              <a:ext cx="827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A P y T constantes, el sentido del cambio espontáneo es el sentido</a:t>
              </a:r>
              <a:br>
                <a:rPr sz="2400"/>
              </a:b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de la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imes New Roman"/>
                </a:rPr>
                <a:t>disminución de G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0080" y="20433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48080" y="1967040"/>
              <a:ext cx="38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Proceso espontáneo: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G &l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80880" y="2708280"/>
            <a:ext cx="8686800" cy="3997080"/>
            <a:chOff x="380880" y="2708280"/>
            <a:chExt cx="8686800" cy="39970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380880" y="2708280"/>
              <a:ext cx="2921040" cy="399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3777840" y="2854080"/>
              <a:ext cx="5289840" cy="1767960"/>
              <a:chOff x="3777840" y="2854080"/>
              <a:chExt cx="5289840" cy="1767960"/>
            </a:xfrm>
          </p:grpSpPr>
          <mc:AlternateContent>
            <mc:Choice xmlns:a14="http://schemas.microsoft.com/office/drawing/2010/main" Requires="a14">
              <p:sp>
                <p:nvSpPr>
                  <p:cNvPr id="105" name=""/>
                  <p:cNvSpPr txBox="1"/>
                  <p:nvPr/>
                </p:nvSpPr>
                <p:spPr>
                  <a:xfrm>
                    <a:off x="4114800" y="2854080"/>
                    <a:ext cx="3809880" cy="71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G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d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c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ac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6" name=""/>
              <p:cNvSpPr/>
              <p:nvPr/>
            </p:nvSpPr>
            <p:spPr>
              <a:xfrm>
                <a:off x="3777840" y="3902760"/>
                <a:ext cx="201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Inicio:  </a:t>
                </a:r>
                <a:r>
                  <a:rPr b="0" lang="es-ES_tradnl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G &lt;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5977080" y="3902760"/>
                    <a:ext cx="3090600" cy="719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d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&lt;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c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ac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8" name=""/>
          <p:cNvGrpSpPr/>
          <p:nvPr/>
        </p:nvGrpSpPr>
        <p:grpSpPr>
          <a:xfrm>
            <a:off x="4356000" y="4869000"/>
            <a:ext cx="3686040" cy="1669680"/>
            <a:chOff x="4356000" y="4869000"/>
            <a:chExt cx="3686040" cy="1669680"/>
          </a:xfrm>
        </p:grpSpPr>
        <p:sp>
          <p:nvSpPr>
            <p:cNvPr id="109" name=""/>
            <p:cNvSpPr/>
            <p:nvPr/>
          </p:nvSpPr>
          <p:spPr>
            <a:xfrm>
              <a:off x="4590360" y="4869000"/>
              <a:ext cx="26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Times New Roman"/>
                </a:rPr>
                <a:t>Equilibrio: 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imes New Roman"/>
                </a:rPr>
                <a:t>G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4356000" y="5671800"/>
                  <a:ext cx="34891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prod</m:t>
                          </m:r>
                        </m:sub>
                        <m:sup/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rod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reac</m:t>
                          </m:r>
                        </m:sub>
                        <m:sup/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reac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7857720" y="4926600"/>
              <a:ext cx="1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9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EQUILIBRIO QUÍMICO EN SISTEMAS</a:t>
            </a:r>
            <a:br>
              <a:rPr sz="2800"/>
            </a:b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GASEOSOS ID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14400" y="1976400"/>
                <a:ext cx="72468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reac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ac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b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2419560" y="1295280"/>
            <a:ext cx="4292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00"/>
                </a:solidFill>
                <a:uFillTx/>
                <a:latin typeface="Times New Roman"/>
              </a:rPr>
              <a:t>EQUILIBRIO HOMOGÉNE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6880" y="2590920"/>
            <a:ext cx="7185960" cy="823680"/>
            <a:chOff x="146880" y="2590920"/>
            <a:chExt cx="7185960" cy="823680"/>
          </a:xfrm>
        </p:grpSpPr>
        <p:sp>
          <p:nvSpPr>
            <p:cNvPr id="116" name=""/>
            <p:cNvSpPr/>
            <p:nvPr/>
          </p:nvSpPr>
          <p:spPr>
            <a:xfrm>
              <a:off x="146880" y="2743200"/>
              <a:ext cx="42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ara una mezcla de gases ideal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4572000" y="2590920"/>
                  <a:ext cx="253224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º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8" name=""/>
            <p:cNvSpPr/>
            <p:nvPr/>
          </p:nvSpPr>
          <p:spPr>
            <a:xfrm>
              <a:off x="7148520" y="28195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360" y="3505320"/>
                <a:ext cx="88473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c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d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a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b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º</m:t>
                        </m:r>
                      </m:den>
                    </m:f>
                    <m:r>
                      <m:t xml:space="preserve">+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º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º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8600" y="4260960"/>
                <a:ext cx="407520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G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037680" y="6172200"/>
            <a:ext cx="313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Isoterma de rea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54920" y="4495680"/>
            <a:ext cx="3350880" cy="1371600"/>
            <a:chOff x="5254920" y="4495680"/>
            <a:chExt cx="3350880" cy="1371600"/>
          </a:xfrm>
        </p:grpSpPr>
        <p:sp>
          <p:nvSpPr>
            <p:cNvPr id="123" name=""/>
            <p:cNvSpPr/>
            <p:nvPr/>
          </p:nvSpPr>
          <p:spPr>
            <a:xfrm>
              <a:off x="5486400" y="5105520"/>
              <a:ext cx="2895480" cy="761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5645160" y="5315040"/>
                  <a:ext cx="258444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G</m:t>
                      </m:r>
                      <m:r>
                        <m:t xml:space="preserve">=</m:t>
                      </m:r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Gº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5" name=""/>
            <p:cNvSpPr/>
            <p:nvPr/>
          </p:nvSpPr>
          <p:spPr>
            <a:xfrm>
              <a:off x="5254920" y="4495680"/>
              <a:ext cx="33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: Cuociente de re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025720" y="1066680"/>
                <a:ext cx="5060880" cy="20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G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C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D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d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A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a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B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b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597680" y="228600"/>
            <a:ext cx="58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ando lleguemos al equilibrio: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5219640" y="209520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30360" y="3557520"/>
            <a:ext cx="65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64480" y="3321000"/>
            <a:ext cx="30304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onstante de equilibrio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ermodinámic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981080" y="4803840"/>
                <a:ext cx="5248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G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ΔGº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429000" y="5715000"/>
                <a:ext cx="2362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G</m:t>
                        </m:r>
                        <m:r>
                          <m:rPr>
                            <m:lit/>
                            <m:nor/>
                          </m:rPr>
                          <m:t xml:space="preserve">º/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429000" y="304920"/>
                <a:ext cx="2362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G</m:t>
                        </m:r>
                        <m:r>
                          <m:rPr>
                            <m:lit/>
                            <m:nor/>
                          </m:rPr>
                          <m:t xml:space="preserve">º/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382680" y="115740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6440" y="1717560"/>
            <a:ext cx="707040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º &gt;&gt; 0  ;  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&lt;&lt; 1  :  poca tendencia r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º &lt;&lt; 0  ;  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&gt;&gt; 1  :  mucha tendencia r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&gt; 0 y depende de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º sólo depende de T; 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tambié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isponemos de dos formas de determinar 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36760" y="4459320"/>
            <a:ext cx="6107040" cy="2017800"/>
            <a:chOff x="1436760" y="4459320"/>
            <a:chExt cx="6107040" cy="2017800"/>
          </a:xfrm>
        </p:grpSpPr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5715000" y="5191200"/>
                  <a:ext cx="182880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ΔG</m:t>
                          </m:r>
                          <m:r>
                            <m:rPr>
                              <m:lit/>
                              <m:nor/>
                            </m:rPr>
                            <m:t xml:space="preserve">º/</m:t>
                          </m:r>
                          <m:r>
                            <m:rPr>
                              <m:lit/>
                              <m:nor/>
                            </m:rPr>
                            <m:t xml:space="preserve">R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1436760" y="4459320"/>
                  <a:ext cx="2982960" cy="201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P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C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Pº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c</m:t>
                                      </m:r>
                                    </m:sup>
                                  </m:sSup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P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D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Pº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d</m:t>
                                      </m:r>
                                    </m:sup>
                                  </m:sSup>
                                </m:num>
                                <m:den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P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A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Pº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a</m:t>
                                      </m:r>
                                    </m:sup>
                                  </m:sSup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P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B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Pº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b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08:16:59Z</dcterms:created>
  <dc:creator>Rosendo Pou Amerigo</dc:creator>
  <dc:description/>
  <dc:language>en-US</dc:language>
  <cp:lastModifiedBy>RICARDO LETELIER</cp:lastModifiedBy>
  <dcterms:modified xsi:type="dcterms:W3CDTF">2005-06-10T19:55:48Z</dcterms:modified>
  <cp:revision>460</cp:revision>
  <dc:subject>Entropía y energía libre</dc:subject>
  <dc:title>La dirección del cambio químico</dc:title>
</cp:coreProperties>
</file>