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38D-8272-47A0-AEEE-9D7060C1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BC7-75EC-490C-BB41-B1D2233B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A9F-9606-4E80-9C13-6DBDCDD9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6C4-32EF-4BE9-BAAF-D9E65541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18F-9C25-4A9E-B8D3-A8E73340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345-289B-4F68-9FA7-CD6B0696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020-9E45-4428-AB21-2EC82E3B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8E4-EDDD-4D40-8503-05F20092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4CD-5241-48E0-9C3E-E75CC919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536-0F25-4084-982F-E9C9D0C2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6CB-41D7-44F6-8751-0E4B5F8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ECE-DE44-4EAF-AA74-7E7C4A7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82B7-276E-49FA-B2F1-3050DD0CDC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8760" y="2514600"/>
            <a:ext cx="55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un proyecto m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64320" y="559908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.: Alejandro Vás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nglo Sans Bold"/>
              </a:rPr>
              <a:t>Diseño Minero a Raj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023920"/>
            <a:ext cx="6933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terminar los límites de explotación y secuenciamiento de extracción del yacimiento que entregue el mejor beneficio económico a los accionis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733920"/>
            <a:ext cx="6933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Consid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odelo de Bloques a utilizar (calidad de los recursos minera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odelo de costos (mejor estimación de los costos de largo plaz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cio de Largo plazo de los minerales que serán explo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ámetros de diseño (ángulo de talud, recuperación metalúrgica, et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ones Medio Ambien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5880" y="1447920"/>
            <a:ext cx="16002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Times New Roman"/>
              </a:rPr>
              <a:t>Cálculo de los límites económicos del R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71240" y="838440"/>
            <a:ext cx="1524240" cy="1219320"/>
            <a:chOff x="1371240" y="838440"/>
            <a:chExt cx="1524240" cy="1219320"/>
          </a:xfrm>
        </p:grpSpPr>
        <p:sp>
          <p:nvSpPr>
            <p:cNvPr id="49" name=""/>
            <p:cNvSpPr/>
            <p:nvPr/>
          </p:nvSpPr>
          <p:spPr>
            <a:xfrm>
              <a:off x="1371600" y="1371960"/>
              <a:ext cx="1066680" cy="68580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388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5248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2880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08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740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0968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2320" y="13719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459440" y="8388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53540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61172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688040" y="8388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76400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84032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16640" y="8388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99260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6892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145240" y="8388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22120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29752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373840" y="8388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384560" y="838800"/>
              <a:ext cx="43236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451600" y="8388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8800" y="83844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451600" y="15246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5480" y="83844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129564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9520" y="91476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99072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6880" y="106704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1219320"/>
              <a:ext cx="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447560" y="129564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523880" y="1219320"/>
              <a:ext cx="106704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599840" y="106704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676160" y="99072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752480" y="914760"/>
              <a:ext cx="106704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371240" y="144792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371240" y="160056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71240" y="175284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371240" y="1905120"/>
              <a:ext cx="1066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451600" y="91512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451600" y="106740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451600" y="122004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451600" y="1372320"/>
              <a:ext cx="432000" cy="532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72080" y="3200400"/>
            <a:ext cx="184644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imes New Roman"/>
              </a:rPr>
              <a:t>Modelo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5440" y="2209680"/>
            <a:ext cx="127332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imes New Roman"/>
              </a:rPr>
              <a:t>Top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9440" y="2666880"/>
            <a:ext cx="23295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imes New Roman"/>
              </a:rPr>
              <a:t>Parámetro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838080"/>
            <a:ext cx="381240" cy="2895840"/>
          </a:xfrm>
          <a:custGeom>
            <a:avLst/>
            <a:gdLst>
              <a:gd name="textAreaLeft" fmla="*/ 0 w 381240"/>
              <a:gd name="textAreaRight" fmla="*/ 137520 w 38124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5376"/>
                </a:lnTo>
                <a:cubicBezTo>
                  <a:pt x="10800" y="6276"/>
                  <a:pt x="16200" y="7176"/>
                  <a:pt x="21600" y="7176"/>
                </a:cubicBezTo>
                <a:cubicBezTo>
                  <a:pt x="16200" y="7176"/>
                  <a:pt x="10800" y="8076"/>
                  <a:pt x="10800" y="897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371600"/>
            <a:ext cx="380880" cy="914400"/>
          </a:xfrm>
          <a:custGeom>
            <a:avLst/>
            <a:gdLst>
              <a:gd name="textAreaLeft" fmla="*/ 59400 w 380880"/>
              <a:gd name="textAreaRight" fmla="*/ 297720 w 380880"/>
              <a:gd name="textAreaTop" fmla="*/ 243000 h 914400"/>
              <a:gd name="textAreaBottom" fmla="*/ 6714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738"/>
                </a:moveTo>
                <a:lnTo>
                  <a:pt x="11507" y="5738"/>
                </a:lnTo>
                <a:lnTo>
                  <a:pt x="11507" y="0"/>
                </a:lnTo>
                <a:lnTo>
                  <a:pt x="21600" y="10800"/>
                </a:lnTo>
                <a:lnTo>
                  <a:pt x="11507" y="21600"/>
                </a:lnTo>
                <a:lnTo>
                  <a:pt x="11507" y="15862"/>
                </a:lnTo>
                <a:lnTo>
                  <a:pt x="3375" y="15862"/>
                </a:lnTo>
                <a:close/>
              </a:path>
              <a:path w="21600" h="21600">
                <a:moveTo>
                  <a:pt x="0" y="5738"/>
                </a:moveTo>
                <a:lnTo>
                  <a:pt x="675" y="5738"/>
                </a:lnTo>
                <a:lnTo>
                  <a:pt x="675" y="15862"/>
                </a:lnTo>
                <a:lnTo>
                  <a:pt x="0" y="15862"/>
                </a:lnTo>
                <a:close/>
              </a:path>
              <a:path w="21600" h="21600">
                <a:moveTo>
                  <a:pt x="1350" y="5738"/>
                </a:moveTo>
                <a:lnTo>
                  <a:pt x="2700" y="5738"/>
                </a:lnTo>
                <a:lnTo>
                  <a:pt x="2700" y="15862"/>
                </a:lnTo>
                <a:lnTo>
                  <a:pt x="1350" y="1586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888840"/>
            <a:ext cx="3073320" cy="863640"/>
          </a:xfrm>
          <a:custGeom>
            <a:avLst/>
            <a:gdLst/>
            <a:ahLst/>
            <a:rect l="l" t="t" r="r" b="b"/>
            <a:pathLst>
              <a:path w="1936" h="544">
                <a:moveTo>
                  <a:pt x="0" y="352"/>
                </a:moveTo>
                <a:cubicBezTo>
                  <a:pt x="92" y="308"/>
                  <a:pt x="184" y="264"/>
                  <a:pt x="240" y="256"/>
                </a:cubicBezTo>
                <a:cubicBezTo>
                  <a:pt x="296" y="248"/>
                  <a:pt x="280" y="304"/>
                  <a:pt x="336" y="304"/>
                </a:cubicBezTo>
                <a:cubicBezTo>
                  <a:pt x="392" y="304"/>
                  <a:pt x="520" y="272"/>
                  <a:pt x="576" y="256"/>
                </a:cubicBezTo>
                <a:cubicBezTo>
                  <a:pt x="632" y="240"/>
                  <a:pt x="640" y="200"/>
                  <a:pt x="672" y="208"/>
                </a:cubicBezTo>
                <a:cubicBezTo>
                  <a:pt x="704" y="216"/>
                  <a:pt x="744" y="320"/>
                  <a:pt x="768" y="304"/>
                </a:cubicBezTo>
                <a:cubicBezTo>
                  <a:pt x="792" y="288"/>
                  <a:pt x="784" y="160"/>
                  <a:pt x="816" y="112"/>
                </a:cubicBezTo>
                <a:cubicBezTo>
                  <a:pt x="848" y="64"/>
                  <a:pt x="920" y="32"/>
                  <a:pt x="960" y="16"/>
                </a:cubicBezTo>
                <a:cubicBezTo>
                  <a:pt x="1000" y="0"/>
                  <a:pt x="1016" y="16"/>
                  <a:pt x="1056" y="16"/>
                </a:cubicBezTo>
                <a:cubicBezTo>
                  <a:pt x="1096" y="16"/>
                  <a:pt x="1168" y="0"/>
                  <a:pt x="1200" y="16"/>
                </a:cubicBezTo>
                <a:cubicBezTo>
                  <a:pt x="1232" y="32"/>
                  <a:pt x="1208" y="80"/>
                  <a:pt x="1248" y="112"/>
                </a:cubicBezTo>
                <a:cubicBezTo>
                  <a:pt x="1288" y="144"/>
                  <a:pt x="1368" y="176"/>
                  <a:pt x="1440" y="208"/>
                </a:cubicBezTo>
                <a:cubicBezTo>
                  <a:pt x="1512" y="240"/>
                  <a:pt x="1640" y="272"/>
                  <a:pt x="1680" y="304"/>
                </a:cubicBezTo>
                <a:cubicBezTo>
                  <a:pt x="1720" y="336"/>
                  <a:pt x="1656" y="368"/>
                  <a:pt x="1680" y="400"/>
                </a:cubicBezTo>
                <a:cubicBezTo>
                  <a:pt x="1704" y="432"/>
                  <a:pt x="1784" y="472"/>
                  <a:pt x="1824" y="496"/>
                </a:cubicBezTo>
                <a:cubicBezTo>
                  <a:pt x="1864" y="520"/>
                  <a:pt x="1936" y="496"/>
                  <a:pt x="1920" y="544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86040" y="914400"/>
            <a:ext cx="2590560" cy="1371240"/>
            <a:chOff x="5486040" y="914400"/>
            <a:chExt cx="2590560" cy="1371240"/>
          </a:xfrm>
        </p:grpSpPr>
        <p:sp>
          <p:nvSpPr>
            <p:cNvPr id="106" name=""/>
            <p:cNvSpPr/>
            <p:nvPr/>
          </p:nvSpPr>
          <p:spPr>
            <a:xfrm>
              <a:off x="5486400" y="914400"/>
              <a:ext cx="2590200" cy="137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7144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5612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4152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2656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1124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9664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204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6636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5176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3716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2148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0688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92280" y="9144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486040" y="1066680"/>
              <a:ext cx="25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486040" y="1371240"/>
              <a:ext cx="25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86040" y="1675800"/>
              <a:ext cx="25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486040" y="1981080"/>
              <a:ext cx="25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486400" y="2133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828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523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1219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1371600"/>
            <a:ext cx="914400" cy="83808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209680"/>
            <a:ext cx="114300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467480" y="1447920"/>
            <a:ext cx="533520" cy="76176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2209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4520" y="19810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2362320"/>
            <a:ext cx="14446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6600"/>
                </a:solidFill>
                <a:latin typeface="Times New Roman"/>
              </a:rPr>
              <a:t>Wh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6600"/>
                </a:solidFill>
                <a:latin typeface="Times New Roman"/>
              </a:rPr>
              <a:t>Datamine NPV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1320" y="3408480"/>
            <a:ext cx="2922120" cy="703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imes New Roman"/>
              </a:rPr>
              <a:t>Raj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imes New Roman"/>
              </a:rPr>
              <a:t>Secuenciamiento (F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819520"/>
            <a:ext cx="1371600" cy="457200"/>
          </a:xfrm>
          <a:prstGeom prst="downArrow">
            <a:avLst>
              <a:gd name="adj1" fmla="val 47917"/>
              <a:gd name="adj2" fmla="val 40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1"/>
            <a:endCxn id="116" idx="0"/>
          </p:cNvCxnSpPr>
          <p:nvPr/>
        </p:nvCxnSpPr>
        <p:spPr>
          <a:xfrm rot="10800000">
            <a:off x="7336800" y="2285280"/>
            <a:ext cx="283320" cy="402480"/>
          </a:xfrm>
          <a:prstGeom prst="curvedConnector2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6324480" y="4495680"/>
            <a:ext cx="1371600" cy="457200"/>
          </a:xfrm>
          <a:prstGeom prst="downArrow">
            <a:avLst>
              <a:gd name="adj1" fmla="val 47917"/>
              <a:gd name="adj2" fmla="val 40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094360"/>
            <a:ext cx="3962520" cy="1067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imes New Roman"/>
              </a:rPr>
              <a:t>Expansiones Mina/Planta más prob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imes New Roman"/>
              </a:rPr>
              <a:t>Estrategias de Leyes de corte de envio a planta  </a:t>
            </a:r>
            <a:r>
              <a:rPr b="1" lang="es-CL" sz="1200" spc="-1" strike="noStrike">
                <a:solidFill>
                  <a:srgbClr val="ff6600"/>
                </a:solidFill>
                <a:latin typeface="Times New Roman"/>
              </a:rPr>
              <a:t>(Teoría K. Lane - Optic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imes New Roman"/>
              </a:rPr>
              <a:t>Planes min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5029200"/>
            <a:ext cx="533160" cy="1219320"/>
          </a:xfrm>
          <a:prstGeom prst="leftArrow">
            <a:avLst>
              <a:gd name="adj1" fmla="val 45056"/>
              <a:gd name="adj2" fmla="val 467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2200" y="5257800"/>
            <a:ext cx="38077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conómicos de los mejores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AN, TIR, ROCE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52280"/>
            <a:ext cx="58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tapas de Diseño y Evaluación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543800" y="2057400"/>
            <a:ext cx="76320" cy="228600"/>
            <a:chOff x="7543800" y="2057400"/>
            <a:chExt cx="76320" cy="228600"/>
          </a:xfrm>
        </p:grpSpPr>
        <p:sp>
          <p:nvSpPr>
            <p:cNvPr id="143" name=""/>
            <p:cNvSpPr/>
            <p:nvPr/>
          </p:nvSpPr>
          <p:spPr>
            <a:xfrm>
              <a:off x="7543800" y="2133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543800" y="2057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917640" y="905040"/>
            <a:ext cx="1559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ff"/>
                </a:solidFill>
                <a:latin typeface="Times New Roman"/>
              </a:rPr>
              <a:t>Modelo de Blo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09480" y="2247840"/>
          <a:ext cx="8139240" cy="36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47840"/>
                    <a:ext cx="8139240" cy="36892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906120" y="990720"/>
            <a:ext cx="76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a Gantt Típica un proyecto minero en su fase concep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21:13:32Z</dcterms:created>
  <dc:creator>gandrad</dc:creator>
  <dc:description/>
  <dc:language>en-US</dc:language>
  <cp:lastModifiedBy>Anglo American Chile</cp:lastModifiedBy>
  <dcterms:modified xsi:type="dcterms:W3CDTF">2005-04-19T16:40:20Z</dcterms:modified>
  <cp:revision>50</cp:revision>
  <dc:subject/>
  <dc:title>Diapositiva 1</dc:title>
</cp:coreProperties>
</file>