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1D2B-0AAE-44AC-B902-6781A7BE7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CA61-6746-4CC0-AF5C-6F57F8A9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BB56-C155-4EF8-8A38-172B4B6AA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29A4-5464-4C4F-95A4-13676F1F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F1CE-E04A-43F2-BB91-62F2A1AC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9B24-22D8-4B44-891B-C785BF71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E791-E407-4B78-B8A9-6EA49F23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ED4F-0BF4-444F-B2A2-C0AB2912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1949-9700-4A3D-8092-53F48933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6400-4E55-4093-8413-A2BCD814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7953-7D37-4A7C-9B27-CE6DF71D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63CA-0AA6-4196-838D-40C1AA1C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D9B2-5175-45D8-A214-E1EDE27B4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Lectura Tabla Distribución Nor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2014560"/>
          <a:ext cx="7772400" cy="40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14560"/>
                    <a:ext cx="7772400" cy="40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asos de Anál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533520" y="2590920"/>
                <a:ext cx="8146800" cy="20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&gt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&gt;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asos de Anál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286000" y="3276720"/>
          <a:ext cx="4343400" cy="27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276720"/>
                    <a:ext cx="4343400" cy="27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124080" y="2133720"/>
                <a:ext cx="275616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685800" y="1828800"/>
          <a:ext cx="337176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337176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410080" y="1828800"/>
          <a:ext cx="3429000" cy="426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1828800"/>
                    <a:ext cx="34290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828800" y="685800"/>
                <a:ext cx="563868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4191120" y="3733920"/>
            <a:ext cx="1036440" cy="60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533520" y="1905120"/>
          <a:ext cx="3154320" cy="38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05120"/>
                    <a:ext cx="3154320" cy="38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5029200" y="1905120"/>
          <a:ext cx="3124080" cy="38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1905120"/>
                    <a:ext cx="31240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219320" y="762120"/>
                <a:ext cx="655308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3886200" y="4191120"/>
            <a:ext cx="898560" cy="15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838080" y="380880"/>
          <a:ext cx="762012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80880"/>
                    <a:ext cx="762012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1295280" y="533520"/>
            <a:ext cx="67820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Times New Roman"/>
              </a:rPr>
              <a:t>"Como primer paso debemos observar arriba en la tabla como viene dadas las probabilidades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181480" y="1447920"/>
          <a:ext cx="2448000" cy="158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1447920"/>
                    <a:ext cx="244800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143000" y="3200400"/>
            <a:ext cx="7010280" cy="29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993300"/>
                </a:solidFill>
                <a:latin typeface="Times New Roman"/>
              </a:rPr>
              <a:t>En este caso son de la form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733920" y="3962520"/>
          <a:ext cx="1752480" cy="119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3962520"/>
                    <a:ext cx="175248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95280" y="533520"/>
            <a:ext cx="6782040" cy="59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cc3300"/>
                </a:solidFill>
                <a:latin typeface="Times New Roman"/>
              </a:rPr>
              <a:t>Analicemo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295280" y="1828800"/>
                <a:ext cx="6782040" cy="20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≻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1371600" y="43434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Observemos que 1.9 + 0.06 = 1.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38080" y="380880"/>
          <a:ext cx="762012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80880"/>
                    <a:ext cx="762012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71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04920" y="0"/>
          <a:ext cx="8534160" cy="689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534160" cy="68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219320" y="966960"/>
            <a:ext cx="7543800" cy="596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s-ES_tradnl" sz="3000" spc="-1" strike="noStrike">
                <a:solidFill>
                  <a:srgbClr val="993300"/>
                </a:solidFill>
                <a:latin typeface="Times New Roman"/>
              </a:rPr>
              <a:t>Debemos buscar en la primera columna el valor 1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00"/>
                </a:solidFill>
                <a:latin typeface="Times New Roman"/>
              </a:rPr>
              <a:t>1.9 + 0.06 = 1.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6172200"/>
            <a:ext cx="7010280" cy="457200"/>
          </a:xfrm>
          <a:prstGeom prst="leftArrow">
            <a:avLst>
              <a:gd name="adj1" fmla="val 50000"/>
              <a:gd name="adj2" fmla="val 383327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71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04920" y="304920"/>
          <a:ext cx="8534160" cy="658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8534160" cy="65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295280" y="1143000"/>
            <a:ext cx="7543800" cy="55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s-ES_tradnl" sz="3000" spc="-1" strike="noStrike">
                <a:solidFill>
                  <a:srgbClr val="993300"/>
                </a:solidFill>
                <a:latin typeface="Times New Roman"/>
              </a:rPr>
              <a:t>Debemos buscar en la primera fila el valor 0.0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00"/>
                </a:solidFill>
                <a:latin typeface="Times New Roman"/>
              </a:rPr>
              <a:t>1.9 + 0.06 = 1.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1066680"/>
            <a:ext cx="380880" cy="2362320"/>
          </a:xfrm>
          <a:prstGeom prst="upArrow">
            <a:avLst>
              <a:gd name="adj1" fmla="val 50000"/>
              <a:gd name="adj2" fmla="val 15505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71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04920" y="304920"/>
          <a:ext cx="8534160" cy="658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8534160" cy="65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1219320" y="1143000"/>
            <a:ext cx="5562360" cy="527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3300"/>
                </a:solidFill>
                <a:latin typeface="Times New Roman"/>
              </a:rPr>
              <a:t>La probabilidad buscada corresponde a la intersección de las dos colum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962600">
            <a:off x="3962160" y="5029200"/>
            <a:ext cx="2895480" cy="685800"/>
          </a:xfrm>
          <a:custGeom>
            <a:avLst/>
            <a:gdLst>
              <a:gd name="textAreaLeft" fmla="*/ 452160 w 2895480"/>
              <a:gd name="textAreaRight" fmla="*/ 2533680 w 28954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En cualquier distribución simétrica se tiene que 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" y="2133720"/>
          <a:ext cx="3200400" cy="378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33720"/>
                    <a:ext cx="3200400" cy="37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181480" y="2133720"/>
          <a:ext cx="3200400" cy="38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2133720"/>
                    <a:ext cx="32004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133720" y="2057400"/>
                <a:ext cx="472428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≥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457200" y="5715000"/>
            <a:ext cx="7848720" cy="7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es-ES_tradnl" sz="3300" spc="-1" strike="noStrike">
                <a:solidFill>
                  <a:srgbClr val="000000"/>
                </a:solidFill>
                <a:latin typeface="Times New Roman"/>
              </a:rPr>
              <a:t>Equivalencia de áreas”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ff"/>
                </a:solidFill>
                <a:uFillTx/>
                <a:latin typeface="Times New Roman"/>
              </a:rPr>
              <a:t>Casos de Anál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533520" y="2666880"/>
                <a:ext cx="8305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50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 flipH="1" flipV="1">
            <a:off x="1600200" y="3352680"/>
            <a:ext cx="15840" cy="1036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4800600"/>
            <a:ext cx="2514600" cy="1050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300" spc="-1" strike="noStrike">
                <a:solidFill>
                  <a:srgbClr val="000000"/>
                </a:solidFill>
                <a:latin typeface="Times New Roman"/>
              </a:rPr>
              <a:t>No está en la tabla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5T23:21:08Z</dcterms:created>
  <dc:creator>lcerda</dc:creator>
  <dc:description/>
  <dc:language>en-US</dc:language>
  <cp:lastModifiedBy>ma34b03</cp:lastModifiedBy>
  <dcterms:modified xsi:type="dcterms:W3CDTF">2003-02-27T12:17:01Z</dcterms:modified>
  <cp:revision>27</cp:revision>
  <dc:subject/>
  <dc:title>Lectura Tabla Distribución Normal</dc:title>
</cp:coreProperties>
</file>