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3F8-2349-4CD3-9C34-94167DA1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82D-C8D1-4A6D-8A54-0823767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D90-3C07-4407-BAD8-31EBEEE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797-C1ED-478F-8A35-E0B46387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CB2-9D11-423E-A758-343E303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A1-3308-4F24-8CF2-5655CCE6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495-5DC6-4C00-9B60-42317A8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41D-2F0B-4106-BE59-3A13539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344-4A67-49D4-B23C-B91E9BA0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70F-24C2-4510-AB60-D3911EE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D27-9ED8-46CC-97AD-B1013E1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F6F-9749-4B8A-B344-E89B7E1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C0E0-43A7-4AEC-B867-49698D43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ectura Tabla Distribución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2014560"/>
          <a:ext cx="777240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4560"/>
                    <a:ext cx="77724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2590920"/>
                <a:ext cx="81468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0" y="3276720"/>
          <a:ext cx="434340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434340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2133720"/>
                <a:ext cx="2756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85800" y="1828800"/>
          <a:ext cx="3371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3371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410080" y="1828800"/>
          <a:ext cx="342900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828800"/>
                    <a:ext cx="3429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28800" y="685800"/>
                <a:ext cx="5638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191120" y="3733920"/>
            <a:ext cx="1036440" cy="6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3520" y="1905120"/>
          <a:ext cx="31543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1543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29200" y="1905120"/>
          <a:ext cx="312408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312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762120"/>
                <a:ext cx="65530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86200" y="4191120"/>
            <a:ext cx="898560" cy="1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295280" y="533520"/>
            <a:ext cx="678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"Como primer paso debemos observar arriba en la tabla como viene dadas las probabilidade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1447920"/>
          <a:ext cx="244800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447920"/>
                    <a:ext cx="2448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43000" y="3200400"/>
            <a:ext cx="7010280" cy="29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93300"/>
                </a:solidFill>
                <a:latin typeface="Times New Roman"/>
              </a:rPr>
              <a:t>En este caso son de la for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3962520"/>
          <a:ext cx="175248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962520"/>
                    <a:ext cx="17524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533520"/>
            <a:ext cx="6782040" cy="59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c3300"/>
                </a:solidFill>
                <a:latin typeface="Times New Roman"/>
              </a:rPr>
              <a:t>Analicem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1828800"/>
                <a:ext cx="67820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≻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37160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servemos que 1.9 + 0.06 = 1.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0"/>
          <a:ext cx="8534160" cy="68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966960"/>
            <a:ext cx="7543800" cy="59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columna el valor 1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172200"/>
            <a:ext cx="7010280" cy="457200"/>
          </a:xfrm>
          <a:prstGeom prst="leftArrow">
            <a:avLst>
              <a:gd name="adj1" fmla="val 50000"/>
              <a:gd name="adj2" fmla="val 38332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295280" y="1143000"/>
            <a:ext cx="7543800" cy="55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fila el valor 0.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380880" cy="2362320"/>
          </a:xfrm>
          <a:prstGeom prst="upArrow">
            <a:avLst>
              <a:gd name="adj1" fmla="val 50000"/>
              <a:gd name="adj2" fmla="val 1550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19320" y="1143000"/>
            <a:ext cx="5562360" cy="527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Times New Roman"/>
              </a:rPr>
              <a:t>La probabilidad buscada corresponde a la intersección de las do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62600">
            <a:off x="3962160" y="5029200"/>
            <a:ext cx="2895480" cy="6858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n cualquier distribución simétrica se tiene que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2133720"/>
          <a:ext cx="320040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20040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1480" y="2133720"/>
          <a:ext cx="32004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13372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2057400"/>
                <a:ext cx="47242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5715000"/>
            <a:ext cx="78487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Equivalencia de áreas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666880"/>
                <a:ext cx="8305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H="1" flipV="1">
            <a:off x="1600200" y="3352680"/>
            <a:ext cx="15840" cy="1036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00600"/>
            <a:ext cx="2514600" cy="10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No está en la tab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23:21:08Z</dcterms:created>
  <dc:creator>lcerda</dc:creator>
  <dc:description/>
  <dc:language>en-US</dc:language>
  <cp:lastModifiedBy>ma34b03</cp:lastModifiedBy>
  <dcterms:modified xsi:type="dcterms:W3CDTF">2003-02-27T12:17:01Z</dcterms:modified>
  <cp:revision>27</cp:revision>
  <dc:subject/>
  <dc:title>Lectura Tabla Distribución Normal</dc:title>
</cp:coreProperties>
</file>