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310-0580-499A-BBAC-CA5302A3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3FD-5D10-41B6-AD45-BBA59067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E6F-6D7E-4247-B3AA-83CB4117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916-81A1-45F8-B5B7-4A2CC332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A99D-A3AD-4621-9486-CBC1A796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367-193B-49B3-B382-8B95A291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065-2F67-4285-8B2A-8FECD60A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E288-89B3-413B-8EA2-FD30B588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FC5-79D0-4EDA-9757-45386AB9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F6BC-0F46-4EE7-A6F6-AC6B2D72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243-3EBF-41CE-AD0B-D3460422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DE9-421B-43DF-A32F-C7C8459D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C692-26A0-482A-921F-9643F7580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oficina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LUZ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cerdo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flechas3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dinero4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DINERO4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opera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dardos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xaminar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interrog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gente1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gent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Universidad De Chile</cp:lastModifiedBy>
  <cp:lastPrinted>2000-03-10T16:13:12Z</cp:lastPrinted>
  <dcterms:modified xsi:type="dcterms:W3CDTF">2001-10-18T15:16:40Z</dcterms:modified>
  <cp:revision>21</cp:revision>
  <dc:subject/>
  <dc:title>Sin título de diapositiva</dc:title>
</cp:coreProperties>
</file>