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76D-60B4-40E5-972F-CB3A5113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776-62B4-4035-9AC4-52DC930E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794-3AB2-4AB5-8A06-9C11E6D2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459-7DA5-44CE-BD30-17D8BE6D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AF55-187B-4B51-AAE4-DE95A34E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470-A2CB-4C3C-A711-9FF43FB8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3EB-01CA-40AC-BF88-F3A3B832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398A-72FE-4EA4-BB48-2C6FD562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74D0-2754-4869-B607-BAAF6A90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8D5-B09F-47B1-A23E-A6DEA2BA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0D72-DBE9-462E-B75A-CB9143E8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B3C-8A41-4214-A841-370CD349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88CA-6103-4EA8-81B3-4070673BB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oficina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LUZ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cerdo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flechas3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dinero4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DINERO4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opera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dardos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xaminar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interrog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gente1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gente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Universidad De Chile</cp:lastModifiedBy>
  <cp:lastPrinted>2000-03-10T16:13:12Z</cp:lastPrinted>
  <dcterms:modified xsi:type="dcterms:W3CDTF">2001-10-18T15:16:40Z</dcterms:modified>
  <cp:revision>21</cp:revision>
  <dc:subject/>
  <dc:title>Sin título de diapositiva</dc:title>
</cp:coreProperties>
</file>