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F133-C7B3-4287-B2CD-35AFFD238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1AA2-F47D-43C4-A343-2E5332F8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72AB-B7A7-4181-BDE6-C912404B0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9859-2868-4B51-BDCC-4B5D5DAEC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98DC-3B9D-44DF-8425-B50CAB1E7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F30B-33D2-4E04-BAAE-BF4236F3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55290-22E9-483C-9ED8-CB6F5EBA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8EDF-5F12-48B9-8208-708E3872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C421A-708D-43CA-B9CD-602D280D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E414-5A06-490F-AC29-35046CAB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EE46-F4EC-4616-9E01-E13A3764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DC4D-9405-4509-A929-E13B7769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E37C-E142-4162-96C1-1415B3D1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AE18-5A11-49AD-B6D7-2A407BFD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319D-2F20-4922-AF7E-361BD280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9E1CB-7983-4FE3-896D-A4C0C098D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84D60-EB92-4BB8-AE35-C3F72FBB3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134B-D7C1-4BE9-8465-392B01DB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BB33-6525-4CBC-9D65-B936946D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B88C-67B6-4453-ADAD-DE0628B1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4A92-3296-43C3-ADB6-C192EC77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2B91-A52B-47D0-AC5A-18B50A13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FA1D-83F4-4870-96F8-D3CE3DD6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B007-7D95-4EAC-8128-9D3389D8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7B32-233C-4A15-B148-C7DF974AB6C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3F83-5A54-4C24-9435-671773DCD51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Framework KM Genérico en el Dominio Gestión Proyectos</a:t>
            </a: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Profesor: Ángel Jiménez Molin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IN77J: Orientación a Objetos para un E-Busin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Magíster en Ingeniería de Negocios con TI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structura Basada en Patrón Generalizad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547640" y="2205000"/>
            <a:ext cx="6172200" cy="3314880"/>
            <a:chOff x="1547640" y="2205000"/>
            <a:chExt cx="6172200" cy="3314880"/>
          </a:xfrm>
        </p:grpSpPr>
        <p:sp>
          <p:nvSpPr>
            <p:cNvPr id="89" name=""/>
            <p:cNvSpPr/>
            <p:nvPr/>
          </p:nvSpPr>
          <p:spPr>
            <a:xfrm>
              <a:off x="3719160" y="2205000"/>
              <a:ext cx="148572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547640" y="3576960"/>
              <a:ext cx="12571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SOLIDAR CONOCIMIENTO   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A1113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47840" y="3576960"/>
              <a:ext cx="12571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LCULAR ÍNDICES DE GEST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A112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48040" y="3576960"/>
              <a:ext cx="1257120" cy="81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R ÁREA DE TRABAJO COLABORATIVO (A13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462720" y="3576960"/>
              <a:ext cx="12571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USCAR CONOCIMIENTO HISTÓRICO DE PROYECTOS (A1332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12000"/>
                </a:lnSpc>
                <a:spcBef>
                  <a:spcPts val="1199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Verdana"/>
                </a:rPr>
                <a:t>DE </a:t>
              </a:r>
              <a:r>
                <a:rPr b="1" lang="en-US" sz="1400" spc="-1" strike="noStrike">
                  <a:solidFill>
                    <a:srgbClr val="0000ff"/>
                  </a:solidFill>
                  <a:latin typeface="Verdana"/>
                </a:rPr>
                <a:t>PROYECTOS (A1332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47640" y="4719960"/>
              <a:ext cx="12571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12000"/>
                </a:lnSpc>
                <a:spcBef>
                  <a:spcPts val="1199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CONSOLIDAR ESTRATEGIA Y ESTIMACIONES (A1333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462720" y="4719960"/>
              <a:ext cx="12571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USCAR DOCUMENTOS REUSABLES DE PROYECT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A134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18960" y="3233520"/>
              <a:ext cx="491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404960" y="27763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18960" y="323352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19160" y="323352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19720" y="323352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34040" y="323352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18960" y="437724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34040" y="437724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lases de Diseño Ent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2724120" cy="1762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877080" y="4149720"/>
            <a:ext cx="1724040" cy="2028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140360" y="4292640"/>
            <a:ext cx="1523880" cy="2028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3419640" y="1773360"/>
            <a:ext cx="1549080" cy="2298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7308720" y="1628640"/>
            <a:ext cx="1457280" cy="2381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1042920" y="3860640"/>
            <a:ext cx="1562040" cy="2305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5364000" y="1844640"/>
            <a:ext cx="14576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ases de Diseño de Contro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11280" y="2924280"/>
            <a:ext cx="1495440" cy="12286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851280" y="2997360"/>
            <a:ext cx="1495440" cy="12286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804000" y="2997360"/>
            <a:ext cx="152388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lases de Diseño Bounda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332000" y="2637000"/>
            <a:ext cx="2219400" cy="2171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580000" y="2924280"/>
            <a:ext cx="221940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-387360"/>
            <a:ext cx="9540720" cy="7421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191280" y="609300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4T03:40:33Z</dcterms:created>
  <dc:creator>DIPE</dc:creator>
  <dc:description/>
  <dc:language>en-US</dc:language>
  <cp:lastModifiedBy>DIPE</cp:lastModifiedBy>
  <dcterms:modified xsi:type="dcterms:W3CDTF">2005-06-04T03:56:01Z</dcterms:modified>
  <cp:revision>17</cp:revision>
  <dc:subject/>
  <dc:title>Framework KM Genérico en el Dominio Gestión Proyectos </dc:title>
</cp:coreProperties>
</file>