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6F34-32A9-4C6E-AA21-33A91C679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0B6-55CA-41AE-8CB4-A586C6ED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44C-1231-4394-870D-FDC3E0C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B53-1312-45CE-A76C-5095E0CF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D25-625C-428F-AE3A-C30D4362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BBC7-FC5C-4808-AD51-596B330C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7C4-FAA1-4767-B2D2-227A8AED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50F-C809-4CDA-88DB-AA8C20D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232-4B59-4633-8763-A77C882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B750-7184-4D07-BFE9-4B414F7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1138-0477-4227-8C43-C8C4F9D3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6D58-B3C4-4E45-A106-D4EE60D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D6D-AAA4-4ECE-96BF-861F89C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8E5-B475-4762-889F-CC376177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D074-8597-418E-A470-82A5F62A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9769-C47A-4EC9-B6FF-527C36FF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9CE-4BE0-4D3D-8939-869E68B7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5A50-016F-407D-9322-627867E7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130D-7095-4CDB-9AD0-01DD136D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CBA3-7954-4CDC-8179-DF9B5433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2D147-19D6-48AC-B7DF-82BF2161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83F9-AB15-4FFC-A3DE-A041219F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03BB8-030A-4B1A-9A3B-98A4FE84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CF9-9B9E-4752-960E-18389F4C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549C-6013-4761-9C66-D8C66042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956F-099D-4224-A2C6-C0DC6F2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2531-0254-4B92-A0A6-9ECABDD5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D69CC-82A1-4144-AAB6-440F418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85CF-EAFE-4520-A10A-D27FE418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44E8-F8D9-4B55-A443-D0308F37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9B73-88E0-490C-ABC0-9E38C526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502-7D4B-4488-98E1-D64E97F7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D34-A44B-4FC2-BE7C-3EB5BEF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7D7-6BE8-4135-8C50-E6287537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65A-93D1-436B-9295-1724163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335-CAC8-499A-9DFB-73F9949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223-25F9-4A94-8ADF-4303694A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8364-ED08-4100-B566-8CDF61171F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A303-F827-430F-ADD7-506AFAE1E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2E6-1ABC-4AD4-A841-8A7661627A2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 </cp:lastModifiedBy>
  <dcterms:modified xsi:type="dcterms:W3CDTF">2005-05-13T17:23:48Z</dcterms:modified>
  <cp:revision>18</cp:revision>
  <dc:subject/>
  <dc:title>Slide 1</dc:title>
</cp:coreProperties>
</file>