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8959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4329360"/>
            <a:ext cx="8458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4127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1980720"/>
            <a:ext cx="4127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4329360"/>
            <a:ext cx="4127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14560" y="4329360"/>
            <a:ext cx="4127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2723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0360" y="1980720"/>
            <a:ext cx="2723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00560" y="1980720"/>
            <a:ext cx="2723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4329360"/>
            <a:ext cx="2723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40360" y="4329360"/>
            <a:ext cx="2723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00560" y="4329360"/>
            <a:ext cx="2723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4127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14560" y="1980720"/>
            <a:ext cx="4127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520" y="380880"/>
            <a:ext cx="84582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4127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4560" y="1980720"/>
            <a:ext cx="4127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4329360"/>
            <a:ext cx="4127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4127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4560" y="1980720"/>
            <a:ext cx="4127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14560" y="4329360"/>
            <a:ext cx="4127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4127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4560" y="1980720"/>
            <a:ext cx="4127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4329360"/>
            <a:ext cx="8458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Lucida Sans Unicode"/>
              </a:rPr>
              <a:t>Click to edit the title text format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9250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MX" sz="4400" spc="-1" strike="noStrike">
                <a:solidFill>
                  <a:srgbClr val="3366cc"/>
                </a:solidFill>
                <a:latin typeface="Lucida Sans Unicode"/>
              </a:rPr>
              <a:t>El Plan de Marketing</a:t>
            </a:r>
            <a:br>
              <a:rPr sz="2400"/>
            </a:br>
            <a:endParaRPr b="1" lang="en-US" sz="44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39" name=""/>
          <p:cNvSpPr/>
          <p:nvPr/>
        </p:nvSpPr>
        <p:spPr>
          <a:xfrm>
            <a:off x="5029200" y="5638680"/>
            <a:ext cx="3733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Semestre Otoño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80880" y="304920"/>
            <a:ext cx="70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IN58A Gestión Co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Análisis del mercado objetivo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Situación Geográfic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Tipo de Comprador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Distribución, canales, etc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Publicida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Grupos Culturales, étnicos, religiosos, racial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Clases Sociales, demográficas, etc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Análisis del comportamiento del comprado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Análisis del comportamiento del comprado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 es por ejemplo, el perfil sociodemográfico de los compradore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 es la composición del centro de decisión de compra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Quiénes son el comprador, el usuario, decidor, el prescriptor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 es el proceso seguido en la decisión de compra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es son los móviles determinantes en la decisión de compra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es son los principales usos del producto por los compradore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ómo evolucionan los hábitos de compra de los compradores?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... Análisis del comportamiento del comprado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es son las expectativas y las necesidades de los compradore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 es la frecuencia o la periodicidad de las compra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A qué factores de marketing son más sensibles los compradore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Precio, Publicidad, Servicio, Imagen de marc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es son las causas de satisfacción y de insatisfacción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533412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cc"/>
                </a:solidFill>
                <a:latin typeface="Lucida Sans Unicode"/>
              </a:rPr>
              <a:t>Complementar con datos sobre percepciones, actitudes, intenciones y prefer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... Análisis del mercado objetivo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Análisis de las tendencias del mercad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es son las tendencias del tamaño de mercado, crecimiento, estancamiento, declive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 es el consumo medio por habitante, hogar, cliente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A qué nivel se sitúa la tasa de saturación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Existe una estructura estacional de venta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ómo han evolucionado los precios medio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es son los medios publicitarios más usado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... Análisis del mercado objetivo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Competencia -&gt; análisis de la Estructura Competitiv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 es el número de competidores directo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 es la cuota de mercado que poseen los tres o cinco competidores directos más importante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 es el tipo de comportamiento competitivo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Quienes son los  seguidores, el líder, etc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 es la fuerza de la imagen de marca de los competidores actuale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... Análisis de la Estructura Competitiv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 es la fuente de la ventaja competitiva que poseen los competidores más importante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es son la fuerza y el grado de protección e los elementos de diferenciación de los productos y marcas de los competidore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 es el origen de la ventaja en costos de los competidores principale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es son los obstáculos que impiden la entrada de competidores nuevos al sector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 es el valor de esta barrera de entrada para un competidor que dispone de una posición  internacional poderosa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es son los productos sustituto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Qué amenaza presentan estos productos?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... Análisis de la Estructura Competitiv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 es el grado de concentración de los proveedore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Qué nivel de negociación tienen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 es el grado de concentración de clientes yo distribuidore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Qué poder de negociación tienen gracias a él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"/>
          <p:cNvSpPr/>
          <p:nvPr/>
        </p:nvSpPr>
        <p:spPr>
          <a:xfrm>
            <a:off x="289080" y="376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3809880"/>
            <a:ext cx="8382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cc"/>
                </a:solidFill>
                <a:latin typeface="Lucida Sans Unicode"/>
              </a:rPr>
              <a:t>La información debe permitir definir el clima competitivo, la intensidad de la rivalidad y el tipo de ventaja competitiva que poseen los competidores princip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... Análisis del mercado objetivo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Condicion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Política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Económica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Social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Ecológica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Internacional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... El entorno económic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 es la tasa esperada de crecimiento del PIB esperada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 es la inflación esperada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Qué cambio económico podrá afectar negativamente a la evolución del mercado y la demanda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Qué medidas considerar en caso de que esos cambios se produjesen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... El entorno polític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Qué ley o reglamentación que tenga incidencia sobre nuestras actividades podría adoptarse en un futuro próximo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Qué debería hacerse en ese caso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Qué ley o reglamentación podría afectar a nuestros mecanismos de venta, distribución o comunicación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Qué medidas se deberían tomar en ese caso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Qué norma financiera o fiscal es susceptible de tener un impacto en nuestra rentabilidad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Nuestra industria está afecta a reclamos de asociaciones de defensa de consumidore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ómo reaccionar ante estas circunstancia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Plan de Marketing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Existe la necesidad de expresar en forma clara y sistemática los objetivos y medios para poner en marcha la estrategia para el desarrollo de la empres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=&gt; Plan de Market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La recopilación y elaboración del plan permite calcular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Cuánto se va a tardar en cada etap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Los recursos necesario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Lucida Sans Unicode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Lucida Sans Unicode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Lucida Sans Unicode"/>
              </a:rPr>
              <a:t>Esfuerzo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... El entorno tecnológic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Qué desarrollo tecnológico podría producirse que tuviera una incidencia sobre los costos de producción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Qué medidas adoptar si tal hecho se produjese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Qué evolución tecnológica podría afectar la demanda de nuestros producto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es son los sectores tecnológicos susceptibles de amenazar nuestro campo de actividade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Qué medidas permitirían minimizar el impacto de tales cambio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..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... El entorno sociodemográfico y cultura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es son las tendencias demográficas que podrían afectar la demanda de nuestros producto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 será el impacto previsible de estas tendencias en nuestras venta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es son los cambios socioculturales susceptibles de tener un impacto sobre la demanda de nuestros producto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Qué cambios en las actitudes de los consumidores podrían tener un impacto en la demanda global del mercado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 sería el impacto previsible de tales cambio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..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42720" y="8380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Las fuentes de información para todos los datos anteriores pueden ser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Cámaras de comerci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Asociaciones profesional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Revistas y diarios especializado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Bases de dato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Estudios previo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Fuentes estatal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Sino =&gt; datos primario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Estructura del Plan de Marketing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2720" y="10666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Resumen Ejecutiv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Indic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Análisis de la Situació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Análisis del Mercado Objetiv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cc"/>
                </a:solidFill>
                <a:latin typeface="Lucida Sans Unicode"/>
              </a:rPr>
              <a:t>Problemas y Oportunidad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Estrategia de Market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Objetivos y Meta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Tácticas de Market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Ejecución y Contro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Resume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Apéndic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Problemas y Oportunidades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Es un resumen estructurado de los puntos anteriores (análisis de la situación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Objetivos y Metas...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Los objetivos responden a la pregunta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cc"/>
                </a:solidFill>
                <a:latin typeface="Lucida Sans Unicode"/>
              </a:rPr>
              <a:t>	</a:t>
            </a:r>
            <a:r>
              <a:rPr b="0" lang="es-ES_tradnl" sz="2800" spc="-1" strike="noStrike">
                <a:solidFill>
                  <a:srgbClr val="3366cc"/>
                </a:solidFill>
                <a:latin typeface="Lucida Sans Unicode"/>
              </a:rPr>
              <a:t>	</a:t>
            </a:r>
            <a:r>
              <a:rPr b="0" lang="es-ES_tradnl" sz="2800" spc="-1" strike="noStrike">
                <a:solidFill>
                  <a:srgbClr val="3366cc"/>
                </a:solidFill>
                <a:latin typeface="Lucida Sans Unicode"/>
              </a:rPr>
              <a:t>¿qué se pretende conseguir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Las metas son una especificación de los objetivo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... Objetivos y Metas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Se debe ser cuidadoso en la formulación de objetivo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Claros y concisos, evitando frases larga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Presentados por escrito para facilitar la comunicació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Definidos en el tiempo y geográficament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Expresados en términos cuantitativos y medibl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Coherentes con los objetivos generales de la empres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Suficientemente estimulantes (motivación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Realizables (disponibilidad de medios para ponerlos en práctica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... Objetivos y Metas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Kotler propone comenzar por definirlos en términos financieros y de ellos deducir los objetivos de marketing necesarios para realizar el objetivo financier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El razonamiento propuesto e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Especificar </a:t>
            </a:r>
            <a:r>
              <a:rPr b="0" i="1" lang="es-ES_tradnl" sz="2000" spc="-1" strike="noStrike">
                <a:solidFill>
                  <a:srgbClr val="000000"/>
                </a:solidFill>
                <a:latin typeface="Lucida Sans Unicode"/>
              </a:rPr>
              <a:t>nivel de resultado neto</a:t>
            </a: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 esperad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Deducir el </a:t>
            </a:r>
            <a:r>
              <a:rPr b="0" i="1" lang="es-ES_tradnl" sz="2000" spc="-1" strike="noStrike">
                <a:solidFill>
                  <a:srgbClr val="000000"/>
                </a:solidFill>
                <a:latin typeface="Lucida Sans Unicode"/>
              </a:rPr>
              <a:t>nivel de cifra de ventas</a:t>
            </a: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 necesari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Considerando precio medio venta, determinar el </a:t>
            </a:r>
            <a:r>
              <a:rPr b="0" i="1" lang="es-ES_tradnl" sz="2000" spc="-1" strike="noStrike">
                <a:solidFill>
                  <a:srgbClr val="000000"/>
                </a:solidFill>
                <a:latin typeface="Lucida Sans Unicode"/>
              </a:rPr>
              <a:t>nivel de ventas en volume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Considerando la demanda global, deducir la </a:t>
            </a:r>
            <a:r>
              <a:rPr b="0" i="1" lang="es-ES_tradnl" sz="2000" spc="-1" strike="noStrike">
                <a:solidFill>
                  <a:srgbClr val="000000"/>
                </a:solidFill>
                <a:latin typeface="Lucida Sans Unicode"/>
              </a:rPr>
              <a:t>participación de mercado necesari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Considerando la PM, determinar los objetivos en </a:t>
            </a:r>
            <a:r>
              <a:rPr b="0" i="1" lang="es-ES_tradnl" sz="2000" spc="-1" strike="noStrike">
                <a:solidFill>
                  <a:srgbClr val="000000"/>
                </a:solidFill>
                <a:latin typeface="Lucida Sans Unicode"/>
              </a:rPr>
              <a:t>distribución y comunicació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Tipos de Objetivos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Sobre venta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En cifras de venta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Unidades física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otas de mercad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Sobre consumidor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Fidelidad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Posicionamient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De beneficio (utilidades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Estructura del Plan de Marketing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10666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Resumen Ejecutiv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Indic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Análisis de la Situació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Análisis del Mercado Objetiv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Problemas y Oportunidad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Objetivos y Meta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Estrategia de Market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Tácticas de Market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cc"/>
                </a:solidFill>
                <a:latin typeface="Lucida Sans Unicode"/>
              </a:rPr>
              <a:t>Ejecución y Contro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Resume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Apéndic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Utilidades...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Una forma de mejorar la posición competitiva de partid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Sirve de map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Útil para el control de gestió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Informa a los participantes de su papel en la realización del plan y logro de objetivo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Permite obtener recursos para la realización del pla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Interno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Externo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Ejecución y Control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Creación indicadores ad – hoc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Ventas por períod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Ventas por vendedor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Análisis del punto de equilibri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Ventas por local, por región, por zon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Publicidad competenci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Gasto publicida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Resultado publicida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Participación de mercad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Participación de mercado por segmento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Ratios financieros (liquidez, circulante, rotación de inventarios, ROE, RO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0"/>
          <a:ext cx="9144000" cy="6842160"/>
        </p:xfrm>
        <a:graphic>
          <a:graphicData uri="http://schemas.openxmlformats.org/drawingml/2006/table">
            <a:tbl>
              <a:tblPr/>
              <a:tblGrid>
                <a:gridCol w="3962520"/>
                <a:gridCol w="1752480"/>
                <a:gridCol w="2057400"/>
                <a:gridCol w="762120"/>
                <a:gridCol w="609480"/>
              </a:tblGrid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ariables de Mark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uestro pro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ompetidor Nº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º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º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rodu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a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re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G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ondicionami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valuación so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tributo 1 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tributo 2 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tributo 3 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istribu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istancia Numé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istancia en va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ircuito número 1 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ircuito número 2 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ircuito número 3 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ine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ar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escu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.L.V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0" y="0"/>
          <a:ext cx="9144000" cy="6842160"/>
        </p:xfrm>
        <a:graphic>
          <a:graphicData uri="http://schemas.openxmlformats.org/drawingml/2006/table">
            <a:tbl>
              <a:tblPr/>
              <a:tblGrid>
                <a:gridCol w="3962520"/>
                <a:gridCol w="1752480"/>
                <a:gridCol w="2057400"/>
                <a:gridCol w="762120"/>
                <a:gridCol w="609480"/>
              </a:tblGrid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ariables de Mark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uestro pro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ompetidor Nº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º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º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quipo de Ve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úmero de vende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alidad de los vende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Frecuencia de vis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Form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ublic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ivel de presupues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lan de med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edio número 1 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edio número 2 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edio número 3 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je publicit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reativ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romo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ivel de presupues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Tipo de promo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recio consumi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escuento a distribui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Otras promo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0" y="0"/>
          <a:ext cx="9144000" cy="5256360"/>
        </p:xfrm>
        <a:graphic>
          <a:graphicData uri="http://schemas.openxmlformats.org/drawingml/2006/table">
            <a:tbl>
              <a:tblPr/>
              <a:tblGrid>
                <a:gridCol w="3962520"/>
                <a:gridCol w="1752480"/>
                <a:gridCol w="2057400"/>
                <a:gridCol w="762120"/>
                <a:gridCol w="6094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ariables de Mark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uestro pro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ompetidor Nº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º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º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ervic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mplit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lazo de entre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ervicio post ve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nvestigación y Desarroll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ivel de ga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úmero de investig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endimiento en I+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nformaciones de Mark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Banco de da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aber ha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2720" y="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Estructura del Plan de Marketing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2720" y="10666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Resumen Ejecutiv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Indic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Análisis de la Situació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Análisis del Mercado Objetiv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Problemas y Oportunidad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Objetivos y Meta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Estrategia de Market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Tácticas de Market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cc"/>
                </a:solidFill>
                <a:latin typeface="Lucida Sans Unicode"/>
              </a:rPr>
              <a:t>Ejecución y Contro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Resume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Apéndic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Ejecución y Control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Creación indicadores ad – hoc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Ventas por períod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Ventas por vendedor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Análisis del punto de equilibri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Ventas por local, por región, por zon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Publicidad competenci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Gasto publicida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Resultado publicida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Participación de mercad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Participación de mercado por segmento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Ratios financieros (liquidez, circulante, rotación de inventarios, ROE, RO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Análisis de riesgo y </a:t>
            </a:r>
            <a:br>
              <a:rPr sz="3600"/>
            </a:b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planificación de lo imprevisto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Day propone siete preguntas para ver la robustez de un plan de marketing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El plan representa realmente una ventaja competitiva </a:t>
            </a:r>
            <a:r>
              <a:rPr b="1" lang="es-ES_tradnl" sz="2800" spc="-1" strike="noStrike">
                <a:solidFill>
                  <a:srgbClr val="000000"/>
                </a:solidFill>
                <a:latin typeface="Lucida Sans Unicode"/>
              </a:rPr>
              <a:t>defendible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Las hipótesis son realistas y la información es de calidad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Tenemos los recursos necesarios (finanzas, rrhh)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Existe coherencia en los elementos de la empresa y el entorno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... Análisis de riesgo y </a:t>
            </a:r>
            <a:br>
              <a:rPr sz="3600"/>
            </a:b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planificación de lo imprevisto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Qué determinará el éxito y fracaso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Existe flexibilidad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Es realmente atractivo el proyecto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...Utilidades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Ayuda a organizar y asignar responsabilidades, tareas y plazo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Sirve para ver problemas, oportunidades, amenazas futura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Incrementa la agilidad en las reaccion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Plan anticrisis o de contingenci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310824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Lucida Sans Unicode"/>
              </a:rPr>
              <a:t>PLA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971800" y="2209320"/>
            <a:ext cx="990720" cy="121932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3429000"/>
            <a:ext cx="914400" cy="106668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91120" y="1676520"/>
            <a:ext cx="41148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Lucida Sans Unicode"/>
              </a:rPr>
              <a:t>PRODUCTOS NUE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Lucida Sans Unicode"/>
              </a:rPr>
              <a:t>PLAN MARKETING AN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2720" y="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Estructura del Plan de Marketing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2720" y="10666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Resumen Ejecutiv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Indic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Análisis de la Situació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Análisis del Mercado Objetiv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Entorn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Problemas y Oportunidad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Estrategia de Market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Objetivos y Meta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Tácticas de Market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Ejecución y Contro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Resum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Apéndic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Introducción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Cuál es la misión estratégica de la empresa en el Mercad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Lugar que se ocupa en el mercad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Ciclo de Vida del Product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Productos Complementarios y Sustituto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Explicación Detallada del producto en cuestió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Estructura del Plan de Marketing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10666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Resumen Ejecutiv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Indic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cc"/>
                </a:solidFill>
                <a:latin typeface="Lucida Sans Unicode"/>
              </a:rPr>
              <a:t>Análisis de la Situació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Estrategia de Market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Objetivos y Meta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Tácticas de Market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Ejecución y Contro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Resume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Apéndic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Análisis de la Situación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Análisis detallado de la situación en que se encuentra el producto o servici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2:08Z</dcterms:created>
  <dc:creator>Loreto Arenas</dc:creator>
  <dc:description/>
  <dc:language>en-US</dc:language>
  <cp:lastModifiedBy>Williams Young</cp:lastModifiedBy>
  <dcterms:modified xsi:type="dcterms:W3CDTF">2005-06-23T15:58:04Z</dcterms:modified>
  <cp:revision>134</cp:revision>
  <dc:subject/>
  <dc:title>IN58B Ingeniería de Marketing</dc:title>
</cp:coreProperties>
</file>