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CA054-C830-4B47-9596-CA04F298A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F98E2-3AC4-475B-813E-A65383EBF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02795-607A-43B7-83B0-48A3D5FC4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998A0-A022-4F5B-BDEC-DE43E6FE1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8FB54-6C4D-4B93-929B-2A8AD3FC5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3CBBA-261C-43F4-B92C-97282960D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A83E7-40C8-412A-B0EA-57EFFEF45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DC5D6-8F06-4758-A68F-AB5CC24AA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6B661-BE5B-4AE4-AAA9-9A0D1CD1C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F7032-172A-4D09-9746-1338A2290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DAF13-269C-4371-9AE9-DB8790A11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E4751-764C-42A2-90F4-6C1DEC448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B08E-1CD4-4362-9A50-62E8C7C09B2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ómo Funcionan las Promociones</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áximo Bosch</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ersión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os Indirectos</a:t>
            </a:r>
            <a:endParaRPr b="0" lang="en-US" sz="4400" spc="-1" strike="noStrike">
              <a:solidFill>
                <a:srgbClr val="000000"/>
              </a:solidFill>
              <a:latin typeface="Times New Roman"/>
            </a:endParaRPr>
          </a:p>
        </p:txBody>
      </p:sp>
      <p:sp>
        <p:nvSpPr>
          <p:cNvPr id="72" name=""/>
          <p:cNvSpPr/>
          <p:nvPr/>
        </p:nvSpPr>
        <p:spPr>
          <a:xfrm>
            <a:off x="723960" y="2606760"/>
            <a:ext cx="7696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 La mayoría son de precio (reducciones), sin embargo se sabe que ellas generan consumidores más elástico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 Muchas veces desfocalizan la construcción de Mar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qué existen?</a:t>
            </a:r>
            <a:endParaRPr b="0" lang="en-US" sz="4400" spc="-1" strike="noStrike">
              <a:solidFill>
                <a:srgbClr val="000000"/>
              </a:solidFill>
              <a:latin typeface="Times New Roman"/>
            </a:endParaRPr>
          </a:p>
        </p:txBody>
      </p:sp>
      <p:sp>
        <p:nvSpPr>
          <p:cNvPr id="74" name=""/>
          <p:cNvSpPr/>
          <p:nvPr/>
        </p:nvSpPr>
        <p:spPr>
          <a:xfrm>
            <a:off x="914400" y="32004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i-Lo es una forma de mitigar la competencia por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a:t>
            </a:r>
            <a:endParaRPr b="0" lang="en-US" sz="4400" spc="-1" strike="noStrike">
              <a:solidFill>
                <a:srgbClr val="000000"/>
              </a:solidFill>
              <a:latin typeface="Times New Roman"/>
            </a:endParaRPr>
          </a:p>
        </p:txBody>
      </p:sp>
      <p:sp>
        <p:nvSpPr>
          <p:cNvPr id="76" name=""/>
          <p:cNvSpPr/>
          <p:nvPr/>
        </p:nvSpPr>
        <p:spPr>
          <a:xfrm>
            <a:off x="914400" y="2209680"/>
            <a:ext cx="7467480" cy="3657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ongamos que los mercados se segmentan 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LES a la marca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LES a la Marca B (y otr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TCHERS  (50% eligen A y 50% eligen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a: esta segmentación es una simplificación para ejemplifica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Objetivo: los Switchers</a:t>
            </a:r>
            <a:endParaRPr b="0" lang="en-US" sz="4400" spc="-1" strike="noStrike">
              <a:solidFill>
                <a:srgbClr val="000000"/>
              </a:solidFill>
              <a:latin typeface="Times New Roman"/>
            </a:endParaRPr>
          </a:p>
        </p:txBody>
      </p:sp>
      <p:sp>
        <p:nvSpPr>
          <p:cNvPr id="78" name=""/>
          <p:cNvSpPr/>
          <p:nvPr/>
        </p:nvSpPr>
        <p:spPr>
          <a:xfrm>
            <a:off x="685800" y="1916280"/>
            <a:ext cx="792468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Switchers son el objetivo y la causa de la mayoría de las promoc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o es lo que llamamos Demanda Secundaria. Existe un crecimiento de las ventas no por un aumento de demanda en la categoría sino por que algunos clientes se cambiaron de mar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aumento de la Demanda Primaria sucede cuando aumenta la venta de la Categor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80" name=""/>
          <p:cNvSpPr/>
          <p:nvPr/>
        </p:nvSpPr>
        <p:spPr>
          <a:xfrm>
            <a:off x="914400" y="2209680"/>
            <a:ext cx="792468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pondremos dos marcas A y B.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50% son leales a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20% son leales a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30% son switch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demás supondremos que hay una voluntad a pagar de $5 por cada consumidor por sobre el costo, el que es igual para ambos fabricant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964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82" name=""/>
          <p:cNvSpPr/>
          <p:nvPr/>
        </p:nvSpPr>
        <p:spPr>
          <a:xfrm>
            <a:off x="1828800" y="259092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962520" y="26352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943600" y="259092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 y="3048120"/>
            <a:ext cx="670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62120" y="4191120"/>
            <a:ext cx="670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914400" y="5334120"/>
            <a:ext cx="670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62320" y="2362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9" name=""/>
          <p:cNvSpPr/>
          <p:nvPr/>
        </p:nvSpPr>
        <p:spPr>
          <a:xfrm>
            <a:off x="4572000" y="2362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90" name=""/>
          <p:cNvSpPr/>
          <p:nvPr/>
        </p:nvSpPr>
        <p:spPr>
          <a:xfrm>
            <a:off x="838080" y="3200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91" name=""/>
          <p:cNvSpPr/>
          <p:nvPr/>
        </p:nvSpPr>
        <p:spPr>
          <a:xfrm>
            <a:off x="11430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92" name=""/>
          <p:cNvSpPr/>
          <p:nvPr/>
        </p:nvSpPr>
        <p:spPr>
          <a:xfrm>
            <a:off x="1981080" y="34290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5    1,75</a:t>
            </a:r>
            <a:endParaRPr b="0" lang="en-US" sz="2400" spc="-1" strike="noStrike">
              <a:solidFill>
                <a:srgbClr val="000000"/>
              </a:solidFill>
              <a:latin typeface="Times New Roman"/>
            </a:endParaRPr>
          </a:p>
        </p:txBody>
      </p:sp>
      <p:sp>
        <p:nvSpPr>
          <p:cNvPr id="93" name=""/>
          <p:cNvSpPr/>
          <p:nvPr/>
        </p:nvSpPr>
        <p:spPr>
          <a:xfrm>
            <a:off x="434340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     1,0</a:t>
            </a:r>
            <a:endParaRPr b="0" lang="en-US" sz="2400" spc="-1" strike="noStrike">
              <a:solidFill>
                <a:srgbClr val="000000"/>
              </a:solidFill>
              <a:latin typeface="Times New Roman"/>
            </a:endParaRPr>
          </a:p>
        </p:txBody>
      </p:sp>
      <p:sp>
        <p:nvSpPr>
          <p:cNvPr id="94" name=""/>
          <p:cNvSpPr/>
          <p:nvPr/>
        </p:nvSpPr>
        <p:spPr>
          <a:xfrm>
            <a:off x="1981080" y="4648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2,0</a:t>
            </a:r>
            <a:endParaRPr b="0" lang="en-US" sz="2400" spc="-1" strike="noStrike">
              <a:solidFill>
                <a:srgbClr val="000000"/>
              </a:solidFill>
              <a:latin typeface="Times New Roman"/>
            </a:endParaRPr>
          </a:p>
        </p:txBody>
      </p:sp>
      <p:sp>
        <p:nvSpPr>
          <p:cNvPr id="95" name=""/>
          <p:cNvSpPr/>
          <p:nvPr/>
        </p:nvSpPr>
        <p:spPr>
          <a:xfrm>
            <a:off x="4343400" y="4648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      1,4</a:t>
            </a:r>
            <a:endParaRPr b="0" lang="en-US" sz="2400" spc="-1" strike="noStrike">
              <a:solidFill>
                <a:srgbClr val="000000"/>
              </a:solidFill>
              <a:latin typeface="Times New Roman"/>
            </a:endParaRPr>
          </a:p>
        </p:txBody>
      </p:sp>
      <p:sp>
        <p:nvSpPr>
          <p:cNvPr id="96" name=""/>
          <p:cNvSpPr/>
          <p:nvPr/>
        </p:nvSpPr>
        <p:spPr>
          <a:xfrm>
            <a:off x="1763640" y="1700280"/>
            <a:ext cx="541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MARCA   A</a:t>
            </a:r>
            <a:endParaRPr b="0" lang="en-US" sz="2400" spc="-1" strike="noStrike">
              <a:solidFill>
                <a:srgbClr val="000000"/>
              </a:solidFill>
              <a:latin typeface="Times New Roman"/>
            </a:endParaRPr>
          </a:p>
        </p:txBody>
      </p:sp>
      <p:sp>
        <p:nvSpPr>
          <p:cNvPr id="97" name=""/>
          <p:cNvSpPr/>
          <p:nvPr/>
        </p:nvSpPr>
        <p:spPr>
          <a:xfrm>
            <a:off x="0" y="3124080"/>
            <a:ext cx="762120" cy="27712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a:t>
            </a:r>
            <a:endParaRPr b="0" lang="en-US" sz="2400" spc="-1" strike="noStrike">
              <a:solidFill>
                <a:srgbClr val="000000"/>
              </a:solidFill>
              <a:latin typeface="Times New Roman"/>
            </a:endParaRPr>
          </a:p>
        </p:txBody>
      </p:sp>
      <p:sp>
        <p:nvSpPr>
          <p:cNvPr id="98" name=""/>
          <p:cNvSpPr/>
          <p:nvPr/>
        </p:nvSpPr>
        <p:spPr>
          <a:xfrm>
            <a:off x="2133720" y="3032280"/>
            <a:ext cx="167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65%   35%</a:t>
            </a:r>
            <a:endParaRPr b="0" lang="en-US" sz="2000" spc="-1" strike="noStrike">
              <a:solidFill>
                <a:srgbClr val="000000"/>
              </a:solidFill>
              <a:latin typeface="Times New Roman"/>
            </a:endParaRPr>
          </a:p>
        </p:txBody>
      </p:sp>
      <p:sp>
        <p:nvSpPr>
          <p:cNvPr id="99" name=""/>
          <p:cNvSpPr/>
          <p:nvPr/>
        </p:nvSpPr>
        <p:spPr>
          <a:xfrm>
            <a:off x="4191120" y="3032280"/>
            <a:ext cx="167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80%   20%</a:t>
            </a:r>
            <a:endParaRPr b="0" lang="en-US" sz="2000" spc="-1" strike="noStrike">
              <a:solidFill>
                <a:srgbClr val="000000"/>
              </a:solidFill>
              <a:latin typeface="Times New Roman"/>
            </a:endParaRPr>
          </a:p>
        </p:txBody>
      </p:sp>
      <p:sp>
        <p:nvSpPr>
          <p:cNvPr id="100" name=""/>
          <p:cNvSpPr/>
          <p:nvPr/>
        </p:nvSpPr>
        <p:spPr>
          <a:xfrm>
            <a:off x="2133720" y="42670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50%  50%</a:t>
            </a:r>
            <a:endParaRPr b="0" lang="en-US" sz="2000" spc="-1" strike="noStrike">
              <a:solidFill>
                <a:srgbClr val="000000"/>
              </a:solidFill>
              <a:latin typeface="Times New Roman"/>
            </a:endParaRPr>
          </a:p>
        </p:txBody>
      </p:sp>
      <p:sp>
        <p:nvSpPr>
          <p:cNvPr id="101" name=""/>
          <p:cNvSpPr/>
          <p:nvPr/>
        </p:nvSpPr>
        <p:spPr>
          <a:xfrm>
            <a:off x="4191120" y="42670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65%  35%</a:t>
            </a:r>
            <a:endParaRPr b="0" lang="en-US" sz="2000" spc="-1" strike="noStrike">
              <a:solidFill>
                <a:srgbClr val="000000"/>
              </a:solidFill>
              <a:latin typeface="Times New Roman"/>
            </a:endParaRPr>
          </a:p>
        </p:txBody>
      </p:sp>
      <p:sp>
        <p:nvSpPr>
          <p:cNvPr id="102" name=""/>
          <p:cNvSpPr/>
          <p:nvPr/>
        </p:nvSpPr>
        <p:spPr>
          <a:xfrm>
            <a:off x="900000" y="580536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El valor indica el ingreso multiplicado por M, en que M es el tamaño del merc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es</a:t>
            </a:r>
            <a:endParaRPr b="0" lang="en-US" sz="4400" spc="-1" strike="noStrike">
              <a:solidFill>
                <a:srgbClr val="000000"/>
              </a:solidFill>
              <a:latin typeface="Times New Roman"/>
            </a:endParaRPr>
          </a:p>
        </p:txBody>
      </p:sp>
      <p:sp>
        <p:nvSpPr>
          <p:cNvPr id="104" name=""/>
          <p:cNvSpPr/>
          <p:nvPr/>
        </p:nvSpPr>
        <p:spPr>
          <a:xfrm>
            <a:off x="914400" y="2286000"/>
            <a:ext cx="7696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los productores se pusieran de acuerdo, no habria promoci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productores no líderes son los que desencadenan las promoci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posible una estrategia EDLP sin ser el líder indiscut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s Efectos </a:t>
            </a:r>
            <a:endParaRPr b="0" lang="en-US" sz="4400" spc="-1" strike="noStrike">
              <a:solidFill>
                <a:srgbClr val="000000"/>
              </a:solidFill>
              <a:latin typeface="Times New Roman"/>
            </a:endParaRPr>
          </a:p>
        </p:txBody>
      </p:sp>
      <p:sp>
        <p:nvSpPr>
          <p:cNvPr id="106" name=""/>
          <p:cNvSpPr/>
          <p:nvPr/>
        </p:nvSpPr>
        <p:spPr>
          <a:xfrm>
            <a:off x="685800" y="2209680"/>
            <a:ext cx="777240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efectos de las Promociones en los consumidores pueden ser  (caso productos compra frecu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elantar Compr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mentar Consum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biarse de marc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de los Leales</a:t>
            </a:r>
            <a:endParaRPr b="0" lang="en-US" sz="4400" spc="-1" strike="noStrike">
              <a:solidFill>
                <a:srgbClr val="000000"/>
              </a:solidFill>
              <a:latin typeface="Times New Roman"/>
            </a:endParaRPr>
          </a:p>
        </p:txBody>
      </p:sp>
      <p:sp>
        <p:nvSpPr>
          <p:cNvPr id="108" name=""/>
          <p:cNvSpPr/>
          <p:nvPr/>
        </p:nvSpPr>
        <p:spPr>
          <a:xfrm>
            <a:off x="609480" y="251460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s casos extrem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O 1 Los clientes </a:t>
            </a:r>
            <a:r>
              <a:rPr b="0" lang="en-US" sz="2400" spc="-1" strike="noStrike">
                <a:solidFill>
                  <a:srgbClr val="ff0000"/>
                </a:solidFill>
                <a:latin typeface="Times New Roman"/>
              </a:rPr>
              <a:t>sólo adelantan compra pero no aumentan consumo.</a:t>
            </a:r>
            <a:r>
              <a:rPr b="0" lang="en-US" sz="2400" spc="-1" strike="noStrike">
                <a:solidFill>
                  <a:srgbClr val="000000"/>
                </a:solidFill>
                <a:latin typeface="Times New Roman"/>
              </a:rPr>
              <a:t>  Supongamos compra 1 vez al mes 4 unidades</a:t>
            </a:r>
            <a:endParaRPr b="0" lang="en-US" sz="2400" spc="-1" strike="noStrike">
              <a:solidFill>
                <a:srgbClr val="000000"/>
              </a:solidFill>
              <a:latin typeface="Times New Roman"/>
            </a:endParaRPr>
          </a:p>
        </p:txBody>
      </p:sp>
      <p:grpSp>
        <p:nvGrpSpPr>
          <p:cNvPr id="109" name=""/>
          <p:cNvGrpSpPr/>
          <p:nvPr/>
        </p:nvGrpSpPr>
        <p:grpSpPr>
          <a:xfrm>
            <a:off x="380880" y="4267080"/>
            <a:ext cx="8229600" cy="2136240"/>
            <a:chOff x="380880" y="4267080"/>
            <a:chExt cx="8229600" cy="2136240"/>
          </a:xfrm>
        </p:grpSpPr>
        <p:sp>
          <p:nvSpPr>
            <p:cNvPr id="110" name=""/>
            <p:cNvSpPr/>
            <p:nvPr/>
          </p:nvSpPr>
          <p:spPr>
            <a:xfrm>
              <a:off x="1066680" y="5334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2971800" y="44953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971800" y="4495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3429000" y="44953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3886200" y="5334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3429000" y="5334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429000" y="6172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886200" y="5334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80880" y="51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19" name=""/>
            <p:cNvSpPr/>
            <p:nvPr/>
          </p:nvSpPr>
          <p:spPr>
            <a:xfrm>
              <a:off x="2286000" y="42670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20" name=""/>
            <p:cNvSpPr/>
            <p:nvPr/>
          </p:nvSpPr>
          <p:spPr>
            <a:xfrm>
              <a:off x="3048120" y="5943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21" name=""/>
            <p:cNvSpPr/>
            <p:nvPr/>
          </p:nvSpPr>
          <p:spPr>
            <a:xfrm>
              <a:off x="6248520" y="502920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inea Base de Compra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de los Leales</a:t>
            </a:r>
            <a:endParaRPr b="0" lang="en-US" sz="4400" spc="-1" strike="noStrike">
              <a:solidFill>
                <a:srgbClr val="000000"/>
              </a:solidFill>
              <a:latin typeface="Times New Roman"/>
            </a:endParaRPr>
          </a:p>
        </p:txBody>
      </p:sp>
      <p:sp>
        <p:nvSpPr>
          <p:cNvPr id="123" name=""/>
          <p:cNvSpPr/>
          <p:nvPr/>
        </p:nvSpPr>
        <p:spPr>
          <a:xfrm>
            <a:off x="609480" y="251460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O 2 Los clientes </a:t>
            </a:r>
            <a:r>
              <a:rPr b="0" lang="en-US" sz="2400" spc="-1" strike="noStrike">
                <a:solidFill>
                  <a:srgbClr val="ff0000"/>
                </a:solidFill>
                <a:latin typeface="Times New Roman"/>
              </a:rPr>
              <a:t>no adelantan compra pero  aumentan consumo.</a:t>
            </a:r>
            <a:r>
              <a:rPr b="0" lang="en-US" sz="2400" spc="-1" strike="noStrike">
                <a:solidFill>
                  <a:srgbClr val="000000"/>
                </a:solidFill>
                <a:latin typeface="Times New Roman"/>
              </a:rPr>
              <a:t>  Supongamos compra 1 vez al mes 4 unidades</a:t>
            </a:r>
            <a:endParaRPr b="0" lang="en-US" sz="2400" spc="-1" strike="noStrike">
              <a:solidFill>
                <a:srgbClr val="000000"/>
              </a:solidFill>
              <a:latin typeface="Times New Roman"/>
            </a:endParaRPr>
          </a:p>
        </p:txBody>
      </p:sp>
      <p:grpSp>
        <p:nvGrpSpPr>
          <p:cNvPr id="124" name=""/>
          <p:cNvGrpSpPr/>
          <p:nvPr/>
        </p:nvGrpSpPr>
        <p:grpSpPr>
          <a:xfrm>
            <a:off x="380880" y="4648320"/>
            <a:ext cx="8229600" cy="1206360"/>
            <a:chOff x="380880" y="4648320"/>
            <a:chExt cx="8229600" cy="1206360"/>
          </a:xfrm>
        </p:grpSpPr>
        <p:sp>
          <p:nvSpPr>
            <p:cNvPr id="125" name=""/>
            <p:cNvSpPr/>
            <p:nvPr/>
          </p:nvSpPr>
          <p:spPr>
            <a:xfrm>
              <a:off x="1066680" y="5334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971800" y="4800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971800" y="48006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3429000" y="4800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429000" y="5334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80880" y="51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31" name=""/>
            <p:cNvSpPr/>
            <p:nvPr/>
          </p:nvSpPr>
          <p:spPr>
            <a:xfrm>
              <a:off x="2362320" y="46483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32" name=""/>
            <p:cNvSpPr/>
            <p:nvPr/>
          </p:nvSpPr>
          <p:spPr>
            <a:xfrm>
              <a:off x="6248520" y="502920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inea Base de Compra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tivo</a:t>
            </a:r>
            <a:endParaRPr b="0" lang="en-US" sz="4400" spc="-1" strike="noStrike">
              <a:solidFill>
                <a:srgbClr val="000000"/>
              </a:solidFill>
              <a:latin typeface="Times New Roman"/>
            </a:endParaRPr>
          </a:p>
        </p:txBody>
      </p:sp>
      <p:sp>
        <p:nvSpPr>
          <p:cNvPr id="44" name=""/>
          <p:cNvSpPr/>
          <p:nvPr/>
        </p:nvSpPr>
        <p:spPr>
          <a:xfrm>
            <a:off x="990720" y="2590920"/>
            <a:ext cx="74674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e 2 Obje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enciar y Acelerar el desarrollo de una Nueva Marca</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Ó</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nder, Fortalecer y Expandir una Marca Exist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de los Leales</a:t>
            </a:r>
            <a:endParaRPr b="0" lang="en-US" sz="4400" spc="-1" strike="noStrike">
              <a:solidFill>
                <a:srgbClr val="000000"/>
              </a:solidFill>
              <a:latin typeface="Times New Roman"/>
            </a:endParaRPr>
          </a:p>
        </p:txBody>
      </p:sp>
      <p:grpSp>
        <p:nvGrpSpPr>
          <p:cNvPr id="134" name=""/>
          <p:cNvGrpSpPr/>
          <p:nvPr/>
        </p:nvGrpSpPr>
        <p:grpSpPr>
          <a:xfrm>
            <a:off x="457200" y="1828800"/>
            <a:ext cx="8229600" cy="2136240"/>
            <a:chOff x="457200" y="1828800"/>
            <a:chExt cx="8229600" cy="2136240"/>
          </a:xfrm>
        </p:grpSpPr>
        <p:sp>
          <p:nvSpPr>
            <p:cNvPr id="135" name=""/>
            <p:cNvSpPr/>
            <p:nvPr/>
          </p:nvSpPr>
          <p:spPr>
            <a:xfrm>
              <a:off x="1143000" y="289584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3048120" y="205704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048120" y="2057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3505320" y="205704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3962520" y="289584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3505320" y="289584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505320" y="3733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962520" y="289584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5720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4" name=""/>
            <p:cNvSpPr/>
            <p:nvPr/>
          </p:nvSpPr>
          <p:spPr>
            <a:xfrm>
              <a:off x="2362320" y="18288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45" name=""/>
            <p:cNvSpPr/>
            <p:nvPr/>
          </p:nvSpPr>
          <p:spPr>
            <a:xfrm>
              <a:off x="3124440" y="35053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46" name=""/>
            <p:cNvSpPr/>
            <p:nvPr/>
          </p:nvSpPr>
          <p:spPr>
            <a:xfrm>
              <a:off x="6324840" y="259092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inea Base de Compras</a:t>
              </a:r>
              <a:endParaRPr b="0" lang="en-US" sz="2400" spc="-1" strike="noStrike">
                <a:solidFill>
                  <a:srgbClr val="000000"/>
                </a:solidFill>
                <a:latin typeface="Times New Roman"/>
              </a:endParaRPr>
            </a:p>
          </p:txBody>
        </p:sp>
      </p:grpSp>
      <p:grpSp>
        <p:nvGrpSpPr>
          <p:cNvPr id="147" name=""/>
          <p:cNvGrpSpPr/>
          <p:nvPr/>
        </p:nvGrpSpPr>
        <p:grpSpPr>
          <a:xfrm>
            <a:off x="380880" y="4648320"/>
            <a:ext cx="8229600" cy="1206360"/>
            <a:chOff x="380880" y="4648320"/>
            <a:chExt cx="8229600" cy="1206360"/>
          </a:xfrm>
        </p:grpSpPr>
        <p:sp>
          <p:nvSpPr>
            <p:cNvPr id="148" name=""/>
            <p:cNvSpPr/>
            <p:nvPr/>
          </p:nvSpPr>
          <p:spPr>
            <a:xfrm>
              <a:off x="1066680" y="5334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2971800" y="4800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971800" y="48006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3429000" y="4800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429000" y="5334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80880" y="51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54" name=""/>
            <p:cNvSpPr/>
            <p:nvPr/>
          </p:nvSpPr>
          <p:spPr>
            <a:xfrm>
              <a:off x="2362320" y="46483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55" name=""/>
            <p:cNvSpPr/>
            <p:nvPr/>
          </p:nvSpPr>
          <p:spPr>
            <a:xfrm>
              <a:off x="6248520" y="502920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inea Base de Compras</a:t>
              </a:r>
              <a:endParaRPr b="0" lang="en-US" sz="2400" spc="-1" strike="noStrike">
                <a:solidFill>
                  <a:srgbClr val="000000"/>
                </a:solidFill>
                <a:latin typeface="Times New Roman"/>
              </a:endParaRPr>
            </a:p>
          </p:txBody>
        </p:sp>
      </p:grpSp>
      <p:sp>
        <p:nvSpPr>
          <p:cNvPr id="156" name=""/>
          <p:cNvSpPr/>
          <p:nvPr/>
        </p:nvSpPr>
        <p:spPr>
          <a:xfrm>
            <a:off x="228600" y="60958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realidad será algo entremedio de estos casos</a:t>
            </a:r>
            <a:endParaRPr b="0" lang="en-US" sz="2400" spc="-1" strike="noStrike">
              <a:solidFill>
                <a:srgbClr val="000000"/>
              </a:solidFill>
              <a:latin typeface="Times New Roman"/>
            </a:endParaRPr>
          </a:p>
        </p:txBody>
      </p:sp>
      <p:sp>
        <p:nvSpPr>
          <p:cNvPr id="157" name=""/>
          <p:cNvSpPr/>
          <p:nvPr/>
        </p:nvSpPr>
        <p:spPr>
          <a:xfrm>
            <a:off x="5940360" y="17733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Caso 1</a:t>
            </a:r>
            <a:endParaRPr b="0" lang="en-US" sz="2400" spc="-1" strike="noStrike">
              <a:solidFill>
                <a:srgbClr val="000000"/>
              </a:solidFill>
              <a:latin typeface="Times New Roman"/>
            </a:endParaRPr>
          </a:p>
        </p:txBody>
      </p:sp>
      <p:sp>
        <p:nvSpPr>
          <p:cNvPr id="158" name=""/>
          <p:cNvSpPr/>
          <p:nvPr/>
        </p:nvSpPr>
        <p:spPr>
          <a:xfrm>
            <a:off x="6084720" y="443700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Caso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160" name=""/>
          <p:cNvSpPr/>
          <p:nvPr/>
        </p:nvSpPr>
        <p:spPr>
          <a:xfrm>
            <a:off x="762120" y="3429000"/>
            <a:ext cx="701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098800" y="1843200"/>
            <a:ext cx="5635440" cy="2608200"/>
          </a:xfrm>
          <a:custGeom>
            <a:avLst/>
            <a:gdLst/>
            <a:ahLst/>
            <a:rect l="l" t="t" r="r" b="b"/>
            <a:pathLst>
              <a:path w="3550" h="1643">
                <a:moveTo>
                  <a:pt x="0" y="1011"/>
                </a:moveTo>
                <a:cubicBezTo>
                  <a:pt x="67" y="966"/>
                  <a:pt x="84" y="969"/>
                  <a:pt x="160" y="945"/>
                </a:cubicBezTo>
                <a:cubicBezTo>
                  <a:pt x="168" y="930"/>
                  <a:pt x="184" y="893"/>
                  <a:pt x="198" y="879"/>
                </a:cubicBezTo>
                <a:cubicBezTo>
                  <a:pt x="227" y="851"/>
                  <a:pt x="266" y="835"/>
                  <a:pt x="293" y="803"/>
                </a:cubicBezTo>
                <a:cubicBezTo>
                  <a:pt x="300" y="794"/>
                  <a:pt x="306" y="785"/>
                  <a:pt x="312" y="775"/>
                </a:cubicBezTo>
                <a:cubicBezTo>
                  <a:pt x="319" y="763"/>
                  <a:pt x="321" y="748"/>
                  <a:pt x="330" y="737"/>
                </a:cubicBezTo>
                <a:cubicBezTo>
                  <a:pt x="337" y="728"/>
                  <a:pt x="384" y="698"/>
                  <a:pt x="397" y="690"/>
                </a:cubicBezTo>
                <a:cubicBezTo>
                  <a:pt x="424" y="649"/>
                  <a:pt x="451" y="598"/>
                  <a:pt x="491" y="567"/>
                </a:cubicBezTo>
                <a:cubicBezTo>
                  <a:pt x="509" y="553"/>
                  <a:pt x="548" y="529"/>
                  <a:pt x="548" y="529"/>
                </a:cubicBezTo>
                <a:cubicBezTo>
                  <a:pt x="575" y="489"/>
                  <a:pt x="616" y="466"/>
                  <a:pt x="652" y="435"/>
                </a:cubicBezTo>
                <a:cubicBezTo>
                  <a:pt x="709" y="386"/>
                  <a:pt x="665" y="405"/>
                  <a:pt x="718" y="388"/>
                </a:cubicBezTo>
                <a:cubicBezTo>
                  <a:pt x="721" y="378"/>
                  <a:pt x="726" y="369"/>
                  <a:pt x="727" y="359"/>
                </a:cubicBezTo>
                <a:cubicBezTo>
                  <a:pt x="732" y="322"/>
                  <a:pt x="726" y="282"/>
                  <a:pt x="736" y="246"/>
                </a:cubicBezTo>
                <a:cubicBezTo>
                  <a:pt x="754" y="181"/>
                  <a:pt x="768" y="201"/>
                  <a:pt x="803" y="170"/>
                </a:cubicBezTo>
                <a:cubicBezTo>
                  <a:pt x="835" y="142"/>
                  <a:pt x="867" y="115"/>
                  <a:pt x="897" y="85"/>
                </a:cubicBezTo>
                <a:cubicBezTo>
                  <a:pt x="930" y="52"/>
                  <a:pt x="900" y="58"/>
                  <a:pt x="944" y="29"/>
                </a:cubicBezTo>
                <a:cubicBezTo>
                  <a:pt x="953" y="23"/>
                  <a:pt x="964" y="24"/>
                  <a:pt x="973" y="19"/>
                </a:cubicBezTo>
                <a:cubicBezTo>
                  <a:pt x="983" y="14"/>
                  <a:pt x="992" y="6"/>
                  <a:pt x="1001" y="0"/>
                </a:cubicBezTo>
                <a:cubicBezTo>
                  <a:pt x="1076" y="9"/>
                  <a:pt x="1093" y="13"/>
                  <a:pt x="1152" y="48"/>
                </a:cubicBezTo>
                <a:cubicBezTo>
                  <a:pt x="1172" y="60"/>
                  <a:pt x="1209" y="85"/>
                  <a:pt x="1209" y="85"/>
                </a:cubicBezTo>
                <a:cubicBezTo>
                  <a:pt x="1227" y="113"/>
                  <a:pt x="1237" y="151"/>
                  <a:pt x="1265" y="170"/>
                </a:cubicBezTo>
                <a:cubicBezTo>
                  <a:pt x="1306" y="197"/>
                  <a:pt x="1338" y="230"/>
                  <a:pt x="1379" y="255"/>
                </a:cubicBezTo>
                <a:cubicBezTo>
                  <a:pt x="1385" y="265"/>
                  <a:pt x="1388" y="277"/>
                  <a:pt x="1397" y="284"/>
                </a:cubicBezTo>
                <a:cubicBezTo>
                  <a:pt x="1405" y="290"/>
                  <a:pt x="1419" y="286"/>
                  <a:pt x="1426" y="293"/>
                </a:cubicBezTo>
                <a:cubicBezTo>
                  <a:pt x="1433" y="300"/>
                  <a:pt x="1431" y="312"/>
                  <a:pt x="1435" y="321"/>
                </a:cubicBezTo>
                <a:cubicBezTo>
                  <a:pt x="1448" y="348"/>
                  <a:pt x="1461" y="357"/>
                  <a:pt x="1482" y="378"/>
                </a:cubicBezTo>
                <a:cubicBezTo>
                  <a:pt x="1499" y="425"/>
                  <a:pt x="1521" y="469"/>
                  <a:pt x="1549" y="510"/>
                </a:cubicBezTo>
                <a:cubicBezTo>
                  <a:pt x="1563" y="555"/>
                  <a:pt x="1600" y="574"/>
                  <a:pt x="1624" y="614"/>
                </a:cubicBezTo>
                <a:cubicBezTo>
                  <a:pt x="1674" y="698"/>
                  <a:pt x="1627" y="647"/>
                  <a:pt x="1681" y="699"/>
                </a:cubicBezTo>
                <a:cubicBezTo>
                  <a:pt x="1705" y="777"/>
                  <a:pt x="1765" y="826"/>
                  <a:pt x="1813" y="888"/>
                </a:cubicBezTo>
                <a:cubicBezTo>
                  <a:pt x="1868" y="959"/>
                  <a:pt x="1812" y="916"/>
                  <a:pt x="1870" y="954"/>
                </a:cubicBezTo>
                <a:cubicBezTo>
                  <a:pt x="1876" y="963"/>
                  <a:pt x="1883" y="972"/>
                  <a:pt x="1888" y="982"/>
                </a:cubicBezTo>
                <a:cubicBezTo>
                  <a:pt x="1893" y="991"/>
                  <a:pt x="1893" y="1002"/>
                  <a:pt x="1898" y="1011"/>
                </a:cubicBezTo>
                <a:cubicBezTo>
                  <a:pt x="1924" y="1053"/>
                  <a:pt x="1942" y="1060"/>
                  <a:pt x="1973" y="1096"/>
                </a:cubicBezTo>
                <a:cubicBezTo>
                  <a:pt x="2027" y="1158"/>
                  <a:pt x="2063" y="1211"/>
                  <a:pt x="2125" y="1266"/>
                </a:cubicBezTo>
                <a:cubicBezTo>
                  <a:pt x="2181" y="1316"/>
                  <a:pt x="2222" y="1374"/>
                  <a:pt x="2285" y="1417"/>
                </a:cubicBezTo>
                <a:cubicBezTo>
                  <a:pt x="2339" y="1492"/>
                  <a:pt x="2309" y="1468"/>
                  <a:pt x="2361" y="1502"/>
                </a:cubicBezTo>
                <a:cubicBezTo>
                  <a:pt x="2410" y="1568"/>
                  <a:pt x="2469" y="1586"/>
                  <a:pt x="2549" y="1596"/>
                </a:cubicBezTo>
                <a:cubicBezTo>
                  <a:pt x="2591" y="1610"/>
                  <a:pt x="2626" y="1620"/>
                  <a:pt x="2663" y="1643"/>
                </a:cubicBezTo>
                <a:cubicBezTo>
                  <a:pt x="2715" y="1636"/>
                  <a:pt x="2752" y="1635"/>
                  <a:pt x="2795" y="1606"/>
                </a:cubicBezTo>
                <a:cubicBezTo>
                  <a:pt x="2832" y="1550"/>
                  <a:pt x="2957" y="1484"/>
                  <a:pt x="3022" y="1464"/>
                </a:cubicBezTo>
                <a:cubicBezTo>
                  <a:pt x="3046" y="1426"/>
                  <a:pt x="3062" y="1381"/>
                  <a:pt x="3097" y="1351"/>
                </a:cubicBezTo>
                <a:cubicBezTo>
                  <a:pt x="3114" y="1336"/>
                  <a:pt x="3154" y="1313"/>
                  <a:pt x="3154" y="1313"/>
                </a:cubicBezTo>
                <a:cubicBezTo>
                  <a:pt x="3187" y="1267"/>
                  <a:pt x="3204" y="1230"/>
                  <a:pt x="3248" y="1200"/>
                </a:cubicBezTo>
                <a:cubicBezTo>
                  <a:pt x="3254" y="1190"/>
                  <a:pt x="3258" y="1178"/>
                  <a:pt x="3267" y="1171"/>
                </a:cubicBezTo>
                <a:cubicBezTo>
                  <a:pt x="3275" y="1165"/>
                  <a:pt x="3288" y="1169"/>
                  <a:pt x="3295" y="1162"/>
                </a:cubicBezTo>
                <a:cubicBezTo>
                  <a:pt x="3311" y="1146"/>
                  <a:pt x="3320" y="1124"/>
                  <a:pt x="3333" y="1105"/>
                </a:cubicBezTo>
                <a:cubicBezTo>
                  <a:pt x="3339" y="1096"/>
                  <a:pt x="3341" y="1081"/>
                  <a:pt x="3352" y="1077"/>
                </a:cubicBezTo>
                <a:cubicBezTo>
                  <a:pt x="3446" y="1043"/>
                  <a:pt x="3443" y="1001"/>
                  <a:pt x="3550" y="100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124080" y="28195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ea 1</a:t>
            </a:r>
            <a:endParaRPr b="0" lang="en-US" sz="2400" spc="-1" strike="noStrike">
              <a:solidFill>
                <a:srgbClr val="000000"/>
              </a:solidFill>
              <a:latin typeface="Times New Roman"/>
            </a:endParaRPr>
          </a:p>
        </p:txBody>
      </p:sp>
      <p:sp>
        <p:nvSpPr>
          <p:cNvPr id="163" name=""/>
          <p:cNvSpPr/>
          <p:nvPr/>
        </p:nvSpPr>
        <p:spPr>
          <a:xfrm>
            <a:off x="5486400" y="3657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ea 2</a:t>
            </a:r>
            <a:endParaRPr b="0" lang="en-US" sz="2400" spc="-1" strike="noStrike">
              <a:solidFill>
                <a:srgbClr val="000000"/>
              </a:solidFill>
              <a:latin typeface="Times New Roman"/>
            </a:endParaRPr>
          </a:p>
        </p:txBody>
      </p:sp>
      <p:sp>
        <p:nvSpPr>
          <p:cNvPr id="164" name=""/>
          <p:cNvSpPr/>
          <p:nvPr/>
        </p:nvSpPr>
        <p:spPr>
          <a:xfrm>
            <a:off x="838080" y="4648320"/>
            <a:ext cx="66294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área 1 será un poco mayor que el área 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ánto, dependerá de las características del produ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rvilletas de papel   Coca Cola     Sahne Nu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jemplo: Análisis de los switchers</a:t>
            </a:r>
            <a:endParaRPr b="0" lang="en-US" sz="4000" spc="-1" strike="noStrike">
              <a:solidFill>
                <a:srgbClr val="000000"/>
              </a:solidFill>
              <a:latin typeface="Times New Roman"/>
            </a:endParaRPr>
          </a:p>
        </p:txBody>
      </p:sp>
      <p:sp>
        <p:nvSpPr>
          <p:cNvPr id="166" name=""/>
          <p:cNvSpPr/>
          <p:nvPr/>
        </p:nvSpPr>
        <p:spPr>
          <a:xfrm>
            <a:off x="1523880" y="174456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compra marca A, 50% compra marca B</a:t>
            </a:r>
            <a:endParaRPr b="0" lang="en-US" sz="2400" spc="-1" strike="noStrike">
              <a:solidFill>
                <a:srgbClr val="000000"/>
              </a:solidFill>
              <a:latin typeface="Times New Roman"/>
            </a:endParaRPr>
          </a:p>
        </p:txBody>
      </p:sp>
      <p:sp>
        <p:nvSpPr>
          <p:cNvPr id="167" name=""/>
          <p:cNvSpPr/>
          <p:nvPr/>
        </p:nvSpPr>
        <p:spPr>
          <a:xfrm>
            <a:off x="533520" y="251460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o 1. Sin Promoción. Compra 4 al mes, la Línea base es 2 (para A). Sin Inventario.</a:t>
            </a:r>
            <a:endParaRPr b="0" lang="en-US" sz="2400" spc="-1" strike="noStrike">
              <a:solidFill>
                <a:srgbClr val="000000"/>
              </a:solidFill>
              <a:latin typeface="Times New Roman"/>
            </a:endParaRPr>
          </a:p>
        </p:txBody>
      </p:sp>
      <p:sp>
        <p:nvSpPr>
          <p:cNvPr id="168" name=""/>
          <p:cNvSpPr/>
          <p:nvPr/>
        </p:nvSpPr>
        <p:spPr>
          <a:xfrm>
            <a:off x="380880" y="434340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2971800" y="4038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971800" y="4038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3352680" y="4038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971800" y="434340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095880" y="4038480"/>
            <a:ext cx="2438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inea base para A es 2</a:t>
            </a:r>
            <a:endParaRPr b="0" lang="en-US" sz="2400" spc="-1" strike="noStrike">
              <a:solidFill>
                <a:srgbClr val="000000"/>
              </a:solidFill>
              <a:latin typeface="Times New Roman"/>
            </a:endParaRPr>
          </a:p>
        </p:txBody>
      </p:sp>
      <p:sp>
        <p:nvSpPr>
          <p:cNvPr id="174" name=""/>
          <p:cNvSpPr/>
          <p:nvPr/>
        </p:nvSpPr>
        <p:spPr>
          <a:xfrm>
            <a:off x="2362320" y="38098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5" name=""/>
          <p:cNvSpPr/>
          <p:nvPr/>
        </p:nvSpPr>
        <p:spPr>
          <a:xfrm>
            <a:off x="914400" y="4038480"/>
            <a:ext cx="4191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334120" y="365760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o</a:t>
            </a:r>
            <a:endParaRPr b="0" lang="en-US" sz="2000" spc="-1" strike="noStrike">
              <a:solidFill>
                <a:srgbClr val="000000"/>
              </a:solidFill>
              <a:latin typeface="Times New Roman"/>
            </a:endParaRPr>
          </a:p>
        </p:txBody>
      </p:sp>
      <p:sp>
        <p:nvSpPr>
          <p:cNvPr id="177" name=""/>
          <p:cNvSpPr/>
          <p:nvPr/>
        </p:nvSpPr>
        <p:spPr>
          <a:xfrm>
            <a:off x="539640" y="5373720"/>
            <a:ext cx="669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mos suponiendo que compra 2 a A y 2 a B. (O que el 50% compra A y el 50% compra 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179" name=""/>
          <p:cNvSpPr/>
          <p:nvPr/>
        </p:nvSpPr>
        <p:spPr>
          <a:xfrm>
            <a:off x="685800" y="419112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3200400" y="342864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200400" y="34290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733920" y="3429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733920" y="47242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4191120" y="41907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191120" y="419112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0" y="4038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87" name=""/>
          <p:cNvSpPr/>
          <p:nvPr/>
        </p:nvSpPr>
        <p:spPr>
          <a:xfrm>
            <a:off x="2590920" y="2971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88" name=""/>
          <p:cNvSpPr/>
          <p:nvPr/>
        </p:nvSpPr>
        <p:spPr>
          <a:xfrm>
            <a:off x="762120" y="3886200"/>
            <a:ext cx="5943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876920" y="46483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   4</a:t>
            </a:r>
            <a:endParaRPr b="0" lang="en-US" sz="2400" spc="-1" strike="noStrike">
              <a:solidFill>
                <a:srgbClr val="000000"/>
              </a:solidFill>
              <a:latin typeface="Times New Roman"/>
            </a:endParaRPr>
          </a:p>
        </p:txBody>
      </p:sp>
      <p:sp>
        <p:nvSpPr>
          <p:cNvPr id="190" name=""/>
          <p:cNvSpPr/>
          <p:nvPr/>
        </p:nvSpPr>
        <p:spPr>
          <a:xfrm>
            <a:off x="2133720" y="5334120"/>
            <a:ext cx="5715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biera comprado 4 en los dos meses de la marca A sin promoción, pero compró los 8 durante la 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192" name=""/>
          <p:cNvSpPr/>
          <p:nvPr/>
        </p:nvSpPr>
        <p:spPr>
          <a:xfrm>
            <a:off x="990720" y="1752480"/>
            <a:ext cx="716256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incremental está determinado p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El límite de compra (¿es invent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Por la distribución de los switch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son 50-50, u otra proporción). Nuevamente el más beneficiado es el con menor particip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odo esto suponiendo que no hay aumento de consu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194" name=""/>
          <p:cNvSpPr/>
          <p:nvPr/>
        </p:nvSpPr>
        <p:spPr>
          <a:xfrm>
            <a:off x="533520" y="266688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é pasa si yo (A) no promociono y la B si lo hace.</a:t>
            </a:r>
            <a:endParaRPr b="0" lang="en-US" sz="2400" spc="-1" strike="noStrike">
              <a:solidFill>
                <a:srgbClr val="000000"/>
              </a:solidFill>
              <a:latin typeface="Times New Roman"/>
            </a:endParaRPr>
          </a:p>
        </p:txBody>
      </p:sp>
      <p:sp>
        <p:nvSpPr>
          <p:cNvPr id="195" name=""/>
          <p:cNvSpPr/>
          <p:nvPr/>
        </p:nvSpPr>
        <p:spPr>
          <a:xfrm>
            <a:off x="838080" y="44197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200400" y="4419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200400" y="5105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4800600" y="4419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800600" y="4419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038480" y="3733920"/>
            <a:ext cx="0" cy="205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590920" y="53341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mes</a:t>
            </a:r>
            <a:endParaRPr b="0" lang="en-US" sz="2400" spc="-1" strike="noStrike">
              <a:solidFill>
                <a:srgbClr val="000000"/>
              </a:solidFill>
              <a:latin typeface="Times New Roman"/>
            </a:endParaRPr>
          </a:p>
        </p:txBody>
      </p:sp>
      <p:sp>
        <p:nvSpPr>
          <p:cNvPr id="202" name=""/>
          <p:cNvSpPr/>
          <p:nvPr/>
        </p:nvSpPr>
        <p:spPr>
          <a:xfrm>
            <a:off x="4114800" y="5334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mes</a:t>
            </a:r>
            <a:endParaRPr b="0" lang="en-US" sz="2400" spc="-1" strike="noStrike">
              <a:solidFill>
                <a:srgbClr val="000000"/>
              </a:solidFill>
              <a:latin typeface="Times New Roman"/>
            </a:endParaRPr>
          </a:p>
        </p:txBody>
      </p:sp>
      <p:sp>
        <p:nvSpPr>
          <p:cNvPr id="203" name=""/>
          <p:cNvSpPr/>
          <p:nvPr/>
        </p:nvSpPr>
        <p:spPr>
          <a:xfrm>
            <a:off x="457200" y="6095880"/>
            <a:ext cx="843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 venta cae en el equivalente a dos meses y no uno.!!! Mi venta durante ese período se reduce sólo a los le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es</a:t>
            </a:r>
            <a:endParaRPr b="0" lang="en-US" sz="4400" spc="-1" strike="noStrike">
              <a:solidFill>
                <a:srgbClr val="000000"/>
              </a:solidFill>
              <a:latin typeface="Times New Roman"/>
            </a:endParaRPr>
          </a:p>
        </p:txBody>
      </p:sp>
      <p:sp>
        <p:nvSpPr>
          <p:cNvPr id="205" name=""/>
          <p:cNvSpPr/>
          <p:nvPr/>
        </p:nvSpPr>
        <p:spPr>
          <a:xfrm>
            <a:off x="609480" y="2209680"/>
            <a:ext cx="8077320" cy="2478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la venta está compuesta fundamentalmente por leales lo que interesa saber es si el mayor stock aumenta o no el consum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la venta de la categoría es fuerte debido a los switchers, el de menor participación tiene incentivos claros para promocion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
          <p:cNvSpPr/>
          <p:nvPr/>
        </p:nvSpPr>
        <p:spPr>
          <a:xfrm>
            <a:off x="1752480" y="25909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352680" y="266688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410080" y="266688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38080" y="3429000"/>
            <a:ext cx="510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472428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0" y="38862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0 +Cons</a:t>
            </a:r>
            <a:endParaRPr b="0" lang="en-US" sz="1800" spc="-1" strike="noStrike">
              <a:solidFill>
                <a:srgbClr val="000000"/>
              </a:solidFill>
              <a:latin typeface="Times New Roman"/>
            </a:endParaRPr>
          </a:p>
        </p:txBody>
      </p:sp>
      <p:sp>
        <p:nvSpPr>
          <p:cNvPr id="213" name=""/>
          <p:cNvSpPr/>
          <p:nvPr/>
        </p:nvSpPr>
        <p:spPr>
          <a:xfrm>
            <a:off x="228600" y="48006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Cons</a:t>
            </a:r>
            <a:endParaRPr b="0" lang="en-US" sz="1800" spc="-1" strike="noStrike">
              <a:solidFill>
                <a:srgbClr val="000000"/>
              </a:solidFill>
              <a:latin typeface="Times New Roman"/>
            </a:endParaRPr>
          </a:p>
        </p:txBody>
      </p:sp>
      <p:sp>
        <p:nvSpPr>
          <p:cNvPr id="214" name=""/>
          <p:cNvSpPr/>
          <p:nvPr/>
        </p:nvSpPr>
        <p:spPr>
          <a:xfrm>
            <a:off x="2133720" y="2666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215" name=""/>
          <p:cNvSpPr/>
          <p:nvPr/>
        </p:nvSpPr>
        <p:spPr>
          <a:xfrm>
            <a:off x="388620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16" name=""/>
          <p:cNvSpPr/>
          <p:nvPr/>
        </p:nvSpPr>
        <p:spPr>
          <a:xfrm>
            <a:off x="1905120" y="3657600"/>
            <a:ext cx="1218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Nadie gana. Poca promoc</a:t>
            </a:r>
            <a:endParaRPr b="0" lang="en-US" sz="1800" spc="-1" strike="noStrike">
              <a:solidFill>
                <a:srgbClr val="000000"/>
              </a:solidFill>
              <a:latin typeface="Times New Roman"/>
            </a:endParaRPr>
          </a:p>
        </p:txBody>
      </p:sp>
      <p:sp>
        <p:nvSpPr>
          <p:cNvPr id="217" name=""/>
          <p:cNvSpPr/>
          <p:nvPr/>
        </p:nvSpPr>
        <p:spPr>
          <a:xfrm>
            <a:off x="1905120" y="4952880"/>
            <a:ext cx="12189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da Uno Promociona hacia sus clientes</a:t>
            </a:r>
            <a:endParaRPr b="0" lang="en-US" sz="1600" spc="-1" strike="noStrike">
              <a:solidFill>
                <a:srgbClr val="000000"/>
              </a:solidFill>
              <a:latin typeface="Times New Roman"/>
            </a:endParaRPr>
          </a:p>
        </p:txBody>
      </p:sp>
      <p:sp>
        <p:nvSpPr>
          <p:cNvPr id="218" name=""/>
          <p:cNvSpPr/>
          <p:nvPr/>
        </p:nvSpPr>
        <p:spPr>
          <a:xfrm>
            <a:off x="3657600" y="3733920"/>
            <a:ext cx="1523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a no líder con claros Incentivos</a:t>
            </a:r>
            <a:endParaRPr b="0" lang="en-US" sz="1600" spc="-1" strike="noStrike">
              <a:solidFill>
                <a:srgbClr val="000000"/>
              </a:solidFill>
              <a:latin typeface="Times New Roman"/>
            </a:endParaRPr>
          </a:p>
        </p:txBody>
      </p:sp>
      <p:sp>
        <p:nvSpPr>
          <p:cNvPr id="219" name=""/>
          <p:cNvSpPr/>
          <p:nvPr/>
        </p:nvSpPr>
        <p:spPr>
          <a:xfrm>
            <a:off x="3505320" y="5029200"/>
            <a:ext cx="1752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dos tienen Incentiv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ras consideraciones </a:t>
            </a:r>
            <a:endParaRPr b="0" lang="en-US" sz="4400" spc="-1" strike="noStrike">
              <a:solidFill>
                <a:srgbClr val="000000"/>
              </a:solidFill>
              <a:latin typeface="Times New Roman"/>
            </a:endParaRPr>
          </a:p>
        </p:txBody>
      </p:sp>
      <p:sp>
        <p:nvSpPr>
          <p:cNvPr id="221" name=""/>
          <p:cNvSpPr/>
          <p:nvPr/>
        </p:nvSpPr>
        <p:spPr>
          <a:xfrm>
            <a:off x="609480" y="243828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estudios demuestran que el grueso del efecto de las Promociones es en la Demanda secundaria. (brand switching) y mucho menos en la primaria (stock, aumento de consumo, cambio de categoría)</a:t>
            </a:r>
            <a:endParaRPr b="0" lang="en-US" sz="2400" spc="-1" strike="noStrike">
              <a:solidFill>
                <a:srgbClr val="000000"/>
              </a:solidFill>
              <a:latin typeface="Times New Roman"/>
            </a:endParaRPr>
          </a:p>
        </p:txBody>
      </p:sp>
      <p:sp>
        <p:nvSpPr>
          <p:cNvPr id="222" name=""/>
          <p:cNvSpPr/>
          <p:nvPr/>
        </p:nvSpPr>
        <p:spPr>
          <a:xfrm>
            <a:off x="457200" y="495288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upta (1988)        84%</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1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ell et al (1999)    75%</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2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o......</a:t>
            </a:r>
            <a:endParaRPr b="0" lang="en-US" sz="4400" spc="-1" strike="noStrike">
              <a:solidFill>
                <a:srgbClr val="000000"/>
              </a:solidFill>
              <a:latin typeface="Times New Roman"/>
            </a:endParaRPr>
          </a:p>
        </p:txBody>
      </p:sp>
      <p:sp>
        <p:nvSpPr>
          <p:cNvPr id="224" name=""/>
          <p:cNvSpPr/>
          <p:nvPr/>
        </p:nvSpPr>
        <p:spPr>
          <a:xfrm>
            <a:off x="533520" y="2514600"/>
            <a:ext cx="76197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estro análisis es simpli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forma habitual de segmentar a los consumidores 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NSIBILIDAD AL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unas Promociones pueden ser útiles para discriminar a los más sensibles de los men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ción</a:t>
            </a:r>
            <a:endParaRPr b="0" lang="en-US" sz="4400" spc="-1" strike="noStrike">
              <a:solidFill>
                <a:srgbClr val="000000"/>
              </a:solidFill>
              <a:latin typeface="Times New Roman"/>
            </a:endParaRPr>
          </a:p>
        </p:txBody>
      </p:sp>
      <p:sp>
        <p:nvSpPr>
          <p:cNvPr id="46" name=""/>
          <p:cNvSpPr/>
          <p:nvPr/>
        </p:nvSpPr>
        <p:spPr>
          <a:xfrm>
            <a:off x="685800" y="2438280"/>
            <a:ext cx="7924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la componente de Marketing Mix que usa MATERIALES Y TECNICAS diseñadas para acelerar las funciones de VENTA y COMPRA a lo largo de la Cadena, con los dos objetivos anteri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PONES</a:t>
            </a:r>
            <a:endParaRPr b="0" lang="en-US" sz="4400" spc="-1" strike="noStrike">
              <a:solidFill>
                <a:srgbClr val="000000"/>
              </a:solidFill>
              <a:latin typeface="Times New Roman"/>
            </a:endParaRPr>
          </a:p>
        </p:txBody>
      </p:sp>
      <p:sp>
        <p:nvSpPr>
          <p:cNvPr id="226" name=""/>
          <p:cNvSpPr/>
          <p:nvPr/>
        </p:nvSpPr>
        <p:spPr>
          <a:xfrm>
            <a:off x="685800" y="205740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cupones son una forma de discriminar entre sensib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menos sensi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mociones no basadas en precio</a:t>
            </a:r>
            <a:endParaRPr b="0" lang="en-US" sz="4400" spc="-1" strike="noStrike">
              <a:solidFill>
                <a:srgbClr val="000000"/>
              </a:solidFill>
              <a:latin typeface="Times New Roman"/>
            </a:endParaRPr>
          </a:p>
        </p:txBody>
      </p:sp>
      <p:sp>
        <p:nvSpPr>
          <p:cNvPr id="228" name=""/>
          <p:cNvSpPr/>
          <p:nvPr/>
        </p:nvSpPr>
        <p:spPr>
          <a:xfrm>
            <a:off x="609480" y="2819520"/>
            <a:ext cx="7772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uestr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mi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onus pack</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terías y Concurs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pones de Descu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estras</a:t>
            </a:r>
            <a:endParaRPr b="0" lang="en-US" sz="4400" spc="-1" strike="noStrike">
              <a:solidFill>
                <a:srgbClr val="000000"/>
              </a:solidFill>
              <a:latin typeface="Times New Roman"/>
            </a:endParaRPr>
          </a:p>
        </p:txBody>
      </p:sp>
      <p:sp>
        <p:nvSpPr>
          <p:cNvPr id="230" name=""/>
          <p:cNvSpPr/>
          <p:nvPr/>
        </p:nvSpPr>
        <p:spPr>
          <a:xfrm>
            <a:off x="838080" y="2362320"/>
            <a:ext cx="83059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a de Foc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 foco    significa   Alto Cos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estras en la Tiend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rategia muy efectiva en la Introducción de productos nue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os</a:t>
            </a:r>
            <a:endParaRPr b="0" lang="en-US" sz="4400" spc="-1" strike="noStrike">
              <a:solidFill>
                <a:srgbClr val="000000"/>
              </a:solidFill>
              <a:latin typeface="Times New Roman"/>
            </a:endParaRPr>
          </a:p>
        </p:txBody>
      </p:sp>
      <p:sp>
        <p:nvSpPr>
          <p:cNvPr id="232" name=""/>
          <p:cNvSpPr/>
          <p:nvPr/>
        </p:nvSpPr>
        <p:spPr>
          <a:xfrm>
            <a:off x="1295280" y="2590920"/>
            <a:ext cx="6553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terios para selección de Premi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e tener valor para el público objeti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Bonus pack</a:t>
            </a:r>
            <a:endParaRPr b="0" lang="en-US" sz="4400" spc="-1" strike="noStrike">
              <a:solidFill>
                <a:srgbClr val="000000"/>
              </a:solidFill>
              <a:latin typeface="Times New Roman"/>
            </a:endParaRPr>
          </a:p>
        </p:txBody>
      </p:sp>
      <p:sp>
        <p:nvSpPr>
          <p:cNvPr id="234" name=""/>
          <p:cNvSpPr/>
          <p:nvPr/>
        </p:nvSpPr>
        <p:spPr>
          <a:xfrm>
            <a:off x="685800" y="2362320"/>
            <a:ext cx="83059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erta cantidad Grati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importante en categorías donde hay mucha elasticidad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efectiv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mento de Consumo y alta Rotación de Inventar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ioran el precio b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ecto de la Frecuencia</a:t>
            </a:r>
            <a:endParaRPr b="0" lang="en-US" sz="4400" spc="-1" strike="noStrike">
              <a:solidFill>
                <a:srgbClr val="000000"/>
              </a:solidFill>
              <a:latin typeface="Times New Roman"/>
            </a:endParaRPr>
          </a:p>
        </p:txBody>
      </p:sp>
      <p:sp>
        <p:nvSpPr>
          <p:cNvPr id="236" name=""/>
          <p:cNvSpPr/>
          <p:nvPr/>
        </p:nvSpPr>
        <p:spPr>
          <a:xfrm>
            <a:off x="685800" y="2438280"/>
            <a:ext cx="76201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la frecuencia de las promociones es baja , los consumidores tienden a acumular stock. (Krishna 1994), per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la frecuencia es alta, aumenta la notoriedad de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i la frecuencia es alta, parte importante de las ventas tenderá a realizarse en períodos de promociones. (Mela, Gupta  y Lehmann1997)</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os de Promociones</a:t>
            </a:r>
            <a:endParaRPr b="0" lang="en-US" sz="4400" spc="-1" strike="noStrike">
              <a:solidFill>
                <a:srgbClr val="000000"/>
              </a:solidFill>
              <a:latin typeface="Times New Roman"/>
            </a:endParaRPr>
          </a:p>
        </p:txBody>
      </p:sp>
      <p:sp>
        <p:nvSpPr>
          <p:cNvPr id="48" name=""/>
          <p:cNvSpPr/>
          <p:nvPr/>
        </p:nvSpPr>
        <p:spPr>
          <a:xfrm>
            <a:off x="1028880" y="3048120"/>
            <a:ext cx="7086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mociones  Directas al Consumid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mociones al Canal (Trade Promo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mociones del Retai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mociones Directas al Consumidor</a:t>
            </a:r>
            <a:endParaRPr b="0" lang="en-US" sz="4400" spc="-1" strike="noStrike">
              <a:solidFill>
                <a:srgbClr val="000000"/>
              </a:solidFill>
              <a:latin typeface="Times New Roman"/>
            </a:endParaRPr>
          </a:p>
        </p:txBody>
      </p:sp>
      <p:sp>
        <p:nvSpPr>
          <p:cNvPr id="50" name=""/>
          <p:cNvSpPr/>
          <p:nvPr/>
        </p:nvSpPr>
        <p:spPr>
          <a:xfrm>
            <a:off x="685800" y="2209680"/>
            <a:ext cx="79246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asadas en el Producto</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enerar Conciencia (Prueba Grati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enerar Volumen (Compre 2, lleve 1 grati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asadas en el Precio</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bajas en el precio</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pones de Descuen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mios, Concurs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asadas en el lugar o el Merchandising (Display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igidas al Canal</a:t>
            </a:r>
            <a:endParaRPr b="0" lang="en-US" sz="4400" spc="-1" strike="noStrike">
              <a:solidFill>
                <a:srgbClr val="000000"/>
              </a:solidFill>
              <a:latin typeface="Times New Roman"/>
            </a:endParaRPr>
          </a:p>
        </p:txBody>
      </p:sp>
      <p:sp>
        <p:nvSpPr>
          <p:cNvPr id="52" name=""/>
          <p:cNvSpPr/>
          <p:nvPr/>
        </p:nvSpPr>
        <p:spPr>
          <a:xfrm>
            <a:off x="914400" y="2209680"/>
            <a:ext cx="73915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os grati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ciones de Preci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Ubica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idad Compartida (Catálog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adas en el Nivel de Ventas (Bonos e incen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mociones del Retail</a:t>
            </a:r>
            <a:endParaRPr b="0" lang="en-US" sz="4400" spc="-1" strike="noStrike">
              <a:solidFill>
                <a:srgbClr val="000000"/>
              </a:solidFill>
              <a:latin typeface="Times New Roman"/>
            </a:endParaRPr>
          </a:p>
        </p:txBody>
      </p:sp>
      <p:sp>
        <p:nvSpPr>
          <p:cNvPr id="54" name=""/>
          <p:cNvSpPr/>
          <p:nvPr/>
        </p:nvSpPr>
        <p:spPr>
          <a:xfrm>
            <a:off x="1143000" y="2362320"/>
            <a:ext cx="67816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cuentos del retai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play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tálog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p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gramas de Lealt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ndencias</a:t>
            </a:r>
            <a:endParaRPr b="0" lang="en-US" sz="4400" spc="-1" strike="noStrike">
              <a:solidFill>
                <a:srgbClr val="000000"/>
              </a:solidFill>
              <a:latin typeface="Times New Roman"/>
            </a:endParaRPr>
          </a:p>
        </p:txBody>
      </p:sp>
      <p:sp>
        <p:nvSpPr>
          <p:cNvPr id="56" name=""/>
          <p:cNvSpPr/>
          <p:nvPr/>
        </p:nvSpPr>
        <p:spPr>
          <a:xfrm>
            <a:off x="762120" y="2133720"/>
            <a:ext cx="739116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mociones más de un 20% mayor que gasto en publicidad . Tendencia creci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mociones al Canal. Tendencia creci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cluso en Retailers EDLP, siempre hay Promociones. En al menos algunas categorí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os Indirectos</a:t>
            </a:r>
            <a:endParaRPr b="0" lang="en-US" sz="4400" spc="-1" strike="noStrike">
              <a:solidFill>
                <a:srgbClr val="000000"/>
              </a:solidFill>
              <a:latin typeface="Times New Roman"/>
            </a:endParaRPr>
          </a:p>
        </p:txBody>
      </p:sp>
      <p:sp>
        <p:nvSpPr>
          <p:cNvPr id="58" name=""/>
          <p:cNvSpPr/>
          <p:nvPr/>
        </p:nvSpPr>
        <p:spPr>
          <a:xfrm>
            <a:off x="533520" y="1905120"/>
            <a:ext cx="8076960" cy="1381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promociones tienen costos indirectos que pueden ser grande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Producción</a:t>
            </a:r>
            <a:endParaRPr b="0" lang="en-US" sz="2400" spc="-1" strike="noStrike">
              <a:solidFill>
                <a:srgbClr val="000000"/>
              </a:solidFill>
              <a:latin typeface="Times New Roman"/>
            </a:endParaRPr>
          </a:p>
        </p:txBody>
      </p:sp>
      <p:sp>
        <p:nvSpPr>
          <p:cNvPr id="59" name=""/>
          <p:cNvSpPr/>
          <p:nvPr/>
        </p:nvSpPr>
        <p:spPr>
          <a:xfrm>
            <a:off x="838080" y="373392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38080" y="571500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39880" y="4430880"/>
            <a:ext cx="2982960" cy="215640"/>
          </a:xfrm>
          <a:custGeom>
            <a:avLst/>
            <a:gdLst/>
            <a:ahLst/>
            <a:rect l="l" t="t" r="r" b="b"/>
            <a:pathLst>
              <a:path w="1879" h="136">
                <a:moveTo>
                  <a:pt x="0" y="136"/>
                </a:moveTo>
                <a:cubicBezTo>
                  <a:pt x="60" y="117"/>
                  <a:pt x="103" y="114"/>
                  <a:pt x="170" y="108"/>
                </a:cubicBezTo>
                <a:cubicBezTo>
                  <a:pt x="204" y="85"/>
                  <a:pt x="215" y="77"/>
                  <a:pt x="255" y="89"/>
                </a:cubicBezTo>
                <a:cubicBezTo>
                  <a:pt x="309" y="126"/>
                  <a:pt x="344" y="111"/>
                  <a:pt x="406" y="98"/>
                </a:cubicBezTo>
                <a:cubicBezTo>
                  <a:pt x="476" y="123"/>
                  <a:pt x="552" y="106"/>
                  <a:pt x="623" y="89"/>
                </a:cubicBezTo>
                <a:cubicBezTo>
                  <a:pt x="632" y="83"/>
                  <a:pt x="641" y="64"/>
                  <a:pt x="651" y="70"/>
                </a:cubicBezTo>
                <a:cubicBezTo>
                  <a:pt x="671" y="81"/>
                  <a:pt x="689" y="127"/>
                  <a:pt x="689" y="127"/>
                </a:cubicBezTo>
                <a:cubicBezTo>
                  <a:pt x="739" y="93"/>
                  <a:pt x="802" y="90"/>
                  <a:pt x="859" y="70"/>
                </a:cubicBezTo>
                <a:cubicBezTo>
                  <a:pt x="899" y="84"/>
                  <a:pt x="932" y="74"/>
                  <a:pt x="972" y="61"/>
                </a:cubicBezTo>
                <a:cubicBezTo>
                  <a:pt x="1038" y="64"/>
                  <a:pt x="1106" y="59"/>
                  <a:pt x="1171" y="70"/>
                </a:cubicBezTo>
                <a:cubicBezTo>
                  <a:pt x="1261" y="85"/>
                  <a:pt x="1123" y="120"/>
                  <a:pt x="1218" y="89"/>
                </a:cubicBezTo>
                <a:cubicBezTo>
                  <a:pt x="1283" y="104"/>
                  <a:pt x="1341" y="110"/>
                  <a:pt x="1407" y="98"/>
                </a:cubicBezTo>
                <a:cubicBezTo>
                  <a:pt x="1503" y="35"/>
                  <a:pt x="1441" y="63"/>
                  <a:pt x="1605" y="51"/>
                </a:cubicBezTo>
                <a:cubicBezTo>
                  <a:pt x="1680" y="0"/>
                  <a:pt x="1701" y="66"/>
                  <a:pt x="1766" y="70"/>
                </a:cubicBezTo>
                <a:cubicBezTo>
                  <a:pt x="1804" y="72"/>
                  <a:pt x="1841" y="70"/>
                  <a:pt x="1879" y="7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952880" y="373392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952880" y="571500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946760" y="3747960"/>
            <a:ext cx="3913200" cy="1438560"/>
          </a:xfrm>
          <a:custGeom>
            <a:avLst/>
            <a:gdLst/>
            <a:ahLst/>
            <a:rect l="l" t="t" r="r" b="b"/>
            <a:pathLst>
              <a:path w="2465" h="906">
                <a:moveTo>
                  <a:pt x="0" y="604"/>
                </a:moveTo>
                <a:cubicBezTo>
                  <a:pt x="149" y="569"/>
                  <a:pt x="307" y="618"/>
                  <a:pt x="453" y="566"/>
                </a:cubicBezTo>
                <a:cubicBezTo>
                  <a:pt x="466" y="569"/>
                  <a:pt x="478" y="577"/>
                  <a:pt x="491" y="576"/>
                </a:cubicBezTo>
                <a:cubicBezTo>
                  <a:pt x="514" y="574"/>
                  <a:pt x="540" y="572"/>
                  <a:pt x="557" y="557"/>
                </a:cubicBezTo>
                <a:cubicBezTo>
                  <a:pt x="560" y="555"/>
                  <a:pt x="572" y="479"/>
                  <a:pt x="576" y="472"/>
                </a:cubicBezTo>
                <a:cubicBezTo>
                  <a:pt x="582" y="463"/>
                  <a:pt x="595" y="459"/>
                  <a:pt x="604" y="453"/>
                </a:cubicBezTo>
                <a:cubicBezTo>
                  <a:pt x="625" y="422"/>
                  <a:pt x="653" y="411"/>
                  <a:pt x="670" y="377"/>
                </a:cubicBezTo>
                <a:cubicBezTo>
                  <a:pt x="695" y="327"/>
                  <a:pt x="696" y="270"/>
                  <a:pt x="708" y="217"/>
                </a:cubicBezTo>
                <a:cubicBezTo>
                  <a:pt x="721" y="159"/>
                  <a:pt x="741" y="116"/>
                  <a:pt x="774" y="66"/>
                </a:cubicBezTo>
                <a:cubicBezTo>
                  <a:pt x="780" y="56"/>
                  <a:pt x="789" y="48"/>
                  <a:pt x="793" y="37"/>
                </a:cubicBezTo>
                <a:cubicBezTo>
                  <a:pt x="796" y="28"/>
                  <a:pt x="794" y="14"/>
                  <a:pt x="803" y="9"/>
                </a:cubicBezTo>
                <a:cubicBezTo>
                  <a:pt x="819" y="0"/>
                  <a:pt x="840" y="3"/>
                  <a:pt x="859" y="0"/>
                </a:cubicBezTo>
                <a:cubicBezTo>
                  <a:pt x="905" y="14"/>
                  <a:pt x="920" y="52"/>
                  <a:pt x="935" y="94"/>
                </a:cubicBezTo>
                <a:cubicBezTo>
                  <a:pt x="920" y="153"/>
                  <a:pt x="920" y="113"/>
                  <a:pt x="944" y="160"/>
                </a:cubicBezTo>
                <a:cubicBezTo>
                  <a:pt x="949" y="169"/>
                  <a:pt x="949" y="180"/>
                  <a:pt x="954" y="189"/>
                </a:cubicBezTo>
                <a:cubicBezTo>
                  <a:pt x="965" y="209"/>
                  <a:pt x="992" y="245"/>
                  <a:pt x="992" y="245"/>
                </a:cubicBezTo>
                <a:cubicBezTo>
                  <a:pt x="1005" y="285"/>
                  <a:pt x="1025" y="297"/>
                  <a:pt x="1048" y="330"/>
                </a:cubicBezTo>
                <a:cubicBezTo>
                  <a:pt x="1063" y="351"/>
                  <a:pt x="1072" y="375"/>
                  <a:pt x="1086" y="396"/>
                </a:cubicBezTo>
                <a:cubicBezTo>
                  <a:pt x="1106" y="461"/>
                  <a:pt x="1077" y="391"/>
                  <a:pt x="1124" y="443"/>
                </a:cubicBezTo>
                <a:cubicBezTo>
                  <a:pt x="1147" y="468"/>
                  <a:pt x="1156" y="504"/>
                  <a:pt x="1180" y="528"/>
                </a:cubicBezTo>
                <a:cubicBezTo>
                  <a:pt x="1211" y="559"/>
                  <a:pt x="1247" y="607"/>
                  <a:pt x="1284" y="632"/>
                </a:cubicBezTo>
                <a:cubicBezTo>
                  <a:pt x="1287" y="645"/>
                  <a:pt x="1288" y="658"/>
                  <a:pt x="1294" y="670"/>
                </a:cubicBezTo>
                <a:cubicBezTo>
                  <a:pt x="1329" y="741"/>
                  <a:pt x="1357" y="740"/>
                  <a:pt x="1426" y="765"/>
                </a:cubicBezTo>
                <a:cubicBezTo>
                  <a:pt x="1437" y="810"/>
                  <a:pt x="1428" y="825"/>
                  <a:pt x="1473" y="840"/>
                </a:cubicBezTo>
                <a:cubicBezTo>
                  <a:pt x="1534" y="881"/>
                  <a:pt x="1570" y="894"/>
                  <a:pt x="1643" y="906"/>
                </a:cubicBezTo>
                <a:cubicBezTo>
                  <a:pt x="1703" y="900"/>
                  <a:pt x="1765" y="904"/>
                  <a:pt x="1822" y="887"/>
                </a:cubicBezTo>
                <a:cubicBezTo>
                  <a:pt x="1835" y="883"/>
                  <a:pt x="1825" y="860"/>
                  <a:pt x="1832" y="849"/>
                </a:cubicBezTo>
                <a:cubicBezTo>
                  <a:pt x="1839" y="838"/>
                  <a:pt x="1850" y="829"/>
                  <a:pt x="1860" y="821"/>
                </a:cubicBezTo>
                <a:cubicBezTo>
                  <a:pt x="1878" y="807"/>
                  <a:pt x="1917" y="783"/>
                  <a:pt x="1917" y="783"/>
                </a:cubicBezTo>
                <a:cubicBezTo>
                  <a:pt x="1968" y="708"/>
                  <a:pt x="1901" y="799"/>
                  <a:pt x="1964" y="736"/>
                </a:cubicBezTo>
                <a:cubicBezTo>
                  <a:pt x="1996" y="704"/>
                  <a:pt x="1992" y="695"/>
                  <a:pt x="2040" y="680"/>
                </a:cubicBezTo>
                <a:cubicBezTo>
                  <a:pt x="2055" y="631"/>
                  <a:pt x="2076" y="610"/>
                  <a:pt x="2125" y="595"/>
                </a:cubicBezTo>
                <a:cubicBezTo>
                  <a:pt x="2166" y="567"/>
                  <a:pt x="2177" y="515"/>
                  <a:pt x="2219" y="491"/>
                </a:cubicBezTo>
                <a:cubicBezTo>
                  <a:pt x="2270" y="462"/>
                  <a:pt x="2416" y="443"/>
                  <a:pt x="2465" y="44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28600" y="586728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anda Ideal para una linea de producción</a:t>
            </a:r>
            <a:endParaRPr b="0" lang="en-US" sz="2400" spc="-1" strike="noStrike">
              <a:solidFill>
                <a:srgbClr val="000000"/>
              </a:solidFill>
              <a:latin typeface="Times New Roman"/>
            </a:endParaRPr>
          </a:p>
        </p:txBody>
      </p:sp>
      <p:sp>
        <p:nvSpPr>
          <p:cNvPr id="66" name=""/>
          <p:cNvSpPr/>
          <p:nvPr/>
        </p:nvSpPr>
        <p:spPr>
          <a:xfrm>
            <a:off x="4724280" y="6019920"/>
            <a:ext cx="3962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a típica producto de una Promoción</a:t>
            </a:r>
            <a:endParaRPr b="0" lang="en-US" sz="2400" spc="-1" strike="noStrike">
              <a:solidFill>
                <a:srgbClr val="000000"/>
              </a:solidFill>
              <a:latin typeface="Times New Roman"/>
            </a:endParaRPr>
          </a:p>
        </p:txBody>
      </p:sp>
      <p:sp>
        <p:nvSpPr>
          <p:cNvPr id="67" name=""/>
          <p:cNvSpPr/>
          <p:nvPr/>
        </p:nvSpPr>
        <p:spPr>
          <a:xfrm>
            <a:off x="441360" y="3962520"/>
            <a:ext cx="39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8" name=""/>
          <p:cNvSpPr/>
          <p:nvPr/>
        </p:nvSpPr>
        <p:spPr>
          <a:xfrm>
            <a:off x="4572000" y="4114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9" name=""/>
          <p:cNvSpPr/>
          <p:nvPr/>
        </p:nvSpPr>
        <p:spPr>
          <a:xfrm>
            <a:off x="3733920" y="53341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70" name=""/>
          <p:cNvSpPr/>
          <p:nvPr/>
        </p:nvSpPr>
        <p:spPr>
          <a:xfrm>
            <a:off x="7543800" y="53341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4T17:22:50Z</dcterms:created>
  <dc:creator>.</dc:creator>
  <dc:description/>
  <dc:language>en-US</dc:language>
  <cp:lastModifiedBy>Williams Young</cp:lastModifiedBy>
  <dcterms:modified xsi:type="dcterms:W3CDTF">2005-06-21T14:02:03Z</dcterms:modified>
  <cp:revision>36</cp:revision>
  <dc:subject/>
  <dc:title>Objetivo</dc:title>
</cp:coreProperties>
</file>