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1.wmf" ContentType="image/x-wmf"/>
  <Override PartName="/ppt/media/image3.png" ContentType="image/png"/>
  <Override PartName="/ppt/media/image13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5.jpeg" ContentType="image/jpeg"/>
  <Override PartName="/ppt/media/image9.wmf" ContentType="image/x-wmf"/>
  <Override PartName="/ppt/media/image1.wmf" ContentType="image/x-wmf"/>
  <Override PartName="/ppt/media/image6.jpeg" ContentType="image/jpeg"/>
  <Override PartName="/ppt/media/image12.wmf" ContentType="image/x-wmf"/>
  <Override PartName="/ppt/media/image4.png" ContentType="image/png"/>
  <Override PartName="/ppt/media/image7.jpeg" ContentType="image/jpeg"/>
  <Override PartName="/ppt/media/image2.png" ContentType="image/png"/>
  <Override PartName="/ppt/media/image10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2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64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75.xml.rels" ContentType="application/vnd.openxmlformats-package.relationships+xml"/>
  <Override PartName="/ppt/slides/_rels/slide10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85.xml" ContentType="application/vnd.openxmlformats-officedocument.presentationml.slide+xml"/>
  <Override PartName="/ppt/slides/slide89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52200" y="403560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276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7392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9600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5220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7392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9600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609480"/>
            <a:ext cx="87631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276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cc33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DII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               Estrategia de Retail                 Máximo Bos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f011e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" name=""/>
          <p:cNvSpPr/>
          <p:nvPr/>
        </p:nvSpPr>
        <p:spPr>
          <a:xfrm>
            <a:off x="6480" y="6480"/>
            <a:ext cx="9118440" cy="683244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8458200" y="6172200"/>
          <a:ext cx="455760" cy="53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58200" y="6172200"/>
                    <a:ext cx="4557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El Flujo de Información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666880" y="1523880"/>
            <a:ext cx="3657240" cy="4343040"/>
            <a:chOff x="2666880" y="1523880"/>
            <a:chExt cx="3657240" cy="434304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2666880" y="1523880"/>
              <a:ext cx="3657240" cy="43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2913840" y="5031000"/>
              <a:ext cx="1071000" cy="611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30360" y="2666880"/>
            <a:ext cx="81327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LASIFICACION 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E RETAILER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2" name=""/>
          <p:cNvGraphicFramePr/>
          <p:nvPr/>
        </p:nvGraphicFramePr>
        <p:xfrm>
          <a:off x="457200" y="1890720"/>
          <a:ext cx="8077320" cy="407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90720"/>
                    <a:ext cx="8077320" cy="40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4" name=""/>
          <p:cNvSpPr/>
          <p:nvPr/>
        </p:nvSpPr>
        <p:spPr>
          <a:xfrm>
            <a:off x="4724280" y="6248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Fte. AC Niels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838080" y="685800"/>
            <a:ext cx="723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articipación de Mercado de la Marcas privadas en Supermercados Europa en 199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6" name=""/>
          <p:cNvGraphicFramePr/>
          <p:nvPr/>
        </p:nvGraphicFramePr>
        <p:xfrm>
          <a:off x="1066680" y="2209680"/>
          <a:ext cx="7391520" cy="338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09680"/>
                    <a:ext cx="7391520" cy="33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8" name=""/>
          <p:cNvSpPr/>
          <p:nvPr/>
        </p:nvSpPr>
        <p:spPr>
          <a:xfrm>
            <a:off x="4114800" y="55627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uente: PLMA´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066680" y="533520"/>
            <a:ext cx="739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Participación de Mercado de las marcas privadas en supermercados de U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0" name=""/>
          <p:cNvGraphicFramePr/>
          <p:nvPr/>
        </p:nvGraphicFramePr>
        <p:xfrm>
          <a:off x="0" y="1752480"/>
          <a:ext cx="9144000" cy="3505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2" name=""/>
          <p:cNvSpPr/>
          <p:nvPr/>
        </p:nvSpPr>
        <p:spPr>
          <a:xfrm>
            <a:off x="228600" y="3808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% de Crecimiento por Volumen por país (98 vs. 9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295280" y="5410080"/>
            <a:ext cx="114300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295280" y="5867280"/>
            <a:ext cx="1143000" cy="30492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666880" y="54100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Priv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743200" y="57913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otal de la catego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410080" y="541008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te. Mackinsey Journal,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685800" y="274320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arrefour vende en Francia del orden del 25% de sus ventas en 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09480" y="4267080"/>
            <a:ext cx="7010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Más notable es Sainsbury´s que alcanza ventas en sus marcas propias de sobre el 50% en el Reino Un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0" name=""/>
          <p:cNvGraphicFramePr/>
          <p:nvPr/>
        </p:nvGraphicFramePr>
        <p:xfrm>
          <a:off x="0" y="1125360"/>
          <a:ext cx="9144000" cy="4483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25360"/>
                    <a:ext cx="9144000" cy="448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>
            <a:off x="1447920" y="1219320"/>
            <a:ext cx="62481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y básicamente cuatros  razones para que los Retailers desarrollen Marcas prop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.  Mejorar su mar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. Aumentar el poder dentro del ca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. Aumentar Utilidad de la catego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. Imagen y lealt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18288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Retailers se pueden clasificar , en forma bastante amplia, segú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76520" y="3733920"/>
            <a:ext cx="5333760" cy="101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ipo de Mercade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ipo de Propi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838080" y="1143000"/>
            <a:ext cx="2057400" cy="60948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3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ercaderí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1981080"/>
            <a:ext cx="2057400" cy="60984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4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mesti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304920"/>
            <a:ext cx="2057400" cy="60948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2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nstr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Herrami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05320" y="3657600"/>
            <a:ext cx="205740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94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iendas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entas Miscelán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2819520"/>
            <a:ext cx="2057400" cy="60948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5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Gasoliner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tas. De A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3657600"/>
            <a:ext cx="2057400" cy="60948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6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op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y acceso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4495680"/>
            <a:ext cx="2057400" cy="60984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7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ue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5410080"/>
            <a:ext cx="2057400" cy="60984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8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staurantes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ugares comer/be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05320" y="2819520"/>
            <a:ext cx="205740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93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ercaderí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Us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5320" y="2057400"/>
            <a:ext cx="205740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92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Botillerí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05320" y="1219320"/>
            <a:ext cx="205740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91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Farmac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6248520"/>
            <a:ext cx="205740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9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isceláne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81280" y="4495680"/>
            <a:ext cx="20574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96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inor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in Tie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00800" y="4572000"/>
            <a:ext cx="20574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963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enta Direc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3657600"/>
            <a:ext cx="20574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962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áquin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Vend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324480" y="2819520"/>
            <a:ext cx="20574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961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atálog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>
            <a:stCxn id="73" idx="3"/>
            <a:endCxn id="79" idx="0"/>
          </p:cNvCxnSpPr>
          <p:nvPr/>
        </p:nvCxnSpPr>
        <p:spPr>
          <a:xfrm>
            <a:off x="2895120" y="655272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0" name=""/>
          <p:cNvSpPr/>
          <p:nvPr/>
        </p:nvSpPr>
        <p:spPr>
          <a:xfrm flipV="1">
            <a:off x="3124080" y="1447560"/>
            <a:ext cx="0" cy="510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2408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23623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124080" y="3124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24080" y="39625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38680" y="4800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867280" y="30481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867280" y="3048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867280" y="3886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867280" y="4800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5715000"/>
            <a:ext cx="4647960" cy="825480"/>
          </a:xfrm>
          <a:prstGeom prst="rect">
            <a:avLst/>
          </a:prstGeom>
          <a:noFill/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5050"/>
                </a:solidFill>
                <a:latin typeface="Times New Roman"/>
              </a:rPr>
              <a:t>CLASIFICACION SIC del Retai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81280" y="380880"/>
            <a:ext cx="525780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lasificación por Tipo de Mercade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09680" y="0"/>
            <a:ext cx="6934320" cy="6753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3300"/>
                </a:solidFill>
                <a:latin typeface="Times New Roman"/>
              </a:rPr>
              <a:t>INDEPENDIENT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Situación Difíc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iendas de Especialidades y Lo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3300"/>
                </a:solidFill>
                <a:latin typeface="Times New Roman"/>
              </a:rPr>
              <a:t>CORPORATIV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versiones May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endencia a la Internacion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ortante en Supermercados,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rma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3300"/>
                </a:solidFill>
                <a:latin typeface="Times New Roman"/>
              </a:rPr>
              <a:t>FRANQUICI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orma de Expandirse Ráp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ortancia de la Marca con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porte Distinti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ortante en Restaurantes y Vestu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457200"/>
            <a:ext cx="2133720" cy="546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Times New Roman"/>
              </a:rPr>
              <a:t>CLASIFI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Times New Roman"/>
              </a:rPr>
              <a:t>C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Times New Roman"/>
              </a:rPr>
              <a:t>P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Times New Roman"/>
              </a:rPr>
              <a:t>TI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Times New Roman"/>
              </a:rPr>
              <a:t>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Times New Roman"/>
              </a:rPr>
              <a:t>PROPI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143000" y="106668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pueden clasificar también  según CINCO características opera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90920" y="2438280"/>
            <a:ext cx="3276360" cy="324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RI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RT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IVEL DE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TRETEN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33520" y="685800"/>
            <a:ext cx="8229600" cy="40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VARIEDAD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Número de CATEGORIAS DIFERENTES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ue ofrece un RET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RIEDAD  =  ANCHO DE LA GAMA DE 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Retailers con más Variedad son los HIPERMERCADOS y las TIENDAS POR DEPARTAM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33520" y="685800"/>
            <a:ext cx="8229600" cy="51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URTIDO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Número de  SKU (Store Keeping Units)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ue ofrece en una Categoría un RET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RTIDO  =  PROFUNDIDAD de Productos en la Catego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Retailers con más SURTIDO en una Categoría son los ESPECIALISTAS (Casa ROYAL, Tienda de Calcetin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Supermercado JUMBO tiene más SURTIDO que el Lí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2058840" y="762120"/>
            <a:ext cx="5179680" cy="5849640"/>
            <a:chOff x="2058840" y="762120"/>
            <a:chExt cx="5179680" cy="5849640"/>
          </a:xfrm>
        </p:grpSpPr>
        <p:sp>
          <p:nvSpPr>
            <p:cNvPr id="100" name=""/>
            <p:cNvSpPr/>
            <p:nvPr/>
          </p:nvSpPr>
          <p:spPr>
            <a:xfrm>
              <a:off x="3408840" y="6041880"/>
              <a:ext cx="300240" cy="2199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09440" y="6041880"/>
              <a:ext cx="300240" cy="2199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10040" y="6041880"/>
              <a:ext cx="299880" cy="2199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309920" y="6041880"/>
              <a:ext cx="300240" cy="2199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610520" y="6041880"/>
              <a:ext cx="300240" cy="2199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911120" y="6041880"/>
              <a:ext cx="299880" cy="2199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211000" y="6041880"/>
              <a:ext cx="300240" cy="2199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511600" y="6041880"/>
              <a:ext cx="300240" cy="2199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812200" y="6041880"/>
              <a:ext cx="299880" cy="2199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108600" y="6041880"/>
              <a:ext cx="299880" cy="2199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211000" y="5821920"/>
              <a:ext cx="300240" cy="2199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911120" y="5821920"/>
              <a:ext cx="299880" cy="2199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610520" y="5821920"/>
              <a:ext cx="300240" cy="2199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309920" y="5821920"/>
              <a:ext cx="300240" cy="2199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010040" y="5821920"/>
              <a:ext cx="299880" cy="2199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709440" y="5821920"/>
              <a:ext cx="300240" cy="2199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408840" y="5821920"/>
              <a:ext cx="300240" cy="2199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11000" y="5601960"/>
              <a:ext cx="300240" cy="2199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911120" y="5601960"/>
              <a:ext cx="299880" cy="2199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610520" y="5601960"/>
              <a:ext cx="300240" cy="2199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309920" y="5601960"/>
              <a:ext cx="300240" cy="2199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0040" y="5601960"/>
              <a:ext cx="299880" cy="2199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511600" y="5821920"/>
              <a:ext cx="300240" cy="2199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709440" y="5601960"/>
              <a:ext cx="300240" cy="2199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309920" y="5382000"/>
              <a:ext cx="300240" cy="2199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309920" y="1935360"/>
              <a:ext cx="300240" cy="2199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10040" y="1935360"/>
              <a:ext cx="299880" cy="2199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309920" y="2155320"/>
              <a:ext cx="300240" cy="2199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010040" y="2155320"/>
              <a:ext cx="299880" cy="2199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610520" y="2375280"/>
              <a:ext cx="300240" cy="2199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309920" y="2375280"/>
              <a:ext cx="300240" cy="2199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10040" y="2375280"/>
              <a:ext cx="299880" cy="2199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610520" y="2595240"/>
              <a:ext cx="300240" cy="2199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309920" y="2595240"/>
              <a:ext cx="300240" cy="2199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010040" y="2595240"/>
              <a:ext cx="299880" cy="2199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709440" y="2595240"/>
              <a:ext cx="300240" cy="2199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610520" y="2815560"/>
              <a:ext cx="300240" cy="2199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09920" y="2815560"/>
              <a:ext cx="300240" cy="2199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010040" y="2815560"/>
              <a:ext cx="299880" cy="2199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709440" y="2815560"/>
              <a:ext cx="300240" cy="2199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408840" y="2815560"/>
              <a:ext cx="300240" cy="2199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610520" y="3035520"/>
              <a:ext cx="300240" cy="2199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309920" y="3035520"/>
              <a:ext cx="300240" cy="2199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010040" y="3035520"/>
              <a:ext cx="299880" cy="2199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709440" y="3035520"/>
              <a:ext cx="300240" cy="2199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408840" y="3035520"/>
              <a:ext cx="300240" cy="2199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108600" y="3035520"/>
              <a:ext cx="299880" cy="2199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2733120" y="835560"/>
              <a:ext cx="0" cy="241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83000" y="3255480"/>
              <a:ext cx="465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058840" y="1202040"/>
              <a:ext cx="630360" cy="2764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Surti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191280" y="3328560"/>
              <a:ext cx="736920" cy="2764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Varied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2733120" y="3841920"/>
              <a:ext cx="0" cy="241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33120" y="6261840"/>
              <a:ext cx="443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058840" y="4061880"/>
              <a:ext cx="630360" cy="2764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Surti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191280" y="6335280"/>
              <a:ext cx="736920" cy="2764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Varied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108600" y="762120"/>
              <a:ext cx="0" cy="54997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2733120" y="5382000"/>
              <a:ext cx="1576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6112440" y="2888640"/>
              <a:ext cx="0" cy="33732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2733120" y="1715400"/>
              <a:ext cx="1576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709440" y="2375280"/>
              <a:ext cx="300240" cy="2199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610520" y="2155320"/>
              <a:ext cx="300240" cy="2199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09920" y="1715400"/>
              <a:ext cx="300240" cy="2199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1143000" y="3049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6600"/>
                </a:solidFill>
                <a:latin typeface="Times New Roman"/>
              </a:rPr>
              <a:t>Decisión Estratégica: ¿Surtido o Varieda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835280" y="1413000"/>
            <a:ext cx="676908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cc99"/>
                </a:solidFill>
                <a:latin typeface="Times New Roman"/>
              </a:rPr>
              <a:t>En el extrem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lang="es-CL" sz="4400" spc="-1" strike="noStrike">
                <a:solidFill>
                  <a:srgbClr val="00cc99"/>
                </a:solidFill>
                <a:latin typeface="Times New Roman"/>
              </a:rPr>
              <a:t>Especialist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cc99"/>
                </a:solidFill>
                <a:latin typeface="Times New Roman"/>
              </a:rPr>
              <a:t>                 </a:t>
            </a:r>
            <a:r>
              <a:rPr b="0" lang="es-CL" sz="4400" spc="-1" strike="noStrike">
                <a:solidFill>
                  <a:srgbClr val="00cc99"/>
                </a:solidFill>
                <a:latin typeface="Times New Roman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cc99"/>
                </a:solidFill>
                <a:latin typeface="Times New Roman"/>
              </a:rPr>
              <a:t>                        </a:t>
            </a:r>
            <a:r>
              <a:rPr b="0" lang="es-CL" sz="4400" spc="-1" strike="noStrike">
                <a:solidFill>
                  <a:srgbClr val="00cc99"/>
                </a:solidFill>
                <a:latin typeface="Times New Roman"/>
              </a:rPr>
              <a:t>Generalis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33520" y="685800"/>
            <a:ext cx="8229600" cy="49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ERVICIOS AL CL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tintos Retailers pueden ofrecer distintos NIVELES DE SERVICIO a sus Cli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Servicio que ofrece McDonald`s no es el mismo que ofrece Lomit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 estacionamiento puede hacer gran di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gunos servicios pueden entregar un SERVICIO DIFERENCIADO a sus cli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sos Aerolíneas, Banco Santiago, Falab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2286000"/>
            <a:ext cx="8001000" cy="35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fundador Ortega: las vestimentas  se convertirán en commodities perecibles como el pan o la fruta, piensen en vestuario como un producto para el consu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u socio (Castellano) era un especialista en 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ducando al Consumid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s-ES" sz="2000" spc="-1" strike="noStrike">
                <a:solidFill>
                  <a:srgbClr val="000000"/>
                </a:solidFill>
                <a:latin typeface="Times New Roman"/>
              </a:rPr>
              <a:t>Los clientes deben entender que si les gusta algo necesitan comprarlo ahora, porque no estará en la tienda la semana siguient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66880" y="533520"/>
            <a:ext cx="4038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ff"/>
                </a:solidFill>
                <a:latin typeface="Times New Roman"/>
              </a:rPr>
              <a:t>ZARA  Compite en Veloc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533520" y="685800"/>
            <a:ext cx="8229600" cy="57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gunos Retailers pueden ofrecer precios más baratos que su Competencia. Esto , en un mundo competitivo se puede deber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yor Eficiencia en Oper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sto es cada vez más difícil pues estas capacidades son cop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nores Serv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o más comú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nor Variedad o Menor Surt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sta es la diferencia entre Líder y Jum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ha definido una categoría como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oss Leade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af011e"/>
                </a:solidFill>
                <a:latin typeface="Comic Sans MS"/>
              </a:rPr>
              <a:t>Precio vs. Experiencia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32004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siguientes Fotos son de The Economist, Nov.20th, 200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453960"/>
            <a:ext cx="8991720" cy="60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981080" y="0"/>
            <a:ext cx="5457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492120"/>
            <a:ext cx="9144000" cy="58737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457200" y="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dificio de la tienda de deptos. Selfridge´s in Birmigham, 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af011e"/>
                </a:solidFill>
                <a:latin typeface="Comic Sans MS"/>
              </a:rPr>
              <a:t>Precio vs. Surtido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320040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siguiente es una clasificación típica de la industria de los supermerc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419720" y="1066680"/>
            <a:ext cx="0" cy="51055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3733920"/>
            <a:ext cx="82296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609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urt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96080" y="40384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410080" y="2514600"/>
            <a:ext cx="304920" cy="304920"/>
          </a:xfrm>
          <a:custGeom>
            <a:avLst/>
            <a:gdLst>
              <a:gd name="textAreaLeft" fmla="*/ 125640 w 304920"/>
              <a:gd name="textAreaRight" fmla="*/ 179280 w 30492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67480" y="5181480"/>
            <a:ext cx="304920" cy="304920"/>
          </a:xfrm>
          <a:custGeom>
            <a:avLst/>
            <a:gdLst>
              <a:gd name="textAreaLeft" fmla="*/ 125640 w 304920"/>
              <a:gd name="textAreaRight" fmla="*/ 179280 w 30492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00600" y="990720"/>
            <a:ext cx="304920" cy="304560"/>
          </a:xfrm>
          <a:custGeom>
            <a:avLst/>
            <a:gdLst>
              <a:gd name="textAreaLeft" fmla="*/ 125640 w 304920"/>
              <a:gd name="textAreaRight" fmla="*/ 179280 w 304920"/>
              <a:gd name="textAreaTop" fmla="*/ 125280 h 304560"/>
              <a:gd name="textAreaBottom" fmla="*/ 1792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0" y="5029200"/>
            <a:ext cx="304920" cy="304920"/>
          </a:xfrm>
          <a:custGeom>
            <a:avLst/>
            <a:gdLst>
              <a:gd name="textAreaLeft" fmla="*/ 125640 w 304920"/>
              <a:gd name="textAreaRight" fmla="*/ 179280 w 30492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666880" y="1523880"/>
            <a:ext cx="304920" cy="304920"/>
          </a:xfrm>
          <a:custGeom>
            <a:avLst/>
            <a:gdLst>
              <a:gd name="textAreaLeft" fmla="*/ 125640 w 304920"/>
              <a:gd name="textAreaRight" fmla="*/ 179280 w 30492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371600" y="18288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iper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705720" y="556272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ienda de Conven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28954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permercado Trad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48320" y="12952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Jum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4864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yor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85800" y="685800"/>
            <a:ext cx="75438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lasificación adicional de los Grandes Retailers, según los mercados que atienden 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ss Reta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rand Reta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762120" y="533520"/>
            <a:ext cx="7848360" cy="58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5050"/>
                </a:solidFill>
                <a:latin typeface="Times New Roman"/>
              </a:rPr>
              <a:t>BRAND RETAI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RIENTACION A SEGMENTO ESPECI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ortancia de la MAR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ALCANCE se logra con la expansión Ge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ortancia del Franchising como herramienta de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pan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cDonald´s, Gucci, Benetton, Laura Ash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533520" y="193680"/>
            <a:ext cx="83055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5050"/>
                </a:solidFill>
                <a:latin typeface="Times New Roman"/>
              </a:rPr>
              <a:t>MASS RETAI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RIENTACION A TODOS LOS SEG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ALCANCE se logra c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riedad de 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am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ierta Imagen de Precio (nunca Al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MASS RETAILERS en el área de Supermercados están tratando de crear MAR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Podrán llegar a hacer Franchising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 difícil crear una MARCA SIGNIFICATIVA sin SEGMENT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sos Carrefour, Líder,  Home Depot, Falabella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362320" y="6094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ff"/>
                </a:solidFill>
                <a:latin typeface="Times New Roman"/>
              </a:rPr>
              <a:t>Performance  de Za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1676520"/>
            <a:ext cx="6934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recimiento de ventas: 25% an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tilidad, 10% de vtas., y creciendo 30% por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sarrollo de Produc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l diseño a la tienda: 2 sema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2,000 diseños por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spachos a cada tienda: 2 por sem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España: ordenan sábado, despacho el Lu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2397240" y="2782800"/>
            <a:ext cx="43434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VOLUCION DEL 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ETAIL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066680" y="990720"/>
            <a:ext cx="6858000" cy="57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5050"/>
                </a:solidFill>
                <a:latin typeface="Times New Roman"/>
              </a:rPr>
              <a:t>BRAND RETA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) Principalmente  para Productos de Prestig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ucci, pero no olvidar Mr.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) Explosión del Brand Retailer. La Marca el principal Activo. Franchis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ene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) Las TI permiten la Integración VERTICAL. ¿Fin del Franchis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Z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DII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               Estrategia de Retail                 Máximo Bos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9907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5050"/>
                </a:solidFill>
                <a:latin typeface="Times New Roman"/>
              </a:rPr>
              <a:t>MASS RETA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2438280"/>
            <a:ext cx="3505320" cy="838440"/>
          </a:xfrm>
          <a:prstGeom prst="rect">
            <a:avLst/>
          </a:prstGeom>
          <a:solidFill>
            <a:srgbClr val="6600ff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99"/>
                </a:solidFill>
                <a:latin typeface="Times New Roman"/>
              </a:rPr>
              <a:t>Tienda de Descu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99"/>
                </a:solidFill>
                <a:latin typeface="Times New Roman"/>
              </a:rPr>
              <a:t>(Discou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447920" y="3809880"/>
            <a:ext cx="3504960" cy="838440"/>
          </a:xfrm>
          <a:prstGeom prst="rect">
            <a:avLst/>
          </a:prstGeom>
          <a:solidFill>
            <a:srgbClr val="6600ff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99"/>
                </a:solidFill>
                <a:latin typeface="Times New Roman"/>
              </a:rPr>
              <a:t>Orientación a la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23880" y="5410080"/>
            <a:ext cx="3505320" cy="838440"/>
          </a:xfrm>
          <a:prstGeom prst="rect">
            <a:avLst/>
          </a:prstGeom>
          <a:solidFill>
            <a:srgbClr val="6600ff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99"/>
                </a:solidFill>
                <a:latin typeface="Times New Roman"/>
              </a:rPr>
              <a:t>Orientación al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67280" y="2286000"/>
            <a:ext cx="3048120" cy="990720"/>
          </a:xfrm>
          <a:prstGeom prst="ellipse">
            <a:avLst/>
          </a:prstGeom>
          <a:solidFill>
            <a:srgbClr val="6600ff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99"/>
                </a:solidFill>
                <a:latin typeface="Times New Roman"/>
              </a:rPr>
              <a:t>Preocup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99"/>
                </a:solidFill>
                <a:latin typeface="Times New Roman"/>
              </a:rPr>
              <a:t>con Operación Prop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5880" y="3733920"/>
            <a:ext cx="3048120" cy="990360"/>
          </a:xfrm>
          <a:prstGeom prst="ellipse">
            <a:avLst/>
          </a:prstGeom>
          <a:solidFill>
            <a:srgbClr val="6600ff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99"/>
                </a:solidFill>
                <a:latin typeface="Times New Roman"/>
              </a:rPr>
              <a:t>Presión en l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99"/>
                </a:solidFill>
                <a:latin typeface="Times New Roman"/>
              </a:rPr>
              <a:t>Provee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99"/>
                </a:solidFill>
                <a:latin typeface="Times New Roman"/>
              </a:rPr>
              <a:t>Competencia de Prec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95880" y="5334120"/>
            <a:ext cx="3048120" cy="990360"/>
          </a:xfrm>
          <a:prstGeom prst="ellipse">
            <a:avLst/>
          </a:prstGeom>
          <a:solidFill>
            <a:srgbClr val="6600ff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99"/>
                </a:solidFill>
                <a:latin typeface="Times New Roman"/>
              </a:rPr>
              <a:t>Fideliz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99"/>
                </a:solidFill>
                <a:latin typeface="Times New Roman"/>
              </a:rPr>
              <a:t>de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876560" y="281952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4952520" y="42670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029200" y="586728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7672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00400" y="4648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066680" y="762120"/>
            <a:ext cx="3505320" cy="83808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Tienda de Descu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(Discou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752480" y="2819520"/>
            <a:ext cx="632484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Tiendas Grandes aumentaron enormemente la efici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Proveedores estaban felices. Vendían más a men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competencia se daba entre las tiendas Grandes (Discounters) y las tiendas ch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43000" y="762120"/>
            <a:ext cx="3505320" cy="83808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Orientación a la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752480" y="2057400"/>
            <a:ext cx="632484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Tiendas Grandes derrotaron totalmente a las ch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demanda por tiendas Grandes se satur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mpieza la guerra entre ell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Guerra es por Precio, o IMAGEN DE PRECIO, fundamental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Tiendas presionan a los Provee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Marca Propia es un elemento de esta nueva Gue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3000" y="762120"/>
            <a:ext cx="3505320" cy="83808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Orientación al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52480" y="2209680"/>
            <a:ext cx="632484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única forma de salirse de la Competencia por precios es FIDELIZ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ecesito elementos efectivos NO COPIABLES para fidelizar a mis cli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marcas Propias Juegan un Nuevo R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remos declinar la Administración por Categorías para pasar a la Administración de Clientes (o Negoci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630360" y="2666880"/>
            <a:ext cx="81327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EFINIENDO EL NEGOCIO 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EL RETAILER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914400" y="914400"/>
            <a:ext cx="67816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demos simplificar nuestro Gráfico de tres a dos dimensiones si hablamo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RCADOS y TECNOLOGÏ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838080" y="457200"/>
            <a:ext cx="7543800" cy="47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el RETAILING la Tecnología se ll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FORM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Formato es el tipo de Local con que la empresa se va a instalar en una localización determin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En el caso de POUPARIÑA, la tienda de Flores con Arreglos prehech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438280" y="1066680"/>
            <a:ext cx="0" cy="30481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438280" y="4114800"/>
            <a:ext cx="4191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447920" y="1295280"/>
            <a:ext cx="1295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638680" y="44956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Form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95280" y="518148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olvidar que MERCADO es un conjunto de personas con una necesidad comú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33520" y="495360"/>
            <a:ext cx="80769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914400" y="838080"/>
            <a:ext cx="716292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definición del Negocio en un Retailer consiste entonces en  defini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Qué Mercado (s) vamos atend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Que Formato vamos a us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80880" y="1676520"/>
            <a:ext cx="8001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un Brand Reta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ercado= Segmentación de Estilos de Vida + Loc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 Macrosegmento +Loc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38080" y="60948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38080" y="60948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Nótese qu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4114800"/>
            <a:ext cx="792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un Mass Reta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ercado= Fundamentalmente Localiz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714240" y="3162240"/>
            <a:ext cx="7715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¿ Qué es la ESTRATEGIA de un Retailer?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914400"/>
            <a:ext cx="9144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Estrategia se compone de dos partes principal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Estrategia General o Definición del Nego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    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Estrategia Comer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Componentes de la Estrategia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trategia Gener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crosegmento/Localización/Forma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trategia Comerci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gmentaci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argeting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(Def. de  Mercado(s) Objetivo(s)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osicionami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762120" y="1219320"/>
            <a:ext cx="723888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definición de Formato incluye una dimensión cada vez más importa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structura de la Cadena de Abast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ormato no es sólo como se ve mi tienda, sino también de quién obtengo los productos, como los llevo a  disposición del comprador (la góndola o escaparate). Otra vez , piense en ZA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752480" y="1371600"/>
            <a:ext cx="6019920" cy="52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mbientación del Lo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e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arcas prop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bastecimiento (Logísti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rvicios Complement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mociones al inter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munic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ol de la 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90720" y="30492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ahoma"/>
              </a:rPr>
              <a:t>Instrumentos para la 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af011e"/>
                </a:solidFill>
                <a:latin typeface="Comic Sans MS"/>
              </a:rPr>
              <a:t>Localización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Localización de Tiendas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 menudo decisión más importante para un retail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so supermercados: La ubicación es típicamente la variable más importante en la selección de tienda para el consumidor (ver ACNielsen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7" name=""/>
          <p:cNvGraphicFramePr/>
          <p:nvPr/>
        </p:nvGraphicFramePr>
        <p:xfrm>
          <a:off x="685800" y="1992240"/>
          <a:ext cx="7543800" cy="448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92240"/>
                    <a:ext cx="7543800" cy="44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...Localización de Tiendas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40" name=""/>
          <p:cNvSpPr/>
          <p:nvPr/>
        </p:nvSpPr>
        <p:spPr>
          <a:xfrm>
            <a:off x="5715000" y="57913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Fuente: ACNiels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905120" y="5335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ff"/>
                </a:solidFill>
                <a:latin typeface="Times New Roman"/>
              </a:rPr>
              <a:t>La Cadena de Abastec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1447920"/>
            <a:ext cx="807696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rte y Cofección en Españ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stellano: Mayores costos de m.o. pero ráp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ábricas muy automatizadas tiñen y cortan la tela (instalaciones intensivas en capital son propi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nfección por 300 subcontratistas en España y Portugal (instalaciones intensivas en m. de o. Subcontratadas, pero con apoyo informát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ransporte por camión a tiendas locales.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tienen altos inventarios de tel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ducciones por lotes muy pequeños. (flexibil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Localización de Tiendas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servicio al cliente, el surtido, los precios pueden ajustarse en el corto/mediano plaz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localización de la tienda es mucho más difícil de modificar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a buena ubicación es una fuente de ventaja competitiva difícil de copiar.”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Localización de Tiendas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spectos para la selección de un siti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80000"/>
              </a:lnSpc>
              <a:spcBef>
                <a:spcPts val="825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Entender posición de mercado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80000"/>
              </a:lnSpc>
              <a:spcBef>
                <a:spcPts val="825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Estudiar clientes de la competencia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80000"/>
              </a:lnSpc>
              <a:spcBef>
                <a:spcPts val="825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Identificar tendencia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80000"/>
              </a:lnSpc>
              <a:spcBef>
                <a:spcPts val="825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Definir el segmento de clientes meta(demografía, comportamiento compra, psicografía).ficha p.13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80000"/>
              </a:lnSpc>
              <a:spcBef>
                <a:spcPts val="825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Datos INE (Censo), CASE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80000"/>
              </a:lnSpc>
              <a:spcBef>
                <a:spcPts val="825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Estimar dda. Potencial y restar la existent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80000"/>
              </a:lnSpc>
              <a:spcBef>
                <a:spcPts val="825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Analizar competencia: visibilidad, acceso, densidad poblacional, crecimiento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Tipo de Ubicaciones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ásicamente existen 3 tipos de ubicacion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Zonas comerciales (centro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Centros comercial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Ubicaciones independient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Área de Comercio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52200" y="2114640"/>
            <a:ext cx="716292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Área alrededor de la tienda en la cual se mueven el 75-80% de los client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ntro de ella se identifican 3 zona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4038480"/>
            <a:ext cx="5473800" cy="2489400"/>
          </a:xfrm>
          <a:custGeom>
            <a:avLst/>
            <a:gdLst/>
            <a:ahLst/>
            <a:rect l="l" t="t" r="r" b="b"/>
            <a:pathLst>
              <a:path w="3448" h="1568">
                <a:moveTo>
                  <a:pt x="1080" y="1560"/>
                </a:moveTo>
                <a:cubicBezTo>
                  <a:pt x="848" y="1568"/>
                  <a:pt x="528" y="1488"/>
                  <a:pt x="360" y="1368"/>
                </a:cubicBezTo>
                <a:cubicBezTo>
                  <a:pt x="192" y="1248"/>
                  <a:pt x="0" y="1000"/>
                  <a:pt x="72" y="840"/>
                </a:cubicBezTo>
                <a:cubicBezTo>
                  <a:pt x="144" y="680"/>
                  <a:pt x="640" y="544"/>
                  <a:pt x="792" y="408"/>
                </a:cubicBezTo>
                <a:cubicBezTo>
                  <a:pt x="944" y="272"/>
                  <a:pt x="760" y="48"/>
                  <a:pt x="984" y="24"/>
                </a:cubicBezTo>
                <a:cubicBezTo>
                  <a:pt x="1208" y="0"/>
                  <a:pt x="1776" y="240"/>
                  <a:pt x="2136" y="264"/>
                </a:cubicBezTo>
                <a:cubicBezTo>
                  <a:pt x="2496" y="288"/>
                  <a:pt x="2936" y="56"/>
                  <a:pt x="3144" y="168"/>
                </a:cubicBezTo>
                <a:cubicBezTo>
                  <a:pt x="3352" y="280"/>
                  <a:pt x="3448" y="752"/>
                  <a:pt x="3384" y="936"/>
                </a:cubicBezTo>
                <a:cubicBezTo>
                  <a:pt x="3320" y="1120"/>
                  <a:pt x="3032" y="1208"/>
                  <a:pt x="2760" y="1272"/>
                </a:cubicBezTo>
                <a:cubicBezTo>
                  <a:pt x="2488" y="1336"/>
                  <a:pt x="2024" y="1272"/>
                  <a:pt x="1752" y="1320"/>
                </a:cubicBezTo>
                <a:cubicBezTo>
                  <a:pt x="1480" y="1368"/>
                  <a:pt x="1312" y="1552"/>
                  <a:pt x="1080" y="1560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552760" y="4572000"/>
            <a:ext cx="4228920" cy="1689120"/>
          </a:xfrm>
          <a:custGeom>
            <a:avLst/>
            <a:gdLst/>
            <a:ahLst/>
            <a:rect l="l" t="t" r="r" b="b"/>
            <a:pathLst>
              <a:path w="3448" h="1568">
                <a:moveTo>
                  <a:pt x="1080" y="1560"/>
                </a:moveTo>
                <a:cubicBezTo>
                  <a:pt x="848" y="1568"/>
                  <a:pt x="528" y="1488"/>
                  <a:pt x="360" y="1368"/>
                </a:cubicBezTo>
                <a:cubicBezTo>
                  <a:pt x="192" y="1248"/>
                  <a:pt x="0" y="1000"/>
                  <a:pt x="72" y="840"/>
                </a:cubicBezTo>
                <a:cubicBezTo>
                  <a:pt x="144" y="680"/>
                  <a:pt x="640" y="544"/>
                  <a:pt x="792" y="408"/>
                </a:cubicBezTo>
                <a:cubicBezTo>
                  <a:pt x="944" y="272"/>
                  <a:pt x="760" y="48"/>
                  <a:pt x="984" y="24"/>
                </a:cubicBezTo>
                <a:cubicBezTo>
                  <a:pt x="1208" y="0"/>
                  <a:pt x="1776" y="240"/>
                  <a:pt x="2136" y="264"/>
                </a:cubicBezTo>
                <a:cubicBezTo>
                  <a:pt x="2496" y="288"/>
                  <a:pt x="2936" y="56"/>
                  <a:pt x="3144" y="168"/>
                </a:cubicBezTo>
                <a:cubicBezTo>
                  <a:pt x="3352" y="280"/>
                  <a:pt x="3448" y="752"/>
                  <a:pt x="3384" y="936"/>
                </a:cubicBezTo>
                <a:cubicBezTo>
                  <a:pt x="3320" y="1120"/>
                  <a:pt x="3032" y="1208"/>
                  <a:pt x="2760" y="1272"/>
                </a:cubicBezTo>
                <a:cubicBezTo>
                  <a:pt x="2488" y="1336"/>
                  <a:pt x="2024" y="1272"/>
                  <a:pt x="1752" y="1320"/>
                </a:cubicBezTo>
                <a:cubicBezTo>
                  <a:pt x="1480" y="1368"/>
                  <a:pt x="1312" y="1552"/>
                  <a:pt x="1080" y="1560"/>
                </a:cubicBezTo>
                <a:close/>
              </a:path>
            </a:pathLst>
          </a:cu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314880" y="4876920"/>
            <a:ext cx="2705040" cy="990360"/>
          </a:xfrm>
          <a:custGeom>
            <a:avLst/>
            <a:gdLst/>
            <a:ahLst/>
            <a:rect l="l" t="t" r="r" b="b"/>
            <a:pathLst>
              <a:path w="3448" h="1568">
                <a:moveTo>
                  <a:pt x="1080" y="1560"/>
                </a:moveTo>
                <a:cubicBezTo>
                  <a:pt x="848" y="1568"/>
                  <a:pt x="528" y="1488"/>
                  <a:pt x="360" y="1368"/>
                </a:cubicBezTo>
                <a:cubicBezTo>
                  <a:pt x="192" y="1248"/>
                  <a:pt x="0" y="1000"/>
                  <a:pt x="72" y="840"/>
                </a:cubicBezTo>
                <a:cubicBezTo>
                  <a:pt x="144" y="680"/>
                  <a:pt x="640" y="544"/>
                  <a:pt x="792" y="408"/>
                </a:cubicBezTo>
                <a:cubicBezTo>
                  <a:pt x="944" y="272"/>
                  <a:pt x="760" y="48"/>
                  <a:pt x="984" y="24"/>
                </a:cubicBezTo>
                <a:cubicBezTo>
                  <a:pt x="1208" y="0"/>
                  <a:pt x="1776" y="240"/>
                  <a:pt x="2136" y="264"/>
                </a:cubicBezTo>
                <a:cubicBezTo>
                  <a:pt x="2496" y="288"/>
                  <a:pt x="2936" y="56"/>
                  <a:pt x="3144" y="168"/>
                </a:cubicBezTo>
                <a:cubicBezTo>
                  <a:pt x="3352" y="280"/>
                  <a:pt x="3448" y="752"/>
                  <a:pt x="3384" y="936"/>
                </a:cubicBezTo>
                <a:cubicBezTo>
                  <a:pt x="3320" y="1120"/>
                  <a:pt x="3032" y="1208"/>
                  <a:pt x="2760" y="1272"/>
                </a:cubicBezTo>
                <a:cubicBezTo>
                  <a:pt x="2488" y="1336"/>
                  <a:pt x="2024" y="1272"/>
                  <a:pt x="1752" y="1320"/>
                </a:cubicBezTo>
                <a:cubicBezTo>
                  <a:pt x="1480" y="1368"/>
                  <a:pt x="1312" y="1552"/>
                  <a:pt x="1080" y="1560"/>
                </a:cubicBezTo>
                <a:close/>
              </a:path>
            </a:pathLst>
          </a:cu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581280" y="533412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50% - prim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666880" y="541008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2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05120" y="54864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1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971800" y="57754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secund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0920" y="615636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terci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Área de Comercio según acceso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52200" y="2114640"/>
            <a:ext cx="716292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imaria: 10 minutos o men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cundaria: 15-20 minut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rciaria: 20+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...Área de Comercio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560" y="2209320"/>
            <a:ext cx="70866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Encuesta en Economax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SzPct val="12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75% de los clientes viven a 10 o menos cuadra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SzPct val="12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65% de los clientes trabaja a 10 o menos cuadra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...Área de Comercio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560" y="2209320"/>
            <a:ext cx="830556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ímites están determinados po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Barreras físicas (autopistas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Barreras naturales (ríos, cerros)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Tipo de tienda (Home Store vs. Almac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Competencia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...Área de Comercio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560" y="2209320"/>
            <a:ext cx="830556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ejor Zona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Aquella que generaría la mayor demanda y ventas del retailer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ay que evaluar 3 aspecto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Demanda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Competencia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Potencial de la zona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...Área de Comercio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560" y="2209680"/>
            <a:ext cx="830556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manda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Datos Demográfico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SzPct val="12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Crecimiento población, tamaño hogar, eda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Socioeconómico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SzPct val="12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Ingreso, bien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Estilos de vida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Actividades de negocio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SzPct val="12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Empleos en la zona, industrias en la zon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371600" y="990720"/>
            <a:ext cx="7162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-6480">
              <a:lnSpc>
                <a:spcPct val="75000"/>
              </a:lnSpc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jemplo: Datos 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1523880" y="1876320"/>
          <a:ext cx="6629400" cy="475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876320"/>
                    <a:ext cx="662940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86000" y="6094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ff"/>
                </a:solidFill>
                <a:latin typeface="Times New Roman"/>
              </a:rPr>
              <a:t>Centro Logístico de Za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47920" y="1828800"/>
            <a:ext cx="601956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amaño: 100.000 metros cuad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60.000 ítemes de ropa por ho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erca del Principal Centro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istas Bajo tierra (200 kms. de pist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os productos vienen en cajas para cada tienda , con etiquetas electró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s cajas son seleccionadas con sc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s cajas van a 443 buzones, 1 para cada tie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371600" y="990720"/>
            <a:ext cx="7162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-6480">
              <a:lnSpc>
                <a:spcPct val="75000"/>
              </a:lnSpc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...Datos 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1028880" y="1676520"/>
          <a:ext cx="7086600" cy="455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8880" y="1676520"/>
                    <a:ext cx="7086600" cy="45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371600" y="990720"/>
            <a:ext cx="7162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-6480">
              <a:lnSpc>
                <a:spcPct val="75000"/>
              </a:lnSpc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...Datos 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1104840" y="1447920"/>
          <a:ext cx="6934320" cy="478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1447920"/>
                    <a:ext cx="6934320" cy="47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...Área de Comercio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petencia: Tres tipos de zon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Saturadas: consumidores tienen más donde elegir, competencia se puede seguir de cerca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Sobresaturadas: competencia está demasiado cerca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Baja saturación: ventajas y desventajas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Índice de Metros cuadrados destinados al comercio/NºHogar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Componentes de la Estrategia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calización/Forma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gmentaci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argeting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(Def. de  Mercado(s) Objetivo(s)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osicionami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"/>
          <p:cNvSpPr/>
          <p:nvPr/>
        </p:nvSpPr>
        <p:spPr>
          <a:xfrm>
            <a:off x="1066680" y="3048120"/>
            <a:ext cx="6324840" cy="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af011e"/>
                </a:solidFill>
                <a:latin typeface="Comic Sans MS"/>
              </a:rPr>
              <a:t>¿qué es Formato?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82" name=""/>
          <p:cNvSpPr/>
          <p:nvPr/>
        </p:nvSpPr>
        <p:spPr>
          <a:xfrm>
            <a:off x="685800" y="2057400"/>
            <a:ext cx="75438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armacias: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rugstore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armacia con Góndol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ólo farmaci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staurants Comida Rápid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utoservicio Cafeterí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utoservicio en Li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tención en M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af011e"/>
                </a:solidFill>
                <a:latin typeface="Comic Sans MS"/>
              </a:rPr>
              <a:t>Formatos de Supermercados</a:t>
            </a:r>
            <a:endParaRPr b="1" lang="en-US" sz="3600" spc="-1" strike="noStrike">
              <a:solidFill>
                <a:srgbClr val="af011e"/>
              </a:solidFill>
              <a:latin typeface="Comic Sans MS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299880" y="2590920"/>
          <a:ext cx="8572680" cy="2539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" y="2590920"/>
                    <a:ext cx="8572680" cy="25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2438280" y="1066680"/>
            <a:ext cx="0" cy="30481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438280" y="4114800"/>
            <a:ext cx="4191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47920" y="1295280"/>
            <a:ext cx="1295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638680" y="44956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Form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95280" y="518148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olvidar que MERCADO es un conjunto de personas con una necesidad comú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733920" y="1828800"/>
            <a:ext cx="838080" cy="838080"/>
          </a:xfrm>
          <a:prstGeom prst="rect">
            <a:avLst/>
          </a:prstGeom>
          <a:noFill/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838080" y="685800"/>
            <a:ext cx="739152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un estudio reciente en USA, de Fox, Motgomery y Lodish (abril,2000) en lo que es un primer estudio de hábitos de compra entre diferentes formatos, encontraron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variabilidad del Gasto de las personas entre un tipo de tienda y otra, es mayoritariamente explicado por el TIPO de FORMA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066680" y="9144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to significa que la competencia entre formatos no es muy fuerte, la competencia es fuerte dentro de tiendas de un mismo form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23960" y="2666880"/>
            <a:ext cx="7696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realidad la demanda está determinada por la oferta de las tien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sí, una tienda que dice ser la más barata, lleva a la gente que quiere comprar más barato, la que ofrece variedad, a la que quiere variedad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38080" y="57150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to se llama efecto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LIENT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2438280" y="457200"/>
            <a:ext cx="0" cy="36576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438280" y="4114800"/>
            <a:ext cx="4191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447920" y="1295280"/>
            <a:ext cx="1295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638680" y="44956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Form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733920" y="1828800"/>
            <a:ext cx="838080" cy="838080"/>
          </a:xfrm>
          <a:prstGeom prst="rect">
            <a:avLst/>
          </a:prstGeom>
          <a:noFill/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80880" y="51055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Crecimiento, especialmente cuando un negocio específico se pone muy competitivo nos lleva a buscar cambios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447920" y="304920"/>
            <a:ext cx="72388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ff"/>
                </a:solidFill>
                <a:latin typeface="Times New Roman"/>
              </a:rPr>
              <a:t>              </a:t>
            </a:r>
            <a:r>
              <a:rPr b="1" lang="es-ES" sz="2800" spc="-1" strike="noStrike">
                <a:solidFill>
                  <a:srgbClr val="cc00ff"/>
                </a:solidFill>
                <a:latin typeface="Times New Roman"/>
              </a:rPr>
              <a:t>Un Negocio centra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ff"/>
                </a:solidFill>
                <a:latin typeface="Times New Roman"/>
              </a:rPr>
              <a:t>    </a:t>
            </a:r>
            <a:r>
              <a:rPr b="1" lang="es-ES" sz="2800" spc="-1" strike="noStrike">
                <a:solidFill>
                  <a:srgbClr val="cc00ff"/>
                </a:solidFill>
                <a:latin typeface="Times New Roman"/>
              </a:rPr>
              <a:t>en la Inform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90720" y="1828800"/>
            <a:ext cx="7238880" cy="35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os gerentes de tienda usan computadores Casio, tipo palm, a través de los que mandan información 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endencias de 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mentarios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s órdenes de la tie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os Diseñado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acen los diseños, los  scanean al computador, se transmiten electrónicamente al comp. de la fábrica, el que ordena las instrucciones de corte a las máquinas cortadoras, entre otras cos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2438280" y="457200"/>
            <a:ext cx="0" cy="36576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438280" y="4114800"/>
            <a:ext cx="4191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447920" y="1295280"/>
            <a:ext cx="1295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638680" y="44956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Form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828800"/>
            <a:ext cx="838080" cy="838080"/>
          </a:xfrm>
          <a:prstGeom prst="rect">
            <a:avLst/>
          </a:prstGeom>
          <a:noFill/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733920" y="1219320"/>
            <a:ext cx="838080" cy="60948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09480" y="48769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quiero crecer, pudo hacerlo hacia otro mercado (una tienda en otra locación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86200" y="1523880"/>
            <a:ext cx="228600" cy="990720"/>
          </a:xfrm>
          <a:prstGeom prst="upArrow">
            <a:avLst>
              <a:gd name="adj1" fmla="val 50000"/>
              <a:gd name="adj2" fmla="val 108346"/>
            </a:avLst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2438280" y="457200"/>
            <a:ext cx="0" cy="36576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438280" y="4114800"/>
            <a:ext cx="4191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47920" y="1295280"/>
            <a:ext cx="1295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638680" y="44956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Form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733920" y="1828800"/>
            <a:ext cx="838080" cy="838080"/>
          </a:xfrm>
          <a:prstGeom prst="rect">
            <a:avLst/>
          </a:prstGeom>
          <a:noFill/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0" y="1828800"/>
            <a:ext cx="685800" cy="83808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09880" y="2209680"/>
            <a:ext cx="1143000" cy="228600"/>
          </a:xfrm>
          <a:prstGeom prst="rightArrow">
            <a:avLst>
              <a:gd name="adj1" fmla="val 50000"/>
              <a:gd name="adj2" fmla="val 125000"/>
            </a:avLst>
          </a:prstGeom>
          <a:solidFill>
            <a:srgbClr val="cc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0880" y="5029200"/>
            <a:ext cx="7848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 puedo cambiar o agregar otro forma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pecialmente cierto cuando ya no quedan mercados interesantes sin explotar, y cuando la competencia es gran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723960" y="17524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la medida que un FORMATO madura, los retailers necesitan innovar en Formato. Si no lo hace uno, lo hará el competi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533520" y="3429000"/>
            <a:ext cx="7924680" cy="825480"/>
            <a:chOff x="533520" y="3429000"/>
            <a:chExt cx="7924680" cy="825480"/>
          </a:xfrm>
        </p:grpSpPr>
        <p:sp>
          <p:nvSpPr>
            <p:cNvPr id="320" name=""/>
            <p:cNvSpPr/>
            <p:nvPr/>
          </p:nvSpPr>
          <p:spPr>
            <a:xfrm>
              <a:off x="533520" y="342900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Esta dinámi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666880" y="3657600"/>
              <a:ext cx="1905120" cy="152280"/>
            </a:xfrm>
            <a:prstGeom prst="rightArrow">
              <a:avLst>
                <a:gd name="adj1" fmla="val 50000"/>
                <a:gd name="adj2" fmla="val 312766"/>
              </a:avLst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572000" y="3429000"/>
              <a:ext cx="3886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Necesidad de renovar el FORMA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2057400" y="342900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057400" y="403848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057400" y="4343400"/>
            <a:ext cx="579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57400" y="243828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057400" y="37339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057400" y="403848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057400" y="342900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057400" y="434340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057400" y="373392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057400" y="373392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057400" y="274320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754280" y="45482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678320" y="419112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676520" y="3886200"/>
            <a:ext cx="41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676520" y="3618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191120" y="3733920"/>
            <a:ext cx="457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676520" y="2971800"/>
            <a:ext cx="62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676520" y="2666880"/>
            <a:ext cx="33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76520" y="323676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362320"/>
            <a:ext cx="47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886200" y="4495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133720" y="4114800"/>
            <a:ext cx="1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809880" y="4419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125880" y="4800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276720" y="4495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666880" y="4495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257800" y="4495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943600" y="4495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572000" y="4495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572000" y="4495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592360" y="4800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811680" y="4800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419720" y="4800600"/>
            <a:ext cx="56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89680" y="480060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791320" y="4800600"/>
            <a:ext cx="33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696080" y="4495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86600" y="4495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77120" y="4495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324480" y="4800600"/>
            <a:ext cx="33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934320" y="48006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467480" y="48006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057400" y="2870280"/>
            <a:ext cx="2514600" cy="1473120"/>
          </a:xfrm>
          <a:custGeom>
            <a:avLst/>
            <a:gdLst/>
            <a:ahLst/>
            <a:rect l="l" t="t" r="r" b="b"/>
            <a:pathLst>
              <a:path w="1584" h="928">
                <a:moveTo>
                  <a:pt x="0" y="544"/>
                </a:moveTo>
                <a:cubicBezTo>
                  <a:pt x="276" y="272"/>
                  <a:pt x="552" y="0"/>
                  <a:pt x="816" y="64"/>
                </a:cubicBezTo>
                <a:cubicBezTo>
                  <a:pt x="1080" y="128"/>
                  <a:pt x="1456" y="784"/>
                  <a:pt x="1584" y="92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057400" y="3137040"/>
            <a:ext cx="3200400" cy="1206360"/>
          </a:xfrm>
          <a:custGeom>
            <a:avLst/>
            <a:gdLst/>
            <a:ahLst/>
            <a:rect l="l" t="t" r="r" b="b"/>
            <a:pathLst>
              <a:path w="2016" h="760">
                <a:moveTo>
                  <a:pt x="0" y="520"/>
                </a:moveTo>
                <a:cubicBezTo>
                  <a:pt x="480" y="260"/>
                  <a:pt x="960" y="0"/>
                  <a:pt x="1296" y="40"/>
                </a:cubicBezTo>
                <a:cubicBezTo>
                  <a:pt x="1632" y="80"/>
                  <a:pt x="1896" y="640"/>
                  <a:pt x="2016" y="7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057400" y="3454560"/>
            <a:ext cx="5257800" cy="888840"/>
          </a:xfrm>
          <a:custGeom>
            <a:avLst/>
            <a:gdLst/>
            <a:ahLst/>
            <a:rect l="l" t="t" r="r" b="b"/>
            <a:pathLst>
              <a:path w="3312" h="560">
                <a:moveTo>
                  <a:pt x="0" y="368"/>
                </a:moveTo>
                <a:cubicBezTo>
                  <a:pt x="1020" y="184"/>
                  <a:pt x="2040" y="0"/>
                  <a:pt x="2592" y="32"/>
                </a:cubicBezTo>
                <a:cubicBezTo>
                  <a:pt x="3144" y="64"/>
                  <a:pt x="3192" y="472"/>
                  <a:pt x="3312" y="5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057400" y="2666880"/>
            <a:ext cx="2362320" cy="1676520"/>
          </a:xfrm>
          <a:custGeom>
            <a:avLst/>
            <a:gdLst/>
            <a:ahLst/>
            <a:rect l="l" t="t" r="r" b="b"/>
            <a:pathLst>
              <a:path w="1488" h="1056">
                <a:moveTo>
                  <a:pt x="0" y="480"/>
                </a:moveTo>
                <a:cubicBezTo>
                  <a:pt x="164" y="240"/>
                  <a:pt x="328" y="0"/>
                  <a:pt x="576" y="96"/>
                </a:cubicBezTo>
                <a:cubicBezTo>
                  <a:pt x="824" y="192"/>
                  <a:pt x="1336" y="896"/>
                  <a:pt x="1488" y="10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057400" y="464832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982880" y="4724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219320" y="167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371600" y="548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219320" y="685800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295280" y="152388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282680" y="800280"/>
            <a:ext cx="490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CICLOS DE VIDA CADA VEZ MAS COR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981080" y="1600200"/>
            <a:ext cx="440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urvas representativas del ciclo de vida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981080" y="5067360"/>
            <a:ext cx="670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Número de años después de alcanzar los 100 millones de 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584000" y="5410080"/>
            <a:ext cx="6243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Basado en el análisis de los 15 mayores retails con un solo formato de ventas sob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100 millones en el períod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Compusta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57200" y="4278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295280" y="617220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203480" y="1336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295280" y="1523880"/>
            <a:ext cx="0" cy="464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8290080" y="1184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381880" y="1447920"/>
            <a:ext cx="0" cy="472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500560" y="2475000"/>
            <a:ext cx="84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1988-19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567240" y="2779560"/>
            <a:ext cx="68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1981-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481640" y="3236760"/>
            <a:ext cx="68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1975-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072560" y="3465360"/>
            <a:ext cx="68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1965-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981080" y="2743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965240" y="2784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057400" y="312408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 rot="10826400">
            <a:off x="1293840" y="1904760"/>
            <a:ext cx="332640" cy="38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imes New Roman"/>
              </a:rPr>
              <a:t>TASA ACUMULADA DE CRECIMIENTO DE LAS GANANCI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Componentes de la Estrategia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calización/Forma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gmentaci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argeting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(Def. de  Mercado(s) Objetivo(s)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osicionami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"/>
          <p:cNvSpPr/>
          <p:nvPr/>
        </p:nvSpPr>
        <p:spPr>
          <a:xfrm>
            <a:off x="1066680" y="23623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af011e"/>
                </a:solidFill>
                <a:latin typeface="Comic Sans MS"/>
              </a:rPr>
              <a:t>Segmentación 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Brand Retailers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gmentación fuera de la Tienda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Fundamentalmente a través de variables psicográficas =&gt; Estilos de Vida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Mass Retailers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gmentación dentro de la Tienda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P.O.S. Proporciona información respecto del comportamiento de clientes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Oportunidad de segmentar de acuerdo a tipo de canastas, frecuencia de compra, etc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533520" y="990720"/>
            <a:ext cx="80769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egmentar requiere definir variables que discriminen significativamente entre cli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stas variables o atributos son los llamados “Bases de la Segmentació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990720" y="1905120"/>
            <a:ext cx="7162560" cy="33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Una segmentación significativa es la que nos ayuda a descubrir comportamientos distintos, que se transforman en negocios distin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158840" y="3106800"/>
            <a:ext cx="6819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EFINICION DE RETAILING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1523880" y="533520"/>
            <a:ext cx="281952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ipología amplia de los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tilos de Vi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tilos de Vida Relacionados con la comp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alidades de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isiones de Comp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6276960"/>
            <a:ext cx="3429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De Retail Strategy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Walters &amp;Hanrahan,p.1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295280" y="685800"/>
            <a:ext cx="0" cy="4800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191120" y="457200"/>
            <a:ext cx="426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Demográficas, Geo,Socio Económicas, Tipo de Famil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191120" y="1295280"/>
            <a:ext cx="495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Actividades:trabajo,familia, ocio;Intereses: Hogar, moda, comida; Opiniones: Sí mismo, Tiendas,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343400" y="26668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Actividades: Frecuencia de Compra, Lealtad; Intereses: Importancia de la compra, Conoc. de alternativas; Opiniones:Expectativas de Valor, Percepcio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191120" y="42670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nocimiento; Interés, Confianza, Readiness to purch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267080" y="5105520"/>
            <a:ext cx="44197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mpra de Destino; Compra Regular Planificada; Visita Comparativa Planeada; Visita planeada de vitrineo; Compra Impulsiva;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af011e"/>
                </a:solidFill>
                <a:latin typeface="Comic Sans MS"/>
              </a:rPr>
              <a:t>Posicionamiento/Proposicion de Valor</a:t>
            </a:r>
            <a:endParaRPr b="1" lang="en-US" sz="3600" spc="-1" strike="noStrike">
              <a:solidFill>
                <a:srgbClr val="af011e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af011e"/>
                </a:solidFill>
                <a:latin typeface="Comic Sans MS"/>
              </a:rPr>
              <a:t>La Proposición de Valor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412" name=""/>
          <p:cNvSpPr/>
          <p:nvPr/>
        </p:nvSpPr>
        <p:spPr>
          <a:xfrm>
            <a:off x="380880" y="1600200"/>
            <a:ext cx="7696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proposición de Valor es una Declaración Explícita de los resultados palpables (tangibles) que recibirán los consumidores/clientes cuando compran en nuestro local/cad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80880" y="37339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proposición de Valor se basa en una mezcla específica de: Variedad, Surtido, Servicios, Precio, Entreten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33520" y="518148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n embargo se refiere  los efectos de esa mezcla en el consumidor/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af011e"/>
                </a:solidFill>
                <a:latin typeface="Comic Sans MS"/>
              </a:rPr>
              <a:t>¿qué es la Proposición de Valor?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416" name=""/>
          <p:cNvSpPr/>
          <p:nvPr/>
        </p:nvSpPr>
        <p:spPr>
          <a:xfrm>
            <a:off x="533520" y="1981080"/>
            <a:ext cx="2133360" cy="0"/>
          </a:xfrm>
          <a:prstGeom prst="line">
            <a:avLst/>
          </a:prstGeom>
          <a:ln w="7632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" y="4648320"/>
            <a:ext cx="2133720" cy="0"/>
          </a:xfrm>
          <a:prstGeom prst="line">
            <a:avLst/>
          </a:prstGeom>
          <a:ln w="7632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352680" y="4419720"/>
            <a:ext cx="495324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consumidor satisface actualmente su necesidad, por lo que obtiene este “VALO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048120" y="1219320"/>
            <a:ext cx="533376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ueva tienda mejora el nivel de satisfacción de la necesidad. Nueva “Proposición de Valo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743200" y="1981080"/>
            <a:ext cx="457200" cy="2667240"/>
          </a:xfrm>
          <a:custGeom>
            <a:avLst/>
            <a:gdLst>
              <a:gd name="textAreaLeft" fmla="*/ 0 w 457200"/>
              <a:gd name="textAreaRight" fmla="*/ 164880 w 457200"/>
              <a:gd name="textAreaTop" fmla="*/ 69480 h 2667240"/>
              <a:gd name="textAreaBottom" fmla="*/ 259776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31240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LTA VALO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>
            <a:hlinkClick r:id="" action="ppaction://hlinkshowjump?jump=previousslide"/>
          </p:cNvPr>
          <p:cNvSpPr/>
          <p:nvPr/>
        </p:nvSpPr>
        <p:spPr>
          <a:xfrm>
            <a:off x="304920" y="5029200"/>
            <a:ext cx="990360" cy="762120"/>
          </a:xfrm>
          <a:custGeom>
            <a:avLst/>
            <a:gdLst>
              <a:gd name="textAreaLeft" fmla="*/ 0 w 990360"/>
              <a:gd name="textAreaRight" fmla="*/ 990720 w 99036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8066" h="21600">
                <a:moveTo>
                  <a:pt x="0" y="0"/>
                </a:moveTo>
                <a:lnTo>
                  <a:pt x="28066" y="0"/>
                </a:lnTo>
                <a:lnTo>
                  <a:pt x="28066" y="21600"/>
                </a:lnTo>
                <a:lnTo>
                  <a:pt x="0" y="21600"/>
                </a:lnTo>
                <a:close/>
              </a:path>
              <a:path fill="lightenLess" w="28066" h="21600">
                <a:moveTo>
                  <a:pt x="0" y="0"/>
                </a:moveTo>
                <a:lnTo>
                  <a:pt x="28066" y="0"/>
                </a:lnTo>
                <a:lnTo>
                  <a:pt x="28066" y="0"/>
                </a:lnTo>
                <a:lnTo>
                  <a:pt x="0" y="0"/>
                </a:lnTo>
                <a:close/>
              </a:path>
              <a:path fill="darken" w="28066" h="21600">
                <a:moveTo>
                  <a:pt x="28066" y="0"/>
                </a:moveTo>
                <a:lnTo>
                  <a:pt x="28066" y="21600"/>
                </a:lnTo>
                <a:lnTo>
                  <a:pt x="28066" y="21600"/>
                </a:lnTo>
                <a:lnTo>
                  <a:pt x="28066" y="0"/>
                </a:lnTo>
                <a:close/>
              </a:path>
              <a:path fill="darkenLess" w="28066" h="21600">
                <a:moveTo>
                  <a:pt x="2806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8066" y="21600"/>
                </a:lnTo>
                <a:close/>
              </a:path>
              <a:path fill="lighten" w="2806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8066" h="21600">
                <a:moveTo>
                  <a:pt x="5983" y="10800"/>
                </a:moveTo>
                <a:lnTo>
                  <a:pt x="22083" y="2750"/>
                </a:lnTo>
                <a:lnTo>
                  <a:pt x="22083" y="1885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>
            <a:hlinkClick r:id="" action="ppaction://hlinkshowjump?jump=nextslide"/>
          </p:cNvPr>
          <p:cNvSpPr/>
          <p:nvPr/>
        </p:nvSpPr>
        <p:spPr>
          <a:xfrm>
            <a:off x="1371600" y="5029200"/>
            <a:ext cx="1371600" cy="838080"/>
          </a:xfrm>
          <a:custGeom>
            <a:avLst/>
            <a:gdLst>
              <a:gd name="textAreaLeft" fmla="*/ 54000 w 1371600"/>
              <a:gd name="textAreaRight" fmla="*/ 1317600 w 1371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5345" h="21600">
                <a:moveTo>
                  <a:pt x="0" y="0"/>
                </a:moveTo>
                <a:lnTo>
                  <a:pt x="35345" y="0"/>
                </a:lnTo>
                <a:lnTo>
                  <a:pt x="35345" y="21600"/>
                </a:lnTo>
                <a:lnTo>
                  <a:pt x="0" y="21600"/>
                </a:lnTo>
                <a:close/>
              </a:path>
              <a:path fill="lightenLess" w="35345" h="21600">
                <a:moveTo>
                  <a:pt x="0" y="0"/>
                </a:moveTo>
                <a:lnTo>
                  <a:pt x="35345" y="0"/>
                </a:lnTo>
                <a:lnTo>
                  <a:pt x="33945" y="1400"/>
                </a:lnTo>
                <a:lnTo>
                  <a:pt x="1400" y="1400"/>
                </a:lnTo>
                <a:close/>
              </a:path>
              <a:path fill="darken" w="35345" h="21600">
                <a:moveTo>
                  <a:pt x="35345" y="0"/>
                </a:moveTo>
                <a:lnTo>
                  <a:pt x="35345" y="21600"/>
                </a:lnTo>
                <a:lnTo>
                  <a:pt x="33945" y="20200"/>
                </a:lnTo>
                <a:lnTo>
                  <a:pt x="33945" y="1400"/>
                </a:lnTo>
                <a:close/>
              </a:path>
              <a:path fill="darkenLess" w="35345" h="21600">
                <a:moveTo>
                  <a:pt x="353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45" y="20200"/>
                </a:lnTo>
                <a:close/>
              </a:path>
              <a:path fill="lighten" w="353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45" h="21600">
                <a:moveTo>
                  <a:pt x="10666" y="3794"/>
                </a:moveTo>
                <a:lnTo>
                  <a:pt x="24679" y="10800"/>
                </a:lnTo>
                <a:lnTo>
                  <a:pt x="10666" y="17806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2514600" y="37339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Valor para e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4920" y="43434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ff"/>
                </a:solidFill>
                <a:latin typeface="Times New Roman"/>
              </a:rPr>
              <a:t>Ec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200400" y="4876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ff"/>
                </a:solidFill>
                <a:latin typeface="Times New Roman"/>
              </a:rPr>
              <a:t>Conven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172200" y="43434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ff"/>
                </a:solidFill>
                <a:latin typeface="Times New Roman"/>
              </a:rPr>
              <a:t>Esté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095880" y="27432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ff"/>
                </a:solidFill>
                <a:latin typeface="Times New Roman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048120" y="2133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ff"/>
                </a:solidFill>
                <a:latin typeface="Times New Roman"/>
              </a:rPr>
              <a:t>Confi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04920" y="25146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ff"/>
                </a:solidFill>
                <a:latin typeface="Times New Roman"/>
              </a:rPr>
              <a:t>Conf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09680" y="5410080"/>
            <a:ext cx="403884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Proceso e Instalaciones para la Transa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Servicio de productos y dispon. De part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Fac. en el Procesamiento de grantí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Capac. De Respuesta de ventas y servi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629400" y="4809960"/>
            <a:ext cx="190512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Esti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Dura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Aju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Consistencia en el tiempo del esti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28600" y="5029200"/>
            <a:ext cx="152388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Costos d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Adquisición,Instalación,Puesta en marcha, de Deshacer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867280" y="228600"/>
            <a:ext cx="259092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Flujo de caja del U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Compatibilidad Opera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Flexibilidad Operativ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Servi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Ajuste Medio ambi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Estatus/prestig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895480" y="228600"/>
            <a:ext cx="1905120" cy="17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Reputación del provee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Mar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Paquertes de garantí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Infor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Especificaciones de c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80880" y="533520"/>
            <a:ext cx="167652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Continuidad de los Beneficios y Costos en el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Continuidad en el apoyo del Provee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143000" y="2971800"/>
            <a:ext cx="152388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14800" y="25146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5486400" y="3124080"/>
            <a:ext cx="129528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 flipV="1">
            <a:off x="5257800" y="4190760"/>
            <a:ext cx="91440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114800" y="411480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1600200" y="4114800"/>
            <a:ext cx="99072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381880" y="228600"/>
            <a:ext cx="228600" cy="2362320"/>
          </a:xfrm>
          <a:custGeom>
            <a:avLst/>
            <a:gdLst>
              <a:gd name="textAreaLeft" fmla="*/ 0 w 228600"/>
              <a:gd name="textAreaRight" fmla="*/ 82440 w 2286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8001000" y="2819520"/>
            <a:ext cx="304920" cy="2057400"/>
          </a:xfrm>
          <a:custGeom>
            <a:avLst/>
            <a:gdLst>
              <a:gd name="textAreaLeft" fmla="*/ 0 w 304920"/>
              <a:gd name="textAreaRight" fmla="*/ 110160 w 3049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8686800" y="228600"/>
            <a:ext cx="914400" cy="25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cc99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cc99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cc99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cc99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cc99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cc99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cc99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cc99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cc99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8518680" y="2666880"/>
            <a:ext cx="625320" cy="44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2514600" y="37339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Valor para e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4920" y="43434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ff"/>
                </a:solidFill>
                <a:latin typeface="Times New Roman"/>
              </a:rPr>
              <a:t>Ec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200400" y="4876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ff"/>
                </a:solidFill>
                <a:latin typeface="Times New Roman"/>
              </a:rPr>
              <a:t>Conven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172200" y="43434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ff"/>
                </a:solidFill>
                <a:latin typeface="Times New Roman"/>
              </a:rPr>
              <a:t>Esté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095880" y="27432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ff"/>
                </a:solidFill>
                <a:latin typeface="Times New Roman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048120" y="2133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ff"/>
                </a:solidFill>
                <a:latin typeface="Times New Roman"/>
              </a:rPr>
              <a:t>Confi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04920" y="25146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ff"/>
                </a:solidFill>
                <a:latin typeface="Times New Roman"/>
              </a:rPr>
              <a:t>Conf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209680" y="5410080"/>
            <a:ext cx="403884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Proceso e Instalaciones para la Transa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Servicio de productos y dispon. De part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Fac. en el Procesamiento de grantí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Capac. De Respuesta de ventas y servi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629400" y="4809960"/>
            <a:ext cx="190512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Esti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Dura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Aju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Consistencia en el tiempo del esti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28600" y="5029200"/>
            <a:ext cx="152388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9900"/>
                </a:solidFill>
                <a:latin typeface="Times New Roman"/>
              </a:rPr>
              <a:t>Costos d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9900"/>
                </a:solidFill>
                <a:latin typeface="Times New Roman"/>
              </a:rPr>
              <a:t>Adquisición</a:t>
            </a: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,Instalación,Puesta en marcha, de Deshacer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867280" y="228600"/>
            <a:ext cx="259092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Flujo de caja del U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Compatibilidad Opera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Flexibilidad Operativ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Servi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Ajuste Medio ambi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Estatus/prestig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228600"/>
            <a:ext cx="1905120" cy="17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Reputación del provee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Mar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Paquertes de garantí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Infor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Especificaciones de c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914400"/>
            <a:ext cx="1676160" cy="15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9900"/>
                </a:solidFill>
                <a:latin typeface="Times New Roman"/>
              </a:rPr>
              <a:t>Continuidad de los Beneficios y Costos en el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Continuidad en el apoyo del Provee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143000" y="2971800"/>
            <a:ext cx="152388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114800" y="25146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5486400" y="3124080"/>
            <a:ext cx="129528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5257800" y="4190760"/>
            <a:ext cx="91440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4114800" y="411480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1600200" y="4114800"/>
            <a:ext cx="99072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381880" y="228600"/>
            <a:ext cx="228600" cy="2362320"/>
          </a:xfrm>
          <a:custGeom>
            <a:avLst/>
            <a:gdLst>
              <a:gd name="textAreaLeft" fmla="*/ 0 w 228600"/>
              <a:gd name="textAreaRight" fmla="*/ 82440 w 2286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8001000" y="2819520"/>
            <a:ext cx="304920" cy="2057400"/>
          </a:xfrm>
          <a:custGeom>
            <a:avLst/>
            <a:gdLst>
              <a:gd name="textAreaLeft" fmla="*/ 0 w 304920"/>
              <a:gd name="textAreaRight" fmla="*/ 110160 w 3049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686800" y="228600"/>
            <a:ext cx="914400" cy="25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cc99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cc99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cc99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cc99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cc99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cc99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cc99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cc99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cc99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8518680" y="2666880"/>
            <a:ext cx="625320" cy="44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04920" y="228600"/>
            <a:ext cx="2057400" cy="459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í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2514600" y="37339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Valor para e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04920" y="43434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ff"/>
                </a:solidFill>
                <a:latin typeface="Times New Roman"/>
              </a:rPr>
              <a:t>Ec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200400" y="4876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ff"/>
                </a:solidFill>
                <a:latin typeface="Times New Roman"/>
              </a:rPr>
              <a:t>Conven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172200" y="43434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ff"/>
                </a:solidFill>
                <a:latin typeface="Times New Roman"/>
              </a:rPr>
              <a:t>Esté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095880" y="27432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ff"/>
                </a:solidFill>
                <a:latin typeface="Times New Roman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048120" y="2133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ff"/>
                </a:solidFill>
                <a:latin typeface="Times New Roman"/>
              </a:rPr>
              <a:t>Confi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04920" y="25146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ff"/>
                </a:solidFill>
                <a:latin typeface="Times New Roman"/>
              </a:rPr>
              <a:t>Conf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209680" y="5410080"/>
            <a:ext cx="403884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Proceso e Instalaciones para la Transa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Servicio de productos y dispon. De part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Fac. en el Procesamiento de grantí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Capac. De Respuesta de ventas y servi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629400" y="4809960"/>
            <a:ext cx="190512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Esti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Dura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Aju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Consistencia en el tiempo del esti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28600" y="5029200"/>
            <a:ext cx="152388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0000"/>
                </a:solidFill>
                <a:latin typeface="Times New Roman"/>
              </a:rPr>
              <a:t>Costos d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0000"/>
                </a:solidFill>
                <a:latin typeface="Times New Roman"/>
              </a:rPr>
              <a:t>Adquisición</a:t>
            </a: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,Instalación,Puesta en marcha, de Deshacer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867280" y="228600"/>
            <a:ext cx="259092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Flujo de caja del U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Compatibilidad Opera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Flexibilidad Operativ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Servi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Ajuste Medio ambi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Estatus/prestig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895480" y="228600"/>
            <a:ext cx="1905120" cy="17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Reputación del provee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Mar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Paquertes de garantí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Infor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Especificaciones de c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04920" y="914400"/>
            <a:ext cx="1676160" cy="15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0000"/>
                </a:solidFill>
                <a:latin typeface="Times New Roman"/>
              </a:rPr>
              <a:t>Continuidad de los Beneficios y Costos en el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Continuidad en el apoyo del Provee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143000" y="2971800"/>
            <a:ext cx="152388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114800" y="25146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5486400" y="3124080"/>
            <a:ext cx="129528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 flipV="1">
            <a:off x="5257800" y="4190760"/>
            <a:ext cx="91440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4114800" y="411480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1600200" y="4114800"/>
            <a:ext cx="99072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8381880" y="228600"/>
            <a:ext cx="228600" cy="2362320"/>
          </a:xfrm>
          <a:custGeom>
            <a:avLst/>
            <a:gdLst>
              <a:gd name="textAreaLeft" fmla="*/ 0 w 228600"/>
              <a:gd name="textAreaRight" fmla="*/ 82440 w 2286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8001000" y="2819520"/>
            <a:ext cx="304920" cy="2057400"/>
          </a:xfrm>
          <a:custGeom>
            <a:avLst/>
            <a:gdLst>
              <a:gd name="textAreaLeft" fmla="*/ 0 w 304920"/>
              <a:gd name="textAreaRight" fmla="*/ 110160 w 3049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8686800" y="228600"/>
            <a:ext cx="914400" cy="25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cc99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cc99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cc99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cc99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cc99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cc99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cc99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cc99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cc99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518680" y="2666880"/>
            <a:ext cx="625320" cy="44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04920" y="228600"/>
            <a:ext cx="2057400" cy="459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í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514600" y="37339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Valor para e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04920" y="43434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ff"/>
                </a:solidFill>
                <a:latin typeface="Times New Roman"/>
              </a:rPr>
              <a:t>Ec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200400" y="4876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ff"/>
                </a:solidFill>
                <a:latin typeface="Times New Roman"/>
              </a:rPr>
              <a:t>Conven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172200" y="43434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ff"/>
                </a:solidFill>
                <a:latin typeface="Times New Roman"/>
              </a:rPr>
              <a:t>Esté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095880" y="27432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ff"/>
                </a:solidFill>
                <a:latin typeface="Times New Roman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048120" y="2133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ff"/>
                </a:solidFill>
                <a:latin typeface="Times New Roman"/>
              </a:rPr>
              <a:t>Confi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04920" y="25146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ff"/>
                </a:solidFill>
                <a:latin typeface="Times New Roman"/>
              </a:rPr>
              <a:t>Conf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209680" y="5410080"/>
            <a:ext cx="403884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Proceso e Instalaciones para la Transa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Servicio de productos y dispon. De part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Fac. en el Procesamiento de grantí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Capac. De Respuesta de ventas y servi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629400" y="4809960"/>
            <a:ext cx="190512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9900"/>
                </a:solidFill>
                <a:latin typeface="Times New Roman"/>
              </a:rPr>
              <a:t>Esti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9900"/>
                </a:solidFill>
                <a:latin typeface="Times New Roman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Dura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Aju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Consistencia en el tiempo del esti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28600" y="5029200"/>
            <a:ext cx="152388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9900"/>
                </a:solidFill>
                <a:latin typeface="Times New Roman"/>
              </a:rPr>
              <a:t>Costos d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9900"/>
                </a:solidFill>
                <a:latin typeface="Times New Roman"/>
              </a:rPr>
              <a:t>Adquisición</a:t>
            </a: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,Instalación,Puesta en marcha, de Deshacer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867280" y="228600"/>
            <a:ext cx="259092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Flujo de caja del U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Compatibilidad Opera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Flexibilidad Operativ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Disponibilidad de Accesor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Ajuste Medio ambi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Estatus/prestig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895480" y="228600"/>
            <a:ext cx="1905120" cy="17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Reputación del provee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Mar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Paquertes de garantí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Infor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Especificaciones de c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04920" y="914400"/>
            <a:ext cx="1676160" cy="15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Continuidad de los Beneficios y Costos en el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Continuidad en el apoyo del Provee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143000" y="2971800"/>
            <a:ext cx="152388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114800" y="25146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5486400" y="3124080"/>
            <a:ext cx="129528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 flipV="1">
            <a:off x="5257800" y="4190760"/>
            <a:ext cx="91440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4114800" y="411480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1600200" y="4114800"/>
            <a:ext cx="99072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8381880" y="228600"/>
            <a:ext cx="228600" cy="2362320"/>
          </a:xfrm>
          <a:custGeom>
            <a:avLst/>
            <a:gdLst>
              <a:gd name="textAreaLeft" fmla="*/ 0 w 228600"/>
              <a:gd name="textAreaRight" fmla="*/ 82440 w 2286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8001000" y="2819520"/>
            <a:ext cx="304920" cy="2057400"/>
          </a:xfrm>
          <a:custGeom>
            <a:avLst/>
            <a:gdLst>
              <a:gd name="textAreaLeft" fmla="*/ 0 w 304920"/>
              <a:gd name="textAreaRight" fmla="*/ 110160 w 3049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8686800" y="228600"/>
            <a:ext cx="914400" cy="25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cc99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cc99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cc99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cc99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cc99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cc99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cc99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cc99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cc99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8518680" y="2666880"/>
            <a:ext cx="625320" cy="44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04920" y="228600"/>
            <a:ext cx="2057400" cy="459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sa&amp;Id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2514600" y="37339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Valor para e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04920" y="43434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ff"/>
                </a:solidFill>
                <a:latin typeface="Times New Roman"/>
              </a:rPr>
              <a:t>Ec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200400" y="4876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ff"/>
                </a:solidFill>
                <a:latin typeface="Times New Roman"/>
              </a:rPr>
              <a:t>Conven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172200" y="43434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ff"/>
                </a:solidFill>
                <a:latin typeface="Times New Roman"/>
              </a:rPr>
              <a:t>Esté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095880" y="27432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ff"/>
                </a:solidFill>
                <a:latin typeface="Times New Roman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048120" y="2133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ff"/>
                </a:solidFill>
                <a:latin typeface="Times New Roman"/>
              </a:rPr>
              <a:t>Confi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04920" y="25146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ff"/>
                </a:solidFill>
                <a:latin typeface="Times New Roman"/>
              </a:rPr>
              <a:t>Conf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209680" y="5410080"/>
            <a:ext cx="403884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Proceso e Instalaciones para la Transa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Servicio de productos y dispon. De part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Fac. en el Procesamiento de grantí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Capac. De Respuesta de ventas y servi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629400" y="4809960"/>
            <a:ext cx="190512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0000"/>
                </a:solidFill>
                <a:latin typeface="Times New Roman"/>
              </a:rPr>
              <a:t>Esti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0000"/>
                </a:solidFill>
                <a:latin typeface="Times New Roman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Dura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Aju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Consistencia en el tiempo del esti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28600" y="5029200"/>
            <a:ext cx="152388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0000"/>
                </a:solidFill>
                <a:latin typeface="Times New Roman"/>
              </a:rPr>
              <a:t>Costos d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0000"/>
                </a:solidFill>
                <a:latin typeface="Times New Roman"/>
              </a:rPr>
              <a:t>Adquisición</a:t>
            </a: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,Instalación,Puesta en marcha, de Deshacer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867280" y="228600"/>
            <a:ext cx="259092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Flujo de caja del U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Compatibilidad Opera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Flexibilidad Operativ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Disponibilidad de Accesor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Ajuste Medio ambi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Estatus/prestig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895480" y="228600"/>
            <a:ext cx="1905120" cy="17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Reputación del provee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Mar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Paquertes de garantí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Infor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Especificaciones de c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04920" y="914400"/>
            <a:ext cx="1676160" cy="15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Continuidad de los Beneficios y Costos en el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Continuidad en el apoyo del Provee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143000" y="2971800"/>
            <a:ext cx="152388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114800" y="25146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5486400" y="3124080"/>
            <a:ext cx="129528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 flipV="1">
            <a:off x="5257800" y="4190760"/>
            <a:ext cx="91440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4114800" y="411480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1600200" y="4114800"/>
            <a:ext cx="99072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381880" y="228600"/>
            <a:ext cx="228600" cy="2362320"/>
          </a:xfrm>
          <a:custGeom>
            <a:avLst/>
            <a:gdLst>
              <a:gd name="textAreaLeft" fmla="*/ 0 w 228600"/>
              <a:gd name="textAreaRight" fmla="*/ 82440 w 2286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8001000" y="2819520"/>
            <a:ext cx="304920" cy="2057400"/>
          </a:xfrm>
          <a:custGeom>
            <a:avLst/>
            <a:gdLst>
              <a:gd name="textAreaLeft" fmla="*/ 0 w 304920"/>
              <a:gd name="textAreaRight" fmla="*/ 110160 w 3049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686800" y="228600"/>
            <a:ext cx="914400" cy="25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cc99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cc99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cc99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cc99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cc99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cc99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cc99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cc99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cc99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8518680" y="2666880"/>
            <a:ext cx="625320" cy="44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04920" y="228600"/>
            <a:ext cx="2057400" cy="459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sa&amp;Id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2514600" y="37339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Valor para e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04920" y="43434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ff"/>
                </a:solidFill>
                <a:latin typeface="Times New Roman"/>
              </a:rPr>
              <a:t>Ec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200400" y="4876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ff"/>
                </a:solidFill>
                <a:latin typeface="Times New Roman"/>
              </a:rPr>
              <a:t>Conven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172200" y="43434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ff"/>
                </a:solidFill>
                <a:latin typeface="Times New Roman"/>
              </a:rPr>
              <a:t>Esté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095880" y="27432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ff"/>
                </a:solidFill>
                <a:latin typeface="Times New Roman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048120" y="2133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ff"/>
                </a:solidFill>
                <a:latin typeface="Times New Roman"/>
              </a:rPr>
              <a:t>Confi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04920" y="25146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ff"/>
                </a:solidFill>
                <a:latin typeface="Times New Roman"/>
              </a:rPr>
              <a:t>Conf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209680" y="5410080"/>
            <a:ext cx="403884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Proceso e Instalaciones para la Transa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Servicio de productos y dispon. De part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Fac. en el Procesamiento de grantí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Capac. De Respuesta de ventas y servi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629400" y="4809960"/>
            <a:ext cx="190512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Esti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Dura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Aju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Consistencia en el tiempo del esti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28600" y="5029200"/>
            <a:ext cx="152388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Costos d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Adquisición,Instalación,Puesta en marcha, de Deshacer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867280" y="228600"/>
            <a:ext cx="259092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Flujo de caja del U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Compatibilidad Opera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Flexibilidad Operativ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9900"/>
                </a:solidFill>
                <a:latin typeface="Times New Roman"/>
              </a:rPr>
              <a:t>Servi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Ajuste Medio ambi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Estatus/prestig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895480" y="228600"/>
            <a:ext cx="1905120" cy="17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Reputación del provee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Mar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Paquertes de garantí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Infor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Especificaciones de c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04920" y="914400"/>
            <a:ext cx="1676160" cy="15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9900"/>
                </a:solidFill>
                <a:latin typeface="Times New Roman"/>
              </a:rPr>
              <a:t>Continuidad de los Beneficios y Costos en el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Continuidad en el apoyo del Provee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143000" y="2971800"/>
            <a:ext cx="152388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114800" y="25146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5486400" y="3124080"/>
            <a:ext cx="129528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 flipV="1">
            <a:off x="5257800" y="4190760"/>
            <a:ext cx="91440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4114800" y="411480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1600200" y="4114800"/>
            <a:ext cx="99072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8381880" y="228600"/>
            <a:ext cx="228600" cy="2362320"/>
          </a:xfrm>
          <a:custGeom>
            <a:avLst/>
            <a:gdLst>
              <a:gd name="textAreaLeft" fmla="*/ 0 w 228600"/>
              <a:gd name="textAreaRight" fmla="*/ 82440 w 2286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8001000" y="2819520"/>
            <a:ext cx="304920" cy="2057400"/>
          </a:xfrm>
          <a:custGeom>
            <a:avLst/>
            <a:gdLst>
              <a:gd name="textAreaLeft" fmla="*/ 0 w 304920"/>
              <a:gd name="textAreaRight" fmla="*/ 110160 w 3049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8686800" y="228600"/>
            <a:ext cx="914400" cy="25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cc99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cc99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cc99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cc99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cc99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cc99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cc99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cc99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cc99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8518680" y="2666880"/>
            <a:ext cx="625320" cy="44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04920" y="228600"/>
            <a:ext cx="2057400" cy="459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p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295280" y="1219320"/>
            <a:ext cx="6248520" cy="436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Definición de Reta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Un Retailer es un Negocio que vende Productos y/o Servicios a consumidores para su uso personal o de su famil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empre que existe un Consumidor existe un Retai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2514600" y="37339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Valor para e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04920" y="43434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ff"/>
                </a:solidFill>
                <a:latin typeface="Times New Roman"/>
              </a:rPr>
              <a:t>Ec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200400" y="4876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ff"/>
                </a:solidFill>
                <a:latin typeface="Times New Roman"/>
              </a:rPr>
              <a:t>Conven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172200" y="43434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ff"/>
                </a:solidFill>
                <a:latin typeface="Times New Roman"/>
              </a:rPr>
              <a:t>Esté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095880" y="27432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ff"/>
                </a:solidFill>
                <a:latin typeface="Times New Roman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048120" y="2133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ff"/>
                </a:solidFill>
                <a:latin typeface="Times New Roman"/>
              </a:rPr>
              <a:t>Confi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04920" y="25146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ff"/>
                </a:solidFill>
                <a:latin typeface="Times New Roman"/>
              </a:rPr>
              <a:t>Conf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209680" y="5410080"/>
            <a:ext cx="403884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Proceso e Instalaciones para la Transa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Servicio de productos y dispon. De part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Fac. en el Procesamiento de grantí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Capac. De Respuesta de ventas y servi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629400" y="4809960"/>
            <a:ext cx="190512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Esti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Dura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Aju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Consistencia en el tiempo del esti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28600" y="5029200"/>
            <a:ext cx="152388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Costos d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Adquisición,Instalación,Puesta en marcha, de Deshacer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867280" y="228600"/>
            <a:ext cx="259092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Flujo de caja del U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Compatibilidad Opera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Flexibilidad Operativ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0000"/>
                </a:solidFill>
                <a:latin typeface="Times New Roman"/>
              </a:rPr>
              <a:t>Servi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Ajuste Medio ambi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Estatus/prestig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895480" y="228600"/>
            <a:ext cx="1905120" cy="17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Reputación del provee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Mar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Paquertes de garantí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Infor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Especificaciones de c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04920" y="914400"/>
            <a:ext cx="1676160" cy="15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0000"/>
                </a:solidFill>
                <a:latin typeface="Times New Roman"/>
              </a:rPr>
              <a:t>Continuidad de los Beneficios y Costos en el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Continuidad en el apoyo del Provee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143000" y="2971800"/>
            <a:ext cx="152388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114800" y="25146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5486400" y="3124080"/>
            <a:ext cx="129528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 flipV="1">
            <a:off x="5257800" y="4190760"/>
            <a:ext cx="91440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4114800" y="411480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1600200" y="4114800"/>
            <a:ext cx="99072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381880" y="228600"/>
            <a:ext cx="228600" cy="2362320"/>
          </a:xfrm>
          <a:custGeom>
            <a:avLst/>
            <a:gdLst>
              <a:gd name="textAreaLeft" fmla="*/ 0 w 228600"/>
              <a:gd name="textAreaRight" fmla="*/ 82440 w 2286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001000" y="2819520"/>
            <a:ext cx="304920" cy="2057400"/>
          </a:xfrm>
          <a:custGeom>
            <a:avLst/>
            <a:gdLst>
              <a:gd name="textAreaLeft" fmla="*/ 0 w 304920"/>
              <a:gd name="textAreaRight" fmla="*/ 110160 w 3049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686800" y="228600"/>
            <a:ext cx="914400" cy="25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cc99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cc99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cc99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cc99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cc99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cc99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cc99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cc99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cc99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8518680" y="2666880"/>
            <a:ext cx="625320" cy="44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04920" y="228600"/>
            <a:ext cx="2057400" cy="459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p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2514600" y="37339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Valor para e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04920" y="43434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ff"/>
                </a:solidFill>
                <a:latin typeface="Times New Roman"/>
              </a:rPr>
              <a:t>Ec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200400" y="4876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ff"/>
                </a:solidFill>
                <a:latin typeface="Times New Roman"/>
              </a:rPr>
              <a:t>Conven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172200" y="43434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ff"/>
                </a:solidFill>
                <a:latin typeface="Times New Roman"/>
              </a:rPr>
              <a:t>Esté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095880" y="27432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ff"/>
                </a:solidFill>
                <a:latin typeface="Times New Roman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048120" y="2133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ff"/>
                </a:solidFill>
                <a:latin typeface="Times New Roman"/>
              </a:rPr>
              <a:t>Confi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04920" y="25146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ff"/>
                </a:solidFill>
                <a:latin typeface="Times New Roman"/>
              </a:rPr>
              <a:t>Conf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209680" y="5410080"/>
            <a:ext cx="403884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Proceso e Instalaciones para la Transa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Servicio de productos y dispon. De part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Fac. en el Procesamiento de grantí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Capac. De Respuesta de ventas y servi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629400" y="4809960"/>
            <a:ext cx="190512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9900"/>
                </a:solidFill>
                <a:latin typeface="Times New Roman"/>
              </a:rPr>
              <a:t>Esti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9900"/>
                </a:solidFill>
                <a:latin typeface="Times New Roman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Dura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Aju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Consistencia en el tiempo del esti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28600" y="5029200"/>
            <a:ext cx="152388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Costos d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Adquisición,Instalación,Puesta en marcha, de Deshacer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867280" y="228600"/>
            <a:ext cx="259092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Flujo de caja del U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Compatibilidad Opera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Flexibilidad Operativ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9900"/>
                </a:solidFill>
                <a:latin typeface="Times New Roman"/>
              </a:rPr>
              <a:t>Disponibilidad de Accesor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Ajuste Medio ambi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Estatus/prestig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895480" y="228600"/>
            <a:ext cx="1905120" cy="17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Reputación del provee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Mar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Paquertes de garantí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Infor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Especificaciones de c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04920" y="914400"/>
            <a:ext cx="1676160" cy="15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Continuidad de los Beneficios y Costos en el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Continuidad en el apoyo del Provee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143000" y="2971800"/>
            <a:ext cx="152388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114800" y="25146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5486400" y="3124080"/>
            <a:ext cx="129528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 flipV="1">
            <a:off x="5257800" y="4190760"/>
            <a:ext cx="91440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V="1">
            <a:off x="4114800" y="411480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1600200" y="4114800"/>
            <a:ext cx="99072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8381880" y="228600"/>
            <a:ext cx="228600" cy="2362320"/>
          </a:xfrm>
          <a:custGeom>
            <a:avLst/>
            <a:gdLst>
              <a:gd name="textAreaLeft" fmla="*/ 0 w 228600"/>
              <a:gd name="textAreaRight" fmla="*/ 82440 w 2286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8001000" y="2819520"/>
            <a:ext cx="304920" cy="2057400"/>
          </a:xfrm>
          <a:custGeom>
            <a:avLst/>
            <a:gdLst>
              <a:gd name="textAreaLeft" fmla="*/ 0 w 304920"/>
              <a:gd name="textAreaRight" fmla="*/ 110160 w 3049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8686800" y="228600"/>
            <a:ext cx="914400" cy="25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cc99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cc99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cc99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cc99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cc99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cc99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cc99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cc99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cc99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8518680" y="2666880"/>
            <a:ext cx="625320" cy="44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0" y="228600"/>
            <a:ext cx="2819520" cy="459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ienda Laura Ash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2514600" y="37339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Valor para e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04920" y="43434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ff"/>
                </a:solidFill>
                <a:latin typeface="Times New Roman"/>
              </a:rPr>
              <a:t>Ec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200400" y="4876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ff"/>
                </a:solidFill>
                <a:latin typeface="Times New Roman"/>
              </a:rPr>
              <a:t>Conven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172200" y="43434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ff"/>
                </a:solidFill>
                <a:latin typeface="Times New Roman"/>
              </a:rPr>
              <a:t>Esté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095880" y="27432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ff"/>
                </a:solidFill>
                <a:latin typeface="Times New Roman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048120" y="2133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ff"/>
                </a:solidFill>
                <a:latin typeface="Times New Roman"/>
              </a:rPr>
              <a:t>Confi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04920" y="25146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ff"/>
                </a:solidFill>
                <a:latin typeface="Times New Roman"/>
              </a:rPr>
              <a:t>Conf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209680" y="5410080"/>
            <a:ext cx="403884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Proceso e Instalaciones para la Transa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Servicio de productos y dispon. De part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Fac. en el Procesamiento de grantí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Capac. De Respuesta de ventas y servi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629400" y="4809960"/>
            <a:ext cx="190512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0000"/>
                </a:solidFill>
                <a:latin typeface="Times New Roman"/>
              </a:rPr>
              <a:t>Esti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0000"/>
                </a:solidFill>
                <a:latin typeface="Times New Roman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Dura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Aju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Consistencia en el tiempo del esti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28600" y="5029200"/>
            <a:ext cx="152388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Costos d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Adquisición,Instalación,Puesta en marcha, de Deshacer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867280" y="228600"/>
            <a:ext cx="259092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Flujo de caja del U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Compatibilidad Opera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Flexibilidad Operativ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0000"/>
                </a:solidFill>
                <a:latin typeface="Times New Roman"/>
              </a:rPr>
              <a:t>Disponibilidad de Accesor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Ajuste Medio ambi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Estatus/prestig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95480" y="228600"/>
            <a:ext cx="1905120" cy="17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Reputación del provee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Mar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Paquertes de garantí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Infor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Especificaciones de c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04920" y="914400"/>
            <a:ext cx="1676160" cy="15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Continuidad de los Beneficios y Costos en el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Continuidad en el apoyo del Provee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143000" y="2971800"/>
            <a:ext cx="152388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114800" y="25146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H="1">
            <a:off x="5486400" y="3124080"/>
            <a:ext cx="129528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 flipV="1">
            <a:off x="5257800" y="4190760"/>
            <a:ext cx="91440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4114800" y="411480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V="1">
            <a:off x="1600200" y="4114800"/>
            <a:ext cx="99072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8381880" y="228600"/>
            <a:ext cx="228600" cy="2362320"/>
          </a:xfrm>
          <a:custGeom>
            <a:avLst/>
            <a:gdLst>
              <a:gd name="textAreaLeft" fmla="*/ 0 w 228600"/>
              <a:gd name="textAreaRight" fmla="*/ 82440 w 2286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8001000" y="2819520"/>
            <a:ext cx="304920" cy="2057400"/>
          </a:xfrm>
          <a:custGeom>
            <a:avLst/>
            <a:gdLst>
              <a:gd name="textAreaLeft" fmla="*/ 0 w 304920"/>
              <a:gd name="textAreaRight" fmla="*/ 110160 w 3049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8686800" y="228600"/>
            <a:ext cx="914400" cy="25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cc99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cc99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cc99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cc99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cc99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cc99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cc99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cc99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cc99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8518680" y="2666880"/>
            <a:ext cx="625320" cy="44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0" y="228600"/>
            <a:ext cx="2819520" cy="459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ienda Laura Ash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2514600" y="37339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Valor para e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04920" y="43434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ff"/>
                </a:solidFill>
                <a:latin typeface="Times New Roman"/>
              </a:rPr>
              <a:t>Ec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200400" y="4876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ff"/>
                </a:solidFill>
                <a:latin typeface="Times New Roman"/>
              </a:rPr>
              <a:t>Conven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172200" y="43434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ff"/>
                </a:solidFill>
                <a:latin typeface="Times New Roman"/>
              </a:rPr>
              <a:t>Esté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095880" y="27432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ff"/>
                </a:solidFill>
                <a:latin typeface="Times New Roman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048120" y="2133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ff"/>
                </a:solidFill>
                <a:latin typeface="Times New Roman"/>
              </a:rPr>
              <a:t>Confi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04920" y="25146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ff"/>
                </a:solidFill>
                <a:latin typeface="Times New Roman"/>
              </a:rPr>
              <a:t>Conf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209680" y="5410080"/>
            <a:ext cx="403884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Proceso e Instalaciones para la Transa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Servicio de productos y dispon. De part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Fac. en el Procesamiento de grantí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Capac. De Respuesta de ventas y servi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629400" y="4809960"/>
            <a:ext cx="190512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9900"/>
                </a:solidFill>
                <a:latin typeface="Times New Roman"/>
              </a:rPr>
              <a:t>Esti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9900"/>
                </a:solidFill>
                <a:latin typeface="Times New Roman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Dura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Aju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Consistencia en el tiempo del esti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28600" y="5029200"/>
            <a:ext cx="152388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Costos d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Adquisición,Instalación,Puesta en marcha, de Deshacer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867280" y="228600"/>
            <a:ext cx="259092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Flujo de caja del U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Compatibilidad Opera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Flexibilidad Operativ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9900"/>
                </a:solidFill>
                <a:latin typeface="Times New Roman"/>
              </a:rPr>
              <a:t>Disponibilidad de Accesor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Ajuste Medio ambi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Estatus/prestig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895480" y="228600"/>
            <a:ext cx="1905120" cy="17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Reputación del provee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Mar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Paquertes de garantí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Infor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Especificaciones de c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04920" y="914400"/>
            <a:ext cx="1676160" cy="15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Continuidad de los Beneficios y Costos en el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cc99"/>
                </a:solidFill>
                <a:latin typeface="Times New Roman"/>
              </a:rPr>
              <a:t>Continuidad en el apoyo del Provee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143000" y="2971800"/>
            <a:ext cx="152388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114800" y="25146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>
            <a:off x="5486400" y="3124080"/>
            <a:ext cx="129528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H="1" flipV="1">
            <a:off x="5257800" y="4190760"/>
            <a:ext cx="91440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V="1">
            <a:off x="4114800" y="411480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V="1">
            <a:off x="1600200" y="4114800"/>
            <a:ext cx="99072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8381880" y="228600"/>
            <a:ext cx="228600" cy="2362320"/>
          </a:xfrm>
          <a:custGeom>
            <a:avLst/>
            <a:gdLst>
              <a:gd name="textAreaLeft" fmla="*/ 0 w 228600"/>
              <a:gd name="textAreaRight" fmla="*/ 82440 w 2286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8001000" y="2819520"/>
            <a:ext cx="304920" cy="2057400"/>
          </a:xfrm>
          <a:custGeom>
            <a:avLst/>
            <a:gdLst>
              <a:gd name="textAreaLeft" fmla="*/ 0 w 304920"/>
              <a:gd name="textAreaRight" fmla="*/ 110160 w 3049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8686800" y="228600"/>
            <a:ext cx="914400" cy="25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cc99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cc99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cc99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cc99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cc99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cc99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cc99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cc99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cc99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8518680" y="2666880"/>
            <a:ext cx="625320" cy="44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0" y="228600"/>
            <a:ext cx="2819520" cy="459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alco Br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352680" y="2438280"/>
            <a:ext cx="213372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8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0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495360" y="1676520"/>
            <a:ext cx="8153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762120" y="1676520"/>
            <a:ext cx="76197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I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¿es la actual PdeV claramente reconocible por el clien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LEV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¿es la PdeV relevante para el clien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STIN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¿es la PdeV distinta a la de los competidores del negoci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N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rentabilidad del Formato es claramente demostr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00ff"/>
                </a:solidFill>
                <a:latin typeface="Times New Roman"/>
              </a:rPr>
              <a:t>Evaluación de la   PdeV</a:t>
            </a:r>
            <a:endParaRPr b="1" lang="en-US" sz="3600" spc="-1" strike="noStrike">
              <a:solidFill>
                <a:srgbClr val="af011e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9907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	</a:t>
            </a: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MARCAS PROPIAS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990720" y="228600"/>
            <a:ext cx="8153280" cy="59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TIPOS DE MARCAS PROP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lancas o Genéric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n marca, productos a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ranel o envases mínimos,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ncionan solo conte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imeros Precios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s con precios lo más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ajo posible, sacrificando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609480" y="228600"/>
            <a:ext cx="8153640" cy="66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TIPOS DE MARCAS PROP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gular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 de segundos Precios. Por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bajo de los líderes, pero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 una relación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/calidad bue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mium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ta calidad. Atraen a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umidores dispuestos a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gar sobreprecio por alta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685800" y="685800"/>
            <a:ext cx="8153280" cy="57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n sector Moda/ Vestu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los 80 muchos retailers se concentraron en Marcas Propias. En lugar de enfocarse a un mercado amplio, se focalizaron en segmentos específ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s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h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ura Ash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ene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alph Lau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685800" y="2819520"/>
            <a:ext cx="75438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n embargo, los Retailers masivos se dirigieron en la dirección contraria. De ser grandes vendedores de sus propias marcas, pasaron a darle creciente importancia a las Marcas Nacio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s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ars Roebu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J.C. Pen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8T18:26:10Z</dcterms:created>
  <dc:creator>Dii</dc:creator>
  <dc:description/>
  <dc:language>en-US</dc:language>
  <cp:lastModifiedBy>Williams Young</cp:lastModifiedBy>
  <dcterms:modified xsi:type="dcterms:W3CDTF">2005-06-09T14:19:32Z</dcterms:modified>
  <cp:revision>119</cp:revision>
  <dc:subject/>
  <dc:title>FASA</dc:title>
</cp:coreProperties>
</file>