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FB80-79CE-4827-BA49-8B07A7A0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3DF64-31BC-4694-BFA2-D366D892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E6C09-5AF8-44B4-B665-F27A26DA2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80D2-48E1-4F2B-86BC-4F4828D26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EE5B4-98AC-4C41-B449-7A5A5E6D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3B46-F1E5-495A-8C9E-5E0C5E56F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60BEF-4842-494D-BC8B-D75738B5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985F3-18E1-41B7-BE50-866F29EA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F4D2E-2C59-4E9B-A072-64473424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19D00-974D-4B74-B190-68DDAD88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F38E-4CB2-4E86-BC12-F2D839A23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D3BB-4F12-4AFC-87D6-F8210C68D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5F40-F9F6-4F21-9331-6AF1E4A3D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05-31T16:10:59Z</dcterms:modified>
  <cp:revision>39</cp:revision>
  <dc:subject/>
  <dc:title>Presentación de PowerPoint</dc:title>
</cp:coreProperties>
</file>