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6882F-1030-4A55-9CA0-367BCF870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89E69-9AC1-4C79-8A6C-D67DEA56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ED3D2-4CEF-4CE8-98C6-02C0E9FD5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3A805-45CA-42FD-A050-9CD07FA57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0080-C613-4CC6-85B0-D037ED5C6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8F679-52EA-4DC1-BD9C-FF6E1010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27EE-DFCA-4DBB-8F41-1D6B0174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1440D-B740-43D9-9E35-DA2DFEC7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58E79-43FD-4F25-A99C-C29862EE2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549B-960A-400F-B855-1E0B1B4FC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29BC-5EF5-4F63-85D1-1DAE6AD0B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C4CE7-FA54-4382-91B4-7ECD96427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1B6F-A467-4101-A6FF-4FE179E88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05-31T16:10:59Z</dcterms:modified>
  <cp:revision>39</cp:revision>
  <dc:subject/>
  <dc:title>Presentación de PowerPoint</dc:title>
</cp:coreProperties>
</file>