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EAA80-4F43-4DBF-ACC4-858C57A54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1BE8-AF4E-4EC4-9F98-93435C38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4DBA5-713E-4735-AF34-25DDC47C7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DF36-CA0F-4B58-B611-2D6653D4F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A6C1-6CDC-4C5C-B265-2792A9067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82A5-1922-4B3A-9668-8839D13E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609C-C7E5-4A1C-BFF0-483F3297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CAA4-9D23-48A5-AC8D-2ECB1950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5EFA-5432-4E8C-A249-668A2CC7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8AF2-AC68-4888-AAF7-1269F6A8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AD5F-8613-49C4-BDFB-9DDCF739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94F2-D3C1-4A6F-B345-911FC60EF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C0BC-F9B6-41ED-8808-2FA7E6974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05-31T16:10:59Z</dcterms:modified>
  <cp:revision>39</cp:revision>
  <dc:subject/>
  <dc:title>Presentación de PowerPoint</dc:title>
</cp:coreProperties>
</file>