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651CD-A7AB-47CF-AD78-4EE4D0CC3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2E19F-B556-4146-BAFB-AF65C437F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C1CBC-FBCE-47C9-8A33-875AAF3AA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3283-F4BE-44A9-BCCE-88D717FC5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884F-47FC-446D-8E09-3EC72EF8C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4CB3-3425-4900-8D07-D3912858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BF29-5E9B-457E-9C74-6CB94AC8C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00E2-321F-4D5B-850A-DA4C3B98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5EEE-973E-4BB5-BAD1-397E133B0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EF0F-2DA6-4183-A6C9-A25A5C862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F38D-13DC-4CF9-ADBA-3F20A9D2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2D48-428A-4483-BC19-9D4696E55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6A51-1BDA-4F52-9891-E3760AC0FE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05-31T16:10:59Z</dcterms:modified>
  <cp:revision>39</cp:revision>
  <dc:subject/>
  <dc:title>Presentación de PowerPoint</dc:title>
</cp:coreProperties>
</file>