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7103-C074-4839-AD88-FC44AE0E23A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29FD-51DE-49F3-8D59-6208D933DEB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María Raquel Castro Salazar</cp:lastModifiedBy>
  <dcterms:modified xsi:type="dcterms:W3CDTF">2005-05-30T01:11:55Z</dcterms:modified>
  <cp:revision>134</cp:revision>
  <dc:subject/>
  <dc:title>Sin título de diapositiva</dc:title>
</cp:coreProperties>
</file>