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0A7-0495-424A-9BA5-CBAE0655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601-09F2-498C-9239-611AC07E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A44-F0BB-4951-9900-29CDE67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93B-857E-4C4F-8B6E-172D1553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A5D-2ED0-4630-9994-BEFB3228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545-5999-4F9C-AA22-A8C63358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125-2027-4271-916E-FBA1D8D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828-2C99-49DD-B06F-0EFC48E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EE1-B7B2-4E14-B436-F52CD0CC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648-FA8C-49B8-9E83-FB1A4C5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C2C-FFF4-4E00-A49D-AAC9E1C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850-8634-40E5-95DD-7FFDD2AD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9702-5ECA-4A2C-AF96-CE1A91454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5-05-10T13:28:52Z</dcterms:modified>
  <cp:revision>44</cp:revision>
  <dc:subject/>
  <dc:title>Sin título de diapositiva</dc:title>
</cp:coreProperties>
</file>