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12.wmf" ContentType="image/x-wmf"/>
  <Override PartName="/ppt/media/image13.wmf" ContentType="image/x-wmf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F26-AB46-4BCC-8E84-921A9E4D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8C4E-6A2E-45EA-9FA1-E1D56E59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3CC-D5F0-4108-96BA-E10CB476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6905-1889-41CF-84E5-34307BDF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112-08DE-462F-8700-C287402A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C13D-0552-4BCF-8D3A-FB73AD42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695-57A0-4F24-9173-BCC0CB00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A875-C3D3-4A15-B15F-6EABC3BD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1C5E-7135-4588-A880-64D39382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77C-1BFE-45F3-A349-A1D8459F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F9B6-B9D9-4CD5-B0AF-20BE4324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BFEA-7073-438B-8951-EE3FE31B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FAB6-2C88-4624-BDEF-D2AB61C22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MAR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58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toño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Vs. RECOR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DIB4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CREACIÓN DE 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4520" y="0"/>
            <a:ext cx="84549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ALIDAD PERCIB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s Otr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38188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be existir Calidad de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s errores se p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idad en  dimensión importante par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importante entender que los consumidor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san pequeños trucos para evaluar l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 algunos casos se puede “capacitar” 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3920" y="2286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286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791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864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864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334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360" y="611280"/>
            <a:ext cx="8454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La Lealtad es R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Como aumentar la Lealt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, Programas de Frecuentes, Databas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2680" y="108000"/>
            <a:ext cx="837864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ASOCIACIONES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 a las distintas asociaciones que hace el consumidor al oir o ver el nombre de la marca. El conjunto de esas Asociaciones es la IMAGEN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tas asociaciones pueden incluir entre otr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a celeb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 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IDENT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. La Identidad gobierna las Asoc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IB6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POR QUÉ ES DIFICIL CONSTRUIR MAR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360" y="458640"/>
            <a:ext cx="85312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E ES IDENTIDAD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8880" y="609480"/>
            <a:ext cx="7086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85800"/>
            <a:ext cx="91440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RAMPAS EN LA IDENTIDAD DE MAR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Imagen de Marc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0769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mplifican la elección rutinar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si todas las semanas compro jabón, no tengo que tomar una decisión cada vez, simplemente “echo” Le Sancy en el car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ducen el riesgo en decisiones más comple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Cuando compro un equipo de audio la marca Sony me indica que ciertas cosas estoy seguro que NO me van a pas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na marca me puede producir beneficios emoci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r algo la gente compra Gucci, o anda mostrando la Marca de algunos de sus comp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n algún sentido de “perten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. (La gente que tiene un computador Apple siente cierto grado de identificación con otros que usan la misma marca, y eso les hace sentirse b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58640"/>
            <a:ext cx="799776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8200" y="304920"/>
            <a:ext cx="86076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UATRO PERSPECTIVAS DE LA IDENTIDAD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SI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62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DELO DE PLANEACIÓN DE LA IDENT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DIB7" descr=""/>
          <p:cNvPicPr/>
          <p:nvPr/>
        </p:nvPicPr>
        <p:blipFill>
          <a:blip r:embed="rId1"/>
          <a:stretch/>
        </p:blipFill>
        <p:spPr>
          <a:xfrm>
            <a:off x="3733920" y="0"/>
            <a:ext cx="39970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534960"/>
            <a:ext cx="81504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Calidad/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aís o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228600"/>
            <a:ext cx="8531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Organización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ersona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Símb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OLITICA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ún la mezcla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a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Líne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Doble (o Tr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47720"/>
            <a:ext cx="6858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cada producto la empresa le asigna una marca y un posicionamien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s: Detergentes OMO, DRIVE, SK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política tradicional de empresas como Procter &amp; Gamble y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:  La empresa no “juega” su reputación en el resultado de un producto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ARAGU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93880"/>
            <a:ext cx="79250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rca Paraguas acoge a varias Categorías de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as empresas usan su nombre como marca Paraguas. Daewoo, Sony, IB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LÍ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477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JERARQUÍAS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29528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 haber varios niveles.                             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cha Asada....  Producto espec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4840" y="914400"/>
            <a:ext cx="693432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Porqué la marca Marlboro vale 50 mil millones de 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ARCAS PROPIA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IV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S PROP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057400"/>
            <a:ext cx="7315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n a las marcas de productos fabricados por cuenta de un minorista, y que son comercializadas por él a través de sus tiendas o locales, generalmente a precios menores que los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228600"/>
            <a:ext cx="8153280" cy="59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POS DE 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lancas o Genéric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marca, productos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el o envases mínimos,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cionan solo 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eros Preci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s con precios lo má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o posible, sacrificand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228600"/>
            <a:ext cx="8153640" cy="66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POS DE MARCAS PROP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gula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 de segundos Precios. Por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bajo de los líderes, pero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una relació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/calidad bue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mium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ta calidad. Atraen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umidores dispuestos 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gar sobreprecio por alt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2480" y="3809880"/>
            <a:ext cx="556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Razones para el crecimiento de las Marcas Propi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429000"/>
            <a:ext cx="8381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mbios en los hábitos de los Consumido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a fuertemente la Heterogeneidad de los consumido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alcanzan cada vez mayores niveles de ingreso dispon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2514600"/>
            <a:ext cx="8458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acto de las Tecnologías de la 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ejoras productivas generan la posibilidad de productos de mucho menor valor e igual funcion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I permiten acortar los “lead time” o tiempos de “procurement”. Los retailers tienen la información más fresca. Les sirve siempre y cuando no tengan demasiada var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yores posibilidades de usar productores extranj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362320"/>
            <a:ext cx="8001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a nueva forma de relación entre retailers y produ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del poder de los retailers, por estar en contacto con los cl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únicos productores que se salvan son los que son capaces de “construir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1890720"/>
          <a:ext cx="8077320" cy="407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90720"/>
                    <a:ext cx="807732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24280" y="62485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te. AC Niel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68580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articipación de Mercado de la Marcas privadas en Supermercados Europa en 199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1219320"/>
          <a:ext cx="9144000" cy="448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B2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080" y="1143000"/>
            <a:ext cx="6400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y básicamente cuatros  razones para que los Retailers desarrollen Marcas prop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 Mejorar su mar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Aumentar el poder dentro del c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 Aumentar Utilidad de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Imagen (manejar mejor el “surtido” y lealt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0" y="1981080"/>
          <a:ext cx="8915400" cy="50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91540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60020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1981080"/>
            <a:ext cx="1981080" cy="838440"/>
          </a:xfrm>
          <a:prstGeom prst="wedgeRectCallout">
            <a:avLst>
              <a:gd name="adj1" fmla="val -43268"/>
              <a:gd name="adj2" fmla="val 60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conomía de la Marca Prop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304812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En qué categorías le va mejor a la Marca Prop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00200" y="60948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209680" y="1905120"/>
          <a:ext cx="3616560" cy="47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05120"/>
                    <a:ext cx="361656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57200" y="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s Veinte Productos de Marcas Propias más vendidos en supermercados USA en 1996, en millones de dó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63244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te. PLMA´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762120"/>
            <a:ext cx="80773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gunas cosas sobre los precios de las Marcas prop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ventas de una marca Privada depende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) su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su precio en relación al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a Elasticidad normal de un producto con MARCA en un supermercado es   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Esto significa que si el precio sube 10% entonces las ventas bajan 1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533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 embargo, la elasticidad de los productos  marca propias es en general más baja que la de los de  Marcas Nacionales (en ciertos rangos de pre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2362320"/>
          <a:ext cx="8534520" cy="29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5345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657600" y="586728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il Gaisler, Private Label Grows Up,McKinsey Quaterly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838080"/>
            <a:ext cx="7010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realidad la elasticidad precio de una marca va a depender de las otras marcas, especialmente de su competencia más direc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lasticidad precio de una marca Propia  como Acuenta, es muy baja siempre que sea la más barata, o haya bastante diferencia con la marca que le sig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elasticidad va a subir en la medida que su precio se acerque al de su competencia más cercana. Va a ser enorme si está muy cerca.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62120" y="2971800"/>
            <a:ext cx="74674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arcas Propias nos pueden ayudar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rear Imagen de Variedad y de precios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Crear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447920"/>
            <a:ext cx="7543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rdemos que la lealtad la crearemos si le AUMENTAMOS EL COSTO DE CAMBIARSE DE TIENDA al Consumi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marcas Propias de la tienda aumentan ese costo pues si el cliente la usa no la encontrará en otro 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nte que la marca Propia con el nombre del Supermercado no sea la más bar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609480"/>
            <a:ext cx="7162920" cy="32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eamos también que puede hacer un productor frente al Retailer.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Debe ceder y “someterse” al Retailer?.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rir con las botas puestas” ?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IB1" descr=""/>
          <p:cNvPicPr/>
          <p:nvPr/>
        </p:nvPicPr>
        <p:blipFill>
          <a:blip r:embed="rId1"/>
          <a:stretch/>
        </p:blipFill>
        <p:spPr>
          <a:xfrm>
            <a:off x="2666880" y="0"/>
            <a:ext cx="3481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1523880"/>
            <a:ext cx="6553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. Invierta en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. Innove con sabidur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mayoría de las extensiones de línea son un fracaso y lo único que hacen es confundir al consumidor. Diluyen el poder de las Marcas, y le abren espacio a las Marcas prop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.Algunos fabricantes crean “marcas de pelea”. Quelch y Harding dicen que no es conven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jor usar la marca propia contra su r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28600" y="1371600"/>
          <a:ext cx="822960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2296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458200" y="44197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4419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1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1600200"/>
            <a:ext cx="7010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. Use Tra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 Preocupese de la Brecha de precios. Si se mantiene bajo de precios entonces el que pierde es la Marca Pro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 Explote las promociones. Le gustan a los consumidores  y a los retailer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040" y="212760"/>
            <a:ext cx="846792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Valor de Marc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80880" y="2666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o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IB3" descr=""/>
          <p:cNvPicPr/>
          <p:nvPr/>
        </p:nvPicPr>
        <p:blipFill>
          <a:blip r:embed="rId1"/>
          <a:stretch/>
        </p:blipFill>
        <p:spPr>
          <a:xfrm>
            <a:off x="3124080" y="98280"/>
            <a:ext cx="53420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5840" y="611280"/>
            <a:ext cx="79218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onoce usted esta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R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Marcas de esta clase Producto conoce u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Top of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Administrador</cp:lastModifiedBy>
  <dcterms:modified xsi:type="dcterms:W3CDTF">2005-05-10T13:28:52Z</dcterms:modified>
  <cp:revision>44</cp:revision>
  <dc:subject/>
  <dc:title>Sin título de diapositiva</dc:title>
</cp:coreProperties>
</file>