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12.wmf" ContentType="image/x-wmf"/>
  <Override PartName="/ppt/media/image13.wmf" ContentType="image/x-wmf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4CA2-483A-44B2-9ECD-968A239A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1277-EA8F-43B6-A061-E5BF681D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1DF-2EBF-47F3-A690-5F0C96C7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3A96-81CB-4222-B0B6-CE543118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6A55-C8E9-4224-8E6B-6D3A5B28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7CEA-69DC-4B66-8D4A-8C2EB905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E7AC-3E44-4F7A-98DE-F6B3C718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328B-9070-4EF1-8FF1-BBBCC9BC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A337-958F-468E-BAB8-5FD445D4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0665-41B3-435E-8644-51B7CED7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ED9E-FC0B-483E-B4A3-DAAF7084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863A-6E33-4979-9949-E2A2B020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9ACF-8920-4861-972D-0B5A8293B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MAR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58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toño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2286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Vs. RECORD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DIB4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62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CREACIÓN DE 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4520" y="0"/>
            <a:ext cx="845496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ALIDAD PERCIB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s Otras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819520"/>
            <a:ext cx="8381880" cy="38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ebe existir Calidad de ver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os errores se pa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idad en  dimensión importante par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s importante entender que los consumidore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san pequeños trucos para evaluar l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n algunos casos se puede “capacitar” 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3920" y="228600"/>
          <a:ext cx="8696160" cy="592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228600"/>
                    <a:ext cx="86961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057400" y="4952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h Loss          Loss               Gain         High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57913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aker y Jacobson, Journal of Marketing Research, May 1994, pp191-2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48640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5486400"/>
            <a:ext cx="137160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53341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6360" y="611280"/>
            <a:ext cx="845496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EALT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La Lealtad es Re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Como aumentar la Lealt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ubes, Programas de Frecuentes, Database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2680" y="108000"/>
            <a:ext cx="8378640" cy="60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ASOCIACIONES DE LA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 a las distintas asociaciones que hace el consumidor al oir o ver el nombre de la marca. El conjunto de esas Asociaciones es la IMAGEN de 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tas asociaciones pueden incluir entre otr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a celeb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 sí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IDENTIDAD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. La Identidad gobierna las Asoci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DIB6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5180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POR QUÉ ES DIFICIL CONSTRUIR MARC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6360" y="458640"/>
            <a:ext cx="853128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E ES IDENTIDAD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28880" y="609480"/>
            <a:ext cx="70866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85800"/>
            <a:ext cx="91440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TRAMPAS EN LA IDENTIDAD DE MAR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Imagen de Marc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8076960" cy="56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implifican la elección rutinar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si todas las semanas compro jabón, no tengo que tomar una decisión cada vez, simplemente “echo” Le Sancy en el car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ducen el riesgo en decisiones más complej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Cuando compro un equipo de audio la marca Sony me indica que ciertas cosas estoy seguro que NO me van a pas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na marca me puede producir beneficios emoci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r algo la gente compra Gucci, o anda mostrando la Marca de algunos de sus compr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n algún sentido de “pertenenc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. (La gente que tiene un computador Apple siente cierto grado de identificación con otros que usan la misma marca, y eso les hace sentirse bi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533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58640"/>
            <a:ext cx="7997760" cy="78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8200" y="304920"/>
            <a:ext cx="860760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UATRO PERSPECTIVAS DE LA IDENTIDAD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ORGAN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SI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3623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ODELO DE PLANEACIÓN DE LA IDENTID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DIB7" descr=""/>
          <p:cNvPicPr/>
          <p:nvPr/>
        </p:nvPicPr>
        <p:blipFill>
          <a:blip r:embed="rId1"/>
          <a:stretch/>
        </p:blipFill>
        <p:spPr>
          <a:xfrm>
            <a:off x="3733920" y="0"/>
            <a:ext cx="399708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8640" y="534960"/>
            <a:ext cx="815040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Calidad/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País o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6360" y="228600"/>
            <a:ext cx="8531280" cy="58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Organización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ersona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Símb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OLITICA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209680"/>
            <a:ext cx="7467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ún la mezcla de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ar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Línea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Doble (o Tri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647720"/>
            <a:ext cx="685800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cada producto la empresa le asigna una marca y un posicionamiento especí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s: Detergentes OMO, DRIVE, SK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la política tradicional de empresas como Procter &amp; Gamble y 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NTAJA:  La empresa no “juega” su reputación en el resultado de un producto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ARAGU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793880"/>
            <a:ext cx="792504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marca Paraguas acoge a varias Categorías de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chas empresas usan su nombre como marca Paraguas. Daewoo, Sony, IB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LÍ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47720"/>
            <a:ext cx="7010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40" y="3808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JERARQUÍAS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295280"/>
            <a:ext cx="76197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uede haber varios niveles.                             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cha Asada....  Producto específ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04840" y="914400"/>
            <a:ext cx="6934320" cy="47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Porqué la marca Marlboro vale 50 mil millones de 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i las marcas pueden ser un activo tan valioso, ¿porqué no se contabiliz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ARCAS PROPIA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IV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S PROP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057400"/>
            <a:ext cx="73152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INI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n a las marcas de productos fabricados por cuenta de un minorista, y que son comercializadas por él a través de sus tiendas o locales, generalmente a precios menores que los de l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90720" y="228600"/>
            <a:ext cx="8153280" cy="59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POS DE MARCAS PROP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lancas o Genéric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 marca, productos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nel o envases mínimos,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cionan solo 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eros Preci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s con precios lo má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o posible, sacrificand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228600"/>
            <a:ext cx="8153640" cy="66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POS DE MARCAS PROP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gula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de segundos Precios. Por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bajo de los líderes, per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una relació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/calidad bu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miu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a calidad. Atraen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umidores dispuestos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gar sobreprecio por alt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52480" y="3809880"/>
            <a:ext cx="556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Razones para el crecimiento de las Marcas Propi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429000"/>
            <a:ext cx="8381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mbios en los hábitos de los Consumido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a fuertemente la Heterogeneidad de los consumidor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alcanzan cada vez mayores niveles de ingreso dispon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2514600"/>
            <a:ext cx="84582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mpacto de las Tecnologías de la Inform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ejoras productivas generan la posibilidad de productos de mucho menor valor e igual funcion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TI permiten acortar los “lead time” o tiempos de “procurement”. Los retailers tienen la información más fresca. Les sirve siempre y cuando no tengan demasiada varie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yores posibilidades de usar productores extranj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362320"/>
            <a:ext cx="8001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na nueva forma de relación entre retailers y produc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del poder de los retailers, por estar en contacto con los cl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únicos productores que se salvan son los que son capaces de “construir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57200" y="1890720"/>
          <a:ext cx="8077320" cy="40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90720"/>
                    <a:ext cx="807732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724280" y="6248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te. AC Niel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68580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articipación de Mercado de la Marcas privadas en Supermercados Europa en 199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1219320"/>
          <a:ext cx="9144000" cy="448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B2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38080" y="1143000"/>
            <a:ext cx="6400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y básicamente cuatros  razones para que los Retailers desarrollen Marcas prop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 Mejorar su mar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Aumentar el poder dentro del c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 Aumentar Utilidad de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 Imagen (manejar mejor el “surtido” y lealt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1981080"/>
          <a:ext cx="8915400" cy="500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91540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60020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28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1981080"/>
            <a:ext cx="1981080" cy="838440"/>
          </a:xfrm>
          <a:prstGeom prst="wedgeRectCallout">
            <a:avLst>
              <a:gd name="adj1" fmla="val -43268"/>
              <a:gd name="adj2" fmla="val 60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28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conomía de la Marca Prop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304812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¿En qué categorías le va mejor a la Marca Prop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600200" y="60948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209680" y="1905120"/>
          <a:ext cx="3616560" cy="47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905120"/>
                    <a:ext cx="361656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57200" y="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s Veinte Productos de Marcas Propias más vendidos en supermercados USA en 1996, en millones de dó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63244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te. PLMA´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762120"/>
            <a:ext cx="80773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gunas cosas sobre los precios de las Marcas prop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ventas de una marca Privada depende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) su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 su precio en relación al de l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La Elasticidad normal de un producto con MARCA en un supermercado es   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Esto significa que si el precio sube 10% entonces las ventas bajan 1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7160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 embargo, la elasticidad de los productos  marca propias es en general más baja que la de los de  Marcas Nacionales (en ciertos rangos de pre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0880" y="2362320"/>
          <a:ext cx="8534520" cy="291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53452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657600" y="586728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il Gaisler, Private Label Grows Up,McKinsey Quaterly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71600" y="838080"/>
            <a:ext cx="7010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realidad la elasticidad precio de una marca va a depender de las otras marcas, especialmente de su competencia más direc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elasticidad precio de una marca Propia  como Acuenta, es muy baja siempre que sea la más barata, o haya bastante diferencia con la marca que le sig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elasticidad va a subir en la medida que su precio se acerque al de su competencia más cercana. Va a ser enorme si está muy cerca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2120" y="2971800"/>
            <a:ext cx="74674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arcas Propias nos pueden ayudar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rear Imagen de Variedad y de preci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rear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1447920"/>
            <a:ext cx="75438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ordemos que la lealtad la crearemos si le AUMENTAMOS EL COSTO DE CAMBIARSE DE TIENDA al Consumi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arcas Propias de la tienda aumentan ese costo pues si el cliente la usa no la encontrará en otro 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nte que la marca Propia con el nombre del Supermercado no sea la más bar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609480"/>
            <a:ext cx="7162920" cy="32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eamos también que puede hacer un productor frente al Retailer..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Debe ceder y “someterse” al Retailer?.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rir con las botas puestas” ??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IB1" descr=""/>
          <p:cNvPicPr/>
          <p:nvPr/>
        </p:nvPicPr>
        <p:blipFill>
          <a:blip r:embed="rId1"/>
          <a:stretch/>
        </p:blipFill>
        <p:spPr>
          <a:xfrm>
            <a:off x="2666880" y="0"/>
            <a:ext cx="3481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1523880"/>
            <a:ext cx="65530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Invierta en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Innove con sabidur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mayoría de las extensiones de línea son un fracaso y lo único que hacen es confundir al consumidor. Diluyen el poder de las Marcas, y le abren espacio a las Marcas prop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Algunos fabricantes crean “marcas de pelea”. Quelch y Harding dicen que no es conven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jor usar la marca propia contra su r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28600" y="1371600"/>
          <a:ext cx="822960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8458200" y="44197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1880" y="4419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1600200"/>
            <a:ext cx="7010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 Use Tra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 Preocupese de la Brecha de precios. Si se mantiene bajo de precios entonces el que pierde es la Marca Prop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 Explote las promociones. Le gustan a los consumidores  y a los retailer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8040" y="212760"/>
            <a:ext cx="8467920" cy="68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Valor de Marca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CIENCIA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ALT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ONES DE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80880" y="26668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mo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DIB3" descr=""/>
          <p:cNvPicPr/>
          <p:nvPr/>
        </p:nvPicPr>
        <p:blipFill>
          <a:blip r:embed="rId1"/>
          <a:stretch/>
        </p:blipFill>
        <p:spPr>
          <a:xfrm>
            <a:off x="3124080" y="98280"/>
            <a:ext cx="53420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5840" y="611280"/>
            <a:ext cx="79218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NOC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onoce usted esta mar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R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Marcas de esta clase Producto conoce us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Top of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4080" y="382680"/>
            <a:ext cx="86835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Administrador</cp:lastModifiedBy>
  <dcterms:modified xsi:type="dcterms:W3CDTF">2005-05-10T13:28:52Z</dcterms:modified>
  <cp:revision>44</cp:revision>
  <dc:subject/>
  <dc:title>Sin título de diapositiva</dc:title>
</cp:coreProperties>
</file>