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A44E-CB20-43A0-8265-6788070D6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4D95-969C-4AA3-A900-DF90D8832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CF67-6089-4EB9-9645-53C782C20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E3BF-51C2-4E90-A6CD-85B29A12E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08E6-E81E-463E-B8AB-1C5392ED9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175D-643E-4156-A412-463E2C0C9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1D36-31FE-4E29-A7B8-2CCE7615B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FF71-0343-4BBE-A7B7-0726CC80D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B2D0-9486-4769-B25D-D724C7A74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71BC-DA74-4314-A508-F10C5AD2D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DA56-3638-4874-9C67-FB31B7C46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F4CD-6CA1-4438-91E7-6F4C740FE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05A1-7C22-4A7E-8508-4153F111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58A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5D9B-D8C1-4C0B-9672-1B13E1063C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EEA8-A387-4D86-9703-B6592147F6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C0B8-2620-4465-A0F3-12CC6E2726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C850-9D0C-4A82-9D12-0FE045B019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5522-7C0C-424C-A1FF-ACA9E652B74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8C23-6AAD-4EFA-B8DA-746E1CE741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A7C6-7538-4038-BF02-0AFFD6E5BB5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4CF2-CA9F-44EB-A9FC-9B9A90195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3A62-AC55-4092-A14F-3D409E0487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3626-4453-4A70-B11D-C35963ADD0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5FA3-69AF-4817-8540-F56B095F2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DF6F-9F5C-4637-9F91-38DECA2BB7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0725-1AD4-4A69-BA77-1EAFF54E9F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2BD6-0A4F-4266-A6B1-AFE245E33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E446-1BDD-4C4D-A63A-D88D0E6D82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70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1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5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8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3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A38F-7F47-4C39-AC9E-7C2A85C66E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7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8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1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9245-707B-4545-AAEE-D58D4D67FB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5-05-10T13:19:23Z</dcterms:modified>
  <cp:revision>403</cp:revision>
  <dc:subject/>
  <dc:title>IN58B Ingeniería de Marketing</dc:title>
</cp:coreProperties>
</file>