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387A-49E9-4E85-9179-D5E0FE2EB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217F-16E5-4BF3-85F5-A694E3FDB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1277-CD1C-4683-899D-64ADC29FD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6F8D-C1B2-4D47-B6DF-AF014A96DE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922D-87B8-4B32-9090-FE862DC87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A6A0-AE39-4D44-8E23-6ED3DA86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5E4F-7163-4E2F-910A-89F760E78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1EB5-AABA-4E79-8EA7-E6109953C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243B-07D5-4EE3-A6C5-FF513F209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4B69-9D79-4690-BBB5-97D6E81CB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04D9-5C94-4285-8507-ED9918615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4C53-97AF-4784-A68F-E77561B7B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F2D2-0FF1-4282-A5AC-DECB41C4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D8E5-255D-4BC2-A219-C59692C74C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7C21-6F09-488F-AF6B-6CD44B9F66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69D0-8F7F-4101-A858-AFD18EBD86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1994-C897-4ED8-B05B-A15DF5930A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6FE9-10BC-4EFB-B68A-D4FBB6FC1A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C094-9B5D-442D-9352-6D207A8174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C823-1731-4DAA-9157-371FB0C6D8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F95C-A0C6-4D7D-AD75-70EF97E6AE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B04A-B912-49DE-A5CC-97E19431FA1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1D02-1407-4227-B069-F900B6E0E7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0B8E-2BF8-49D4-8800-21717AD73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50A3-E458-4FF1-B982-EA3BA9555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BBA2-AF8A-4658-9E7F-7A826C66F0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06E5-0ADC-4FAF-9B32-832B4F51B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6C14-1685-42CD-9FE5-D45FE3ABBA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458F-0F64-4BC8-A67B-3D9F2BB65B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B465-1130-479C-8214-0444A7EAE2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5-05-10T13:19:23Z</dcterms:modified>
  <cp:revision>403</cp:revision>
  <dc:subject/>
  <dc:title>IN58B Ingeniería de Marketing</dc:title>
</cp:coreProperties>
</file>