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24CAD-88F1-474B-9059-5EDB291AB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90DF-6B8E-41D3-892C-FA0D54232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7D8E8-9F27-49A3-982B-6B1BFB5DC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EBDE-70AF-4D4B-AC61-08A8C3395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B603-6192-4C60-9D18-AA6358CC1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1CD8-D03F-4545-BE5E-8706CE94F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8AEE-B820-4A14-AA19-BCCB1F8C3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79F9-EBF7-41C7-A7DC-95F31279A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E3A1-F815-4EFD-BAA5-23EF857E6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F8CD-1E88-4D56-A4C5-4F6F2CEF4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434F-B3DD-468A-B33F-7E894DCCD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7C44-E381-4614-A8B8-692E43711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BA96-077F-4248-8CAA-DEA22016A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58A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80B9-21FA-43AF-B161-3AF65B7E8E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001AB-1556-4C96-AA95-F4550B0046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41EB7-06DA-4325-AB24-96AEB9ABDB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7309B-27D1-4862-93AB-8EEF46377F1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D0B9-BFE6-45FE-B131-DEAA77D3EEF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0FE1-F092-418E-B538-8A15774864A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7587-2AC5-41C5-9E6F-06707E121A5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51BCE-1CF4-43EE-9A7D-048255D10A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96AE-1559-4609-9C5E-7C71DAF0E53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2F63-3E6B-44FF-B4DC-A76F895BDF9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D6ABA-CB69-45A6-8C93-0D6AE02F60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11FE-5F4B-41EE-B140-76B24BFB7E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F912-AB3C-48B6-B206-9E47986F26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3A80-B6DC-459A-B8F0-9DCC50CB86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72DA-2C92-4F18-91D5-66A8CA41F7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70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1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5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8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3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B91C-B7A0-4742-8942-BB74F80C9C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7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8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1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E41D-70E7-4425-954F-1E7BE862E7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5-05-10T13:19:23Z</dcterms:modified>
  <cp:revision>403</cp:revision>
  <dc:subject/>
  <dc:title>IN58B Ingeniería de Marketing</dc:title>
</cp:coreProperties>
</file>