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2144-EB32-40CB-ABE5-DDEF9EC85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0715-385B-40CE-97B2-F9692CF28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5749-692E-49F0-A1FB-F693EB4D6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EC4A-D2C0-4D3E-9AEF-4039E267F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ADC5-4AC7-460E-AB45-9748DAB17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6266-082D-4CD0-BBEF-63B8FCFDC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09EC3-E4C9-43FD-85FE-C8F80B726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EF83-3849-41C8-AA53-5C46CC64C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D897-6ACA-4480-9A1B-803927CC0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36FA-24B9-4640-9D7D-A2EB05AA1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3CEA-6450-4208-84DD-263135463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050A-C77D-404D-8975-7B3242440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7782-1F12-4A72-BA83-664C8493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58A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2C17-0483-44A5-B91B-0A176F1A28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EFB3-3236-4FC1-A39A-1A662EE18B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5B20-C11E-4E8A-BED9-BF301E9109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3239-DBAE-4760-BBC6-E86062FC52B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A56E-EDB8-445B-B62C-371046B3D0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D29B-2AC0-450F-A1A5-F9478D08FBD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2912-F0A0-4AE3-A4C8-C4712ADA69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DC60-747C-49EC-A1B7-25B1061E37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976B-F083-4631-BB01-42310B0006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803F-6BD4-4A91-A848-089F457EFF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DDAB-4D68-439B-9291-BC9D3FA92A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24D6-667A-407A-9C95-365663F8C0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5371-DEC8-4D21-AE85-70E1A4203E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A62E-F6D5-4080-8021-F5568D6042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267D-6C3D-4F6A-B2E3-16E641D6B6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70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1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5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8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3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8581-3273-408F-B493-7C6CDEDAF3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7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8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1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79FF9-A8DB-4B18-ABA7-58F771A3E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5-05-10T13:19:23Z</dcterms:modified>
  <cp:revision>403</cp:revision>
  <dc:subject/>
  <dc:title>IN58B Ingeniería de Marketing</dc:title>
</cp:coreProperties>
</file>