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6854-1C98-4671-B921-FD7A0D384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D169-093B-47F2-97EE-122CDB39F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DB5A-AFE8-4859-8F50-7928DCAF0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8F6A-2103-49A9-B8DA-5DE0D9ACC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D828-1EA3-45AA-8C01-B1A0F5622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517D-8E9E-49B0-931D-C2DDEB647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776E-F6BF-42DA-928D-252D7143E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15A1-914B-438C-98D0-F8DA8DE74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6F88-DF51-449B-94CA-F4110EEF0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DE05-1D2C-48EA-831E-54357C4C8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B43D-5F28-413F-A42C-780D4A0BE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F0C8-EE2A-41B7-BDAD-71ABDF483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F109-4EE1-442D-8918-12FDB962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58A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D189-66EF-42A2-A98B-3C0F1BEA3B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A9B9-4867-46DD-9216-E489C64DD6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6258-43D6-444A-8B77-030A949CC9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ACC8-290D-46B8-ABC4-37793205AE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032F-D063-4456-AAE2-A047F67D633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A401-A3CC-4792-8BB1-2D32EE58E8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1C49-E354-4A6E-A98A-BF03DBCCB06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DD70-75BE-4707-A799-BEAB10A6B7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C2DC-0497-4EBA-A3E8-6B80E511253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B624-74FA-4016-B5AE-2BC2FDA1F11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E417-3A54-4189-9C30-167A2DB752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6CD5-50A8-4234-88DF-D8FD6A71CE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D45A-3E02-4852-86C6-D0AF27AA83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0CC9-A572-4271-969C-0D0178FE12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E92D-24C3-41A4-A012-AB8B846CCD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70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1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5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8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3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3335-95A8-4D33-9E9C-B6766C869D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7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8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1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C3F3-FCA6-472A-907D-DCD87AA2B5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5-05-10T13:19:23Z</dcterms:modified>
  <cp:revision>403</cp:revision>
  <dc:subject/>
  <dc:title>IN58B Ingeniería de Marketing</dc:title>
</cp:coreProperties>
</file>