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Bosch &amp; Yo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OSICIONAMIENTO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5360" y="0"/>
            <a:ext cx="8153280" cy="62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¿Cual es la Solu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er Mensajes Ef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saje Sobre-simplifi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14600" y="228600"/>
            <a:ext cx="3962520" cy="8380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1447920"/>
            <a:ext cx="3962520" cy="8380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743200"/>
            <a:ext cx="3962520" cy="76212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ercados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A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962520"/>
            <a:ext cx="3962520" cy="8380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icionamiento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ducto en cada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181480"/>
            <a:ext cx="3962520" cy="91440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n de Marketing Objet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a cada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0666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9640" y="23623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380880"/>
            <a:ext cx="82296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TERMINACIÓN DEL MERCADO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 de la Estrategi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l Atractivo de cada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ción de Segment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7273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El Proceso de Posicion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Que examinar para la elección de un Posicionamiento en un Segm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371600"/>
            <a:ext cx="7848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ales son las características distintivas de una marca a la que los compradores reaccionan favorablem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ómo son percibidas las distintas marcas en competencia en relación a esas características distintiv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s la mejor posición a ocupar teniendo en cuenta las preferencias de los compradores y las posiciones ya ocupadas por la competenc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es son los medios de marketing más apropiados para defender esa posi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7920" y="1752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amos ahora como distintos aspectos del estudio de mercados apoya las distintas etapas del proceso de POSI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4120" y="220968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0"/>
            <a:ext cx="4495680" cy="6094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dentificar el conjunto relevant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 Compet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838080"/>
            <a:ext cx="4495680" cy="53352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eterminar si existe Concienci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1600200"/>
            <a:ext cx="4495680" cy="6094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eterminar atributos que fo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l espacio d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2438280"/>
            <a:ext cx="4495680" cy="60984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Recoger informaci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una muestra del mercado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3276720"/>
            <a:ext cx="4495680" cy="6094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álisis de la Situación Competi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n cada Segmento(PERCEP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4114800"/>
            <a:ext cx="4495680" cy="53352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stimar las Pre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n cada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4876920"/>
            <a:ext cx="4495680" cy="6094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efinir los Segmentos de Interés y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cionamiento  en cada uno de el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5715000"/>
            <a:ext cx="4495680" cy="53352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efina las 4 P que apoyar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se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762120"/>
            <a:ext cx="141948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Etapas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el 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e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osicionar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0948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13716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304812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8862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464832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54864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FINICIÓN DE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37484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cos conceptos son tan importantes en la teoría y la práctica del Market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finición de un POSICIONAMIENTO es la decisión más estratégica que una empresa puede realizar respecto de cómo va a competir en un determinado Producto-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 Ries y Jack Trout definieron en 1972 el concep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85800"/>
            <a:ext cx="85341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FINICIÓN DE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oncepción de un producto y su imagen con el objetivo de imprimir en la mente del comprador un lugar apreciado y diferente del que ocupa la competenci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osicionamiento comienza en un “producto”.  Pero el posicionamiento NO se refiere al producto, sino a como se ubica el producto en la mente de los compr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685800"/>
            <a:ext cx="853416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FINICIÓN DE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roceso de Posicionar un producto es un sistema organizado para encontrar una VENTANA en la mente de los consumidor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basa en el concepto que la COMUNICACIÓN puede tomar lugar sólo en el momento adecuado y en las circunstancias adecu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71680" y="838080"/>
            <a:ext cx="8001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tema central en POSICIONAMIENTO es cómo me ubico primero en la mente de los consumidores, o de algunos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herchez le creneau”. Busque el “nicho”, y OCÚP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ótese que es un Nicho 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hacerlo, se debe pensar en “Reversa”. Ir contra la corriente. (e.g. Si todos están haciendo algo, yo debería hacer lo contrario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685800"/>
            <a:ext cx="44737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Goldstar/L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lub 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Guc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to Las Con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ams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609480"/>
            <a:ext cx="8076960" cy="38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percepción es la Real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Lo único posible es centrarse en el cliente y no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o en las características del producto que son capaces de “reordenar las conexiones existent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7880" y="990720"/>
            <a:ext cx="8326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ir cambios de opinión es casi im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En general el consumidor sólo acepta aquel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uerda con los conocimientos y experiencia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El consumidor acepta que le digan algo sobre l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desconoce comple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No permite que le digan que está equivo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838080"/>
            <a:ext cx="7924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n embar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msung, Ripley, han mostrado que 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ece que el costo de crear una marca desde 0, es mucho mayor que el de reposi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ece que el reposicionar depende del tipo de relaciones mentales que se han construído, en los segmentos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22:08:22Z</dcterms:created>
  <dc:creator>Dii</dc:creator>
  <dc:description/>
  <dc:language>en-US</dc:language>
  <cp:lastModifiedBy>Administrador</cp:lastModifiedBy>
  <cp:lastPrinted>2001-04-23T20:51:21Z</cp:lastPrinted>
  <dcterms:modified xsi:type="dcterms:W3CDTF">2005-05-03T13:58:10Z</dcterms:modified>
  <cp:revision>94</cp:revision>
  <dc:subject/>
  <dc:title>Sin título de diapositiva</dc:title>
</cp:coreProperties>
</file>