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ACRO SEGMENTACIÓN Y CICLO DE VIDA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oño 20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1. FASE DE INTRODU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fase de incertidumb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lta la información sobre el consumidor, los canales y la competenci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ialéctica principal se establece entre el producto innovador y los sustitut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ducto suele ser el principal protagonista de la fase.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¿Tendrá futur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1. FASE DE INTRODU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mbios en las motivaciones del consum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mbios sociales  o económicos que favorecen nuevos usos del produc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evos grupos de consumidores que se empiezan a incorporar al consumo del produc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asa de fracasos muy elevada ¿Por qué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úblico no acepta la innov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e consigue distribución (en los canales tradicionales o nuev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líderes (de los productos a sustituir) dominan el mer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arece otra tecnología que si es acept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1. FASE DE INTRODU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puesta a punto del producto y la producció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orientación del público innovad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ar a conocer el producto y convencer al públic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laboración de la distribución o la creación de nuevos canal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omento (tiempo) y forma de entra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rotección por patentes, barreras arancelaria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mpetencia de los productos sustitut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istinguir entre prueba y repetición en la compra del produc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recimiento lento, faltan consumidores/usuarios y distribució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sh-flow negativ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Hay que soportar inversiones en  producción e I + 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2. FASE DE CRECIMIENT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e explosiva en crecimiento, en la que aparecen las claves que determinarán la dinámica competitiva futura. En esta etapa se desarrolla el mercado de referencia y se cubren distintas posiciones P/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2. FASE DE CRECIMIENT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l usuario acepta el producto (incorporación de los primeros adoptadores y de la primera mayorí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 distribución se amplía rápidamen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l éxito atrae a muchos competidores que conjuntamente contribuyen a desarrollar el mercad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s líderes de la industria entran en juego y marcan su hegemoní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a tasa de fracasos es ba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unas empresas tienen dificultades para financiar el crecimi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íderes futuros suelen crecer por encima  de la media del mercad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2. FASE DE CRECIMIENT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tener participación de Merca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bajar en el desarrollo de la Imagen de marca (fidelidad futur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jan los costos (efecto volumen y aprendizaj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usión de la tecnolog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bertura de la distribu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tamente comienza el aprendizaje por parte del merc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pararse para bajadas de precios hacia el final de la f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perfila la definición de roles: líder, seguidor, retador, especialis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tención de recursos financier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flujos de caja  son positivos y crecen rápid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ortización de la inversión inici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3. FASE DE TURBULENCI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roduce desaceleración del crecimiento  como consecuencia de la saturación del mercad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ele tomar  a los desprevenidos con ampliaciones de capacidad y endeudamiento financier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ventas totales crecen a tasas más bajas pero mayores aún que el promedio de la Economí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3. FASE DE TURBULENCI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Hay una inflexión brusca en la tasa de crecimi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distribución encaja con dificultades y traslada la crisis a los fabricant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erte caída de preci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la de conservadurism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Abandon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e produce un abandono masivo de los competidores más débiles que no consiguen aguantar el cambio de velocida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Aparecen los “nicheros” o especialist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fuertes se reestructuran y se preparan para afrontar la madurez del mercad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3. FASE DE TURBULENCI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cionalización de todos los procesos. Hay que bajar cost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unos competidores aguantan por reputación, activos especializados, barreras de salida y ... Se incrementa la rivalidad competiti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pliar la línea de productos con diferentes tamaños, sabores y variantes. Buscar satisfacer a segmentos y necesidades “aledañas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ansión geográfica e internacion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uantan los más fuertes (preparados en la etapa de crecimiento) y preparan la madurez (reestructuració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stión de la imagen versus promociones continuad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 no se puede hacer lo anterior, hay que buscar nicho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4. FASE DE MADUREZ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durez se caracteriza por la estabilidad y por ser la más larga del ciclo y en la que se encuentran la mayoría de los mercad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209680"/>
            <a:ext cx="8001000" cy="1572120"/>
          </a:xfrm>
          <a:prstGeom prst="rect">
            <a:avLst/>
          </a:prstGeom>
          <a:solidFill>
            <a:srgbClr val="99ff33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CROSEGMENTACION = DEFINICIÓN 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k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4. FASE DE MADUREZ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líderes de mercado empiezan a imponer su hegemonía y se instaura un relativo oligopolio que favorece mantener un “statuo quo” de hech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Concentración de mer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anar cuota es caro y se tiende a mantener las posicio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e tiende a cumplir la llamada ley de Henderson (3*4). Tres competidores importantes con  un reparto de cuotas de 4 a 1 entre el primero y el últim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4. FASE DE MADUREZ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tasa de penetración es máxima: el consumidor es experto (última mayorí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ersificar al máximo la línea de product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s de reposición de bienes dur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stabilización tecnológica y estandarización de product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¿Cómo crecer en mercados madur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Gaps de us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más cantidad, más frecuente, nuevos us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arrollo de periféricos de servic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¿Cómo mantener la rentabilid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lección de los segmentos rent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star más en Fidelizar cliente que en Penetra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5. FASE DE DECLIVE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Fase caracterizada  po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descenso de la demand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ertidumbre respecto la decadencia 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incertidumbre respecto a su duració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una etapa que discrimina los competidor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desinvierten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cosechan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se especializan en mercados residuale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ntables e invierten para segu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5. FASE DE DECLIVE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parecen productos sustitu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consumidores (mayorías) cambian de hábitos y abandonan el produc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que quedan rezagados y el entorno en general apuntan a la obsolescencia del produc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167652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yon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et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5. FASE DE DECLIVE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a tasa de abandon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s competidores que abandonan el P/M son significativos. Algunos practican la obsolescencia planificada o buscan la expansión geográfica en mercados exteriores de otro nivel (Ciclo de Vida Internacional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s barreras de salida y la calidad del mercad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olítica de precios (pueden subir) y fidelidad del client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ción selectiva o marketing direct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ntabilidad de nichos de mercad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ominio del mercado por un competidor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ERCADO POTENCIAL (ABSOLUT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sin%20nombe3" descr=""/>
          <p:cNvPicPr/>
          <p:nvPr/>
        </p:nvPicPr>
        <p:blipFill>
          <a:blip r:embed="rId1"/>
          <a:stretch/>
        </p:blipFill>
        <p:spPr>
          <a:xfrm>
            <a:off x="647640" y="152388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RCADO POTENCIAL  (ACTUAL)</a:t>
            </a:r>
            <a:endParaRPr b="1" lang="en-US" sz="28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sin%20nombe6" descr=""/>
          <p:cNvPicPr/>
          <p:nvPr/>
        </p:nvPicPr>
        <p:blipFill>
          <a:blip r:embed="rId1"/>
          <a:stretch/>
        </p:blipFill>
        <p:spPr>
          <a:xfrm>
            <a:off x="609480" y="1257480"/>
            <a:ext cx="7925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ERCADO POTENCIAL  (ACTUAL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sin%20nombe5" descr=""/>
          <p:cNvPicPr/>
          <p:nvPr/>
        </p:nvPicPr>
        <p:blipFill>
          <a:blip r:embed="rId1"/>
          <a:stretch/>
        </p:blipFill>
        <p:spPr>
          <a:xfrm>
            <a:off x="571680" y="1600200"/>
            <a:ext cx="8001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1981080"/>
            <a:ext cx="7772400" cy="2303640"/>
          </a:xfrm>
          <a:prstGeom prst="rect">
            <a:avLst/>
          </a:prstGeom>
          <a:solidFill>
            <a:srgbClr val="99ff33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 interesará en general, sobretodo  respecto de la visión estratégica, buenas estimaciones del MERCADO POTENCIAL AB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 llamaremos sólo Mercado Poten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59092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ASO    POUPARI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Ñ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ERCADO POTENCIAL (ABSOLUT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úmero de unidades de consumo potencia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alquier persona de 5 o más años es usuario potenci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o representa el 90% de la población tot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a en Chile: 15 millones de habitan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 tiene pues: 90% de 15 millones = 13,5 millones de person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úmero de ocasiones de uso por añ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s consumos semanales  por  usuario (cada uso equivale a 0,25  litros de coca cola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úmero de usos por año: 13,5 millones de usuarios * 2/semana*52 semanas =1.404  millones de ocasiones de uso por año o 351 litros de bebidas gaseos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asa de consumo por  ocasión de us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utilización normal implica 0.25 litros por  us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mercado potencial absoluto es pues de: 1.404 millones de litros por añ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 botella promedio  contiene 1,5  litros; lo que hace: 936 millones de botellas/añ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mo alcanzamos el Potencial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682560" y="19432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12800" y="1333440"/>
            <a:ext cx="1905120" cy="46483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12800" y="1104840"/>
            <a:ext cx="1905120" cy="12193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12800" y="1104840"/>
            <a:ext cx="19051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12800" y="2324160"/>
            <a:ext cx="190512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12800" y="3543480"/>
            <a:ext cx="1905120" cy="1218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762440"/>
            <a:ext cx="190512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2800" y="5524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2560" y="7239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rcado Potencial Ab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59520" y="11430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de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53040" y="2362320"/>
            <a:ext cx="19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59520" y="358128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en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04680" y="47624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95480" y="56008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60" y="4994280"/>
            <a:ext cx="1271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4200" y="476244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75120" y="2324160"/>
            <a:ext cx="609480" cy="36576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41800" y="3543480"/>
            <a:ext cx="609840" cy="24382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08840" y="4762440"/>
            <a:ext cx="609480" cy="1219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99200" y="5524560"/>
            <a:ext cx="609840" cy="4572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60520" y="476244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60520" y="5981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400" y="10666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mentar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ma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2840" y="110484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98800" y="110484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89520" y="23241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65840" y="232416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7760" y="2286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pliar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6200" y="3543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32520" y="3543480"/>
            <a:ext cx="0" cy="1218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080" y="350532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im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s 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46920" y="4838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23240" y="4838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08840" y="472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acar a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86440" y="544824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ender 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SUFICIENCIA DE US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211428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UMIDORES POTENCIALES QUE NO SON USUA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CA FRECUENCIA DE U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JA CANTI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SUFICIENCIA DE DISTRIBU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2190600"/>
            <a:ext cx="71629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BERTURA INSUFIC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NSIDAD INSUFIC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OSICIÓN INSUFIC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SUFICIENCIA DE PRODUCT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2190600"/>
            <a:ext cx="71629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.- DEFINICI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426708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81360" y="4191120"/>
            <a:ext cx="54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1 Precio promedio de X mayor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9520" y="5486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 1 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440" y="4648320"/>
            <a:ext cx="12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5029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371600" y="1828800"/>
                <a:ext cx="4457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Marca 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l Prod-Md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71600" y="3429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3657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2925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volumen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  PM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val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  P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.- OBSERVACI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.-  Cuidado con cual es el MP de referenc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.-  A veces algunas marcas incluyen ventas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de otros 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Importante control de preci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.-  Análisis en el tiempo (mejor Promedios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Móviles para observar tendencia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- DESCOMPOSICIÓN DE LA PARTICIPACIÓ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MERC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886200"/>
            <a:ext cx="8153280" cy="459720"/>
          </a:xfrm>
          <a:prstGeom prst="rect">
            <a:avLst/>
          </a:prstGeom>
          <a:solidFill>
            <a:srgbClr val="99ff33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TICIP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Penetración * Lealtad * Int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36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LTAD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dad que tiene u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sona promedio de comprar l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ca X cuando va a comprar e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ETRACIÓ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l mercado Potencia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consume alguna vez la marca 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NSIDA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e uso) Número de veces en u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íodo de tiempo que el consumido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medio compra (consume) e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jemplo: Mercado de Café Soluble.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pación de Nescafé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netración de Nescafé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,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Nescafé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,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nsidad relativa de Nescafé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,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pación = Penetración * Lealtad * Intensi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,6      =       0,65      *   0,86   *     1,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7520" y="582480"/>
            <a:ext cx="73130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ERCADOS Y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ES DIMENSIONES PARA DEFINIR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FUN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¿QUÉ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GRUPO DE COMPRADOR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¿QUIÉN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TECNOLOGÍ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¿CÓMO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A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 (Personas qu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n café, y algunas veces al menos,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café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café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66160" y="2712960"/>
            <a:ext cx="604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09480" y="286056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5920" y="2712960"/>
            <a:ext cx="584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76520" y="2860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64600" y="2712960"/>
            <a:ext cx="1041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312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84520" y="2712960"/>
            <a:ext cx="103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3520" y="3855960"/>
            <a:ext cx="77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ótese que matemáticamente esta es una igual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pación en Volu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netr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umo promedio de Nes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umo promedio de 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44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por el Nes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umo promedio de 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495288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6760" y="4800600"/>
            <a:ext cx="674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nsidad relativa de consumo de café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600200"/>
          <a:ext cx="86868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cc = 1.550.000 * 1,63225806  =  2.529.999,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cx =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700.000 * 1.8) + (200.000 * 1.7) + (50.000 *1.6) +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50.000 * 1.5)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 1.755.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xx =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700.000 * 1.8) + (200.000 * 0.9) + (50.000 * 1.0) +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50.000 * 0.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1.515.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x =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700.000 + 200.000 + 50.000 + 50.00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1.000.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c =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550.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A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de café comprado por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café en un período de tiemp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de café (cualquier marca) comprada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r los compradores de Nes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de Nescafé comprada por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xx/Qcc =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,5988142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netr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x/Nc =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,6451612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ealt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xx/Qcx =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,8632478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ntensidad rel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Qcx/Nx)/(Qcc/Nc)  =  1.0751976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IMENSIONES DEL MERCADO DE REFERENCI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4040" y="28440"/>
            <a:ext cx="7253280" cy="63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L CICLO DE VID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Ciclo de Vid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arco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interes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racteriza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tractivo y evolución de un mercado-product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s: Mayonesa, Productos Dietét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L CICLO DE VID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Determinantes del Ciclo de Vi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cnología (productos sustitutiv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(nuevos hábitos, variaciones de la població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fuerzo de Marketing de las empresas (no es neutr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Sobre la unidad de análisi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ducto/mercado   versus   marca o produc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152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ICLO DE VIDA PRODUCTO/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volución de la demanda en el ti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294200" y="579132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: Adaptado de Lambin (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1600200"/>
          <a:ext cx="693396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933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571760" y="2671920"/>
            <a:ext cx="5667120" cy="2690640"/>
          </a:xfrm>
          <a:custGeom>
            <a:avLst/>
            <a:gdLst/>
            <a:ahLst/>
            <a:rect l="l" t="t" r="r" b="b"/>
            <a:pathLst>
              <a:path w="3570" h="1695">
                <a:moveTo>
                  <a:pt x="0" y="1692"/>
                </a:moveTo>
                <a:cubicBezTo>
                  <a:pt x="143" y="1677"/>
                  <a:pt x="637" y="1695"/>
                  <a:pt x="859" y="1591"/>
                </a:cubicBezTo>
                <a:cubicBezTo>
                  <a:pt x="1081" y="1487"/>
                  <a:pt x="1216" y="1221"/>
                  <a:pt x="1334" y="1066"/>
                </a:cubicBezTo>
                <a:cubicBezTo>
                  <a:pt x="1452" y="911"/>
                  <a:pt x="1474" y="799"/>
                  <a:pt x="1567" y="661"/>
                </a:cubicBezTo>
                <a:cubicBezTo>
                  <a:pt x="1660" y="523"/>
                  <a:pt x="1745" y="343"/>
                  <a:pt x="1890" y="237"/>
                </a:cubicBezTo>
                <a:cubicBezTo>
                  <a:pt x="2035" y="131"/>
                  <a:pt x="2222" y="50"/>
                  <a:pt x="2436" y="25"/>
                </a:cubicBezTo>
                <a:cubicBezTo>
                  <a:pt x="2650" y="0"/>
                  <a:pt x="2984" y="10"/>
                  <a:pt x="3173" y="85"/>
                </a:cubicBezTo>
                <a:cubicBezTo>
                  <a:pt x="3362" y="160"/>
                  <a:pt x="3487" y="395"/>
                  <a:pt x="3570" y="477"/>
                </a:cubicBezTo>
              </a:path>
            </a:pathLst>
          </a:custGeom>
          <a:noFill/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22:08:22Z</dcterms:created>
  <dc:creator>Dii</dc:creator>
  <dc:description/>
  <dc:language>en-US</dc:language>
  <cp:lastModifiedBy>Administrador</cp:lastModifiedBy>
  <dcterms:modified xsi:type="dcterms:W3CDTF">2005-04-14T16:04:53Z</dcterms:modified>
  <cp:revision>118</cp:revision>
  <dc:subject/>
  <dc:title>Sin título de diapositiva</dc:title>
</cp:coreProperties>
</file>