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765000"/>
            <a:ext cx="79912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estudio descrito se realizó para contestar 5 preguntas explícitas de investigación. Mencione al menos 3 de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criba con el mayor detalle que recuerde la tarjeta de la experiencia de medición “(stimulus card for room featu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criba brevemente los principales resultados obtenidos de este estu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e entendió usted por un modelo “Híbrido”?. ¿Porqué ese nomb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990720"/>
          <a:ext cx="85345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720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ión de Utilidad Parcial por el Atributo “Potenc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62120"/>
            <a:ext cx="9144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m. RAM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Veloc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Conf.Marca       Prec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572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80880"/>
            <a:ext cx="609480" cy="0"/>
          </a:xfrm>
          <a:prstGeom prst="line">
            <a:avLst/>
          </a:prstGeom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80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380880"/>
            <a:ext cx="6094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22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819520"/>
            <a:ext cx="8610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so ent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3434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mp. Relativ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/3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¼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¼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    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C1= 17,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 C2=11, 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C3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30492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30492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7631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sujeto recibe un conjunto de PERFILES que debe evaluar en alguna escala, muchas veces RAN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jemplo de Per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A       300 MHZ,  256 Mb RAM, $750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B       600 MHZ,  128 Mb RAM, $545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C        450 MHZ, 128 Mb RAM, $490.000, Marca 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D        700MHZ,  64 Mb RAM,   $510.000, 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Valor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8080" y="2217600"/>
            <a:ext cx="68626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4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comprar el comprador siempre tiene la expectativa de aumentar su bienestar, es decir , la compra le genera expectativas d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0800" y="1676520"/>
            <a:ext cx="75009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Valor proviene de beneficios y cos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 de una Neces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“gusto” de comp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“costo” de comprar (tiempo,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costo de cambia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3240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1676520"/>
            <a:ext cx="750096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que el consumidor se decidirá por la alternativa que le de más VA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alternativa de referencia es siempre NO HACER NADA. Esta tiene Valor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onces, la Voluntad a Pagar, la Sensibilidad al precio, dependen del Valor que le da cada altern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32400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749160"/>
          <a:ext cx="9144000" cy="535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9160"/>
                    <a:ext cx="9144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39960" y="1643040"/>
            <a:ext cx="686412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decir, no sólo podemos actuar sobre el precio, pero también debemos buscar formas que aumenten la percepción de valor  que nuestro producto/servicio le da al comp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aqui donde técnicas como Análisis Conjunto proveen de importante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752400" y="1676520"/>
            <a:ext cx="83916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BJETIV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Isapre cerrada ISPEN quería encontrar un nuevo plan de atención para sus usuarios ya que, con el actual,  se le producían excedentes y no usaba los aportes a que ENDESA estaba comprometía con sus trabaj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49440" y="1498680"/>
            <a:ext cx="83912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metodología  de este estudio, consistió en determinar la función de utilidad de los afiliados  a ISPEN por seg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te sentido se encontraron planes óptimos, dadas las funciones de ut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2662200" y="323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-304920"/>
            <a:ext cx="833112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l caso  de ISPEN se  determinó que los atributos se referían a los porcentajes de bonificación en 6 grandes grupos de beneficios médicos 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ales que se ofrecían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 6 grupos de beneficios, o bien, los 6 atributos del plan fueron l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82760" y="209520"/>
            <a:ext cx="8254800" cy="539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1.- Atención Médica Ambulator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xámenes clínicos de laboratorio o radiológicos, realizados por un médico o bajo su responsabilida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tención médica en consulta o domicilio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Transfusión de sangre y otros tratamientos especializados realizados por médicos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2.- Atención Quirúrgic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Hospitalizaci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Pabell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Intervenciones quirúrgicas y procedimientos médico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tención de matronas, enfermeras y practicant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mbulancia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3.- Atención Den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End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Ort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Para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Laboratorio dent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Operatoria gener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4.- Medicame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5.- Anteojos-Audifonos-Prót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6.- Trasl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finición de los niveles por atributo para el caso ISPEN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0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eno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1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2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á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042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ISEÑO EXPERIMENTO</a:t>
            </a: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SEÑO DE PRODUCTOS HIPOTETICOS</a:t>
            </a:r>
            <a:endParaRPr b="1" lang="en-US" sz="24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295280"/>
          <a:ext cx="7315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315200" cy="4857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UTILIDAD INDIVIDUAL</a:t>
            </a:r>
            <a:br>
              <a:rPr sz="2800"/>
            </a:b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DIVIDUO 336</a:t>
            </a:r>
            <a:endParaRPr b="1" lang="en-US" sz="18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990720"/>
          <a:ext cx="740736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40736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82520" y="5811840"/>
            <a:ext cx="46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11480" y="5181480"/>
            <a:ext cx="395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iveles del Atrib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1     </a:t>
            </a:r>
            <a:r>
              <a:rPr b="1" lang="en-US" sz="1800" spc="-1" strike="noStrike">
                <a:solidFill>
                  <a:srgbClr val="00dfca"/>
                </a:solidFill>
                <a:latin typeface="Comic Sans MS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2     </a:t>
            </a:r>
            <a:r>
              <a:rPr b="1" lang="en-US" sz="1800" spc="-1" strike="noStrike">
                <a:solidFill>
                  <a:srgbClr val="7fff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3    </a:t>
            </a: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4    </a:t>
            </a:r>
            <a:r>
              <a:rPr b="1" lang="en-US" sz="1800" spc="-1" strike="noStrike">
                <a:solidFill>
                  <a:srgbClr val="cf0e3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752400" y="1905120"/>
            <a:ext cx="83916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AD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encontraron dos planes que deberían cumplir los requisitos de la ISAPRE y dar más “preferencia” a los usu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712800"/>
          <a:ext cx="9144000" cy="54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0"/>
                    <a:ext cx="914400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2205000"/>
            <a:ext cx="69134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Caso Inmobiliaria  p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Felipe Stich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2440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604000" cy="293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77960" y="53352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Pero los clientes no son iguales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304920"/>
            <a:ext cx="8229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elación entre Preferencias y Decisión de Compra es afect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Situaci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fluencia del 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 quien com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play/Merchand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azón d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upues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76520"/>
            <a:ext cx="80010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en distintos modelos para explicar Satisf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odelo preponderante hoy es el  DESCONFIRMACIÓN (lo veremos más adela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estado psicológico que se produce cuando la emoción que resulta de expectativas que no se cumplen (“desconfirman”) se juntan con los sentimientos a priori del cliente respecto del consumo del bien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362320"/>
            <a:ext cx="8001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3809880"/>
            <a:ext cx="16761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37339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04920"/>
            <a:ext cx="83818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ATISF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un mercado maduro, la forma más eficiente de aumentar la venta por parte de los productores es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Lealtad está directamente ligada a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TISFACC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el grado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UTIVERI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logre el productor sobre e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os Servicios, Satisfacción se asocia  a un nuevo concept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65440" y="1946160"/>
          <a:ext cx="6311880" cy="33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946160"/>
                    <a:ext cx="631188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447920" y="1143000"/>
          <a:ext cx="7162560" cy="25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716256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520" y="163512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72800" y="16351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3160" y="1600200"/>
            <a:ext cx="58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junto de beneficios que el  cliente espera obtener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41360" y="1868400"/>
            <a:ext cx="211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n producto o servi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160" y="233676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72440" y="23367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34520" y="2336760"/>
            <a:ext cx="497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stos totales en que los clientes esperan incurrir e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35960" y="2570040"/>
            <a:ext cx="511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valuación, adquisición, uso y eliminación del prod/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160" y="3038400"/>
            <a:ext cx="3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72440" y="303840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33440" y="3038400"/>
            <a:ext cx="439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xpectativa de aumento de valor para el cli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844800"/>
            <a:ext cx="1815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vc = vc – 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440" y="3706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2440" y="37069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92440" y="37069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440" y="3706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2440" y="37069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440" y="37069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8560" y="3706920"/>
            <a:ext cx="5124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8560" y="3706920"/>
            <a:ext cx="512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23160" y="3706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23160" y="37069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23160" y="37069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23160" y="3706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23160" y="37069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23160" y="37069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3713040"/>
            <a:ext cx="612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3713040"/>
            <a:ext cx="1440" cy="70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92440" y="3541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440" y="44146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440" y="4414680"/>
            <a:ext cx="144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2440" y="3541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440" y="44146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440" y="4414680"/>
            <a:ext cx="144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8560" y="3541680"/>
            <a:ext cx="5124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98560" y="4414680"/>
            <a:ext cx="5124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23160" y="3713040"/>
            <a:ext cx="612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23160" y="3713040"/>
            <a:ext cx="1440" cy="70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23160" y="3541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23160" y="44146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23160" y="4414680"/>
            <a:ext cx="144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23160" y="3541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23160" y="44146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23160" y="4414680"/>
            <a:ext cx="144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48006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uando un cliente tiene una expectativa de valor positiva el productor puede decir que le ha creado val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712800"/>
          <a:ext cx="9144000" cy="54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0"/>
                    <a:ext cx="914400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057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ecio + Otros costos para 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657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stos para el pro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920" y="1447920"/>
            <a:ext cx="7772040" cy="3961440"/>
            <a:chOff x="304920" y="1447920"/>
            <a:chExt cx="7772040" cy="3961440"/>
          </a:xfrm>
        </p:grpSpPr>
        <p:grpSp>
          <p:nvGrpSpPr>
            <p:cNvPr id="176" name=""/>
            <p:cNvGrpSpPr/>
            <p:nvPr/>
          </p:nvGrpSpPr>
          <p:grpSpPr>
            <a:xfrm>
              <a:off x="3636000" y="1603080"/>
              <a:ext cx="901800" cy="3806280"/>
              <a:chOff x="3636000" y="1603080"/>
              <a:chExt cx="901800" cy="3806280"/>
            </a:xfrm>
          </p:grpSpPr>
          <p:sp>
            <p:nvSpPr>
              <p:cNvPr id="177" name=""/>
              <p:cNvSpPr/>
              <p:nvPr/>
            </p:nvSpPr>
            <p:spPr>
              <a:xfrm>
                <a:off x="3636000" y="3933360"/>
                <a:ext cx="901800" cy="14760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36000" y="3156480"/>
                <a:ext cx="901800" cy="776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36000" y="2535120"/>
                <a:ext cx="901800" cy="621000"/>
              </a:xfrm>
              <a:prstGeom prst="rect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36000" y="1603080"/>
                <a:ext cx="901800" cy="932040"/>
              </a:xfrm>
              <a:prstGeom prst="rect">
                <a:avLst/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flipH="1">
              <a:off x="2316960" y="1603080"/>
              <a:ext cx="131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316960" y="2535120"/>
              <a:ext cx="131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316960" y="3156480"/>
              <a:ext cx="131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316960" y="3933720"/>
              <a:ext cx="131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920" y="144792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Valor para el cl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3001320"/>
              <a:ext cx="201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Pre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45880" y="1603080"/>
              <a:ext cx="69480" cy="932040"/>
            </a:xfrm>
            <a:custGeom>
              <a:avLst/>
              <a:gdLst>
                <a:gd name="textAreaLeft" fmla="*/ 0 w 69480"/>
                <a:gd name="textAreaRight" fmla="*/ 25200 w 69480"/>
                <a:gd name="textAreaTop" fmla="*/ 24120 h 932040"/>
                <a:gd name="textAreaBottom" fmla="*/ 90792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45880" y="2535120"/>
              <a:ext cx="138960" cy="621360"/>
            </a:xfrm>
            <a:custGeom>
              <a:avLst/>
              <a:gdLst>
                <a:gd name="textAreaLeft" fmla="*/ 0 w 138960"/>
                <a:gd name="textAreaRight" fmla="*/ 50040 w 138960"/>
                <a:gd name="textAreaTop" fmla="*/ 16200 h 621360"/>
                <a:gd name="textAreaBottom" fmla="*/ 605160 h 62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76760" y="3156480"/>
              <a:ext cx="138600" cy="776880"/>
            </a:xfrm>
            <a:custGeom>
              <a:avLst/>
              <a:gdLst>
                <a:gd name="textAreaLeft" fmla="*/ 0 w 138600"/>
                <a:gd name="textAreaRight" fmla="*/ 50040 w 138600"/>
                <a:gd name="textAreaTop" fmla="*/ 20160 h 776880"/>
                <a:gd name="textAreaBottom" fmla="*/ 756720 h 77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4320" y="1913760"/>
              <a:ext cx="2567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Expectativa de valor para el 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4320" y="3389760"/>
              <a:ext cx="2220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Utilidad del produ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23800" y="2690640"/>
              <a:ext cx="30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Otros costos para el 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800600" y="40384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45720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l 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2438280"/>
            <a:ext cx="761760" cy="3048120"/>
          </a:xfrm>
          <a:custGeom>
            <a:avLst/>
            <a:gdLst>
              <a:gd name="textAreaLeft" fmla="*/ 0 w 761760"/>
              <a:gd name="textAreaRight" fmla="*/ 275040 w 76176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97880" y="2743200"/>
            <a:ext cx="546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39960" y="4978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9960" y="4978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78400" y="4978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28680" y="87948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jemplo: Dos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08040" y="209880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ngo que elegir entre 2 hoteles de iguales características de confort. (Me dan lo mismo¡¡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523880" y="3124080"/>
            <a:ext cx="6553440" cy="2743200"/>
            <a:chOff x="1523880" y="3124080"/>
            <a:chExt cx="6553440" cy="2743200"/>
          </a:xfrm>
        </p:grpSpPr>
        <p:sp>
          <p:nvSpPr>
            <p:cNvPr id="203" name=""/>
            <p:cNvSpPr/>
            <p:nvPr/>
          </p:nvSpPr>
          <p:spPr>
            <a:xfrm>
              <a:off x="1523880" y="3124080"/>
              <a:ext cx="6553440" cy="2743200"/>
            </a:xfrm>
            <a:prstGeom prst="rect">
              <a:avLst/>
            </a:prstGeom>
            <a:solidFill>
              <a:srgbClr val="66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23880" y="3657600"/>
              <a:ext cx="655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00600" y="31240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320040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Hotel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33400" y="320040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Hotel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23880" y="4114800"/>
              <a:ext cx="655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4495680"/>
              <a:ext cx="655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05120" y="365760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100 US$ 100</a:t>
              </a:r>
              <a:r>
                <a:rPr b="0" lang="es-CL" sz="2400" spc="-1" strike="noStrike" baseline="30000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54520" y="365760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120 US$ 120</a:t>
              </a:r>
              <a:r>
                <a:rPr b="0" lang="es-CL" sz="2400" spc="-1" strike="noStrike" baseline="30000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52480" y="4114800"/>
              <a:ext cx="245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a 30 min. en ta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4114800"/>
              <a:ext cx="245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a 5 min. en ta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00200" y="45277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(30 min. en taxi) = (7US+100 US* 0.5) x 2= 114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6920" y="4572000"/>
              <a:ext cx="304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(10 min. en taxi) = (2US+100 US* 1/6) x 2= 35,3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77880" y="525780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* Claramente el Hotel 2 tiene una ventaja competitiva no traducida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hotel 1=  expectativa h1 + precio + otros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expectativa h1 + 100 + 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360" y="242424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hotel 2=  expectativa h2 + precio + otros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expectativa h2 + 120 + 3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809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l valor que me dan los dos hoteles son iguales entonces la EXPECTATIVA de valor del hotel 2 es much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349000" y="676440"/>
            <a:ext cx="44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étodos para estimar el 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27160" y="2022480"/>
            <a:ext cx="74833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1. Análisis Ingeneril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lación directa entre precio y performance en alguna variable ingene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si el computador A es 1,2 veces + veloz que el B, entonces su pre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ƒ(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1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* 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* (1,2)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58760" y="380880"/>
            <a:ext cx="702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lor de uso medido en terreno.  Se entrevista a los clientes para evaluar el ahorro o mayor gasto que en determinadas funciones producen 2 product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por ejemplo, mantención, consumo de lubricantes, vida út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o (Enfoque composi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los clientes se les pide indicar un valor en $ para 3 niveles de un atributo.  Se repite esto para otros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 valores se “suman” para determinar el valor que para ellos tendría un produc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Conj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83808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importante destacar que no todos los clientes perciben el mismo valor por un producto o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nos llevará afirma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4720" y="4038480"/>
            <a:ext cx="863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s clientes no son todos iguales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685800"/>
            <a:ext cx="83822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un mercado maduro, la forma más eficiente de aumentar la venta por parte de los productores es 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ealtad está directamente ligada a 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TISFACC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el grado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TIVERI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logre el productor sobre e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os Servicios, Satisfacción se asocia  a un nuevo concep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28600"/>
            <a:ext cx="91440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La Teoría de los </a:t>
            </a:r>
            <a:r>
              <a:rPr b="0" lang="es-ES_tradnl" sz="4800" spc="-1" strike="noStrike">
                <a:solidFill>
                  <a:srgbClr val="ff0000"/>
                </a:solidFill>
                <a:latin typeface="Times New Roman"/>
              </a:rPr>
              <a:t>GAP*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 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Zeithalm, Parasuraman y Ber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562720"/>
            <a:ext cx="78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GAP = Bre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ing Service Quality”, ed Free Press, N.Y.,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380880"/>
            <a:ext cx="1828800" cy="533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ca Ore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380880"/>
            <a:ext cx="1828800" cy="533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380880"/>
            <a:ext cx="1828800" cy="533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ia Pas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1600200"/>
            <a:ext cx="1828800" cy="533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io Esp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2743200"/>
            <a:ext cx="289584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pción sobre el Servi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bid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809880"/>
            <a:ext cx="1066680" cy="6858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4952880"/>
            <a:ext cx="2438280" cy="6858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cif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 Calidad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6019920"/>
            <a:ext cx="36576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ción de la Gerenci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Expectativas de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3809880"/>
            <a:ext cx="2133360" cy="9144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unic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s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76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29" idx="2"/>
            <a:endCxn id="232" idx="1"/>
          </p:cNvCxnSpPr>
          <p:nvPr/>
        </p:nvCxnSpPr>
        <p:spPr>
          <a:xfrm flipH="1" rot="16200000">
            <a:off x="2342160" y="552240"/>
            <a:ext cx="953280" cy="167724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1" idx="2"/>
            <a:endCxn id="232" idx="3"/>
          </p:cNvCxnSpPr>
          <p:nvPr/>
        </p:nvCxnSpPr>
        <p:spPr>
          <a:xfrm rot="5400000">
            <a:off x="5771160" y="628560"/>
            <a:ext cx="953280" cy="152460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4419720" y="914400"/>
            <a:ext cx="0" cy="6858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876920" y="5638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76920" y="44956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76920" y="327636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5" idx="3"/>
            <a:endCxn id="237" idx="2"/>
          </p:cNvCxnSpPr>
          <p:nvPr/>
        </p:nvCxnSpPr>
        <p:spPr>
          <a:xfrm flipV="1">
            <a:off x="6171840" y="4723920"/>
            <a:ext cx="1143720" cy="5724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2" idx="2"/>
            <a:endCxn id="233" idx="0"/>
          </p:cNvCxnSpPr>
          <p:nvPr/>
        </p:nvCxnSpPr>
        <p:spPr>
          <a:xfrm>
            <a:off x="4571640" y="2133360"/>
            <a:ext cx="1080" cy="61020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3048120" y="2209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P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36" idx="1"/>
          </p:cNvCxnSpPr>
          <p:nvPr/>
        </p:nvCxnSpPr>
        <p:spPr>
          <a:xfrm rot="10800000">
            <a:off x="2437560" y="2133000"/>
            <a:ext cx="229320" cy="419148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2438280" y="21337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3657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038480" y="5638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5562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343400" y="4495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4191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4038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019920" y="3048120"/>
            <a:ext cx="129528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37" idx="0"/>
          </p:cNvCxnSpPr>
          <p:nvPr/>
        </p:nvCxnSpPr>
        <p:spPr>
          <a:xfrm flipV="1" rot="16200000">
            <a:off x="5524200" y="2018520"/>
            <a:ext cx="1753200" cy="1829520"/>
          </a:xfrm>
          <a:prstGeom prst="bentConnector2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828800" y="1828800"/>
            <a:ext cx="266688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4191120"/>
            <a:ext cx="2666880" cy="121896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2286000"/>
            <a:ext cx="2057400" cy="28954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892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3"/>
            <a:endCxn id="262" idx="3"/>
          </p:cNvCxnSpPr>
          <p:nvPr/>
        </p:nvCxnSpPr>
        <p:spPr>
          <a:xfrm>
            <a:off x="4495680" y="2438280"/>
            <a:ext cx="76680" cy="2363040"/>
          </a:xfrm>
          <a:prstGeom prst="bentConnector3">
            <a:avLst>
              <a:gd name="adj1" fmla="val 401415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48006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EDICIÓN DE PREFERENCI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8600" y="91440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cerrar e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P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a mala Calidad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ben cerrar lo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P 1, GAP 2, GAP 3, GAP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emos a continuación las razones que según ZP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n los GAP 1 a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3520" y="3808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371600"/>
            <a:ext cx="4495680" cy="10666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va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5410080"/>
            <a:ext cx="4876920" cy="10670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ción de la Gerencia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va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895480"/>
            <a:ext cx="68580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má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lta de preocupación por la Inv. de merc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adecuada comunicación de abajo hacia arri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masiados niveles de Jerarqu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1120" y="24382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3808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P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1219320"/>
            <a:ext cx="4952880" cy="10666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ción de la Gerencia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va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5715000"/>
            <a:ext cx="4495680" cy="10666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c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2743200"/>
            <a:ext cx="6858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má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ca Orientación de la Gerencia a la 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cepción de In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a Estandarización de las T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sencia de Metas Explíci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2860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51055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133720" y="1219320"/>
            <a:ext cx="4495680" cy="10666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c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5791320"/>
            <a:ext cx="4495680" cy="7617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ga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2743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má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22860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32767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3352680"/>
            <a:ext cx="396252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mbiguedad de 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flicto de 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scalce Trabajo - Trabajad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scalce Trabajo - 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3352680"/>
            <a:ext cx="38098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Supervisión Inapropi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ja Percepción de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ta de Espíritu de Trabajo en Gru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3808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P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33520" y="3808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P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1219320"/>
            <a:ext cx="4495680" cy="7617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ga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5791320"/>
            <a:ext cx="4495680" cy="7617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c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má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19810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32767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3352680"/>
            <a:ext cx="39625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cuada comunicación entre Publicidad y oper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cuada comunicación entre vendedores y ope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48320" y="3352680"/>
            <a:ext cx="38098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erencias en políticas y procedimientos entre sucursales y/o depart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nsión a             “Sobre -Ofrecer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eferencia se modela como una función matemática multiatribu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 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...........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forma más usada es la llam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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,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 si el atributo j está presente al nivel k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producto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 en caso contrari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ortancia relativa del nivel k del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ibuto 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jemplos de Atributos y Nivel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0"/>
            <a:ext cx="80773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100 w        500 w       1000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44792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ongamos que mi “utilidad” o “preferencia” por tener 500 w en lugar de 100 w e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supongamos que mi utilidad por tener 1000 w en lugar de 100 es 4 entonces mi función de utilidad parcial respecto a la potenci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19520" y="3505320"/>
          <a:ext cx="312408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505320"/>
                    <a:ext cx="3124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dministrador</cp:lastModifiedBy>
  <cp:lastPrinted>2000-09-11T22:03:08Z</cp:lastPrinted>
  <dcterms:modified xsi:type="dcterms:W3CDTF">2005-03-31T15:49:40Z</dcterms:modified>
  <cp:revision>143</cp:revision>
  <dc:subject/>
  <dc:title>Sin título de diapositiva</dc:title>
</cp:coreProperties>
</file>