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IN58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COMPORTAMIENTO DEL CONSUMIDOR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or: William You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oño 200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on harto tiempo de uso, cuando ya son mis regalon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porque no es necesario plancharl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poco se nota cuando los Jeans están suci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son para toda edad.” “Dependiendo de la edad es cómo se usan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arreteados, desteñid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mente uso con cierre, me gustaría probar uno con botones” “Me gustan a la cadera porque me hacen ver más grande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 más ricos los Jeans con tela liviana, no tiesa ni grues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ando compro me fijo que estén bien hechos, buen cort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 cualquiera sin fijarme la marc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acostumbré a una marca y modelo y no busco otr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me interesan los colores de moda, yo siempre uso azu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Jean se va acomodando a tu cuerpo. Uno se acostumbra a é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 que me queden larg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yoría tiene poca variedad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suav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los Jeans que me gustan son caros y no tengo dinero me aguant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de marca tienen mejores colores.” “Hay de varios colores: blancos, celestes, azules, negros, rojos, etc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 importante es como se ajustan al cuerp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rcas Nombrad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is, Wrangler, Ellus, Calvin Klein, Parada 111, Mossimo, Umbrale, Ricciardi, Barbados, Lee, Cheldiz, Americanino, Diesel, Soviet, Yes, Benetton, Van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NCUEST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rtir de los juicios encontrados se confeccionó una encuesta. (Fue aplicada a un total de 56 jóvenes de entre 20 y 30 añ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1: Eda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2: Sex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3: ¿ A que te dedicas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4: ¿Cuántos Jeans has comprado en el último año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5: ¿Tu compras tus jeans o lo hace alguien por tí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6: ¿Que marcas conoces? (Nombra 4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380880"/>
            <a:ext cx="8229600" cy="55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 7: “Los Jeans de esta marca son cómo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 8: “Siempre encuentro mi talla en esta marc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 9: “Los Jeans de esta marca se desgastan rápi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0: “Estos Jeans son para Jóven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1: “Estos Jeans son car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2: “Tienen diversos model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3: “Se arrugan fácilmente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4: “Son aperra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5: “Tienen modelos clásic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6: “Esta marca tiene poca variedad de color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7: “Me los pongo para toda ocasión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8: “Se ajustan a mi cuer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9: “Se destiñen poc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0: “Siempre tienen modelos a la mod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1: “La tela es buen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2: “Conservan su forma con el tiem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3: “Estos jeans son livian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4: “Me veo bien con estos Jean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Los Jeans de esta marca son cómodos”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89856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1752480"/>
          <a:ext cx="868680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9144000" cy="61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0200" y="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PERFIL SEMAN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ÉTODO DE PROCESAMIENTO Y ANÁLISIS DE LA INFORM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étodo seleccionado es el análisis de facto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plementada en el software estadístico SP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lución obtenida rotada para simplificar la interpretación de la matriz de “factor loading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MEDICIÓN DE PERCEP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304920"/>
            <a:ext cx="84582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.F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permite una explicación más simple de una descripción multi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o, por ejempl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sando sólo dimensiones ortog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n menos 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bvi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explicaciones reducidas son menos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pletas pero más si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Comic Sans MS"/>
              </a:rPr>
              <a:t>Eje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920" y="1447920"/>
          <a:ext cx="43434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343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 flipH="1">
            <a:off x="990360" y="1828800"/>
            <a:ext cx="342900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51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.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 A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3200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It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410080" y="4267080"/>
          <a:ext cx="3048120" cy="14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267080"/>
                    <a:ext cx="30481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762120" y="396252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    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523880"/>
            <a:ext cx="304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105160" y="274320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8195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t.Central   DII         P.Armas   P.It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1447920"/>
            <a:ext cx="609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Nótese que un plano es una reducción para las distancias en algunas ciu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915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152280"/>
            <a:ext cx="655308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máticamente, se trat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n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antigu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lano de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plano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uevo d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 llaman FACTOR LOADINGS, y corresponden a la correlación entre la pregunta y el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255760" y="685800"/>
                <a:ext cx="4907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11400" y="2362320"/>
                <a:ext cx="10839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11400" y="3352680"/>
                <a:ext cx="1083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5181480"/>
                <a:ext cx="6397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267080" y="2666880"/>
                <a:ext cx="20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72000" y="3962520"/>
                <a:ext cx="301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55760" y="685800"/>
                <a:ext cx="4907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23880" y="2362320"/>
                <a:ext cx="793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600200" y="3429000"/>
                <a:ext cx="81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676520" y="4724280"/>
                <a:ext cx="838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895480" y="22860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ting del individuo i de la marca j en el atributo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7339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ctor Loading, del atributo l en la dimensió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87692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CTOR SCORE, nueva posición de la marca j para la persona i en las dimensiones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73320" y="1219320"/>
                <a:ext cx="34257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165320" y="2362320"/>
                <a:ext cx="1174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66760" y="3352680"/>
                <a:ext cx="1171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968040" y="117360"/>
            <a:ext cx="68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emos “reducir” promediando para todos l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1240" y="2514600"/>
            <a:ext cx="53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ta promedio de la marca j en el juicio 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20160" y="331776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sición Promedio de la Marca j en la dimensió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04840" y="1066680"/>
            <a:ext cx="693432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pregunta que se hace el investigador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¿cuántos factores reten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norma usual es  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igen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Éste está muy relacionado con 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“PORCENTAJE DE VARIANZA EXPLICAD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867280" y="2666880"/>
                <a:ext cx="914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609480"/>
          <a:ext cx="83818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914400" y="762120"/>
          <a:ext cx="716292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16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838080"/>
            <a:ext cx="769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ERCEP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cibimos en Base a Conc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o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típ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o/B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ácil de 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28600" y="0"/>
          <a:ext cx="85345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5345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 partir de estos atributos nombramos las dimensiones de la siguiente forma: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4: Me veo bien con estos Je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8: Siempre encuentro mi ta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7: Jeans Cómo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8: Se ajustan a mi cuer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1: Estos Jeans son ca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0 Siempre tienen modelos a la mo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0: Estos Jeans son para Jóve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AQUILLE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5: Tienen modelos clás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4: Son aperr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1: La tela es bue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7: Me los pongo para toda ocas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DIC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53452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3: Se arrugan fáci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9: Se desgastan ráp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2: Conservan su forma con el ti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UR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6: Tienen poca variedad de col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ARIED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Se excluyeron las preguntas 12, 19 y 2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PA PERCEPTUAL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base a las dimensiones encontradas, y empleando los “factor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co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, se determina el posicionamiento de las marcas más mencionadas en las distintas dimensiones, para proceder luego a representarlos gráfica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611280" y="298440"/>
          <a:ext cx="6553080" cy="50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98440"/>
                    <a:ext cx="655308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0" y="2286000"/>
          <a:ext cx="914400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838080" y="6094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romedio de las marcas en cada pregu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09480" y="2057400"/>
          <a:ext cx="708660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0866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838080" y="45720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ordenadas de las marcas en dos dim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91440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7432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1981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3429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52280"/>
          <a:ext cx="82296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229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2743200" y="335268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82320" y="4076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24080" y="36957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42840" y="1790640"/>
            <a:ext cx="6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53040" y="27050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00960" y="201924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15360" y="1028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685800"/>
            <a:ext cx="76960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O DE PERCEP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PERCEP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DE 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228600"/>
          <a:ext cx="85345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5345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819520" y="609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3344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27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3200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41911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99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SUPERMERC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cepciones de dueñas de casa en un        sector de Vitac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écnica: Análisis Multidiscrimin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9080" y="0"/>
            <a:ext cx="9124920" cy="5943600"/>
            <a:chOff x="19080" y="0"/>
            <a:chExt cx="9124920" cy="5943600"/>
          </a:xfrm>
        </p:grpSpPr>
        <p:sp>
          <p:nvSpPr>
            <p:cNvPr id="181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06280" y="201240"/>
              <a:ext cx="4578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mic Sans MS"/>
                </a:rPr>
                <a:t>Funciones discriminantes canóni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76560" y="55558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7676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288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812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7672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287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811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290520" y="5172480"/>
              <a:ext cx="36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47600" y="650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47600" y="1690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47600" y="2746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71640" y="38012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71640" y="47628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1680" y="310356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19840" y="35694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19840" y="3987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9840" y="4407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19840" y="48265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86640" y="2622240"/>
              <a:ext cx="217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SUPERMER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68240" y="3071520"/>
              <a:ext cx="183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entroides de gru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6440" y="350640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66440" y="392544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68600" y="434520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67520" y="476280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22"/>
                  </a:lnTo>
                  <a:lnTo>
                    <a:pt x="36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3300" y="3060"/>
                  </a:moveTo>
                  <a:lnTo>
                    <a:pt x="0" y="0"/>
                  </a:lnTo>
                  <a:lnTo>
                    <a:pt x="0" y="3060"/>
                  </a:lnTo>
                  <a:lnTo>
                    <a:pt x="3300" y="3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0" y="0"/>
                  </a:moveTo>
                  <a:lnTo>
                    <a:pt x="3300" y="0"/>
                  </a:lnTo>
                  <a:lnTo>
                    <a:pt x="3300" y="30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95280" y="759960"/>
              <a:ext cx="5239080" cy="4221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57560" y="25146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81480" y="246744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8872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38760" y="3366720"/>
              <a:ext cx="15228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43360" y="217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90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006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6712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33880" y="2669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09920" y="1861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5667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1948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48040" y="20016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76960" y="170748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292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8128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33880" y="262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3880" y="29325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1944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48360" y="29019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1964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7668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24400" y="24523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48280" y="20800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91120" y="27464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05560" y="26067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0064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62480" y="277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48040" y="2498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624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57600" y="2559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29240" y="27630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29280" y="30261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33920" y="288720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1120" y="23587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00600" y="2266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67360" y="2420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67400" y="16758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43360" y="22964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7228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95920" y="28702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7080" y="8218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0360" y="28249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0548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95920" y="2715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38680" y="15213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15080" y="15984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19960" y="249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86480" y="22964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19640" y="3073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05440" y="33987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9132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05520" y="2373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76920" y="25293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62760" y="27777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1964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38760" y="2591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00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86480" y="299448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38720" y="2373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48240" y="28400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5292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57880" y="2094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10080" y="3336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00560" y="2358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05520" y="204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57680" y="259164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28960" y="31971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0044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8128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6228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24080" y="23904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14840" y="3011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576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14880" y="280836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8040" y="2963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33880" y="3274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86200" y="3165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67120" y="37242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95720" y="34909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71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10000" y="30412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09920" y="2436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24320" y="2467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14880" y="35380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6712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00640" y="1737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766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57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14560" y="37710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19760" y="276300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62520" y="18151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3400" y="1645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3364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6688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7676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09920" y="2125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90840" y="3366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29200" y="31352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0060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00560" y="40662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6276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692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2824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6244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76960" y="3180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4828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81560" y="3118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00560" y="29793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62480" y="36151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34160" y="36622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81800" y="3615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1972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38720" y="3693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76840" y="35380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15080" y="28551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62720" y="32745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53200" y="30880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19680" y="391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19680" y="26067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43440" y="30412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53200" y="3522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052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10160" y="31035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38760" y="29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38800" y="24206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95760" y="47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543640" y="3972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62480" y="45626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2924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3872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95280" y="4980960"/>
              <a:ext cx="5239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295280" y="759600"/>
              <a:ext cx="1800" cy="422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48040" y="2279880"/>
              <a:ext cx="61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72320" y="223452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48840" y="266904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48680" y="3133800"/>
              <a:ext cx="66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809880" y="53341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E R V I C I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066680"/>
            <a:ext cx="5335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304920" y="-304920"/>
          <a:ext cx="85341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-304920"/>
                    <a:ext cx="85341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4267080" y="4952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4792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5780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1600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91320" y="5638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1295280"/>
            <a:ext cx="60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MEDICIÓN DE PREFERENCI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REFERENCI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eferencia se modela como una función matemática multiatribut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 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...........,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forma más usada es la llama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omic Sans MS"/>
              </a:rPr>
              <a:t>FUNCIÓN DE VALOR PARCIA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REFERENCI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Función de valor parc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</a:t>
            </a: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jk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ij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  ,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ij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 si el atributo j está presente al nivel k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producto 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 en caso contrari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jk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portancia relativa del nivel k del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ibuto 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jemplos de Atributos y Nivel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6600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6600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6600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80880" y="0"/>
            <a:ext cx="807732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100 w        500 w       1000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1447920"/>
            <a:ext cx="7924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ongamos que mi “utilidad” o “preferencia” por tener 500 w en lugar de 100 w e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supongamos que mi utilidad por tener 1000 w en lugar de 100 es 4 entonces mi función de utilidad parcial respecto a la potenci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819520" y="3505320"/>
          <a:ext cx="3124080" cy="22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505320"/>
                    <a:ext cx="3124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28600" y="990720"/>
          <a:ext cx="853452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457200" y="380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unción de Utilidad Parcial por el Atributo “Potenc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83808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66880" y="4267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380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505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30400" y="768240"/>
            <a:ext cx="10696320" cy="3751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m. RAM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Veloc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Conf.Marca       Prec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so ent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" y="4572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380880"/>
            <a:ext cx="609480" cy="0"/>
          </a:xfrm>
          <a:prstGeom prst="line">
            <a:avLst/>
          </a:prstGeom>
          <a:ln w="763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33920" y="3808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0" y="380880"/>
            <a:ext cx="60948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19320" y="228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228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efer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467480" y="228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ti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4648320"/>
            <a:ext cx="7772400" cy="157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MPORTANCIA RELATIVA DE LOS 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3.3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4114800"/>
            <a:ext cx="9144000" cy="212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Comic Sans MS"/>
              </a:rPr>
              <a:t>ACTITUD </a:t>
            </a:r>
            <a:r>
              <a:rPr b="0" lang="es-ES_tradnl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cc"/>
                </a:solidFill>
                <a:latin typeface="Comic Sans MS"/>
              </a:rPr>
              <a:t>COMP 1= 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17</a:t>
            </a:r>
            <a:r>
              <a:rPr b="0" lang="es-ES_tradnl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cc"/>
                </a:solidFill>
                <a:latin typeface="Comic Sans MS"/>
              </a:rPr>
              <a:t>COMP 2= 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s-ES_tradnl" sz="2400" spc="-1" strike="noStrike">
                <a:solidFill>
                  <a:srgbClr val="0033cc"/>
                </a:solidFill>
                <a:latin typeface="Comic Sans MS"/>
              </a:rPr>
              <a:t>     COMP 3= 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0" y="304920"/>
          <a:ext cx="91440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30492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estimación de estas funciones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876312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sujeto recibe un conjunto de PERFILES que debe evaluar en alguna escala, muchas veces RANK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jemplo de Per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A       300 MHZ,  256 Mb RAM, $750.000, Marca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B       600 MHZ,  128 Mb RAM, $545.000, Marca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C        450 MHZ, 128 Mb RAM, $490.000, Marca 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D        700MHZ,  64 Mb RAM,   $510.000, 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1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8276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752400" y="1676520"/>
            <a:ext cx="83916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BJETIVOS DEL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Isapre cerrada ISPEN quería encontrar un nuevo plan de atención para sus usuarios ya que, con el actual,  se le producían excedentes y no usaba los aportes a que ENDESA estaba comprometía con sus trabaj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8276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649440" y="1498680"/>
            <a:ext cx="839124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metodología  de este estudio, consistió en determinar la función de utilidad de los afiliados  a ISPEN por seg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te sentido se encontraron planes óptimos, dadas las funciones de uti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-2662200" y="323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-304920"/>
            <a:ext cx="8331120" cy="45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l caso  de ISPEN se  determinó que los atributos se referían a los porcentajes de bonificación en 6 grandes grupos de beneficios médicos 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ntales que se ofrecían 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s 6 grupos de beneficios, o bien, los 6 atributos del plan fueron lo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82760" y="209520"/>
            <a:ext cx="8254800" cy="539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1.- Atención Médica Ambulator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cc00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ámenes clínicos de laboratorio o radiológicos, realizados por un médico o bajo su responsabilida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ención médica en consulta o domicilio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nsfusión de sangre y otros tratamientos especializados realizados por médico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2.- Atención Quirúrgic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spitalizació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belló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ervenciones quirúrgicas y procedimientos médico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ención de matronas, enfermeras y practicant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mbulancia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3.- Atención Dent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ndodonc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rtodonc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aradonc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boratorio denta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eratoria genera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4.- Medicamen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5.- Anteojos-Audifonos-Próte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6.- Trasl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Definición de los niveles por atributo para el 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0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 bonificación actual meno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%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1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 bonificación actua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2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 bonificación actual má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%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042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DISEÑO EXPERIMENTO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DISEÑO DE PRODUCTOS HIPOTETICOS</a:t>
            </a:r>
            <a:endParaRPr b="1" lang="en-US" sz="28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315200" cy="4857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UTILIDAD INDIVIDUAL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INDIVIDUO 336</a:t>
            </a:r>
            <a:endParaRPr b="1" lang="en-US" sz="2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182520" y="5811840"/>
            <a:ext cx="46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11480" y="5181480"/>
            <a:ext cx="395604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iveles del Atrib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1     </a:t>
            </a:r>
            <a:r>
              <a:rPr b="1" lang="en-US" sz="1800" spc="-1" strike="noStrike">
                <a:solidFill>
                  <a:srgbClr val="00dfca"/>
                </a:solidFill>
                <a:latin typeface="Comic Sans MS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2     </a:t>
            </a:r>
            <a:r>
              <a:rPr b="1" lang="en-US" sz="1800" spc="-1" strike="noStrike">
                <a:solidFill>
                  <a:srgbClr val="7fff0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3    </a:t>
            </a: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4    </a:t>
            </a:r>
            <a:r>
              <a:rPr b="1" lang="en-US" sz="1800" spc="-1" strike="noStrike">
                <a:solidFill>
                  <a:srgbClr val="cf0e3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57200" y="990720"/>
          <a:ext cx="740736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40736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8276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752400" y="1905120"/>
            <a:ext cx="83916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ADOS DEL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 encontraron dos planes que deberían cumplir los requisitos de la ISAPRE y dar más “preferencia” a los usu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304920"/>
            <a:ext cx="82296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DEC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relación entre Preferencias y Decisión de Compra es afect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Situaci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fluencia del 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 quien com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isplay/Merchand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azón de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Reg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supues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SATISFA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1676520"/>
            <a:ext cx="800100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distintos modelos para explicar Satisf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preponderante hoy es el  DESCONFIRMACIÓN (lo veremos más adela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Satisfacc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estado psicológico que se produce cuando la emoción que resulta de expectativas que no se cumplen (“desconfirman”) se juntan con los sentimientos a priori del cliente respecto del consumo del bien o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04920" y="304920"/>
            <a:ext cx="83818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SATISF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un mercado maduro, la forma más eficiente de aumentar la venta por parte de los productores es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LT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Lealtad está directamente ligada a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TISFACC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el grado d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UTIVERI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logre el productor sobre e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los Servicios, Satisfacción se asocia  a un nuevo concept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LIDAD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SATISFA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2362320"/>
            <a:ext cx="8001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tisfac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8120" y="3809880"/>
            <a:ext cx="167616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248520" y="37339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838080"/>
            <a:ext cx="7467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ercepciones existen en el mercado de los Jóvenes sobre distintas marcas de Jea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Cuáles son los Atribu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Qué posición tiene cada marca en cada atribu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atributo interesa sólo si permite discriminar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FOCUS GROUP  (Estudio Cualitativo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de Personas: Seis ( 3 hombres y 3 mujere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ades: Entre 20 y 25 añ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ión: Estudiantes o en busca de trabajo por primera vez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usar Jeans yo me fijo si voy a salir o trabaja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van con un estándar de vida, con tu edad. Son para la gente jove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compraba Jeans de 4000 y después me di cuenta que no me duraba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interesa que conserven el color y la form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guío más por el model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uso Jeans porque son más cómod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Administrador</cp:lastModifiedBy>
  <cp:lastPrinted>2000-09-11T22:03:08Z</cp:lastPrinted>
  <dcterms:modified xsi:type="dcterms:W3CDTF">2005-03-29T15:39:53Z</dcterms:modified>
  <cp:revision>184</cp:revision>
  <dc:subject/>
  <dc:title>Sin título de diapositiva</dc:title>
</cp:coreProperties>
</file>