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IN58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COMPORTAMIENTO DEL CONSUMIDOR II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or: William You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oño 200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838080"/>
            <a:ext cx="7696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PERCEP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cibimos en Base a Concep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ributos o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ributos típ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o/Ba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tre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ácil de u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óm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685800"/>
            <a:ext cx="76960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DELO DE PERCEP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PA PERCEP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PA DE 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838080" y="0"/>
          <a:ext cx="80010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0"/>
                    <a:ext cx="8001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66880" y="4267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809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1905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2362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3429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3505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ASO JEAN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2286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J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838080"/>
            <a:ext cx="74674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ercepciones existen en el mercado de los Jóvenes sobre distintas marcas de Jea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¿Cuáles son los Atribu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¿Qué posición tiene cada marca en cada atribu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atributo interesa sólo si permite discriminar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FOCUS GROUP  (Estudio Cualitativo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de Personas: Seis ( 3 hombres y 3 mujere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ades: Entre 20 y 25 añ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ión: Estudiantes o en busca de trabajo por primera vez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usar Jeans yo me fijo si voy a salir o trabaja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eans van con un estándar de vida, con tu edad. Son para la gente jove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compraba Jeans de 4000 y después me di cuenta que no me duraba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interesa que conserven el color y la form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me guío más por el model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uso Jeans porque son más cómod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con harto tiempo de uso, cuando ya son mis regalone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porque no es necesario plancharl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mpoco se nota cuando los Jeans están suci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eans son para toda edad.” “Dependiendo de la edad es cómo se usan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carreteados, desteñid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mente uso con cierre, me gustaría probar uno con botones” “Me gustan a la cadera porque me hacen ver más grande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n más ricos los Jeans con tela liviana, no tiesa ni grues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ando compro me fijo que estén bien hechos, buen cort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ro cualquiera sin fijarme la marc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me acostumbré a una marca y modelo y no busco otr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me interesan los colores de moda, yo siempre uso azu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Jean se va acomodando a tu cuerpo. Uno se acostumbra a é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 que me queden larg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mayoría tiene poca variedad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suave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los Jeans que me gustan son caros y no tengo dinero me aguanto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de marca tienen mejores colores.” “Hay de varios colores: blancos, celestes, azules, negros, rojos, etc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 importante es como se ajustan al cuerpo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1066680"/>
            <a:ext cx="8686800" cy="38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istintas Perspectivas                 Distintas Teorías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in embargo, existen ciertos conceptos generalizados que se expresan en el proceso de decisión de comp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12193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arcas Nombrada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vis, Wrangler, Ellus, Calvin Klein, Parada 111, Mossimo, Umbrale, Ricciardi, Barbados, Lee, Cheldiz, Americanino, Diesel, Soviet, Yes, Benetton, Vank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NCUEST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artir de los juicios encontrados se confeccionó una encuesta. (Fue aplicada a un total de 56 jóvenes de entre 20 y 30 año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1: Eda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2: Sex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3: ¿ A que te dedicas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4: ¿Cuántos Jeans has comprado en el último año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5: ¿Tu compras tus jeans o lo hace alguien por tí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6: ¿Que marcas conoces? (Nombra 4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380880"/>
            <a:ext cx="8229600" cy="55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 7: “Los Jeans de esta marca son cómo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 8: “Siempre encuentro mi talla en esta marc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 9: “Los Jeans de esta marca se desgastan rápi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0: “Estos Jeans son para Jóvene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1: “Estos Jeans son car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2: “Tienen diversos model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3: “Se arrugan fácilmente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4: “Son aperra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5: “Tienen modelos clásic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6: “Esta marca tiene poca variedad de colore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7: “Me los pongo para toda ocasión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8: “Se ajustan a mi cuerp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9: “Se destiñen poc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20: “Siempre tienen modelos a la mod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21: “La tela es buen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22: “Conservan su forma con el tiemp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23: “Estos jeans son livian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24: “Me veo bien con estos Jean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Los Jeans de esta marca son cómodos”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89856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28600" y="1752480"/>
          <a:ext cx="868680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86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0" y="0"/>
          <a:ext cx="9144000" cy="618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600200" y="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PERFIL SEMAN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ÉTODO DE PROCESAMIENTO Y ANÁLISIS DE LA INFORMA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étodo seleccionado es el análisis de factor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plementada en el software estadístico SP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lución obtenida rotada para simplificar la interpretación de la matriz de “factor loading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304920"/>
            <a:ext cx="845820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.F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permite una explicación más simple de una descripción multi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mo, por ejemplo: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sando sólo dimensiones ortog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n menos dim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bvio: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explicaciones reducidas son menos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mpletas pero más si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cc"/>
                </a:solidFill>
                <a:latin typeface="Comic Sans MS"/>
              </a:rPr>
              <a:t>Ejes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4920" y="1447920"/>
          <a:ext cx="434340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4343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 flipH="1">
            <a:off x="990360" y="1828800"/>
            <a:ext cx="342900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2514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.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198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. A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3200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2362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.It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410080" y="4267080"/>
          <a:ext cx="3048120" cy="146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267080"/>
                    <a:ext cx="30481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762120" y="396252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       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523880"/>
            <a:ext cx="304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105160" y="274320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cc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487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059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281952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st.Central   DII         P.Armas   P.Ita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23880" y="1447920"/>
            <a:ext cx="609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Nótese que un plano es una reducción para las distancias en algunas ciu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762120"/>
            <a:ext cx="830556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320" indent="-103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IVACION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edisposición general y básica que dirige el comportamiento hacia la obtención de lo que se desea (meta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IVO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ECESIDADE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H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PC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oceso de selección, organización e integración de los estímulos sensoriales recibidos a través de los sen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39152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90720" y="152280"/>
            <a:ext cx="655308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temáticamente, se trat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on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oordenadas en el antiguo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lano de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imensiones para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individuo i y la marc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oordenadas en el plano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uevo de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dimensiones para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individuo i y la marc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e llaman FACTOR LOADINGS, y corresponden a la correlación entre la pregunta y el F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255760" y="685800"/>
                <a:ext cx="49071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211400" y="2362320"/>
                <a:ext cx="10839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211400" y="3352680"/>
                <a:ext cx="10839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981080" y="5181480"/>
                <a:ext cx="6397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267080" y="2666880"/>
                <a:ext cx="206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572000" y="3962520"/>
                <a:ext cx="301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255760" y="685800"/>
                <a:ext cx="49071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23880" y="2362320"/>
                <a:ext cx="793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00200" y="3429000"/>
                <a:ext cx="812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676520" y="4724280"/>
                <a:ext cx="838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2895480" y="22860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ting del individuo i de la marca j en el atributo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37339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actor Loading, del atributo l en la dimensió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487692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ACTOR SCORE, nueva posición de la marca j para la persona i en las dimensiones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173320" y="1219320"/>
                <a:ext cx="34257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r>
                      <m:t xml:space="preserve">x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65320" y="2362320"/>
                <a:ext cx="11746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l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166760" y="3352680"/>
                <a:ext cx="1171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968040" y="117360"/>
            <a:ext cx="68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demos “reducir” promediando para todos l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1240" y="2514600"/>
            <a:ext cx="53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ta promedio de la marca j en el juicio 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20160" y="3317760"/>
            <a:ext cx="64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sición Promedio de la Marca j en la dimensió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04840" y="1066680"/>
            <a:ext cx="693432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a pregunta que se hace el investigador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Comic Sans MS"/>
              </a:rPr>
              <a:t>¿cuántos factores retene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a norma usual es  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igen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Éste está muy relacionado con el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“PORCENTAJE DE VARIANZA EXPLICAD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867280" y="2666880"/>
                <a:ext cx="9144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457200" y="609480"/>
          <a:ext cx="83818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81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914400" y="762120"/>
          <a:ext cx="716292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716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228600" y="0"/>
          <a:ext cx="853452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5345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A partir de estos atributos nombramos las dimensiones de la siguiente forma: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4: Me veo bien con estos Je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8: Siempre encuentro mi tal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7: Jeans Cómo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8: Se ajustan a mi cuer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1: Estos Jeans son car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0 Siempre tienen modelos a la mo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0: Estos Jeans son para Jóve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AQUILLE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5: Tienen modelos clás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4: Son aperr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1: La tela es bue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7: Me los pongo para toda ocas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DIC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80880"/>
            <a:ext cx="83818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TITUD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edisposición aprendida para responder consistentemente de modo favorable o desfavorable a un objeto. Esta constituida por tres 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creencias (C. Cognosci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valoración (C. Afe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tendencia a actuar (C. A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enci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lora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re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cis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53452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3: Se arrugan fácil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9: Se desgastan ráp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2: Conservan su forma con el ti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UR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6: Tienen poca variedad de col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ARIED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Se excluyeron las preguntas 12, 19 y 23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APA PERCEPTUAL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base a las dimensiones encontradas, y empleando los “factor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cor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, se determina el posicionamiento de las marcas más mencionadas en las distintas dimensiones, para proceder luego a representarlos gráficam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611280" y="298440"/>
          <a:ext cx="6553080" cy="501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98440"/>
                    <a:ext cx="655308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0" y="2286000"/>
          <a:ext cx="9144000" cy="243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9144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838080" y="6094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Promedio de las marcas en cada pregu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609480" y="2057400"/>
          <a:ext cx="7086600" cy="23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708660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838080" y="45720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ordenadas de las marcas en dos dimen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914400" y="0"/>
          <a:ext cx="80010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8001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74320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3886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1981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62720" y="2362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3505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3429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52280"/>
          <a:ext cx="82296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280"/>
                    <a:ext cx="82296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2743200" y="3352680"/>
            <a:ext cx="12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82320" y="40766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24080" y="36957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42840" y="1790640"/>
            <a:ext cx="60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53040" y="27050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00960" y="201924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15360" y="10288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8600" y="228600"/>
          <a:ext cx="853452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5345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2819520" y="609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205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3344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2743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3200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41911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990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SUPERMERC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78168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ercepciones de dueñas de casa en un        sector de Vitacu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écnica: Análisis Multidiscrimina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9080" y="0"/>
            <a:ext cx="9124920" cy="5943600"/>
            <a:chOff x="19080" y="0"/>
            <a:chExt cx="9124920" cy="5943600"/>
          </a:xfrm>
        </p:grpSpPr>
        <p:sp>
          <p:nvSpPr>
            <p:cNvPr id="241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5748" y="4309"/>
                  </a:moveTo>
                  <a:lnTo>
                    <a:pt x="0" y="0"/>
                  </a:lnTo>
                  <a:lnTo>
                    <a:pt x="0" y="4309"/>
                  </a:lnTo>
                  <a:lnTo>
                    <a:pt x="5748" y="43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0" y="0"/>
                  </a:moveTo>
                  <a:lnTo>
                    <a:pt x="5748" y="0"/>
                  </a:lnTo>
                  <a:lnTo>
                    <a:pt x="5748" y="4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5748" y="4309"/>
                  </a:moveTo>
                  <a:lnTo>
                    <a:pt x="0" y="0"/>
                  </a:lnTo>
                  <a:lnTo>
                    <a:pt x="0" y="4309"/>
                  </a:lnTo>
                  <a:lnTo>
                    <a:pt x="5748" y="43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0" y="0"/>
                  </a:moveTo>
                  <a:lnTo>
                    <a:pt x="5748" y="0"/>
                  </a:lnTo>
                  <a:lnTo>
                    <a:pt x="5748" y="4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06280" y="201240"/>
              <a:ext cx="4578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mic Sans MS"/>
                </a:rPr>
                <a:t>Funciones discriminantes canónic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76560" y="55558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7676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2880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8120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7672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2876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8116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0000">
              <a:off x="290520" y="5172480"/>
              <a:ext cx="36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47600" y="650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47600" y="1690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47600" y="27464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71640" y="38012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71640" y="47628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81680" y="310356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19840" y="35694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19840" y="39877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19840" y="44071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19840" y="482652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86640" y="2622240"/>
              <a:ext cx="217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SUPERMERC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68240" y="3071520"/>
              <a:ext cx="183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entroides de gru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66440" y="3506400"/>
              <a:ext cx="57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Eko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66440" y="3925440"/>
              <a:ext cx="56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Al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68600" y="4345200"/>
              <a:ext cx="83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M.Ahor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67520" y="476280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Jumb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96200" y="49971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96200" y="49971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22"/>
                  </a:lnTo>
                  <a:lnTo>
                    <a:pt x="48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6732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732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00640" y="4997160"/>
              <a:ext cx="57240" cy="3024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22"/>
                  </a:moveTo>
                  <a:lnTo>
                    <a:pt x="36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00640" y="4997160"/>
              <a:ext cx="57240" cy="3024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22"/>
                  </a:moveTo>
                  <a:lnTo>
                    <a:pt x="36" y="22"/>
                  </a:lnTo>
                  <a:lnTo>
                    <a:pt x="36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76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7176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05080" y="4997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05080" y="4997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22"/>
                  </a:lnTo>
                  <a:lnTo>
                    <a:pt x="48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76560" y="4997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76560" y="4997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38400" y="72972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38400" y="72972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38400" y="1800000"/>
              <a:ext cx="56880" cy="313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38400" y="1800000"/>
              <a:ext cx="56880" cy="313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0"/>
                  </a:moveTo>
                  <a:lnTo>
                    <a:pt x="36" y="0"/>
                  </a:lnTo>
                  <a:lnTo>
                    <a:pt x="3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38400" y="2855160"/>
              <a:ext cx="56880" cy="316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38400" y="2855160"/>
              <a:ext cx="56880" cy="316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0"/>
                  </a:moveTo>
                  <a:lnTo>
                    <a:pt x="36" y="0"/>
                  </a:lnTo>
                  <a:lnTo>
                    <a:pt x="3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38400" y="389520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38400" y="389520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38400" y="495036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38400" y="495036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95280" y="759960"/>
              <a:ext cx="5239080" cy="4221000"/>
            </a:xfrm>
            <a:custGeom>
              <a:avLst/>
              <a:gdLst/>
              <a:ahLst/>
              <a:rect l="l" t="t" r="r" b="b"/>
              <a:pathLst>
                <a:path w="3300" h="3060">
                  <a:moveTo>
                    <a:pt x="3300" y="3060"/>
                  </a:moveTo>
                  <a:lnTo>
                    <a:pt x="0" y="0"/>
                  </a:lnTo>
                  <a:lnTo>
                    <a:pt x="0" y="3060"/>
                  </a:lnTo>
                  <a:lnTo>
                    <a:pt x="3300" y="30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95280" y="759960"/>
              <a:ext cx="5239080" cy="4221000"/>
            </a:xfrm>
            <a:custGeom>
              <a:avLst/>
              <a:gdLst/>
              <a:ahLst/>
              <a:rect l="l" t="t" r="r" b="b"/>
              <a:pathLst>
                <a:path w="3300" h="3060">
                  <a:moveTo>
                    <a:pt x="0" y="0"/>
                  </a:moveTo>
                  <a:lnTo>
                    <a:pt x="3300" y="0"/>
                  </a:lnTo>
                  <a:lnTo>
                    <a:pt x="3300" y="30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95280" y="759960"/>
              <a:ext cx="5239080" cy="4221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57560" y="251460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81480" y="246744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90840" y="288720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38760" y="3366720"/>
              <a:ext cx="15228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76720" y="26535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43360" y="21722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32277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390840" y="19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76720" y="26535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00680" y="22496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67120" y="2482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33880" y="26690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09920" y="1861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95680" y="15667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19480" y="2482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8040" y="20016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76960" y="170748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29280" y="22496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81280" y="290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33880" y="26222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33880" y="29325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19440" y="32594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48360" y="29019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290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76680" y="28872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4400" y="245232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48280" y="20800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91120" y="27464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05560" y="26067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0064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62480" y="27777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48040" y="24980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624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57600" y="2559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29240" y="27630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29280" y="30261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33920" y="288720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91120" y="235872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00600" y="22662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7360" y="2420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722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67400" y="167580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43360" y="22964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72280" y="2669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95920" y="28702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29160" y="36000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67080" y="8218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10360" y="28249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05480" y="24055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95920" y="27158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38680" y="152136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15080" y="159840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19960" y="2498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86480" y="22964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19640" y="30733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05440" y="339876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1320" y="294912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05520" y="23738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76920" y="252936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62760" y="277776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19640" y="28872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38760" y="2591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0056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86480" y="299448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38720" y="23738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48240" y="28400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52920" y="24523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457880" y="20948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0080" y="33364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00560" y="23587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722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05520" y="2048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6692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57680" y="259164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28960" y="31971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00440" y="24055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6692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81280" y="24523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62280" y="33213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24080" y="23904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14840" y="30110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57640" y="36770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14880" y="280836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48040" y="29638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33880" y="32745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86200" y="3165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67120" y="37242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95720" y="34909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71840" y="19558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610000" y="304128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09920" y="24361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24320" y="24674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14880" y="353808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67120" y="33519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00640" y="17377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76680" y="32277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5756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14560" y="37710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19760" y="276300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62520" y="181512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43400" y="16455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33640" y="33213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6688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76760" y="349092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09920" y="21254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90840" y="33667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29200" y="31352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00600" y="3259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00560" y="40662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62760" y="29491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76920" y="266904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76920" y="28249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762440" y="335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476960" y="318060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48280" y="37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81560" y="3118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00560" y="29793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62480" y="361512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34160" y="366228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81800" y="36151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19720" y="34909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720" y="36936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676840" y="35380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15080" y="285516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62720" y="327456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53200" y="308808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429160" y="36000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19680" y="3910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19680" y="26067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43440" y="30412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53200" y="352260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05240" y="36770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10160" y="31035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38760" y="2917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38800" y="242064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95760" y="4717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43640" y="39726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62480" y="45626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2924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38720" y="37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95280" y="4980960"/>
              <a:ext cx="5239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1295280" y="759600"/>
              <a:ext cx="1800" cy="422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48040" y="2279880"/>
              <a:ext cx="61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ko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972320" y="223452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l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48840" y="2669040"/>
              <a:ext cx="90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M.Ahor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48680" y="3133800"/>
              <a:ext cx="66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Jumb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3809880" y="53341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E R V I C I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" y="1066680"/>
            <a:ext cx="5335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8288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12193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1337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BUSQUE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312408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RMACIO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ERCE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411480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51055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2286000"/>
            <a:ext cx="990720" cy="3429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548640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80060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790960" y="35053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790960" y="449568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790960" y="25909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1" idx="2"/>
            <a:endCxn id="52" idx="0"/>
          </p:cNvCxnSpPr>
          <p:nvPr/>
        </p:nvCxnSpPr>
        <p:spPr>
          <a:xfrm>
            <a:off x="4419360" y="2819520"/>
            <a:ext cx="1080" cy="3052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2" name=""/>
          <p:cNvCxnSpPr>
            <a:stCxn id="50" idx="2"/>
            <a:endCxn id="51" idx="0"/>
          </p:cNvCxnSpPr>
          <p:nvPr/>
        </p:nvCxnSpPr>
        <p:spPr>
          <a:xfrm>
            <a:off x="4419360" y="1904760"/>
            <a:ext cx="1080" cy="229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63" name=""/>
          <p:cNvSpPr/>
          <p:nvPr/>
        </p:nvSpPr>
        <p:spPr>
          <a:xfrm>
            <a:off x="1447920" y="3048120"/>
            <a:ext cx="990360" cy="2743200"/>
          </a:xfrm>
          <a:custGeom>
            <a:avLst/>
            <a:gdLst>
              <a:gd name="textAreaLeft" fmla="*/ 632880 w 990360"/>
              <a:gd name="textAreaRight" fmla="*/ 990720 w 9903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200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895480"/>
            <a:ext cx="838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2" idx="2"/>
            <a:endCxn id="53" idx="0"/>
          </p:cNvCxnSpPr>
          <p:nvPr/>
        </p:nvCxnSpPr>
        <p:spPr>
          <a:xfrm>
            <a:off x="4419360" y="3809520"/>
            <a:ext cx="10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67" name=""/>
          <p:cNvSpPr txBox="1"/>
          <p:nvPr/>
        </p:nvSpPr>
        <p:spPr>
          <a:xfrm>
            <a:off x="1219320" y="457200"/>
            <a:ext cx="5924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roceso de Decisión de Compra</a:t>
            </a:r>
            <a:endParaRPr b="0" lang="en-US" sz="3200" spc="1" strike="noStrike">
              <a:ln cap="sq"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304920" y="-304920"/>
          <a:ext cx="85341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-304920"/>
                    <a:ext cx="85341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4267080" y="4952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4792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14600" y="1600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91320" y="5638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1295280"/>
            <a:ext cx="609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57400" y="1523880"/>
            <a:ext cx="6629400" cy="426744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1523880"/>
            <a:ext cx="0" cy="4267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3733920"/>
            <a:ext cx="66294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1960" y="99072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99072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j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720" y="1752480"/>
            <a:ext cx="207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0" y="4038480"/>
            <a:ext cx="211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Marca p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1523880"/>
            <a:ext cx="355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cepción- Preferenci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4960" y="1523880"/>
            <a:ext cx="300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cepción- Decis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8600" y="3733920"/>
            <a:ext cx="29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-Percepc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380988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24382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24382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46483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46483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000" y="2438280"/>
            <a:ext cx="26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jo o de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3520" y="247968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úsqueda de var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3048120"/>
            <a:ext cx="2666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705720" y="28954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304812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53280" y="304812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42680" y="31622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 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7680" y="32004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erimen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5280" y="472428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de dison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5105520"/>
            <a:ext cx="2819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010280" y="49528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51055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1880" y="51055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6760" y="45720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r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41960" y="522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5181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cción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74200" y="518148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pu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Adaptación del Proceso de Decisión de Comp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685800"/>
            <a:ext cx="7010280" cy="54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INVESTIGACIÓN DE LA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 de las Inno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Wal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tergentes con 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uses para Ejecu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Córp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L'e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762120"/>
            <a:ext cx="7619760" cy="47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BUSQUEDA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reciente en 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sgo Percep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MEDICIÓN DE PERCEPCION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1:01:13Z</dcterms:created>
  <dc:creator>Dii</dc:creator>
  <dc:description/>
  <dc:language>en-US</dc:language>
  <cp:lastModifiedBy>Administrador</cp:lastModifiedBy>
  <cp:lastPrinted>2000-09-11T22:03:08Z</cp:lastPrinted>
  <dcterms:modified xsi:type="dcterms:W3CDTF">2005-03-24T14:51:10Z</dcterms:modified>
  <cp:revision>183</cp:revision>
  <dc:subject/>
  <dc:title>Sin título de diapositiva</dc:title>
</cp:coreProperties>
</file>