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media/image13.wmf" ContentType="image/x-wmf"/>
  <Override PartName="/ppt/media/image9.wmf" ContentType="image/x-wmf"/>
  <Override PartName="/ppt/media/image12.wmf" ContentType="image/x-wmf"/>
  <Override PartName="/ppt/media/image8.png" ContentType="image/png"/>
  <Override PartName="/ppt/media/image16.wmf" ContentType="image/x-wmf"/>
  <Override PartName="/ppt/media/image18.wmf" ContentType="image/x-wmf"/>
  <Override PartName="/ppt/media/image17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8916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392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96000" y="188604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522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392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96000" y="4035600"/>
            <a:ext cx="2306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609480"/>
            <a:ext cx="8763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22760" y="403560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502200"/>
            <a:ext cx="8763120" cy="64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22760" y="1886040"/>
            <a:ext cx="3495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52200" y="4035600"/>
            <a:ext cx="71629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DII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81d58"/>
                </a:solidFill>
                <a:latin typeface="Arial"/>
              </a:rPr>
              <a:t>                IN58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SzPct val="12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c012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f011e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3" name=""/>
          <p:cNvSpPr/>
          <p:nvPr/>
        </p:nvSpPr>
        <p:spPr>
          <a:xfrm>
            <a:off x="6480" y="6480"/>
            <a:ext cx="9118440" cy="6832440"/>
          </a:xfrm>
          <a:prstGeom prst="rect">
            <a:avLst/>
          </a:prstGeom>
          <a:noFill/>
          <a:ln w="12600">
            <a:solidFill>
              <a:srgbClr val="081d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8458200" y="6172200"/>
          <a:ext cx="45576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458200" y="6172200"/>
                    <a:ext cx="4557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Comic Sans MS"/>
              </a:rPr>
              <a:t>COMPORTAMIENTO DEL CONSUMIDOR II</a:t>
            </a:r>
            <a:endParaRPr b="1" lang="en-US" sz="44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fesor: William You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toño 200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838080" y="838080"/>
            <a:ext cx="769644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PERCEP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ercibimos en Base a Concep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ributos o Dimensiones Percep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ributos típ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ro/Ba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tre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ácil de u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óm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f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685800"/>
            <a:ext cx="769608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DELO DE PERCEP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PA PERCEPTU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PA DE 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838080" y="0"/>
          <a:ext cx="8001000" cy="624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0"/>
                    <a:ext cx="800100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66880" y="426708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38098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ANG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0600" y="19051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ORUC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86400" y="2362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52880" y="2971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105520" y="34290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VIN KL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29400" y="35053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RIC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CASO JEAN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838080" y="228600"/>
            <a:ext cx="7696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ASO J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838080"/>
            <a:ext cx="746748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percepciones existen en el mercado de los Jóvenes sobre distintas marcas de Jea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¿Cuáles son los Atribut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¿Qué posición tiene cada marca en cada atribu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n atributo interesa sólo si permite discriminar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FOCUS GROUP  (Estudio Cualitativo)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ntidad de Personas: Seis ( 3 hombres y 3 mujeres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ades: Entre 20 y 25 año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fesión: Estudiantes o en busca de trabajo por primera vez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Juicios Encontrado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a usar Jeans yo me fijo si voy a salir o trabajar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 Jeans van con un estándar de vida, con tu edad. Son para la gente joven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compraba Jeans de 4000 y después me di cuenta que no me duraban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interesa que conserven el color y la forma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 me guío más por el modelo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 uso Jeans porque son más cómodo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Juicios Encontrado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gustan los Jeans con harto tiempo de uso, cuando ya son mis regalone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gustan los Jeans porque no es necesario plancharlo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mpoco se nota cuando los Jeans están sucio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 Jeans son para toda edad.” “Dependiendo de la edad es cómo se usan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gustan los Jeans carreteados, desteñido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lmente uso con cierre, me gustaría probar uno con botones” “Me gustan a la cadera porque me hacen ver más grande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Juicios Encontrado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44756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n más ricos los Jeans con tela liviana, no tiesa ni gruesa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uando compro me fijo que estén bien hechos, buen corte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pro cualquiera sin fijarme la marca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 me acostumbré a una marca y modelo y no busco otro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me interesan los colores de moda, yo siempre uso azul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 Jean se va acomodando a tu cuerpo. Uno se acostumbra a él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Juicios Encontrado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gusta que me queden largo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mayoría tiene poca variedad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 gustan los Jeans suaves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 los Jeans que me gustan son caros y no tengo dinero me aguanto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s de marca tienen mejores colores.” “Hay de varios colores: blancos, celestes, azules, negros, rojos, etc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 importante es como se ajustan al cuerpo.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2280" y="1066680"/>
            <a:ext cx="8686800" cy="38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Distintas Perspectivas                 Distintas Teorías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mic Sans MS"/>
              </a:rPr>
              <a:t>Sin embargo, existen ciertos conceptos generalizados que se expresan en el proceso de decisión de comp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121932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Marcas Nombrada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vis, Wrangler, Ellus, Calvin Klein, Parada 111, Mossimo, Umbrale, Ricciardi, Barbados, Lee, Cheldiz, Americanino, Diesel, Soviet, Yes, Benetton, Vank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ENCUESTA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partir de los juicios encontrados se confeccionó una encuesta. (Fue aplicada a un total de 56 jóvenes de entre 20 y 30 años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1: Edad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2: Sexo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3: ¿ A que te dedicas?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4: ¿Cuántos Jeans has comprado en el último año?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5: ¿Tu compras tus jeans o lo hace alguien por tí?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-22860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reg.6: ¿Que marcas conoces? (Nombra 4)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533520" y="380880"/>
            <a:ext cx="8229600" cy="554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 7: “Los Jeans de esta marca son cómod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 8: “Siempre encuentro mi talla en esta marca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 9: “Los Jeans de esta marca se desgastan rápid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10: “Estos Jeans son para Jóvene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11: “Estos Jeans son car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12: “Tienen diversos model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13: “Se arrugan fácilmente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14: “Son aperrad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15: “Tienen modelos clásic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16: “Esta marca tiene poca variedad de colore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17: “Me los pongo para toda ocasión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18: “Se ajustan a mi cuerpo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19: “Se destiñen poco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20: “Siempre tienen modelos a la moda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21: “La tela es buena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22: “Conservan su forma con el tiempo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23: “Estos jeans son liviano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Comic Sans MS"/>
              </a:rPr>
              <a:t>Pregunta 24: “Me veo bien con estos Jeans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“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Los Jeans de esta marca son cómodos”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898560" y="278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28600" y="1752480"/>
          <a:ext cx="8686800" cy="3733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52480"/>
                    <a:ext cx="868680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0" y="0"/>
          <a:ext cx="9144000" cy="618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1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477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600200" y="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PERFIL SEMAN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87631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MÉTODO DE PROCESAMIENTO Y ANÁLISIS DE LA INFORMACIÓN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método seleccionado es el análisis de factor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mplementada en el software estadístico SP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olución obtenida rotada para simplificar la interpretación de la matriz de “factor loading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04920" y="304920"/>
            <a:ext cx="8458200" cy="51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l 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A.F.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 permite una explicación más simple de una descripción multidimens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omo, por ejemplo: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Usando sólo dimensiones ortog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on menos dimen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Obvio: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s explicaciones reducidas son menos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completas pero más si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cc"/>
                </a:solidFill>
                <a:latin typeface="Comic Sans MS"/>
              </a:rPr>
              <a:t>Ejes</a:t>
            </a:r>
            <a:endParaRPr b="1" lang="en-US" sz="3600" spc="-1" strike="noStrike">
              <a:solidFill>
                <a:srgbClr val="af011e"/>
              </a:solidFill>
              <a:latin typeface="Comic Sans MS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04920" y="1447920"/>
          <a:ext cx="4343400" cy="434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447920"/>
                    <a:ext cx="43434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 flipH="1">
            <a:off x="990360" y="1828800"/>
            <a:ext cx="3429000" cy="19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25146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Est. Cent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1981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. Ar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32004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23623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.Ital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5410080" y="4267080"/>
          <a:ext cx="3048120" cy="1467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10080" y="4267080"/>
                    <a:ext cx="304812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762120" y="396252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           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1523880"/>
            <a:ext cx="3049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105160" y="2743200"/>
            <a:ext cx="3809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48520" y="2666880"/>
            <a:ext cx="108000" cy="108000"/>
          </a:xfrm>
          <a:prstGeom prst="octagon">
            <a:avLst>
              <a:gd name="adj" fmla="val 29287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05720" y="2666880"/>
            <a:ext cx="108000" cy="108000"/>
          </a:xfrm>
          <a:prstGeom prst="octagon">
            <a:avLst>
              <a:gd name="adj" fmla="val 29287"/>
            </a:avLst>
          </a:prstGeom>
          <a:solidFill>
            <a:srgbClr val="cc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848720" y="2666880"/>
            <a:ext cx="108000" cy="10800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05920" y="2666880"/>
            <a:ext cx="108000" cy="108000"/>
          </a:xfrm>
          <a:prstGeom prst="octagon">
            <a:avLst>
              <a:gd name="adj" fmla="val 29287"/>
            </a:avLst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05520" y="2819520"/>
            <a:ext cx="40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Est.Central   DII         P.Armas   P.Ital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523880" y="1447920"/>
            <a:ext cx="60962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mic Sans MS"/>
              </a:rPr>
              <a:t>Nótese que un plano es una reducción para las distancias en algunas ciu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762120"/>
            <a:ext cx="8305560" cy="47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3320" indent="-1033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ONCEP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TIVACION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Predisposición general y básica que dirige el comportamiento hacia la obtención de lo que se desea (meta)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OTIVO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NECESIDADES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ANHE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03320" indent="-10332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ERCEPCION: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Proceso de selección, organización e integración de los estímulos sensoriales recibidos a través de los sen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39152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990720" y="152280"/>
            <a:ext cx="6553080" cy="71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Matemáticamente, se trat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Dond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s coordenadas en el antiguo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plano de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dimensiones para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l individuo i y la marc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as coordenadas en el plano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nuevo de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  dimensiones para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el individuo i y la marc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Los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se llaman FACTOR LOADINGS, y corresponden a la correlación entre la pregunta y el Fa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255760" y="685800"/>
                <a:ext cx="490716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l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k</m:t>
                            </m:r>
                          </m:sub>
                        </m:sSub>
                      </m:e>
                    </m:nary>
                    <m:r>
                      <m:t xml:space="preserve">∗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211400" y="2362320"/>
                <a:ext cx="10839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l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211400" y="3352680"/>
                <a:ext cx="108396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1981080" y="5181480"/>
                <a:ext cx="63972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4267080" y="2666880"/>
                <a:ext cx="206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572000" y="3962520"/>
                <a:ext cx="3016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2255760" y="685800"/>
                <a:ext cx="490716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l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k</m:t>
                            </m:r>
                          </m:sub>
                        </m:sSub>
                      </m:e>
                    </m:nary>
                    <m:r>
                      <m:t xml:space="preserve">∗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1523880" y="2362320"/>
                <a:ext cx="7938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600200" y="3429000"/>
                <a:ext cx="8128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676520" y="4724280"/>
                <a:ext cx="8380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2895480" y="228600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ating del individuo i de la marca j en el atributo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43200" y="373392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actor Loading, del atributo l en la dimensión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8120" y="4876920"/>
            <a:ext cx="487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FACTOR SCORE, nueva posición de la marca j para la persona i en las dimensiones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173320" y="1219320"/>
                <a:ext cx="342576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l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k</m:t>
                            </m:r>
                          </m:sub>
                        </m:sSub>
                      </m:e>
                    </m:nary>
                    <m:r>
                      <m:t xml:space="preserve">∗</m:t>
                    </m:r>
                    <m:r>
                      <m:t xml:space="preserve">x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165320" y="2362320"/>
                <a:ext cx="117468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l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166760" y="3352680"/>
                <a:ext cx="117180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968040" y="117360"/>
            <a:ext cx="68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demos “reducir” promediando para todos los suje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11240" y="2514600"/>
            <a:ext cx="53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ota promedio de la marca j en el juicio 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720160" y="3317760"/>
            <a:ext cx="641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sición Promedio de la Marca j en la dimensión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04840" y="1066680"/>
            <a:ext cx="6934320" cy="38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Una pregunta que se hace el investigador 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Comic Sans MS"/>
              </a:rPr>
              <a:t>“</a:t>
            </a:r>
            <a:r>
              <a:rPr b="1" lang="es-ES" sz="2400" spc="-1" strike="noStrike">
                <a:solidFill>
                  <a:srgbClr val="0033cc"/>
                </a:solidFill>
                <a:latin typeface="Comic Sans MS"/>
              </a:rPr>
              <a:t>¿cuántos factores retener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Una norma usual es   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eigen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Éste está muy relacionado con el </a:t>
            </a:r>
            <a:r>
              <a:rPr b="1" lang="es-ES" sz="2400" spc="-1" strike="noStrike">
                <a:solidFill>
                  <a:srgbClr val="000000"/>
                </a:solidFill>
                <a:latin typeface="Comic Sans MS"/>
              </a:rPr>
              <a:t>“PORCENTAJE DE VARIANZA EXPLICADA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5867280" y="2666880"/>
                <a:ext cx="9144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"/>
          <p:cNvGraphicFramePr/>
          <p:nvPr/>
        </p:nvGraphicFramePr>
        <p:xfrm>
          <a:off x="457200" y="609480"/>
          <a:ext cx="8381880" cy="51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838188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914400" y="762120"/>
          <a:ext cx="7162920" cy="487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762120"/>
                    <a:ext cx="716292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228600" y="0"/>
          <a:ext cx="853452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53452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A partir de estos atributos nombramos las dimensiones de la siguiente forma: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7720" y="24382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24: Me veo bien con estos Jea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8: Siempre encuentro mi tall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7: Jeans Cómo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8: Se ajustan a mi cuerp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mbre de la dimensió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CAL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1: Estos Jeans son car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20 Siempre tienen modelos a la mod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0: Estos Jeans son para Jóven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mbre de la dimensión: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AQUILLER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5: Tienen modelos clásic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4: Son aperrado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21: La tela es buen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7: Me los pongo para toda ocasió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12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mbre de la dimensión: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RADICIONA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380880"/>
            <a:ext cx="838188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ONCEP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CTITUD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Predisposición aprendida para responder consistentemente de modo favorable o desfavorable a un objeto. Esta constituida por tres compon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s creencias (C. Cognosci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valoración (C. Afec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tendencia a actuar (C. Activ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encia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ercep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aloració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preferenc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cció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cis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228240" y="152280"/>
            <a:ext cx="8534520" cy="609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3: Se arrugan fácilm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9: Se desgastan rápid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22: Conservan su forma con el tiemp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mbre de la dimensión: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DUR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 16: Tienen poca variedad de color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Nombre de la dimensión: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VARIED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58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90000"/>
              <a:buFont typeface="Comic Sans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(Se excluyeron las preguntas 12, 19 y 23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MAPA PERCEPTUAL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 base a las dimensiones encontradas, y empleando los “factor </a:t>
            </a:r>
            <a:r>
              <a:rPr b="0" lang="en-CA" sz="2400" spc="-1" strike="noStrike">
                <a:solidFill>
                  <a:srgbClr val="000000"/>
                </a:solidFill>
                <a:latin typeface="Comic Sans MS"/>
              </a:rPr>
              <a:t>score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efficients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”, se determina el posicionamiento de las marcas más mencionadas en las distintas dimensiones, para proceder luego a representarlos gráficamen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611280" y="298440"/>
          <a:ext cx="6553080" cy="5018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98440"/>
                    <a:ext cx="6553080" cy="50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0" y="2286000"/>
          <a:ext cx="9144000" cy="2438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0"/>
                    <a:ext cx="91440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838080" y="609480"/>
            <a:ext cx="7239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Promedio de las marcas en cada pregun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6" name=""/>
          <p:cNvGraphicFramePr/>
          <p:nvPr/>
        </p:nvGraphicFramePr>
        <p:xfrm>
          <a:off x="609480" y="2057400"/>
          <a:ext cx="7086600" cy="2324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057400"/>
                    <a:ext cx="7086600" cy="23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838080" y="457200"/>
            <a:ext cx="67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oordenadas de las marcas en dos dimens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"/>
          <p:cNvGraphicFramePr/>
          <p:nvPr/>
        </p:nvGraphicFramePr>
        <p:xfrm>
          <a:off x="914400" y="0"/>
          <a:ext cx="8001000" cy="624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0"/>
                    <a:ext cx="800100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2743200" y="43434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3886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ANG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52880" y="198108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ORUC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562720" y="2362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29718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81480" y="350532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VIN KL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629400" y="34290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RIC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457200" y="152280"/>
          <a:ext cx="8229600" cy="6019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280"/>
                    <a:ext cx="822960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2743200" y="3352680"/>
            <a:ext cx="125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ORUC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282320" y="4076640"/>
            <a:ext cx="180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RIC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024080" y="36957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42840" y="1790640"/>
            <a:ext cx="60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53040" y="270504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VIN KL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700960" y="2019240"/>
            <a:ext cx="14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ANG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615360" y="1028880"/>
            <a:ext cx="82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228600" y="228600"/>
          <a:ext cx="8534520" cy="5791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5345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2819520" y="609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ORUCC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62320" y="2057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L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828800" y="334476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ERIC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29000" y="27432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VIN KLE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10080" y="3200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ANG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29200" y="4191120"/>
            <a:ext cx="99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248520" y="990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CASO SUPERMERCADOS</a:t>
            </a:r>
            <a:endParaRPr b="1" lang="en-US" sz="3200" spc="-1" strike="noStrike">
              <a:solidFill>
                <a:srgbClr val="af011e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78168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ercepciones de dueñas de casa en un        sector de Vitacu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écnica: Análisis Multidiscriminan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9080" y="0"/>
            <a:ext cx="9124920" cy="5943600"/>
            <a:chOff x="19080" y="0"/>
            <a:chExt cx="9124920" cy="5943600"/>
          </a:xfrm>
        </p:grpSpPr>
        <p:sp>
          <p:nvSpPr>
            <p:cNvPr id="241" name=""/>
            <p:cNvSpPr/>
            <p:nvPr/>
          </p:nvSpPr>
          <p:spPr>
            <a:xfrm>
              <a:off x="19080" y="0"/>
              <a:ext cx="9124920" cy="5943600"/>
            </a:xfrm>
            <a:custGeom>
              <a:avLst/>
              <a:gdLst/>
              <a:ahLst/>
              <a:rect l="l" t="t" r="r" b="b"/>
              <a:pathLst>
                <a:path w="5748" h="4309">
                  <a:moveTo>
                    <a:pt x="5748" y="4309"/>
                  </a:moveTo>
                  <a:lnTo>
                    <a:pt x="0" y="0"/>
                  </a:lnTo>
                  <a:lnTo>
                    <a:pt x="0" y="4309"/>
                  </a:lnTo>
                  <a:lnTo>
                    <a:pt x="5748" y="43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080" y="0"/>
              <a:ext cx="9124920" cy="5943600"/>
            </a:xfrm>
            <a:custGeom>
              <a:avLst/>
              <a:gdLst/>
              <a:ahLst/>
              <a:rect l="l" t="t" r="r" b="b"/>
              <a:pathLst>
                <a:path w="5748" h="4309">
                  <a:moveTo>
                    <a:pt x="0" y="0"/>
                  </a:moveTo>
                  <a:lnTo>
                    <a:pt x="5748" y="0"/>
                  </a:lnTo>
                  <a:lnTo>
                    <a:pt x="5748" y="43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080" y="0"/>
              <a:ext cx="9124920" cy="5943600"/>
            </a:xfrm>
            <a:custGeom>
              <a:avLst/>
              <a:gdLst/>
              <a:ahLst/>
              <a:rect l="l" t="t" r="r" b="b"/>
              <a:pathLst>
                <a:path w="5748" h="4309">
                  <a:moveTo>
                    <a:pt x="5748" y="4309"/>
                  </a:moveTo>
                  <a:lnTo>
                    <a:pt x="0" y="0"/>
                  </a:lnTo>
                  <a:lnTo>
                    <a:pt x="0" y="4309"/>
                  </a:lnTo>
                  <a:lnTo>
                    <a:pt x="5748" y="43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080" y="0"/>
              <a:ext cx="9124920" cy="5943600"/>
            </a:xfrm>
            <a:custGeom>
              <a:avLst/>
              <a:gdLst/>
              <a:ahLst/>
              <a:rect l="l" t="t" r="r" b="b"/>
              <a:pathLst>
                <a:path w="5748" h="4309">
                  <a:moveTo>
                    <a:pt x="0" y="0"/>
                  </a:moveTo>
                  <a:lnTo>
                    <a:pt x="5748" y="0"/>
                  </a:lnTo>
                  <a:lnTo>
                    <a:pt x="5748" y="43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106280" y="201240"/>
              <a:ext cx="4578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Comic Sans MS"/>
                </a:rPr>
                <a:t>Funciones discriminantes canónic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276560" y="555588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476760" y="50274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428800" y="50274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381200" y="502740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276720" y="50274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228760" y="50274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181160" y="50274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-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6200000">
              <a:off x="290520" y="5172480"/>
              <a:ext cx="365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047600" y="65088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47600" y="169092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047600" y="2746440"/>
              <a:ext cx="113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971640" y="380124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971640" y="4762800"/>
              <a:ext cx="18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81680" y="3103560"/>
              <a:ext cx="152640" cy="12384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19840" y="356940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19840" y="39877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19840" y="44071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19840" y="482652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86640" y="2622240"/>
              <a:ext cx="2178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SUPERMERCA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068240" y="3071520"/>
              <a:ext cx="1838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Centroides de grup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066440" y="3506400"/>
              <a:ext cx="57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Eko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66440" y="3925440"/>
              <a:ext cx="566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Alm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068600" y="4345200"/>
              <a:ext cx="83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M.Ahor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067520" y="4762800"/>
              <a:ext cx="61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Jumb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496200" y="499716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22"/>
                  </a:moveTo>
                  <a:lnTo>
                    <a:pt x="48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496200" y="4997160"/>
              <a:ext cx="75960" cy="302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22"/>
                  </a:moveTo>
                  <a:lnTo>
                    <a:pt x="48" y="22"/>
                  </a:lnTo>
                  <a:lnTo>
                    <a:pt x="48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67320" y="499716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7320" y="499716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22"/>
                  </a:lnTo>
                  <a:lnTo>
                    <a:pt x="24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400640" y="4997160"/>
              <a:ext cx="57240" cy="3024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0" y="22"/>
                  </a:moveTo>
                  <a:lnTo>
                    <a:pt x="36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400640" y="4997160"/>
              <a:ext cx="57240" cy="30240"/>
            </a:xfrm>
            <a:custGeom>
              <a:avLst/>
              <a:gdLst/>
              <a:ahLst/>
              <a:rect l="l" t="t" r="r" b="b"/>
              <a:pathLst>
                <a:path w="36" h="22">
                  <a:moveTo>
                    <a:pt x="0" y="22"/>
                  </a:moveTo>
                  <a:lnTo>
                    <a:pt x="36" y="22"/>
                  </a:lnTo>
                  <a:lnTo>
                    <a:pt x="36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1760" y="499716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371760" y="4997160"/>
              <a:ext cx="3816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22"/>
                  </a:lnTo>
                  <a:lnTo>
                    <a:pt x="24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305080" y="499716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22"/>
                  </a:moveTo>
                  <a:lnTo>
                    <a:pt x="48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305080" y="4997160"/>
              <a:ext cx="76320" cy="302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22"/>
                  </a:moveTo>
                  <a:lnTo>
                    <a:pt x="48" y="22"/>
                  </a:lnTo>
                  <a:lnTo>
                    <a:pt x="48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76560" y="4997160"/>
              <a:ext cx="3780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0"/>
                  </a:lnTo>
                  <a:lnTo>
                    <a:pt x="0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276560" y="4997160"/>
              <a:ext cx="37800" cy="302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0" y="22"/>
                  </a:moveTo>
                  <a:lnTo>
                    <a:pt x="24" y="22"/>
                  </a:lnTo>
                  <a:lnTo>
                    <a:pt x="24" y="0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38400" y="72972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34"/>
                  </a:moveTo>
                  <a:lnTo>
                    <a:pt x="0" y="0"/>
                  </a:lnTo>
                  <a:lnTo>
                    <a:pt x="0" y="34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38400" y="72972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0"/>
                  </a:moveTo>
                  <a:lnTo>
                    <a:pt x="36" y="0"/>
                  </a:lnTo>
                  <a:lnTo>
                    <a:pt x="36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238400" y="1800000"/>
              <a:ext cx="56880" cy="3132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36" y="23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238400" y="1800000"/>
              <a:ext cx="56880" cy="3132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0"/>
                  </a:moveTo>
                  <a:lnTo>
                    <a:pt x="36" y="0"/>
                  </a:lnTo>
                  <a:lnTo>
                    <a:pt x="3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238400" y="2855160"/>
              <a:ext cx="56880" cy="316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36" y="23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238400" y="2855160"/>
              <a:ext cx="56880" cy="31680"/>
            </a:xfrm>
            <a:custGeom>
              <a:avLst/>
              <a:gdLst/>
              <a:ahLst/>
              <a:rect l="l" t="t" r="r" b="b"/>
              <a:pathLst>
                <a:path w="36" h="23">
                  <a:moveTo>
                    <a:pt x="0" y="0"/>
                  </a:moveTo>
                  <a:lnTo>
                    <a:pt x="36" y="0"/>
                  </a:lnTo>
                  <a:lnTo>
                    <a:pt x="36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238400" y="389520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34"/>
                  </a:moveTo>
                  <a:lnTo>
                    <a:pt x="0" y="0"/>
                  </a:lnTo>
                  <a:lnTo>
                    <a:pt x="0" y="34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238400" y="389520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0"/>
                  </a:moveTo>
                  <a:lnTo>
                    <a:pt x="36" y="0"/>
                  </a:lnTo>
                  <a:lnTo>
                    <a:pt x="36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238400" y="495036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36" y="34"/>
                  </a:moveTo>
                  <a:lnTo>
                    <a:pt x="0" y="0"/>
                  </a:lnTo>
                  <a:lnTo>
                    <a:pt x="0" y="34"/>
                  </a:lnTo>
                  <a:lnTo>
                    <a:pt x="36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238400" y="4950360"/>
              <a:ext cx="56880" cy="46800"/>
            </a:xfrm>
            <a:custGeom>
              <a:avLst/>
              <a:gdLst/>
              <a:ahLst/>
              <a:rect l="l" t="t" r="r" b="b"/>
              <a:pathLst>
                <a:path w="36" h="34">
                  <a:moveTo>
                    <a:pt x="0" y="0"/>
                  </a:moveTo>
                  <a:lnTo>
                    <a:pt x="36" y="0"/>
                  </a:lnTo>
                  <a:lnTo>
                    <a:pt x="36" y="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295280" y="759960"/>
              <a:ext cx="5239080" cy="4221000"/>
            </a:xfrm>
            <a:custGeom>
              <a:avLst/>
              <a:gdLst/>
              <a:ahLst/>
              <a:rect l="l" t="t" r="r" b="b"/>
              <a:pathLst>
                <a:path w="3300" h="3060">
                  <a:moveTo>
                    <a:pt x="3300" y="3060"/>
                  </a:moveTo>
                  <a:lnTo>
                    <a:pt x="0" y="0"/>
                  </a:lnTo>
                  <a:lnTo>
                    <a:pt x="0" y="3060"/>
                  </a:lnTo>
                  <a:lnTo>
                    <a:pt x="3300" y="30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295280" y="759960"/>
              <a:ext cx="5239080" cy="4221000"/>
            </a:xfrm>
            <a:custGeom>
              <a:avLst/>
              <a:gdLst/>
              <a:ahLst/>
              <a:rect l="l" t="t" r="r" b="b"/>
              <a:pathLst>
                <a:path w="3300" h="3060">
                  <a:moveTo>
                    <a:pt x="0" y="0"/>
                  </a:moveTo>
                  <a:lnTo>
                    <a:pt x="3300" y="0"/>
                  </a:lnTo>
                  <a:lnTo>
                    <a:pt x="3300" y="30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295280" y="759960"/>
              <a:ext cx="5239080" cy="4221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57560" y="2514600"/>
              <a:ext cx="152640" cy="12384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181480" y="2467440"/>
              <a:ext cx="152640" cy="12384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390840" y="2887200"/>
              <a:ext cx="152640" cy="12384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838760" y="3366720"/>
              <a:ext cx="152280" cy="123840"/>
            </a:xfrm>
            <a:prstGeom prst="rect">
              <a:avLst/>
            </a:prstGeom>
            <a:noFill/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276720" y="265356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743360" y="21722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724280" y="32277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390840" y="195588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276720" y="265356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000680" y="224964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867120" y="248292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133880" y="26690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409920" y="186192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95680" y="156672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219480" y="248292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848040" y="200160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476960" y="170748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229280" y="224964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581280" y="29019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133880" y="26222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33880" y="29325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619440" y="32594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248360" y="290196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19640" y="29019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676680" y="288720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524400" y="245232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048280" y="208008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191120" y="274644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705560" y="260676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400640" y="299448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362480" y="27777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848040" y="24980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762440" y="224964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657600" y="255996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629240" y="2763000"/>
              <a:ext cx="7632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229280" y="302616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733920" y="288720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191120" y="2358720"/>
              <a:ext cx="75960" cy="6192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800600" y="226620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7360" y="24206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72240" y="22496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667400" y="167580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743360" y="22964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372280" y="26690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95920" y="287028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429160" y="360000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267080" y="82188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10360" y="28249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505480" y="24055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95920" y="27158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638680" y="152136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915080" y="159840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619960" y="24980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686480" y="22964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219640" y="30733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905440" y="339876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791320" y="294912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105520" y="23738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876920" y="252936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62760" y="277776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219640" y="288720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838760" y="25916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200560" y="299448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86480" y="299448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238720" y="23738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448240" y="28400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52920" y="24523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457880" y="20948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410080" y="333648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200560" y="235872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772240" y="2249640"/>
              <a:ext cx="7632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105520" y="2048040"/>
              <a:ext cx="75960" cy="619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266920" y="34606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857680" y="259164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828960" y="31971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800440" y="24055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266920" y="34606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581280" y="24523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762280" y="33213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124080" y="239040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14840" y="301104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57640" y="367704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314880" y="280836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848040" y="29638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33880" y="32745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86200" y="31654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67120" y="372420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95720" y="34909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571840" y="19558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610000" y="304128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409920" y="24361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324320" y="246744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14880" y="353808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867120" y="33519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00640" y="17377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676680" y="32277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57560" y="29944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914560" y="377100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019760" y="276300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962520" y="181512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343400" y="16455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933640" y="332136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666880" y="299448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876760" y="3490920"/>
              <a:ext cx="7596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409920" y="212544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390840" y="3366720"/>
              <a:ext cx="76320" cy="61920"/>
            </a:xfrm>
            <a:prstGeom prst="rect">
              <a:avLst/>
            </a:prstGeom>
            <a:noFill/>
            <a:ln w="1908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029200" y="31352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800600" y="32594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200560" y="406620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162760" y="294912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876920" y="266904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876920" y="282492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762440" y="335196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476960" y="318060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48280" y="37558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381560" y="31186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200560" y="297936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362480" y="361512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934160" y="366228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581800" y="361512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419720" y="349092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38720" y="369360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676840" y="35380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915080" y="285516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562720" y="327456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353200" y="308808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429160" y="360000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819680" y="39106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819680" y="260676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43440" y="30412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353200" y="352260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305240" y="36770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610160" y="310356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838760" y="29174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438800" y="2420640"/>
              <a:ext cx="7596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695760" y="47174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543640" y="397260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362480" y="456264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629240" y="34606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238720" y="3755880"/>
              <a:ext cx="76320" cy="6192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295280" y="4980960"/>
              <a:ext cx="5239080" cy="1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1295280" y="759600"/>
              <a:ext cx="1800" cy="422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848040" y="2279880"/>
              <a:ext cx="619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Eko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972320" y="223452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Alma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048840" y="2669040"/>
              <a:ext cx="901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M.Ahor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648680" y="3133800"/>
              <a:ext cx="663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Arial"/>
                </a:rPr>
                <a:t>Jumb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3809880" y="533412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 E R V I C I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" y="1066680"/>
            <a:ext cx="53352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828800"/>
            <a:ext cx="8534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121932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NECE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213372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BUSQUED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INFORM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312408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FORMACION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PERCE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411480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PREF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5105520"/>
            <a:ext cx="2743200" cy="6858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ff"/>
                </a:solidFill>
                <a:latin typeface="Times New Roman"/>
              </a:rPr>
              <a:t>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38880" y="2286000"/>
            <a:ext cx="990720" cy="3429000"/>
          </a:xfrm>
          <a:prstGeom prst="rect">
            <a:avLst/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ff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548640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4800600"/>
            <a:ext cx="0" cy="304920"/>
          </a:xfrm>
          <a:prstGeom prst="line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5790960" y="350532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5790960" y="449568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790960" y="2590920"/>
            <a:ext cx="144756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51" idx="2"/>
            <a:endCxn id="52" idx="0"/>
          </p:cNvCxnSpPr>
          <p:nvPr/>
        </p:nvCxnSpPr>
        <p:spPr>
          <a:xfrm>
            <a:off x="4419360" y="2819520"/>
            <a:ext cx="1080" cy="30528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2"/>
            <a:endCxn id="51" idx="0"/>
          </p:cNvCxnSpPr>
          <p:nvPr/>
        </p:nvCxnSpPr>
        <p:spPr>
          <a:xfrm>
            <a:off x="4419360" y="1904760"/>
            <a:ext cx="1080" cy="22932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" name=""/>
          <p:cNvSpPr/>
          <p:nvPr/>
        </p:nvSpPr>
        <p:spPr>
          <a:xfrm>
            <a:off x="1447920" y="3048120"/>
            <a:ext cx="990360" cy="2743200"/>
          </a:xfrm>
          <a:custGeom>
            <a:avLst/>
            <a:gdLst>
              <a:gd name="textAreaLeft" fmla="*/ 632880 w 990360"/>
              <a:gd name="textAreaRight" fmla="*/ 990720 w 990360"/>
              <a:gd name="textAreaTop" fmla="*/ 71280 h 2743200"/>
              <a:gd name="textAreaBottom" fmla="*/ 267192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320040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2895480"/>
            <a:ext cx="83808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2" idx="2"/>
            <a:endCxn id="53" idx="0"/>
          </p:cNvCxnSpPr>
          <p:nvPr/>
        </p:nvCxnSpPr>
        <p:spPr>
          <a:xfrm>
            <a:off x="4419360" y="3809520"/>
            <a:ext cx="1080" cy="30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" name=""/>
          <p:cNvSpPr txBox="1"/>
          <p:nvPr/>
        </p:nvSpPr>
        <p:spPr>
          <a:xfrm>
            <a:off x="1219320" y="457200"/>
            <a:ext cx="59245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1260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Proceso de Decisión de Compra</a:t>
            </a:r>
            <a:endParaRPr b="0" lang="en-US" sz="3200" spc="1" strike="noStrike">
              <a:ln cap="sq" w="12600">
                <a:solidFill>
                  <a:srgbClr val="00008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3" name=""/>
          <p:cNvGraphicFramePr/>
          <p:nvPr/>
        </p:nvGraphicFramePr>
        <p:xfrm>
          <a:off x="304920" y="-304920"/>
          <a:ext cx="8534160" cy="624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-304920"/>
                    <a:ext cx="853416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5" name=""/>
          <p:cNvSpPr/>
          <p:nvPr/>
        </p:nvSpPr>
        <p:spPr>
          <a:xfrm>
            <a:off x="4267080" y="49528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M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447920" y="3505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257800" y="2590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MA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514600" y="1600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KO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791320" y="56386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1295280"/>
            <a:ext cx="609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057400" y="1523880"/>
            <a:ext cx="6629400" cy="4267440"/>
          </a:xfrm>
          <a:prstGeom prst="rect">
            <a:avLst/>
          </a:prstGeom>
          <a:solidFill>
            <a:srgbClr val="ffffff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57800" y="1523880"/>
            <a:ext cx="0" cy="426744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3733920"/>
            <a:ext cx="662940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361960" y="99072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to Envolv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2720" y="990720"/>
            <a:ext cx="276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jo Envolv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-720" y="1752480"/>
            <a:ext cx="207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eren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Mar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90720" y="45370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-90720" y="45370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0" y="4038480"/>
            <a:ext cx="211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feren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 Marca po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81080" y="1523880"/>
            <a:ext cx="355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ercepción- Preferenci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4960" y="1523880"/>
            <a:ext cx="300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ercepción- Decisión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08600" y="3733920"/>
            <a:ext cx="292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cisión-Percepción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Prefe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5880" y="3809880"/>
            <a:ext cx="13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057400" y="243828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62720" y="243828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4648320"/>
            <a:ext cx="28954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38680" y="4648320"/>
            <a:ext cx="2743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33000" y="2438280"/>
            <a:ext cx="26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o de dec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jo o de al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93520" y="2479680"/>
            <a:ext cx="28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úsqueda de vari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3048120"/>
            <a:ext cx="266688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705720" y="2895480"/>
            <a:ext cx="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3048120"/>
            <a:ext cx="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53280" y="3048120"/>
            <a:ext cx="0" cy="1522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242680" y="316224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l az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087680" y="3200400"/>
            <a:ext cx="15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xperimen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5280" y="4724280"/>
            <a:ext cx="24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 de dison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62720" y="5105520"/>
            <a:ext cx="28191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7010280" y="4952880"/>
            <a:ext cx="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562720" y="5105520"/>
            <a:ext cx="0" cy="75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1880" y="5105520"/>
            <a:ext cx="0" cy="7596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76760" y="457200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er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41960" y="5222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257800" y="51814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lección 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z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774200" y="5181480"/>
            <a:ext cx="95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ealt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spu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Adaptación del Proceso de Decisión de Comp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19320" y="685800"/>
            <a:ext cx="7010280" cy="54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LA INVESTIGACIÓN DE LAS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rigen de las Innov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Walk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tergentes con O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uses para Ejecu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Córp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L'eg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762120"/>
            <a:ext cx="7619760" cy="47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cc"/>
                </a:solidFill>
                <a:latin typeface="Comic Sans MS"/>
              </a:rPr>
              <a:t>BUSQUEDA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reciente en Ac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sgo Percep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15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66"/>
            </a:gs>
            <a:gs pos="100000">
              <a:srgbClr val="008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Comic Sans MS"/>
              </a:rPr>
              <a:t>MEDICIÓN DE PERCEPCIONES</a:t>
            </a:r>
            <a:endParaRPr b="1" lang="en-US" sz="4000" spc="-1" strike="noStrike">
              <a:solidFill>
                <a:srgbClr val="af011e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6T21:01:13Z</dcterms:created>
  <dc:creator>Dii</dc:creator>
  <dc:description/>
  <dc:language>en-US</dc:language>
  <cp:lastModifiedBy>Administrador</cp:lastModifiedBy>
  <cp:lastPrinted>2000-09-11T22:03:08Z</cp:lastPrinted>
  <dcterms:modified xsi:type="dcterms:W3CDTF">2005-03-24T14:51:10Z</dcterms:modified>
  <cp:revision>183</cp:revision>
  <dc:subject/>
  <dc:title>Sin título de diapositiva</dc:title>
</cp:coreProperties>
</file>