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II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2362320"/>
                <a:ext cx="79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0200" y="34290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7242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895480" y="2286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ting del individuo i de la marca j en el atribu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733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Loading, del atributo l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4876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SCORE, nueva posición de la marca j para la persona i en las dimensio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1240" y="25146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41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2"/>
            <a:endCxn id="52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2"/>
            <a:endCxn id="51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3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2"/>
            <a:endCxn id="53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7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6197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24T14:51:10Z</dcterms:modified>
  <cp:revision>183</cp:revision>
  <dc:subject/>
  <dc:title>Sin título de diapositiva</dc:title>
</cp:coreProperties>
</file>