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392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0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22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392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0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8763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II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               IN58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8458200" y="6172200"/>
          <a:ext cx="45576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6172200"/>
                    <a:ext cx="4557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COMPORTAMIENTO DEL CONSUMIDOR (1</a:t>
            </a:r>
            <a:r>
              <a:rPr b="1" lang="en-US" sz="4400" spc="-1" strike="noStrike" baseline="30000">
                <a:solidFill>
                  <a:srgbClr val="0033cc"/>
                </a:solidFill>
                <a:latin typeface="Comic Sans MS"/>
              </a:rPr>
              <a:t>a</a:t>
            </a: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 parte)</a:t>
            </a:r>
            <a:endParaRPr b="1" lang="en-US" sz="44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307-2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343080" y="838080"/>
            <a:ext cx="88009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82880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8120" y="12193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NECE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1337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BUSQUE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INFORM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312408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FORMACIO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PERCE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11480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PRE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51055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238880" y="2286000"/>
            <a:ext cx="990720" cy="34290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548640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4800600"/>
            <a:ext cx="0" cy="30492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790960" y="350532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790960" y="449568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790960" y="259092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7" idx="2"/>
            <a:endCxn id="58" idx="0"/>
          </p:cNvCxnSpPr>
          <p:nvPr/>
        </p:nvCxnSpPr>
        <p:spPr>
          <a:xfrm>
            <a:off x="4419360" y="2819520"/>
            <a:ext cx="1080" cy="3052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6" idx="2"/>
            <a:endCxn id="57" idx="0"/>
          </p:cNvCxnSpPr>
          <p:nvPr/>
        </p:nvCxnSpPr>
        <p:spPr>
          <a:xfrm>
            <a:off x="4419360" y="1904760"/>
            <a:ext cx="1080" cy="2293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69" name=""/>
          <p:cNvSpPr/>
          <p:nvPr/>
        </p:nvSpPr>
        <p:spPr>
          <a:xfrm>
            <a:off x="1447920" y="3048120"/>
            <a:ext cx="990360" cy="2743200"/>
          </a:xfrm>
          <a:custGeom>
            <a:avLst/>
            <a:gdLst>
              <a:gd name="textAreaLeft" fmla="*/ 632880 w 990360"/>
              <a:gd name="textAreaRight" fmla="*/ 990720 w 99036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320040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2895480"/>
            <a:ext cx="83808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8" idx="2"/>
            <a:endCxn id="59" idx="0"/>
          </p:cNvCxnSpPr>
          <p:nvPr/>
        </p:nvCxnSpPr>
        <p:spPr>
          <a:xfrm>
            <a:off x="4419360" y="3809520"/>
            <a:ext cx="1080" cy="30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73" name=""/>
          <p:cNvSpPr txBox="1"/>
          <p:nvPr/>
        </p:nvSpPr>
        <p:spPr>
          <a:xfrm>
            <a:off x="1219320" y="457200"/>
            <a:ext cx="5924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260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Proceso de Decisión de Compra</a:t>
            </a:r>
            <a:endParaRPr b="0" lang="en-US" sz="3200" spc="1" strike="noStrike">
              <a:ln cap="sq" w="1260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057400" y="1523880"/>
            <a:ext cx="6629400" cy="4267440"/>
          </a:xfrm>
          <a:prstGeom prst="rect">
            <a:avLst/>
          </a:prstGeom>
          <a:solidFill>
            <a:srgbClr val="ffffff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57800" y="1523880"/>
            <a:ext cx="0" cy="4267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57400" y="3733920"/>
            <a:ext cx="662940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61960" y="99072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to Envolv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62720" y="99072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jo Envolv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720" y="1752480"/>
            <a:ext cx="207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eren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Mar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90720" y="45370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90720" y="45370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0" y="4038480"/>
            <a:ext cx="211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eren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Marca po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81080" y="1523880"/>
            <a:ext cx="355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ercepción- Preferenci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4960" y="1523880"/>
            <a:ext cx="300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ercepción- Decisió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08600" y="3733920"/>
            <a:ext cx="292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cisión-Percepció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5880" y="3809880"/>
            <a:ext cx="13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57400" y="243828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243828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46483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464832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33000" y="2438280"/>
            <a:ext cx="26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jo o de a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93520" y="247968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úsqueda de var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3048120"/>
            <a:ext cx="2666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705720" y="2895480"/>
            <a:ext cx="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3048120"/>
            <a:ext cx="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153280" y="3048120"/>
            <a:ext cx="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42680" y="316224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 az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87680" y="32004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erimen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5280" y="4724280"/>
            <a:ext cx="24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 de dison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62720" y="5105520"/>
            <a:ext cx="28191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7010280" y="4952880"/>
            <a:ext cx="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5105520"/>
            <a:ext cx="0" cy="75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1880" y="5105520"/>
            <a:ext cx="0" cy="75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76760" y="457200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r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41960" y="522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57800" y="51814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ección 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z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774200" y="5181480"/>
            <a:ext cx="95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alt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pu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Adaptación del Proceso de Decisión de Comp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19320" y="685800"/>
            <a:ext cx="7010280" cy="54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INVESTIGACIÓN DE LAS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igen de las Inno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Wal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tergentes con 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uses para Ejecu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Córp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L'eg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INCO ESTRATEGIAS PARA LA BUSQUEDA DE OPORTUNIDADE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1600200"/>
            <a:ext cx="8382240" cy="43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Búsqueda de oport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entificar Segmentos de Mercados “Maltrata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a vez alcanzado el éxito en estos segmentos “Avance al resto del Mercad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os Pequeños/ motos/ equipos TV bajo precio/ fotocopiadoras ch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ance al resto del Mercado” significa aprender, para ampliar la línea de produc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INCO ESTRATEGIAS PARA LA BUSQUEDA DE OPORTUNIDADE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828800"/>
            <a:ext cx="8001000" cy="28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Oportunidades Creadas por Desarrollo Tecnológ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idea es crear nuevos nichos, mediante nuevas dimensiones percep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desarrollo tecnológico es la herramie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: Industria de relojes, los de cuarz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INCO ESTRATEGIAS PARA LA BUSQUEDA DE OPORTUNIDADE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1337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1828800"/>
            <a:ext cx="7620120" cy="30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Crear Oportunidades a través de la Creatividad en Mark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chos avances son “VERSIONES CREATIVAS DE PRODUCTOS CORRIEN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walkma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INCO ESTRATEGIAS PARA LA BUSQUEDA DE OPORTUNIDADE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600200"/>
            <a:ext cx="7848720" cy="44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Adaptarse a las Preferencias de los Consumidores y Cambiar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 aspecto fundamental del aprovechamiento de oportunidades es comprender lo que el consumidor desea y lo que está dispuesto a pagar por el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japoneses no se han dejado seducir por “las preferencias reveladas”.”Las oportunidades yacen en las preferencias no atendida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INCO ESTRATEGIAS PARA LA BUSQUEDA DE OPORTUNIDADE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1295280"/>
            <a:ext cx="822960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. Aprender de la Compet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japoneses se han concentrado en comprender mejor a la compet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ómo hace sus neg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productos que v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 estrategias que empl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s procesos produ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 modo de aprender e identificar sus vulnerabil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DESARROLLO DE PRODUCTO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salud de LP de muchas compañías está relacionada con su capacidad de innovaci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novaci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mportant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iesgosa y costos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457200"/>
            <a:ext cx="8077320" cy="52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OMPORTAMIENTO DEL CONSUMI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12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GUNAS ACLARACIONES INICIA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1224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¿CONSUMIDOR Ó COMPRAD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ADO A ESTUDIO DE ACCIONES OBSERV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12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O AUMENTAR EL AMBITO DE OBSERV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DESARROLLO DE PRODUCTO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icultad del Desarrollo de Productos nuev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ragmentación mercado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stricciones social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stricciones gubernamental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VP más cort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9044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lien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&amp;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petidores (Benchmarking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nte de Vent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rectiv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(consultores, agencias, laboratorios universitario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af011e"/>
                </a:solidFill>
                <a:latin typeface="Comic Sans MS"/>
              </a:rPr>
              <a:t>Fuente de Generación de Ideas</a:t>
            </a:r>
            <a:endParaRPr b="1" lang="en-US" sz="2800" spc="-1" strike="noStrike">
              <a:solidFill>
                <a:srgbClr val="af011e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af011e"/>
                </a:solidFill>
                <a:latin typeface="Comic Sans MS"/>
              </a:rPr>
              <a:t>Grado de Novedad </a:t>
            </a:r>
            <a:br>
              <a:rPr sz="4400"/>
            </a:br>
            <a:r>
              <a:rPr b="1" lang="es-MX" sz="4400" spc="-1" strike="noStrike">
                <a:solidFill>
                  <a:srgbClr val="af011e"/>
                </a:solidFill>
                <a:latin typeface="Comic Sans MS"/>
              </a:rPr>
              <a:t>del Producto</a:t>
            </a:r>
            <a:endParaRPr b="1" lang="en-US" sz="44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1360" y="2362320"/>
            <a:ext cx="8801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Productos nuevos para el mercado y la empresa (nueva clas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Productos nuevos para la empresa, pero no para el mer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Pequeñas variaciones del producto (extensión de línea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af011e"/>
                </a:solidFill>
                <a:latin typeface="Comic Sans MS"/>
              </a:rPr>
              <a:t>Posibilidad de Recompra</a:t>
            </a:r>
            <a:endParaRPr b="1" lang="en-US" sz="44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1360" y="2362320"/>
            <a:ext cx="88012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Productos que se compran sólo una vez o en forma muy distante en el tiempo (b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Productos que se compran con alta frecuencia (b2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562720" y="4114800"/>
            <a:ext cx="3047760" cy="1612800"/>
          </a:xfrm>
          <a:custGeom>
            <a:avLst/>
            <a:gdLst/>
            <a:ahLst/>
            <a:rect l="l" t="t" r="r" b="b"/>
            <a:pathLst>
              <a:path w="1776" h="920">
                <a:moveTo>
                  <a:pt x="0" y="920"/>
                </a:moveTo>
                <a:cubicBezTo>
                  <a:pt x="95" y="792"/>
                  <a:pt x="274" y="304"/>
                  <a:pt x="570" y="152"/>
                </a:cubicBezTo>
                <a:cubicBezTo>
                  <a:pt x="866" y="0"/>
                  <a:pt x="1525" y="38"/>
                  <a:pt x="1776" y="8"/>
                </a:cubicBezTo>
              </a:path>
            </a:pathLst>
          </a:custGeom>
          <a:noFill/>
          <a:ln w="572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96880" y="609480"/>
            <a:ext cx="3746520" cy="2855160"/>
            <a:chOff x="596880" y="609480"/>
            <a:chExt cx="3746520" cy="2855160"/>
          </a:xfrm>
        </p:grpSpPr>
        <p:grpSp>
          <p:nvGrpSpPr>
            <p:cNvPr id="134" name=""/>
            <p:cNvGrpSpPr/>
            <p:nvPr/>
          </p:nvGrpSpPr>
          <p:grpSpPr>
            <a:xfrm>
              <a:off x="596880" y="609480"/>
              <a:ext cx="2832120" cy="2438640"/>
              <a:chOff x="596880" y="609480"/>
              <a:chExt cx="2832120" cy="2438640"/>
            </a:xfrm>
          </p:grpSpPr>
          <p:sp>
            <p:nvSpPr>
              <p:cNvPr id="135" name=""/>
              <p:cNvSpPr/>
              <p:nvPr/>
            </p:nvSpPr>
            <p:spPr>
              <a:xfrm flipV="1">
                <a:off x="605880" y="609480"/>
                <a:ext cx="0" cy="2438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96880" y="3048120"/>
                <a:ext cx="283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124080" y="3124080"/>
              <a:ext cx="12193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tiemp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9480" y="1944720"/>
              <a:ext cx="2671920" cy="1103400"/>
            </a:xfrm>
            <a:custGeom>
              <a:avLst/>
              <a:gdLst/>
              <a:ahLst/>
              <a:rect l="l" t="t" r="r" b="b"/>
              <a:pathLst>
                <a:path w="1683" h="695">
                  <a:moveTo>
                    <a:pt x="0" y="695"/>
                  </a:moveTo>
                  <a:cubicBezTo>
                    <a:pt x="46" y="622"/>
                    <a:pt x="160" y="369"/>
                    <a:pt x="277" y="257"/>
                  </a:cubicBezTo>
                  <a:cubicBezTo>
                    <a:pt x="394" y="145"/>
                    <a:pt x="552" y="0"/>
                    <a:pt x="700" y="23"/>
                  </a:cubicBezTo>
                  <a:cubicBezTo>
                    <a:pt x="848" y="46"/>
                    <a:pt x="1002" y="307"/>
                    <a:pt x="1166" y="393"/>
                  </a:cubicBezTo>
                  <a:cubicBezTo>
                    <a:pt x="1330" y="479"/>
                    <a:pt x="1575" y="507"/>
                    <a:pt x="1683" y="537"/>
                  </a:cubicBezTo>
                </a:path>
              </a:pathLst>
            </a:custGeom>
            <a:noFill/>
            <a:ln w="5724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143000"/>
              <a:ext cx="25909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0066"/>
                  </a:solidFill>
                  <a:latin typeface="Verdana"/>
                  <a:ea typeface="Times New Roman"/>
                </a:rPr>
                <a:t>Vent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181480" y="228600"/>
            <a:ext cx="3733920" cy="3236040"/>
            <a:chOff x="5181480" y="228600"/>
            <a:chExt cx="3733920" cy="3236040"/>
          </a:xfrm>
        </p:grpSpPr>
        <p:grpSp>
          <p:nvGrpSpPr>
            <p:cNvPr id="141" name=""/>
            <p:cNvGrpSpPr/>
            <p:nvPr/>
          </p:nvGrpSpPr>
          <p:grpSpPr>
            <a:xfrm>
              <a:off x="5257800" y="609480"/>
              <a:ext cx="2832120" cy="2438640"/>
              <a:chOff x="5257800" y="609480"/>
              <a:chExt cx="2832120" cy="2438640"/>
            </a:xfrm>
          </p:grpSpPr>
          <p:sp>
            <p:nvSpPr>
              <p:cNvPr id="142" name=""/>
              <p:cNvSpPr/>
              <p:nvPr/>
            </p:nvSpPr>
            <p:spPr>
              <a:xfrm flipV="1">
                <a:off x="5266800" y="609480"/>
                <a:ext cx="0" cy="2438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257800" y="3048120"/>
                <a:ext cx="283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7696080" y="3124080"/>
              <a:ext cx="12193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tiemp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81480" y="228600"/>
              <a:ext cx="2971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0066"/>
                  </a:solidFill>
                  <a:latin typeface="Verdana"/>
                  <a:ea typeface="Times New Roman"/>
                </a:rPr>
                <a:t>Ventas Acumulad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257800" y="1447920"/>
              <a:ext cx="29718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4120" y="1587600"/>
              <a:ext cx="2819160" cy="1460520"/>
            </a:xfrm>
            <a:custGeom>
              <a:avLst/>
              <a:gdLst/>
              <a:ahLst/>
              <a:rect l="l" t="t" r="r" b="b"/>
              <a:pathLst>
                <a:path w="1776" h="920">
                  <a:moveTo>
                    <a:pt x="0" y="920"/>
                  </a:moveTo>
                  <a:cubicBezTo>
                    <a:pt x="95" y="792"/>
                    <a:pt x="274" y="304"/>
                    <a:pt x="570" y="152"/>
                  </a:cubicBezTo>
                  <a:cubicBezTo>
                    <a:pt x="866" y="0"/>
                    <a:pt x="1525" y="38"/>
                    <a:pt x="1776" y="8"/>
                  </a:cubicBezTo>
                </a:path>
              </a:pathLst>
            </a:custGeom>
            <a:noFill/>
            <a:ln w="5724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1066680"/>
              <a:ext cx="28954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Mercado poten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886200" y="609480"/>
            <a:ext cx="10666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B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62520" y="3809880"/>
            <a:ext cx="10666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Verdana"/>
                <a:ea typeface="Times New Roman"/>
              </a:rPr>
              <a:t>B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09480" y="3733560"/>
            <a:ext cx="2832120" cy="2438640"/>
            <a:chOff x="609480" y="3733560"/>
            <a:chExt cx="2832120" cy="2438640"/>
          </a:xfrm>
        </p:grpSpPr>
        <p:sp>
          <p:nvSpPr>
            <p:cNvPr id="152" name=""/>
            <p:cNvSpPr/>
            <p:nvPr/>
          </p:nvSpPr>
          <p:spPr>
            <a:xfrm flipV="1">
              <a:off x="618480" y="3733560"/>
              <a:ext cx="0" cy="243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9480" y="6172200"/>
              <a:ext cx="283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137040" y="6248520"/>
            <a:ext cx="1218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5105520"/>
            <a:ext cx="2743200" cy="1143000"/>
          </a:xfrm>
          <a:custGeom>
            <a:avLst/>
            <a:gdLst/>
            <a:ahLst/>
            <a:rect l="l" t="t" r="r" b="b"/>
            <a:pathLst>
              <a:path w="1683" h="695">
                <a:moveTo>
                  <a:pt x="0" y="695"/>
                </a:moveTo>
                <a:cubicBezTo>
                  <a:pt x="46" y="622"/>
                  <a:pt x="160" y="369"/>
                  <a:pt x="277" y="257"/>
                </a:cubicBezTo>
                <a:cubicBezTo>
                  <a:pt x="394" y="145"/>
                  <a:pt x="552" y="0"/>
                  <a:pt x="700" y="23"/>
                </a:cubicBezTo>
                <a:cubicBezTo>
                  <a:pt x="848" y="46"/>
                  <a:pt x="1002" y="307"/>
                  <a:pt x="1166" y="393"/>
                </a:cubicBezTo>
                <a:cubicBezTo>
                  <a:pt x="1330" y="479"/>
                  <a:pt x="1575" y="507"/>
                  <a:pt x="1683" y="537"/>
                </a:cubicBezTo>
              </a:path>
            </a:pathLst>
          </a:custGeom>
          <a:noFill/>
          <a:ln w="5724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3809880"/>
            <a:ext cx="2590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9933ff"/>
                </a:solidFill>
                <a:latin typeface="Verdana"/>
                <a:ea typeface="Times New Roman"/>
              </a:rPr>
              <a:t>1a.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4267080"/>
            <a:ext cx="2590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fa30b"/>
                </a:solidFill>
                <a:latin typeface="Verdana"/>
                <a:ea typeface="Times New Roman"/>
              </a:rPr>
              <a:t>repet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257800" y="3809880"/>
            <a:ext cx="2832120" cy="2438640"/>
            <a:chOff x="5257800" y="3809880"/>
            <a:chExt cx="2832120" cy="2438640"/>
          </a:xfrm>
        </p:grpSpPr>
        <p:sp>
          <p:nvSpPr>
            <p:cNvPr id="159" name=""/>
            <p:cNvSpPr/>
            <p:nvPr/>
          </p:nvSpPr>
          <p:spPr>
            <a:xfrm flipV="1">
              <a:off x="5266800" y="3809880"/>
              <a:ext cx="0" cy="243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57800" y="6248520"/>
              <a:ext cx="283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696080" y="6324480"/>
            <a:ext cx="1219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342900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Compra y reem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4788000"/>
            <a:ext cx="2819160" cy="1460520"/>
          </a:xfrm>
          <a:custGeom>
            <a:avLst/>
            <a:gdLst/>
            <a:ahLst/>
            <a:rect l="l" t="t" r="r" b="b"/>
            <a:pathLst>
              <a:path w="1776" h="920">
                <a:moveTo>
                  <a:pt x="0" y="920"/>
                </a:moveTo>
                <a:cubicBezTo>
                  <a:pt x="95" y="792"/>
                  <a:pt x="274" y="304"/>
                  <a:pt x="570" y="152"/>
                </a:cubicBezTo>
                <a:cubicBezTo>
                  <a:pt x="866" y="0"/>
                  <a:pt x="1525" y="38"/>
                  <a:pt x="1776" y="8"/>
                </a:cubicBezTo>
              </a:path>
            </a:pathLst>
          </a:custGeom>
          <a:noFill/>
          <a:ln w="57240">
            <a:solidFill>
              <a:srgbClr val="99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4876920"/>
            <a:ext cx="2819160" cy="1041120"/>
          </a:xfrm>
          <a:custGeom>
            <a:avLst/>
            <a:gdLst/>
            <a:ahLst/>
            <a:rect l="l" t="t" r="r" b="b"/>
            <a:pathLst>
              <a:path w="1776" h="656">
                <a:moveTo>
                  <a:pt x="0" y="656"/>
                </a:moveTo>
                <a:cubicBezTo>
                  <a:pt x="68" y="516"/>
                  <a:pt x="136" y="376"/>
                  <a:pt x="240" y="272"/>
                </a:cubicBezTo>
                <a:cubicBezTo>
                  <a:pt x="344" y="168"/>
                  <a:pt x="504" y="64"/>
                  <a:pt x="624" y="32"/>
                </a:cubicBezTo>
                <a:cubicBezTo>
                  <a:pt x="744" y="0"/>
                  <a:pt x="872" y="48"/>
                  <a:pt x="960" y="80"/>
                </a:cubicBezTo>
                <a:cubicBezTo>
                  <a:pt x="1048" y="112"/>
                  <a:pt x="1088" y="184"/>
                  <a:pt x="1152" y="224"/>
                </a:cubicBezTo>
                <a:cubicBezTo>
                  <a:pt x="1216" y="264"/>
                  <a:pt x="1280" y="296"/>
                  <a:pt x="1344" y="320"/>
                </a:cubicBezTo>
                <a:cubicBezTo>
                  <a:pt x="1408" y="344"/>
                  <a:pt x="1480" y="360"/>
                  <a:pt x="1536" y="368"/>
                </a:cubicBezTo>
                <a:cubicBezTo>
                  <a:pt x="1592" y="376"/>
                  <a:pt x="1640" y="368"/>
                  <a:pt x="1680" y="368"/>
                </a:cubicBezTo>
                <a:cubicBezTo>
                  <a:pt x="1720" y="368"/>
                  <a:pt x="1748" y="368"/>
                  <a:pt x="1776" y="368"/>
                </a:cubicBezTo>
              </a:path>
            </a:pathLst>
          </a:custGeom>
          <a:noFill/>
          <a:ln w="63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af011e"/>
                </a:solidFill>
                <a:latin typeface="Comic Sans MS"/>
              </a:rPr>
              <a:t>Teoría de la difusión de productos nuevo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¿Cómo un producto nuevo es asimilado en la sociedad en el tiempo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Comic Sans MS"/>
              </a:rPr>
              <a:t>Tiempo de adopción de Rog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100000"/>
              </a:lnSpc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uatro “proposiciones” acerca del proceso de adopció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960" y="2209320"/>
            <a:ext cx="3429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af011e"/>
                </a:solidFill>
                <a:latin typeface="Comic Sans MS"/>
              </a:rPr>
              <a:t>1-  </a:t>
            </a:r>
            <a:r>
              <a:rPr b="1" lang="es-ES_tradnl" sz="2100" spc="-1" strike="noStrike">
                <a:solidFill>
                  <a:srgbClr val="af011e"/>
                </a:solidFill>
                <a:latin typeface="Comic Sans MS"/>
              </a:rPr>
              <a:t>ETAPAS EN EL PROCESO DE ADOPCIÓN</a:t>
            </a:r>
            <a:endParaRPr b="1" lang="en-US" sz="2100" spc="-1" strike="noStrike">
              <a:solidFill>
                <a:srgbClr val="af011e"/>
              </a:solidFill>
              <a:latin typeface="Comic Sans MS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673520" y="152280"/>
          <a:ext cx="4246560" cy="631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3520" y="152280"/>
                    <a:ext cx="4246560" cy="631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af011e"/>
                </a:solidFill>
                <a:latin typeface="Comic Sans MS"/>
              </a:rPr>
              <a:t>Proposicione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Comic Sans MS"/>
              </a:rPr>
              <a:t>2 Las personas difieren en su tendencia a probar productos nuev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inco grup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NOVADO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DOPTADORES TEMPRANER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YORÍA TEMPRA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YORÍA TARD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ZAG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80880" y="41911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33526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24382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38680" y="2705040"/>
            <a:ext cx="0" cy="148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62520" y="99072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3600" y="853920"/>
            <a:ext cx="8170920" cy="2803680"/>
          </a:xfrm>
          <a:custGeom>
            <a:avLst/>
            <a:gdLst/>
            <a:ahLst/>
            <a:rect l="l" t="t" r="r" b="b"/>
            <a:pathLst>
              <a:path w="5147" h="1766">
                <a:moveTo>
                  <a:pt x="0" y="1741"/>
                </a:moveTo>
                <a:cubicBezTo>
                  <a:pt x="193" y="1673"/>
                  <a:pt x="842" y="1583"/>
                  <a:pt x="1160" y="1342"/>
                </a:cubicBezTo>
                <a:cubicBezTo>
                  <a:pt x="1478" y="1101"/>
                  <a:pt x="1669" y="487"/>
                  <a:pt x="1906" y="292"/>
                </a:cubicBezTo>
                <a:cubicBezTo>
                  <a:pt x="2143" y="97"/>
                  <a:pt x="2315" y="0"/>
                  <a:pt x="2583" y="174"/>
                </a:cubicBezTo>
                <a:cubicBezTo>
                  <a:pt x="2851" y="348"/>
                  <a:pt x="3088" y="1069"/>
                  <a:pt x="3515" y="1334"/>
                </a:cubicBezTo>
                <a:cubicBezTo>
                  <a:pt x="3942" y="1599"/>
                  <a:pt x="4539" y="1690"/>
                  <a:pt x="5147" y="1766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3657600"/>
            <a:ext cx="228600" cy="1676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23880" y="2286000"/>
            <a:ext cx="533520" cy="144792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76720" y="3200400"/>
            <a:ext cx="304560" cy="1752480"/>
          </a:xfrm>
          <a:prstGeom prst="line">
            <a:avLst/>
          </a:prstGeom>
          <a:ln w="38160">
            <a:solidFill>
              <a:srgbClr val="2fa3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3581280"/>
            <a:ext cx="685800" cy="17528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723920" y="1219320"/>
            <a:ext cx="762120" cy="1143000"/>
          </a:xfrm>
          <a:prstGeom prst="line">
            <a:avLst/>
          </a:prstGeom>
          <a:ln w="38160">
            <a:solidFill>
              <a:srgbClr val="cc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-228600" y="533412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2,5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innov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66880" y="5181480"/>
            <a:ext cx="289584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34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may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2fa30b"/>
                </a:solidFill>
                <a:latin typeface="Verdana"/>
                <a:ea typeface="Times New Roman"/>
              </a:rPr>
              <a:t>tempr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1371600"/>
            <a:ext cx="28958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13,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ffff99"/>
                </a:solidFill>
                <a:latin typeface="Verdana"/>
                <a:ea typeface="Times New Roman"/>
              </a:rPr>
              <a:t>adaptadores tempran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609480"/>
            <a:ext cx="28958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ff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00ff"/>
                </a:solidFill>
                <a:latin typeface="Verdana"/>
                <a:ea typeface="Times New Roman"/>
              </a:rPr>
              <a:t>mayo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00ff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00ff"/>
                </a:solidFill>
                <a:latin typeface="Verdana"/>
                <a:ea typeface="Times New Roman"/>
              </a:rPr>
              <a:t>tard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91320" y="548640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1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	</a:t>
            </a:r>
            <a:r>
              <a:rPr b="1" lang="es-MX" sz="1800" spc="-1" strike="noStrike">
                <a:solidFill>
                  <a:srgbClr val="cc3300"/>
                </a:solidFill>
                <a:latin typeface="Verdana"/>
                <a:ea typeface="Times New Roman"/>
              </a:rPr>
              <a:t>retras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af011e"/>
                </a:solidFill>
                <a:latin typeface="Comic Sans MS"/>
              </a:rPr>
              <a:t>ALGUNAS CARACTERISTICAS LOS INNOVADORE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9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ARACTERISTICAS SOCIAL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Educación, ingreso, nivel de vida están correlacionados positivamente.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No existe correlación con la edad.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9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ACTITUD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Actitud positiva al cambio.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Aspiraciones educacionales.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Motivación por los logros.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9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RELACIONES SOCIAL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Vida social activa.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Alta exposición a los medios de comunicación.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Desviación de las normas sociales.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Participación en actividades sociales de grupos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600200"/>
            <a:ext cx="769608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Lo que queremos es intuir/predecir como se comportará un cliente ante un estímulo nuestro o de la compet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af011e"/>
                </a:solidFill>
                <a:latin typeface="Comic Sans MS"/>
              </a:rPr>
              <a:t>Proposicione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Comic Sans MS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Comic Sans MS"/>
              </a:rPr>
              <a:t>Influencia de otras perso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Líderes de opinión: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importantes en la etapa de adopció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99"/>
                </a:solidFill>
                <a:latin typeface="Comic Sans MS"/>
              </a:rPr>
              <a:t>4 </a:t>
            </a:r>
            <a:r>
              <a:rPr b="0" lang="es-ES_tradnl" sz="2400" spc="-1" strike="noStrike">
                <a:solidFill>
                  <a:srgbClr val="ffff99"/>
                </a:solidFill>
                <a:latin typeface="Comic Sans MS"/>
              </a:rPr>
              <a:t>Características del producto que pueden modificar la tasa de velocidad  a la que se desarrolla el proceso de adopci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Complejida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Ventajas relativ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Disponibilida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Beneficios de corto plaz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Posibilidad de Comunicació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Divisib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af011e"/>
                </a:solidFill>
                <a:latin typeface="Comic Sans MS"/>
              </a:rPr>
              <a:t>Teoría de la difusión de productos nuevo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Mahajan y Mueller: formalización de una sola teorí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Modelos que describen el proceso de difusión de productos nuevos en el merca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Dividen el mercado en submercado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Mercado no alcanzad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mic Sans MS"/>
              </a:rPr>
              <a:t>Mercado potencia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MODELOS DE VENTAS DE NUEVOS PRODUCTO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83920" y="2209680"/>
            <a:ext cx="8356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DELOS DE DIFUSIÓN O DE PRIMERA COMPRA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DELOS DE COMPRA REPETITIVA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8732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011e"/>
                </a:solidFill>
                <a:latin typeface="Comic Sans MS"/>
              </a:rPr>
              <a:t>MODELOS DE DIFUSIÓN</a:t>
            </a:r>
            <a:r>
              <a:rPr b="1" lang="en-US" sz="2800" spc="-1" strike="noStrike">
                <a:solidFill>
                  <a:srgbClr val="af011e"/>
                </a:solidFill>
                <a:latin typeface="Comic Sans MS"/>
              </a:rPr>
              <a:t> </a:t>
            </a:r>
            <a:br>
              <a:rPr sz="2800"/>
            </a:br>
            <a:r>
              <a:rPr b="1" lang="en-US" sz="3600" spc="-1" strike="noStrike">
                <a:solidFill>
                  <a:srgbClr val="af011e"/>
                </a:solidFill>
                <a:latin typeface="Comic Sans MS"/>
              </a:rPr>
              <a:t>MODELO DE BASS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84280" y="1371240"/>
            <a:ext cx="8254800" cy="80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426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Uno de los modelos de difusión más conocid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426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s el de Bas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4264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3462480" y="2405160"/>
            <a:ext cx="2625480" cy="733320"/>
          </a:xfrm>
          <a:prstGeom prst="rect">
            <a:avLst/>
          </a:prstGeom>
          <a:solidFill>
            <a:srgbClr val="cc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ADOPT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POTEN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25360" y="3490920"/>
            <a:ext cx="2524320" cy="7333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NOV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19920" y="3505320"/>
            <a:ext cx="2523960" cy="733320"/>
          </a:xfrm>
          <a:prstGeom prst="rect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IT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4648320"/>
            <a:ext cx="3438360" cy="1019160"/>
          </a:xfrm>
          <a:prstGeom prst="ellipse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NFLUENCIA EXTERN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rot="5520000">
            <a:off x="2180520" y="4219200"/>
            <a:ext cx="447480" cy="390600"/>
          </a:xfrm>
          <a:prstGeom prst="rightArrow">
            <a:avLst>
              <a:gd name="adj1" fmla="val 75000"/>
              <a:gd name="adj2" fmla="val 61763"/>
            </a:avLst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502240" y="4648320"/>
            <a:ext cx="3641760" cy="1133280"/>
          </a:xfrm>
          <a:prstGeom prst="ellipse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UNICACIÓN VERB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 LOS QUE YA H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OPTADO 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NFLUENCIA INTERN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 rot="4980000">
            <a:off x="6981480" y="4218840"/>
            <a:ext cx="447480" cy="390600"/>
          </a:xfrm>
          <a:prstGeom prst="rightArrow">
            <a:avLst>
              <a:gd name="adj1" fmla="val 75000"/>
              <a:gd name="adj2" fmla="val 65937"/>
            </a:avLst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235240" y="2795400"/>
            <a:ext cx="0" cy="69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43160" y="2800440"/>
            <a:ext cx="120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103800" y="2800440"/>
            <a:ext cx="110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13680" y="2805120"/>
            <a:ext cx="0" cy="67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665520" y="3719520"/>
            <a:ext cx="2422440" cy="219240"/>
          </a:xfrm>
          <a:prstGeom prst="rightArrow">
            <a:avLst>
              <a:gd name="adj1" fmla="val 75000"/>
              <a:gd name="adj2" fmla="val 552514"/>
            </a:avLst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92200" y="3429000"/>
            <a:ext cx="106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flu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af011e"/>
                </a:solidFill>
                <a:latin typeface="Comic Sans MS"/>
              </a:rPr>
              <a:t>Modelo de Bass</a:t>
            </a:r>
            <a:endParaRPr b="1" lang="en-US" sz="44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(t) =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Comic Sans MS"/>
              </a:rPr>
              <a:t>N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(t) =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Comic Sans MS"/>
              </a:rPr>
              <a:t>N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=c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11360" y="171000"/>
            <a:ext cx="772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011e"/>
                </a:solidFill>
                <a:latin typeface="Comic Sans MS"/>
              </a:rPr>
              <a:t>MODELO DE BASS</a:t>
            </a:r>
            <a:endParaRPr b="1" lang="en-US" sz="28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711000" y="1600200"/>
            <a:ext cx="8127720" cy="108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lnSpc>
                <a:spcPct val="9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Comic Sans MS"/>
              </a:rPr>
              <a:t>La suma de efectos de “innovadores” e “imitadores” los expresa Bass con la siguiente ecuación: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=p (M -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)+ q 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Bookman Old Style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 /M)(M -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Con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Bookman Old Style"/>
              </a:rPr>
              <a:t>vt</a:t>
            </a:r>
            <a:r>
              <a:rPr b="0" lang="es-ES_tradnl" sz="1400" spc="-1" strike="noStrike">
                <a:solidFill>
                  <a:srgbClr val="00cc99"/>
                </a:solidFill>
                <a:latin typeface="Bookman Old Style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: Ventas del periodo t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Comic Sans MS"/>
              </a:rPr>
              <a:t>t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: Ventas acumuladas previas al periodo t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M : Mercado potencial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 : Coeficiente de innovación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q : Coeficiente de imitación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91640" y="644400"/>
            <a:ext cx="8123400" cy="33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af011e"/>
                </a:solidFill>
                <a:latin typeface="Comic Sans MS"/>
              </a:rPr>
              <a:t>Ventas (t) = p (O - Vt ) + q Vt (O - Vt ) / O</a:t>
            </a:r>
            <a:br>
              <a:rPr sz="1600"/>
            </a:br>
            <a:r>
              <a:rPr b="1" lang="es-ES_tradnl" sz="1600" spc="-1" strike="noStrike">
                <a:solidFill>
                  <a:srgbClr val="af011e"/>
                </a:solidFill>
                <a:latin typeface="Comic Sans MS"/>
              </a:rPr>
              <a:t>p = 0.04  q = 0.6  O = 5000   O: Mercado Potencial</a:t>
            </a:r>
            <a:br>
              <a:rPr sz="1600"/>
            </a:br>
            <a:r>
              <a:rPr b="1" lang="es-ES_tradnl" sz="1600" spc="-1" strike="noStrike">
                <a:solidFill>
                  <a:srgbClr val="af011e"/>
                </a:solidFill>
                <a:latin typeface="Comic Sans MS"/>
              </a:rPr>
              <a:t>p: Coeficiente de innovación q:  Coeficiente de imitación</a:t>
            </a:r>
            <a:endParaRPr b="1" lang="en-US" sz="1600" spc="-1" strike="noStrike">
              <a:solidFill>
                <a:srgbClr val="af011e"/>
              </a:solidFill>
              <a:latin typeface="Comic Sans MS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6440" y="1492200"/>
          <a:ext cx="8821800" cy="530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440" y="1492200"/>
                    <a:ext cx="8821800" cy="53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7958160" y="4613400"/>
            <a:ext cx="93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8040" y="2155680"/>
            <a:ext cx="85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533520" y="762120"/>
            <a:ext cx="7619760" cy="47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BUSQUEDA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reciente en A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sgo Percep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0"/>
            <a:ext cx="8305920" cy="63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TEORIAS CON INFLUENCIA EN LA COMPRENSION DEL CONSUMI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) TEORIAS MOTIV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sión Clásica .  “Determinis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) TEORIAS DE APRENDIZ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Los estímulos y el aprendiz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) TEORIA SICOANALI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La “restricción”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El EGO y el Súper 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) MODELO GESTAL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ortancia de la Per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4400" y="762120"/>
            <a:ext cx="746748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TEORIAS DE INFLUENCIA 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RUPOS DE 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LASES SO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   DIFUSION DE INNO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1066680"/>
            <a:ext cx="8686800" cy="38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Distintas Perspectivas                 Distintas Teorías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Sin embargo, existen ciertos conceptos generalizados que se expresan en el proceso de decisión de comp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12193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762120"/>
            <a:ext cx="830556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3320" indent="-103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ONCEP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TIVACION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Predisposición general y básica que dirige el comportamiento hacia la obtención de lo que se desea (meta)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TIVO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NECESIDADE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NHE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CEPC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Proceso de selección, organización e integración de los estímulos sensoriales recibidos a través de los sen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380880"/>
            <a:ext cx="838188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ONCEP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CTITUD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Predisposición aprendida para responder consistentemente de modo favorable o desfavorable a un objeto. Esta constituida por tres compon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 creencias (C. Cognosci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valoración (C. Afec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tendencia a actuar (C. Ac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encia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ce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loració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refer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ció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cis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307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219320" y="914400"/>
            <a:ext cx="662940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6T21:01:13Z</dcterms:created>
  <dc:creator>Dii</dc:creator>
  <dc:description/>
  <dc:language>en-US</dc:language>
  <cp:lastModifiedBy>Administrador</cp:lastModifiedBy>
  <cp:lastPrinted>2000-09-11T22:03:08Z</cp:lastPrinted>
  <dcterms:modified xsi:type="dcterms:W3CDTF">2005-03-15T15:54:03Z</dcterms:modified>
  <cp:revision>188</cp:revision>
  <dc:subject/>
  <dc:title>Sin título de diapositiva</dc:title>
</cp:coreProperties>
</file>