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7-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7" idx="2"/>
            <a:endCxn id="58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9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8" idx="2"/>
            <a:endCxn id="59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3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DESARROLL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alud de LP de muchas compañías está relacionada con su capacidad de 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orta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iesgosa y costos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DESARROLL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icultad del Desarrollo de Productos nuev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agmentación merc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tricciones soci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tricciones gubernament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VP más cor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af011e"/>
                </a:solidFill>
                <a:latin typeface="Comic Sans MS"/>
              </a:rPr>
              <a:t>Fuente de Generación de Idea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Grado de Novedad </a:t>
            </a:r>
            <a:br>
              <a:rPr sz="4400"/>
            </a:b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del Producto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1360" y="2362320"/>
            <a:ext cx="8801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nuevos para el mercado y la empresa (nueva cla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nuevos para la empresa, pero no para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equeñas variaciones del producto (extensión de líne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Posibilidad de Recompra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1360" y="2362320"/>
            <a:ext cx="8801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que se compran sólo una vez o en forma muy distante en el tiempo (b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que se compran con alta frecuencia (b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562720" y="4114800"/>
            <a:ext cx="3047760" cy="1612800"/>
          </a:xfrm>
          <a:custGeom>
            <a:avLst/>
            <a:gdLst/>
            <a:ahLst/>
            <a:rect l="l" t="t" r="r" b="b"/>
            <a:pathLst>
              <a:path w="1776" h="920">
                <a:moveTo>
                  <a:pt x="0" y="920"/>
                </a:moveTo>
                <a:cubicBezTo>
                  <a:pt x="95" y="792"/>
                  <a:pt x="274" y="304"/>
                  <a:pt x="570" y="152"/>
                </a:cubicBezTo>
                <a:cubicBezTo>
                  <a:pt x="866" y="0"/>
                  <a:pt x="1525" y="38"/>
                  <a:pt x="1776" y="8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96880" y="609480"/>
            <a:ext cx="3746520" cy="2855160"/>
            <a:chOff x="596880" y="609480"/>
            <a:chExt cx="3746520" cy="2855160"/>
          </a:xfrm>
        </p:grpSpPr>
        <p:grpSp>
          <p:nvGrpSpPr>
            <p:cNvPr id="134" name=""/>
            <p:cNvGrpSpPr/>
            <p:nvPr/>
          </p:nvGrpSpPr>
          <p:grpSpPr>
            <a:xfrm>
              <a:off x="596880" y="609480"/>
              <a:ext cx="2832120" cy="2438640"/>
              <a:chOff x="596880" y="609480"/>
              <a:chExt cx="2832120" cy="243864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605880" y="609480"/>
                <a:ext cx="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6880" y="3048120"/>
                <a:ext cx="283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124080" y="3124080"/>
              <a:ext cx="121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1944720"/>
              <a:ext cx="2671920" cy="1103400"/>
            </a:xfrm>
            <a:custGeom>
              <a:avLst/>
              <a:gdLst/>
              <a:ahLst/>
              <a:rect l="l" t="t" r="r" b="b"/>
              <a:pathLst>
                <a:path w="1683" h="695">
                  <a:moveTo>
                    <a:pt x="0" y="695"/>
                  </a:moveTo>
                  <a:cubicBezTo>
                    <a:pt x="46" y="622"/>
                    <a:pt x="160" y="369"/>
                    <a:pt x="277" y="257"/>
                  </a:cubicBezTo>
                  <a:cubicBezTo>
                    <a:pt x="394" y="145"/>
                    <a:pt x="552" y="0"/>
                    <a:pt x="700" y="23"/>
                  </a:cubicBezTo>
                  <a:cubicBezTo>
                    <a:pt x="848" y="46"/>
                    <a:pt x="1002" y="307"/>
                    <a:pt x="1166" y="393"/>
                  </a:cubicBezTo>
                  <a:cubicBezTo>
                    <a:pt x="1330" y="479"/>
                    <a:pt x="1575" y="507"/>
                    <a:pt x="1683" y="537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143000"/>
              <a:ext cx="259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Ve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181480" y="228600"/>
            <a:ext cx="3733920" cy="3236040"/>
            <a:chOff x="5181480" y="228600"/>
            <a:chExt cx="3733920" cy="3236040"/>
          </a:xfrm>
        </p:grpSpPr>
        <p:grpSp>
          <p:nvGrpSpPr>
            <p:cNvPr id="141" name=""/>
            <p:cNvGrpSpPr/>
            <p:nvPr/>
          </p:nvGrpSpPr>
          <p:grpSpPr>
            <a:xfrm>
              <a:off x="5257800" y="609480"/>
              <a:ext cx="2832120" cy="2438640"/>
              <a:chOff x="5257800" y="609480"/>
              <a:chExt cx="2832120" cy="243864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5266800" y="609480"/>
                <a:ext cx="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800" y="3048120"/>
                <a:ext cx="283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696080" y="3124080"/>
              <a:ext cx="121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228600"/>
              <a:ext cx="2971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Ventas Acumul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800" y="144792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1587600"/>
              <a:ext cx="2819160" cy="1460520"/>
            </a:xfrm>
            <a:custGeom>
              <a:avLst/>
              <a:gdLst/>
              <a:ahLst/>
              <a:rect l="l" t="t" r="r" b="b"/>
              <a:pathLst>
                <a:path w="1776" h="920">
                  <a:moveTo>
                    <a:pt x="0" y="920"/>
                  </a:moveTo>
                  <a:cubicBezTo>
                    <a:pt x="95" y="792"/>
                    <a:pt x="274" y="304"/>
                    <a:pt x="570" y="152"/>
                  </a:cubicBezTo>
                  <a:cubicBezTo>
                    <a:pt x="866" y="0"/>
                    <a:pt x="1525" y="38"/>
                    <a:pt x="1776" y="8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1066680"/>
              <a:ext cx="2895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rcado pot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6200" y="609480"/>
            <a:ext cx="1066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B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3809880"/>
            <a:ext cx="1066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B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733560"/>
            <a:ext cx="2832120" cy="2438640"/>
            <a:chOff x="609480" y="3733560"/>
            <a:chExt cx="2832120" cy="2438640"/>
          </a:xfrm>
        </p:grpSpPr>
        <p:sp>
          <p:nvSpPr>
            <p:cNvPr id="152" name=""/>
            <p:cNvSpPr/>
            <p:nvPr/>
          </p:nvSpPr>
          <p:spPr>
            <a:xfrm flipV="1">
              <a:off x="618480" y="373356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172200"/>
              <a:ext cx="28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137040" y="6248520"/>
            <a:ext cx="1218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05520"/>
            <a:ext cx="2743200" cy="1143000"/>
          </a:xfrm>
          <a:custGeom>
            <a:avLst/>
            <a:gdLst/>
            <a:ahLst/>
            <a:rect l="l" t="t" r="r" b="b"/>
            <a:pathLst>
              <a:path w="1683" h="695">
                <a:moveTo>
                  <a:pt x="0" y="695"/>
                </a:moveTo>
                <a:cubicBezTo>
                  <a:pt x="46" y="622"/>
                  <a:pt x="160" y="369"/>
                  <a:pt x="277" y="257"/>
                </a:cubicBezTo>
                <a:cubicBezTo>
                  <a:pt x="394" y="145"/>
                  <a:pt x="552" y="0"/>
                  <a:pt x="700" y="23"/>
                </a:cubicBezTo>
                <a:cubicBezTo>
                  <a:pt x="848" y="46"/>
                  <a:pt x="1002" y="307"/>
                  <a:pt x="1166" y="393"/>
                </a:cubicBezTo>
                <a:cubicBezTo>
                  <a:pt x="1330" y="479"/>
                  <a:pt x="1575" y="507"/>
                  <a:pt x="1683" y="537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80988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33ff"/>
                </a:solidFill>
                <a:latin typeface="Verdana"/>
                <a:ea typeface="Times New Roman"/>
              </a:rPr>
              <a:t>1a.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26708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a30b"/>
                </a:solidFill>
                <a:latin typeface="Verdana"/>
                <a:ea typeface="Times New Roman"/>
              </a:rPr>
              <a:t>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57800" y="3809880"/>
            <a:ext cx="2832120" cy="2438640"/>
            <a:chOff x="5257800" y="3809880"/>
            <a:chExt cx="2832120" cy="2438640"/>
          </a:xfrm>
        </p:grpSpPr>
        <p:sp>
          <p:nvSpPr>
            <p:cNvPr id="159" name=""/>
            <p:cNvSpPr/>
            <p:nvPr/>
          </p:nvSpPr>
          <p:spPr>
            <a:xfrm flipV="1">
              <a:off x="5266800" y="38098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800" y="6248520"/>
              <a:ext cx="28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96080" y="6324480"/>
            <a:ext cx="121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42900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Compra y reem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788000"/>
            <a:ext cx="2819160" cy="1460520"/>
          </a:xfrm>
          <a:custGeom>
            <a:avLst/>
            <a:gdLst/>
            <a:ahLst/>
            <a:rect l="l" t="t" r="r" b="b"/>
            <a:pathLst>
              <a:path w="1776" h="920">
                <a:moveTo>
                  <a:pt x="0" y="920"/>
                </a:moveTo>
                <a:cubicBezTo>
                  <a:pt x="95" y="792"/>
                  <a:pt x="274" y="304"/>
                  <a:pt x="570" y="152"/>
                </a:cubicBezTo>
                <a:cubicBezTo>
                  <a:pt x="866" y="0"/>
                  <a:pt x="1525" y="38"/>
                  <a:pt x="1776" y="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876920"/>
            <a:ext cx="2819160" cy="1041120"/>
          </a:xfrm>
          <a:custGeom>
            <a:avLst/>
            <a:gdLst/>
            <a:ahLst/>
            <a:rect l="l" t="t" r="r" b="b"/>
            <a:pathLst>
              <a:path w="1776" h="656">
                <a:moveTo>
                  <a:pt x="0" y="656"/>
                </a:moveTo>
                <a:cubicBezTo>
                  <a:pt x="68" y="516"/>
                  <a:pt x="136" y="376"/>
                  <a:pt x="240" y="272"/>
                </a:cubicBezTo>
                <a:cubicBezTo>
                  <a:pt x="344" y="168"/>
                  <a:pt x="504" y="64"/>
                  <a:pt x="624" y="32"/>
                </a:cubicBezTo>
                <a:cubicBezTo>
                  <a:pt x="744" y="0"/>
                  <a:pt x="872" y="48"/>
                  <a:pt x="960" y="80"/>
                </a:cubicBezTo>
                <a:cubicBezTo>
                  <a:pt x="1048" y="112"/>
                  <a:pt x="1088" y="184"/>
                  <a:pt x="1152" y="224"/>
                </a:cubicBezTo>
                <a:cubicBezTo>
                  <a:pt x="1216" y="264"/>
                  <a:pt x="1280" y="296"/>
                  <a:pt x="1344" y="320"/>
                </a:cubicBezTo>
                <a:cubicBezTo>
                  <a:pt x="1408" y="344"/>
                  <a:pt x="1480" y="360"/>
                  <a:pt x="1536" y="368"/>
                </a:cubicBezTo>
                <a:cubicBezTo>
                  <a:pt x="1592" y="376"/>
                  <a:pt x="1640" y="368"/>
                  <a:pt x="1680" y="368"/>
                </a:cubicBezTo>
                <a:cubicBezTo>
                  <a:pt x="1720" y="368"/>
                  <a:pt x="1748" y="368"/>
                  <a:pt x="1776" y="36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Teoría de la difusión de productos nuev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Cómo un producto nuevo es asimilado en la sociedad en el tiemp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Tiempo de adopción de Ro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atro “proposiciones” acerca del proceso de adopció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af011e"/>
                </a:solidFill>
                <a:latin typeface="Comic Sans MS"/>
              </a:rPr>
              <a:t>1-  </a:t>
            </a:r>
            <a:r>
              <a:rPr b="1" lang="es-ES_tradnl" sz="2100" spc="-1" strike="noStrike">
                <a:solidFill>
                  <a:srgbClr val="af011e"/>
                </a:solidFill>
                <a:latin typeface="Comic Sans MS"/>
              </a:rPr>
              <a:t>ETAPAS EN EL PROCESO DE ADOPCIÓN</a:t>
            </a:r>
            <a:endParaRPr b="1" lang="en-US" sz="21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opos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2 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nco grup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NOV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OPTADORES TEMPRANE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ÍA TEMPR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ÍA TAR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ZAG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ALGUNAS CARACTERISTICAS LOS INNOVADOR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RACTERISTICAS SOCIA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ducación, ingreso, nivel de vida están correlacionados positivamente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No existe correlación con la edad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CTITUD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ctitud positiva al cambio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spiraciones educacionale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otivación por los logro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LACIONES SOCIA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Vida social activa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ta exposición a los medios de comunicación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viación de las normas sociale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ticipación en actividades sociales de grupos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Propos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Influencia de otras pers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íderes de opinión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mportantes en la etapa de adop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4 </a:t>
            </a:r>
            <a:r>
              <a:rPr b="0" lang="es-ES_tradnl" sz="2400" spc="-1" strike="noStrike">
                <a:solidFill>
                  <a:srgbClr val="ffff99"/>
                </a:solidFill>
                <a:latin typeface="Comic Sans MS"/>
              </a:rPr>
              <a:t>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mpleji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entajas rel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eneficios de corto plaz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osibilidad de Comun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vis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Teoría de la difusión de productos nuev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hajan y Mueller: formalización de una sola teor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odelos que describen el proceso de difusión de productos nuevos en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ividen el mercado en submerc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ercado no alcanz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ercado poten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MODELOS DE VENTAS DE NUEVOS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OS DE DIFUSIÓN O DE PRIMERA COMPR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OS DE COMPRA REPETITIV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11e"/>
                </a:solidFill>
                <a:latin typeface="Comic Sans MS"/>
              </a:rPr>
              <a:t>MODELOS DE DIFUSIÓN</a:t>
            </a:r>
            <a:r>
              <a:rPr b="1" lang="en-US" sz="2800" spc="-1" strike="noStrike">
                <a:solidFill>
                  <a:srgbClr val="af011e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36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Uno de los modelos de difusión más conoc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26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 el de Ba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264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t) 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t) =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=c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omic Sans MS"/>
              </a:rPr>
              <a:t>La suma de efectos de “innovadores” e “imitadores” los expresa Bass con la siguiente ecuación: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es-ES_tradnl" sz="1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: Ventas del periodo 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: Ventas acumuladas previas al periodo 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M : Mercado potenci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 : Coeficiente de innov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q : Coeficiente de imit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1640" y="644400"/>
            <a:ext cx="8123400" cy="3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Ventas (t) = p (O - Vt ) + q Vt (O - Vt ) / O</a:t>
            </a:r>
            <a:br>
              <a:rPr sz="1600"/>
            </a:b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p = 0.04  q = 0.6  O = 5000   O: Mercado Potencial</a:t>
            </a:r>
            <a:br>
              <a:rPr sz="1600"/>
            </a:b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p: Coeficiente de innovación q:  Coeficiente de imitación</a:t>
            </a:r>
            <a:endParaRPr b="1" lang="en-US" sz="1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762120"/>
            <a:ext cx="76197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07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15T15:54:03Z</dcterms:modified>
  <cp:revision>188</cp:revision>
  <dc:subject/>
  <dc:title>Sin título de diapositiva</dc:title>
</cp:coreProperties>
</file>