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INTRODUCCIÓN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fesor: William Yo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uxiliares: Blas Dua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uricio Ramír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6553080"/>
            <a:ext cx="9144000" cy="304920"/>
          </a:xfrm>
          <a:prstGeom prst="flowChartProcess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6553080"/>
            <a:ext cx="9144000" cy="304920"/>
          </a:xfrm>
          <a:prstGeom prst="flowChartProcess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553080"/>
            <a:ext cx="9144000" cy="304920"/>
          </a:xfrm>
          <a:prstGeom prst="flowChartProcess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304920"/>
          <a:ext cx="327672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3276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905440" y="3809880"/>
          <a:ext cx="323856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5440" y="3809880"/>
                    <a:ext cx="32385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295280" y="4572000"/>
          <a:ext cx="323856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572000"/>
                    <a:ext cx="32385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1" name=""/>
          <p:cNvCxnSpPr/>
          <p:nvPr/>
        </p:nvCxnSpPr>
        <p:spPr>
          <a:xfrm>
            <a:off x="1866960" y="2018880"/>
            <a:ext cx="1048320" cy="2553120"/>
          </a:xfrm>
          <a:prstGeom prst="straightConnector1">
            <a:avLst/>
          </a:prstGeom>
          <a:ln w="203040">
            <a:solidFill>
              <a:srgbClr val="6600ff"/>
            </a:solidFill>
            <a:miter/>
            <a:tailEnd len="sm" type="triangle" w="sm"/>
          </a:ln>
        </p:spPr>
      </p:cxnSp>
      <p:cxnSp>
        <p:nvCxnSpPr>
          <p:cNvPr id="172" name=""/>
          <p:cNvCxnSpPr/>
          <p:nvPr/>
        </p:nvCxnSpPr>
        <p:spPr>
          <a:xfrm>
            <a:off x="3504960" y="1161720"/>
            <a:ext cx="4020120" cy="264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3" name=""/>
          <p:cNvCxnSpPr/>
          <p:nvPr/>
        </p:nvCxnSpPr>
        <p:spPr>
          <a:xfrm>
            <a:off x="3504960" y="1161720"/>
            <a:ext cx="4020120" cy="2648520"/>
          </a:xfrm>
          <a:prstGeom prst="straightConnector1">
            <a:avLst/>
          </a:prstGeom>
          <a:ln w="203040">
            <a:solidFill>
              <a:srgbClr val="66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1209600"/>
          <a:ext cx="91440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9600"/>
                    <a:ext cx="9144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71600" y="1600200"/>
            <a:ext cx="6858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tribución = (P - C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* Q  - C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ONTRIBUCIÓN DE UNA LÍNEA DE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523880"/>
            <a:ext cx="381240" cy="76212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297180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1371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s-ES_tradnl" sz="4000" spc="-1" strike="noStrike">
                <a:solidFill>
                  <a:srgbClr val="993366"/>
                </a:solidFill>
                <a:latin typeface="Rockwell Extra Bold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1240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993366"/>
                </a:solidFill>
                <a:latin typeface="Copperplate Gothic Bold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28954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3124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993366"/>
                </a:solidFill>
                <a:latin typeface="Copperplate Gothic Bold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4495680"/>
            <a:ext cx="2286000" cy="8254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nor Cost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48769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4495680"/>
            <a:ext cx="1523880" cy="82548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nor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48769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362320" cy="119124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yor Margen Promedio de todas las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3960" y="304920"/>
            <a:ext cx="7696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Veamos un ejemplo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Hoy</a:t>
            </a:r>
            <a:r>
              <a:rPr b="0" lang="es-CL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Contribución=  (10-8) *1.000.000-1.5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ntribución = 5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Mañana,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bajamos los costos fijos  a 900.000 y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antenemos igual contribu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500.000 + 900.00  = 1.400.000 = (p - 8) *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i p= 10  entonces podemos hacer Q = 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o si Q = 1.000.000  podemos bajar el precio a 9,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2860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BAJAR LOS COSTOS FIJOS NOS LLEVA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a) MENORES LOTES DE PRODUCC.  +  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b) Y/O MENORES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447920"/>
            <a:ext cx="7238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iminación de Costos Fijos en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minución del tamaño del Lote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xtremo, Lotes de a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o diseñar productos específicos para segmentos específicos sin aument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ferenciación es una de las  forma como las empresas “extraen el excedente del consumido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2096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misas Van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DE MARKETING 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286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arketing es el proceso de Planificación y Ejecución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8640" indent="0">
              <a:lnSpc>
                <a:spcPct val="6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300" spc="-1" strike="noStrike">
                <a:solidFill>
                  <a:srgbClr val="ff0000"/>
                </a:solidFill>
                <a:latin typeface="Comic Sans MS"/>
              </a:rPr>
              <a:t>Desarrollo de actividades de análisis,planificación, organización, ejecución y control</a:t>
            </a:r>
            <a:r>
              <a:rPr b="0" i="1" lang="es-ES_tradnl" sz="35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 la concepción , fijación del precio, promoción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istribución de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8640" indent="0">
              <a:lnSpc>
                <a:spcPct val="6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300" spc="-1" strike="noStrike">
                <a:solidFill>
                  <a:srgbClr val="ff0000"/>
                </a:solidFill>
                <a:latin typeface="Comic Sans MS"/>
              </a:rPr>
              <a:t>Los instrumentos de la estrategia comercial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ideas, bienes y servicios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8640" indent="0">
              <a:lnSpc>
                <a:spcPct val="6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5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es-ES_tradnl" sz="3300" spc="-1" strike="noStrike">
                <a:solidFill>
                  <a:srgbClr val="ff0000"/>
                </a:solidFill>
                <a:latin typeface="Comic Sans MS"/>
              </a:rPr>
              <a:t>productos” sobre los que cae la acción de Marketing</a:t>
            </a:r>
            <a:r>
              <a:rPr b="0" i="1" lang="es-ES_tradnl" sz="3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crear intercambios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8640" indent="0">
              <a:lnSpc>
                <a:spcPct val="6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300" spc="-1" strike="noStrike">
                <a:solidFill>
                  <a:srgbClr val="ff0000"/>
                </a:solidFill>
                <a:latin typeface="Comic Sans MS"/>
              </a:rPr>
              <a:t>Objeto del marketing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que satisfagan los objetivos de los individuos y de l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rganiza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548640" indent="0">
              <a:lnSpc>
                <a:spcPct val="6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300" spc="-1" strike="noStrike">
                <a:solidFill>
                  <a:srgbClr val="ff0000"/>
                </a:solidFill>
                <a:latin typeface="Comic Sans MS"/>
              </a:rPr>
              <a:t>Beneficios de doble sentido; satisfacción mutua</a:t>
            </a:r>
            <a:r>
              <a:rPr b="0" lang="es-ES_tradnl" sz="3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447920"/>
            <a:ext cx="8001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tema central en la Customización es definir aquellos aspectos que serán estándar y aquellos que serán ad-hoc para cada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e es un tema muy relevante en la implantación de softwares de los llamados de “Clase Mundial”, a cad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ISCRIMINACIÓN DE 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981080"/>
            <a:ext cx="72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Clientes NO son todos Iguales. Hay unos que son más “rentables” que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Cas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caciones Compart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et C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762120"/>
            <a:ext cx="7162560" cy="487656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343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9072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5715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Diet 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1371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ISCRIMINACIÓN DE 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295280"/>
            <a:ext cx="7238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no son todos iguales, debiera “TRATARLOS” distintos.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CRI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40384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ISCRIMINACIÓN DE 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44792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 se discrim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vicio/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unica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 Cas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íneas Aé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Nueva Coke</a:t>
            </a: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66680" y="838080"/>
            <a:ext cx="289584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USTO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838080"/>
            <a:ext cx="259056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495680"/>
            <a:ext cx="1676160" cy="83844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495680"/>
            <a:ext cx="1752840" cy="83844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152280"/>
            <a:ext cx="3733560" cy="685800"/>
          </a:xfrm>
          <a:custGeom>
            <a:avLst/>
            <a:gdLst>
              <a:gd name="textAreaLeft" fmla="*/ 653400 w 3733560"/>
              <a:gd name="textAreaRight" fmla="*/ 2706840 w 37335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133000" y="1981080"/>
            <a:ext cx="3733560" cy="1219320"/>
          </a:xfrm>
          <a:custGeom>
            <a:avLst/>
            <a:gdLst>
              <a:gd name="textAreaLeft" fmla="*/ 653040 w 3733560"/>
              <a:gd name="textAreaRight" fmla="*/ 2706480 w 37335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33520" y="32004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191120"/>
            <a:ext cx="2133720" cy="30456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3680" y="533412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114800"/>
            <a:ext cx="2133720" cy="3049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333400" y="518148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40384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868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39625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5867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581280"/>
            <a:ext cx="1523880" cy="381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809160" y="579132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00400"/>
            <a:ext cx="485640" cy="838080"/>
          </a:xfrm>
          <a:prstGeom prst="upDownArrow">
            <a:avLst>
              <a:gd name="adj1" fmla="val 50000"/>
              <a:gd name="adj2" fmla="val 3435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3200400"/>
            <a:ext cx="486000" cy="762120"/>
          </a:xfrm>
          <a:prstGeom prst="upDownArrow">
            <a:avLst>
              <a:gd name="adj1" fmla="val 50000"/>
              <a:gd name="adj2" fmla="val 312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LEALTAD Y RENTABILIDAD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752480"/>
            <a:ext cx="762012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intuición siempre ha dictado que “es más económico retener un cliente, que captar uno nuev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trabajo más importante fue desarrollado por Reichheld y Sasser, publicado como “Zero defections: Quality comes to Services”, HBR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66680" y="609480"/>
          <a:ext cx="701064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010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" y="5638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nte: Reicheld y Sasser, “Zero Defections Come to Quality”, HBR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198108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siguiente diapositiva es presentada por Reichheld y Sasser como una explicación basada en sus experiencias de porqué los clientes más antiguos son más rentables que los má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685800" y="304920"/>
          <a:ext cx="792468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924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752480"/>
            <a:ext cx="761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El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desarrollo del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un Merc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pen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ndamentalmente del gr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Competencia exist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es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1219320"/>
            <a:ext cx="7772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étodos que usan las empresas hoy para “FIDELIZAR” a sus cl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cuentos por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eneficio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ALIDAD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752480"/>
            <a:ext cx="7239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 amplia evidencia que las Empresas que se asocian a CALIDAD son valoradas más que las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am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0"/>
          <a:ext cx="869616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961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90512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54864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495288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495288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6408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066680" y="838080"/>
            <a:ext cx="289584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USTO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838080"/>
            <a:ext cx="259056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4495680"/>
            <a:ext cx="167616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495680"/>
            <a:ext cx="175284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419720"/>
            <a:ext cx="1600200" cy="76176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152280"/>
            <a:ext cx="3733560" cy="685800"/>
          </a:xfrm>
          <a:custGeom>
            <a:avLst/>
            <a:gdLst>
              <a:gd name="textAreaLeft" fmla="*/ 653400 w 3733560"/>
              <a:gd name="textAreaRight" fmla="*/ 2706840 w 37335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133000" y="1981080"/>
            <a:ext cx="3733560" cy="1219320"/>
          </a:xfrm>
          <a:custGeom>
            <a:avLst/>
            <a:gdLst>
              <a:gd name="textAreaLeft" fmla="*/ 653040 w 3733560"/>
              <a:gd name="textAreaRight" fmla="*/ 2706480 w 37335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33520" y="32004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4191120"/>
            <a:ext cx="2133720" cy="30456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3680" y="533412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419720"/>
            <a:ext cx="1600200" cy="76176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4114800"/>
            <a:ext cx="2133720" cy="3049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333400" y="518148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40384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6868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39625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5867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3581280"/>
            <a:ext cx="1523880" cy="381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809160" y="579132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200400"/>
            <a:ext cx="485640" cy="838080"/>
          </a:xfrm>
          <a:prstGeom prst="upDownArrow">
            <a:avLst>
              <a:gd name="adj1" fmla="val 50000"/>
              <a:gd name="adj2" fmla="val 3435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200400"/>
            <a:ext cx="486000" cy="762120"/>
          </a:xfrm>
          <a:prstGeom prst="upDownArrow">
            <a:avLst>
              <a:gd name="adj1" fmla="val 50000"/>
              <a:gd name="adj2" fmla="val 312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 / DE LA CAPTUR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981080"/>
            <a:ext cx="7238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lcanc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Cantidad de gente con la que tengo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ptur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Grado de lealtad de lo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cance y Captura: Dos concept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 / DE LA CAPTUR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 Canales Abiertos de T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352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Cuál es el Valor de Mercado de Falabel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4267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Qué es lo que se valora en un e-busi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 / DE LA CAPTUR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1523880"/>
            <a:ext cx="8686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forma más típica de captura es la 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altad es central en todas las estrategias de las empresas por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 de Mercado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ealtad* Penetración*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) Un cliente antiguo es más rentable que uno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L ALCANC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905120" y="762120"/>
          <a:ext cx="4673520" cy="53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67352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629400" y="4038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TV abierta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3808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verá durante en 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VALOR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828800" y="990720"/>
            <a:ext cx="5181480" cy="990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RENCIACION/SEGM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733920"/>
            <a:ext cx="2895840" cy="121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ANCE/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3809880"/>
            <a:ext cx="2895480" cy="12193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/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285640" y="1981080"/>
            <a:ext cx="167652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41972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44956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1981080"/>
            <a:ext cx="914400" cy="1752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2209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448400" cy="4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EVOLUCIÓN DEL MARKETING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17720" y="1200240"/>
          <a:ext cx="7032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200240"/>
                    <a:ext cx="7032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0880" y="1143000"/>
            <a:ext cx="8382240" cy="48006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143000"/>
            <a:ext cx="838224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960" y="1108080"/>
            <a:ext cx="17917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200" y="1143000"/>
            <a:ext cx="19105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560" y="1143000"/>
            <a:ext cx="18342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unta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17064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ón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3880" y="19461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l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0520" y="19461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56880" y="19461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Ven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19200" y="18702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to.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6800" y="262584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4560" y="263196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61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0920" y="25909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Esti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e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18120" y="26319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720" y="3581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5640" y="35812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561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360" y="3505320"/>
            <a:ext cx="20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e quiere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18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6120" y="35053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P,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3520" y="44607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70520" y="44607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24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5440" y="4460760"/>
            <a:ext cx="19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le c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93720" y="4460760"/>
            <a:ext cx="18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a la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6312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05120"/>
            <a:ext cx="8382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914400"/>
            <a:ext cx="7467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HIPERSEGMENTACIÓN ATENTA CONTRA EL VALO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QUE EL VALOR DE MARCA REQUIERE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VER HA ANUNCIADO QUE DISMINUIRÁ EL NÚMER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066680" y="685800"/>
            <a:ext cx="701064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OLUCIÓN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XTENSION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Controvertida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3886200"/>
            <a:ext cx="281916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3886200"/>
            <a:ext cx="281952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cepción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581280" y="441972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4114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066680" y="1371600"/>
            <a:ext cx="6096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omic Sans MS"/>
              </a:rPr>
              <a:t>En todas las Tendencias el impacto de las TECNOLOGIAS de INFORMACION y de COMUNICACIONES son centr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0400" y="2514600"/>
            <a:ext cx="2819520" cy="22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676520"/>
            <a:ext cx="20574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Socio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914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914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838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5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057400" y="3504960"/>
            <a:ext cx="1065240" cy="15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TERMINANTES DE LA DEMANDA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514600"/>
            <a:ext cx="2819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00400" y="4495680"/>
            <a:ext cx="2819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248160" y="1600200"/>
            <a:ext cx="16002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71840" y="3581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495680"/>
            <a:ext cx="1447920" cy="1003320"/>
          </a:xfrm>
          <a:custGeom>
            <a:avLst/>
            <a:gdLst/>
            <a:ahLst/>
            <a:rect l="l" t="t" r="r" b="b"/>
            <a:pathLst>
              <a:path w="912" h="632">
                <a:moveTo>
                  <a:pt x="912" y="0"/>
                </a:moveTo>
                <a:cubicBezTo>
                  <a:pt x="868" y="212"/>
                  <a:pt x="824" y="424"/>
                  <a:pt x="672" y="528"/>
                </a:cubicBezTo>
                <a:cubicBezTo>
                  <a:pt x="520" y="632"/>
                  <a:pt x="112" y="6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495680"/>
            <a:ext cx="1790640" cy="1067040"/>
          </a:xfrm>
          <a:custGeom>
            <a:avLst/>
            <a:gdLst/>
            <a:ahLst/>
            <a:rect l="l" t="t" r="r" b="b"/>
            <a:pathLst>
              <a:path w="1128" h="672">
                <a:moveTo>
                  <a:pt x="120" y="0"/>
                </a:moveTo>
                <a:cubicBezTo>
                  <a:pt x="60" y="208"/>
                  <a:pt x="0" y="416"/>
                  <a:pt x="168" y="528"/>
                </a:cubicBezTo>
                <a:cubicBezTo>
                  <a:pt x="336" y="640"/>
                  <a:pt x="976" y="648"/>
                  <a:pt x="1128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5562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 E M A N 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167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257800" y="1752480"/>
            <a:ext cx="5335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62720" y="609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RGIMIENTO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16765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NO/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895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GMENTACION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1911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(POSICION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48640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4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800240" y="2057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00600" y="837720"/>
            <a:ext cx="1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838080"/>
            <a:ext cx="685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3920" y="46483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724280" y="3352320"/>
            <a:ext cx="1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3276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. de la Estrategia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 d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83808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neación con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3716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438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3657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952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PROCESO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Las Grandes Tendencia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gmentación, Customización, Calidad Total, Fidelización, Alcance, Gestión de Marc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838080"/>
            <a:ext cx="289584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FERENCI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USTO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838080"/>
            <a:ext cx="2590560" cy="114300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495680"/>
            <a:ext cx="167616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4495680"/>
            <a:ext cx="1752840" cy="8384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152280"/>
            <a:ext cx="3733560" cy="685800"/>
          </a:xfrm>
          <a:custGeom>
            <a:avLst/>
            <a:gdLst>
              <a:gd name="textAreaLeft" fmla="*/ 653400 w 3733560"/>
              <a:gd name="textAreaRight" fmla="*/ 2706840 w 373356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133000" y="1981080"/>
            <a:ext cx="3733560" cy="1219320"/>
          </a:xfrm>
          <a:custGeom>
            <a:avLst/>
            <a:gdLst>
              <a:gd name="textAreaLeft" fmla="*/ 653040 w 3733560"/>
              <a:gd name="textAreaRight" fmla="*/ 2706480 w 37335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3520" y="32004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4191120"/>
            <a:ext cx="2133720" cy="30456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13680" y="533412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4419720"/>
            <a:ext cx="1600200" cy="76176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4114800"/>
            <a:ext cx="2133720" cy="3049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33400" y="5181480"/>
            <a:ext cx="2514600" cy="45720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0384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86800" y="39625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9625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867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8672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3581280"/>
            <a:ext cx="1523880" cy="381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809160" y="579132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3200400"/>
            <a:ext cx="485640" cy="838080"/>
          </a:xfrm>
          <a:prstGeom prst="upDownArrow">
            <a:avLst>
              <a:gd name="adj1" fmla="val 50000"/>
              <a:gd name="adj2" fmla="val 3435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200400"/>
            <a:ext cx="486000" cy="762120"/>
          </a:xfrm>
          <a:prstGeom prst="upDownArrow">
            <a:avLst>
              <a:gd name="adj1" fmla="val 50000"/>
              <a:gd name="adj2" fmla="val 31218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USTOMIZ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923760"/>
            <a:ext cx="7239240" cy="57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iminación de Costos Fijos en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Fijos son todos aquellos que no dependen de mis ventas. Mejor aún, son todos aquellos costos  por los cuales  el cliente no está dispuesto a pa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eldos de gerentes, administrativ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m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 importante es que si yo Bajo los Costos Fijos, entonces puedo aumentar la  DIFERENCIACION o, si la Competencia me lo permite, BAJAR LOS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21:58:54Z</dcterms:created>
  <dc:creator>maximo bosch</dc:creator>
  <dc:description/>
  <dc:language>en-US</dc:language>
  <cp:lastModifiedBy>Administrador</cp:lastModifiedBy>
  <dcterms:modified xsi:type="dcterms:W3CDTF">2005-03-10T14:03:03Z</dcterms:modified>
  <cp:revision>137</cp:revision>
  <dc:subject/>
  <dc:title>Sin título de diapositiva</dc:title>
</cp:coreProperties>
</file>